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8E95-3F6D-4023-9F6F-145360AFEC1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D887-89C5-4C7C-8B91-B0FEE226E2B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0FE52-E711-413E-AC00-11A96FFF6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FBC6C-B341-4012-9DC5-09EB7B6E5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E942E-48F1-470F-8E7A-F7C9D468E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E2DD8-1B3D-46BC-B7C3-17D033BD5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E0F5D-B807-41EC-A682-2C4F636B3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70BB5-B9D0-4373-A5E4-786BD9A5B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DA47C-39CD-4ED3-9352-995173466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4E888-DACF-4632-A7E1-5F7CD5F2D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E3503-E543-4C78-9D4C-7B0A16AB9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814B4-DEC0-474C-9857-E26D3432C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597CA-8628-4459-80C7-C8E7A4131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74C0A-42E8-450F-8FEF-4AF61CC19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C491-59F8-4115-90BC-45FECCFE3E56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55640" y="1700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6265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Formas de tratamento para os transtornos mentais mais frequentes: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Medicamentoso e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sicossocial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55640" y="4292280"/>
            <a:ext cx="7704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e demênc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38D8-BBAF-41D8-B8DD-B2A4CCEBE8C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2" descr="http://3.bp.blogspot.com/_gRlHC1QvTv8/TSzfXTnvrPI/AAAAAAAABto/jPaNzLGE_oQ/s1600/Dona_Miguelina-felipehenriquegavioli.jpg"/>
          <p:cNvPicPr/>
          <p:nvPr/>
        </p:nvPicPr>
        <p:blipFill>
          <a:blip r:embed="rId1"/>
          <a:stretch/>
        </p:blipFill>
        <p:spPr>
          <a:xfrm>
            <a:off x="3276720" y="1125360"/>
            <a:ext cx="345600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a Doença de Alzheimer (DA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412640"/>
            <a:ext cx="823752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inda não há cura para a DA. Assim, o tratamento é para minimizar os danos e a progressão da doença e </a:t>
            </a: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proteger o sistema nervos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mo a DA se manifesta por alterações do comportamento e afeta o cérebro, as especialidades médicas que tratam de indivíduos com DA são a Psiquiatria, a Neurologia e a Geriatri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BB71-9F96-471E-9601-C68FEAF7649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CaixaDeTexto 5"/>
          <p:cNvSpPr/>
          <p:nvPr/>
        </p:nvSpPr>
        <p:spPr>
          <a:xfrm rot="16200000">
            <a:off x="-46692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a Doença de Alzheimer (DA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26920" y="1197000"/>
            <a:ext cx="794088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Os cuidadores são fundamentais para o tratamento da DA no ambiente domiciliar, mas nem todos os familiares estão preparados física e psicologicamente para conviver e cuidar de alguém que não os reconhece nem valoriza seus esforç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or isso é importante o acesso às informações sobre a patologia e o apoio psicosocial aos cuidador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O cuidador de paciente com Doença de Alzheimer frequentemente tem que lidar com irritabilidade, agressividade, mudanças de humor e de comporta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0D32-6BD8-4010-949E-D42D1211389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CaixaDeTexto 5"/>
          <p:cNvSpPr/>
          <p:nvPr/>
        </p:nvSpPr>
        <p:spPr>
          <a:xfrm rot="16200000">
            <a:off x="-41004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a Doença de Alzheimer (DA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55640" y="1341000"/>
            <a:ext cx="80834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cuidadores devem ser treinados sobre como lidar com a DA e sobre mudanças ambientais de protecção que devem ou não ser feit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trabalho do cuidador é muito cansativo, pois há um grande esforço físico e emocio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ideal é que mais de um profissional, ou familiar, assumam esta responsabilidade, para o estabelecimento de turnos de repous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rientações ao cuidador buscam proporcionar o máximo de segurança e a melhor qualidade de vida possível para os utentes e seus cuidador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E450-7DC3-41D9-B126-0432507A30C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CaixaDeTexto 5"/>
          <p:cNvSpPr/>
          <p:nvPr/>
        </p:nvSpPr>
        <p:spPr>
          <a:xfrm rot="16200000">
            <a:off x="-41004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a Doença de Alzheimer (DA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55280" y="1628280"/>
            <a:ext cx="806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istem duas classes principai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 medicamentos para o tratamento da D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anticolinesterásic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ntagonista dependente de voltagem dos receptores N-metil-D-aspartato (NMDA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sas duas classes de medicamentos agem de forma totalmente diferenciada no cérebro e podem ser usadas isoladamente ou associad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01D1-1FF8-4881-A426-2B32D905BC0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aixaDeTexto 5"/>
          <p:cNvSpPr/>
          <p:nvPr/>
        </p:nvSpPr>
        <p:spPr>
          <a:xfrm rot="16200000">
            <a:off x="-41004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a Doença de Alzheimer (DA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24000" y="1341360"/>
            <a:ext cx="5543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pectos do tratamento da DA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específico: consiste em tratar as alterações de comportamento (agitação e agressividade), do humor ( depressão), que não deve ser feito apenas com medicação, mas com orientação e acção de equipe multiprofissio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pecífico: consiste no uso de uma ou das duas drogas específicas, anteriormente mostrad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70A3-9A6D-4B0C-8616-0D71F5C3DC4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CaixaDeTexto 5"/>
          <p:cNvSpPr/>
          <p:nvPr/>
        </p:nvSpPr>
        <p:spPr>
          <a:xfrm rot="16200000">
            <a:off x="-46692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2" descr="http://t3.gstatic.com/images?q=tbn:ANd9GcT5bWsV2GSsNQ-TAPfe6yloLrjWlUFrky6C_dfKkaui_rDAuywF"/>
          <p:cNvPicPr/>
          <p:nvPr/>
        </p:nvPicPr>
        <p:blipFill>
          <a:blip r:embed="rId1"/>
          <a:stretch/>
        </p:blipFill>
        <p:spPr>
          <a:xfrm>
            <a:off x="5940360" y="1484280"/>
            <a:ext cx="302112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tamento da Doença de Alzheimer (DA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4360" y="1143000"/>
            <a:ext cx="815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Os efeitos colaterais comuns desses medicamentos sã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Hepatotoxicidad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Diarréi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Náuse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Vômit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Tontur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Fadig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Insôni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Falta de apetit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Mialgi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852A-A557-43D7-A18F-A70B8F9C2E5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CaixaDeTexto 5"/>
          <p:cNvSpPr/>
          <p:nvPr/>
        </p:nvSpPr>
        <p:spPr>
          <a:xfrm rot="16200000">
            <a:off x="-41004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tângulo 6"/>
          <p:cNvSpPr/>
          <p:nvPr/>
        </p:nvSpPr>
        <p:spPr>
          <a:xfrm>
            <a:off x="4284720" y="3068640"/>
            <a:ext cx="4608360" cy="15570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Verdana"/>
              </a:rPr>
              <a:t>Vários desses efeitos colaterais tendem a desaparecer nas primeiras seman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Demência Vascular (DV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360" y="1125360"/>
            <a:ext cx="815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O tratamento eficaz da DV deve incluir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revenção de novas lesões cerebrovasculares pelo uso de anti-hipertensivos e antitrombóticos, quando necessár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Intervenções farmacológicas para neuroproteção, ativação cerebral, transtorno psiquiátrico e retirar medicamentos que causem mais prejuízos que benéficos (hipotensores e os que causem declínio cognitiv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Adequação do ambiente às dificuldades do idoso, a evitar traumas e acid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Mobilização da família e dos cuidador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6514-14D9-4C9A-96A6-F9354FF2697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CaixaDeTexto 5"/>
          <p:cNvSpPr/>
          <p:nvPr/>
        </p:nvSpPr>
        <p:spPr>
          <a:xfrm rot="16200000">
            <a:off x="-41004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Demência Vascular (DV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55640" y="1413000"/>
            <a:ext cx="808344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O tratamento medicamentoso pode diminuir e estabilizar a deterioração cognitiva dos utentes com DV. Em acompanhamento de 5 anos, 6% dos utentes tiveram déficit cognitivo e alterações do humor revertidos e 40% se mantiveram independent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Como existe alta frequência de depressão, pertubações comportamentais e ansiedade associada as demências, a psicoterapia para utentes e familiares pode ajudar muito a melhorar a qualidade de vi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563C-CC4B-4C7B-BE23-C258E99EABE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CaixaDeTexto 5"/>
          <p:cNvSpPr/>
          <p:nvPr/>
        </p:nvSpPr>
        <p:spPr>
          <a:xfrm rot="16200000">
            <a:off x="-41004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tamento da Demência Vascular (DV)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55280" y="2349000"/>
            <a:ext cx="815508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Inclui os exercícios cognitivos, grupos de apoio, instrução para as principais dificuldades e acompanhamento regular do comprometimento cognitivo através de testes psicológic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C26F-77BC-49A3-837A-F39BBCECAC8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CaixaDeTexto 5"/>
          <p:cNvSpPr/>
          <p:nvPr/>
        </p:nvSpPr>
        <p:spPr>
          <a:xfrm rot="16200000">
            <a:off x="-410040" y="306756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Ê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tamento para os quadros de dem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Formas de tratamento para os quadros de demência mais frequentes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Medicamentoso: actuação e efeitos secundári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Verdana"/>
              </a:rPr>
              <a:t>Psicossoci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DD01-7E54-4660-BEA1-7FD6B127D84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50920" y="1413000"/>
            <a:ext cx="67881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screver aspectos gerais dos tratamentos indicados para os principais quadros de demênc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xplicar as duas principais formas de trata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0EA4-FB03-44AF-8E49-CEA2D35E8CB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708280"/>
            <a:ext cx="19857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pectos comuns no tratamento de todos os transtornos ment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03640" y="1267920"/>
            <a:ext cx="5472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Há tratamentos adequados para cada tipo de transtorno, o que não é só feito com medicament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tratamento medicamentoso é um valioso instrumento da Psiquiatria para o controle dos sintomas e, com o avanço das pesquisas, muito se tem conseguido em melhora da qualidade de vida da pessoa com transtorno ment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732B-0941-423D-8F33-DCA0086FBD4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2" descr="http://t3.gstatic.com/images?q=tbn:ANd9GcTGd4n3U5TPozPkqpEVRBHNmLusXrq007ObkB58jbXHyC9OAIP69g"/>
          <p:cNvPicPr/>
          <p:nvPr/>
        </p:nvPicPr>
        <p:blipFill>
          <a:blip r:embed="rId1"/>
          <a:stretch/>
        </p:blipFill>
        <p:spPr>
          <a:xfrm>
            <a:off x="468360" y="3429000"/>
            <a:ext cx="2374920" cy="2324160"/>
          </a:xfrm>
          <a:prstGeom prst="rect">
            <a:avLst/>
          </a:prstGeom>
          <a:ln w="0">
            <a:noFill/>
          </a:ln>
        </p:spPr>
      </p:pic>
      <p:sp>
        <p:nvSpPr>
          <p:cNvPr id="106" name="CaixaDeTexto 6"/>
          <p:cNvSpPr/>
          <p:nvPr/>
        </p:nvSpPr>
        <p:spPr>
          <a:xfrm rot="20500800">
            <a:off x="688320" y="5276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18ff"/>
                </a:solidFill>
                <a:latin typeface="Verdana"/>
              </a:rPr>
              <a:t>Psicotróp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j0296847"/>
          <p:cNvPicPr/>
          <p:nvPr/>
        </p:nvPicPr>
        <p:blipFill>
          <a:blip r:embed="rId2"/>
          <a:stretch/>
        </p:blipFill>
        <p:spPr>
          <a:xfrm>
            <a:off x="250920" y="1052640"/>
            <a:ext cx="115236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pectos comuns no tratamento de todos os transtornos ment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47640" y="1268280"/>
            <a:ext cx="72914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da vez mais, a abordagem ampla na qual se ofereçam outras possibilidades terapêuticas, mostra ser mais adequada e eficaz no tratamento de pessoas com transtorno mental, afinal apenas o controle não ensina o paciente a lidar com seus problemas cotidianos e emocion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riatividade e a dedicação dos profissionais neste campo permite conhecer e perceber a cada momento diferentes facetas da mente humana, o que resulta em novas possibilidades no trata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339B-1C05-443E-B9B8-5ECDE5C71F2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j0296847"/>
          <p:cNvPicPr/>
          <p:nvPr/>
        </p:nvPicPr>
        <p:blipFill>
          <a:blip r:embed="rId1"/>
          <a:stretch/>
        </p:blipFill>
        <p:spPr>
          <a:xfrm>
            <a:off x="250920" y="907920"/>
            <a:ext cx="122544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pectos comuns no tratamento de todos os transtornos ment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47640" y="1143000"/>
            <a:ext cx="7291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ndo você está com dor de cabeça, toma um analgésico, não é? Mesmo que a dor passe, você sabe que a medicação apenas atuou na redução de um sintoma, e não na sua caus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psicotrópicos são drogas cujo principal uso é modificar as funções psíquicas, normais ou alteradas. Portanto, não curam o doente mental, apenas diminuem seu sofri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42DC-EF32-4074-BB30-1B121C4DA83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j0296847"/>
          <p:cNvPicPr/>
          <p:nvPr/>
        </p:nvPicPr>
        <p:blipFill>
          <a:blip r:embed="rId1"/>
          <a:stretch/>
        </p:blipFill>
        <p:spPr>
          <a:xfrm>
            <a:off x="395280" y="1125360"/>
            <a:ext cx="1108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pectos comuns no tratamento de todos os transtornos ment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58920" y="1143000"/>
            <a:ext cx="7580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tipo de psicofármaco, assim como o tempo de utilização e as dosagens, vão depender do tipo de sintoma que se deseja combater e da maneira como reage o organismo do usuário. Algumas pessoas necessitam de doses mais altas ou de utilizá-los por um tempo mais long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m outras, se consegue o mesmo efeito com doses menores e emprazos menores. Os efeitos colaterais também são variáveis de pessoa para pesso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93C2-216D-47A2-80EF-282B69B16D1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5" descr="j0296847"/>
          <p:cNvPicPr/>
          <p:nvPr/>
        </p:nvPicPr>
        <p:blipFill>
          <a:blip r:embed="rId1"/>
          <a:stretch/>
        </p:blipFill>
        <p:spPr>
          <a:xfrm>
            <a:off x="395280" y="1125360"/>
            <a:ext cx="96984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pectos comuns no tratamento de todos os transtornos ment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15640" y="2133720"/>
            <a:ext cx="78058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idade, sexo, peso, metabolismo individual, hábitos e dieta são fatores que devem se levar em conta quando se pensa em ação medicamentosa, e a coleta destes dados pelo enfermeiro geral é indispensável para que o psiquiatra possa fazer a prescrição adequad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428F-42A3-4AB8-8481-9CD608C56AF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5" descr="j0296847"/>
          <p:cNvPicPr/>
          <p:nvPr/>
        </p:nvPicPr>
        <p:blipFill>
          <a:blip r:embed="rId1"/>
          <a:stretch/>
        </p:blipFill>
        <p:spPr>
          <a:xfrm>
            <a:off x="395280" y="1125360"/>
            <a:ext cx="96984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pectos comuns no tratamento de todos os transtornos ment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58920" y="1143000"/>
            <a:ext cx="7580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muito importante que o enfermeiro geral conheça os efeitos das drogas utilizadas neste sector, pois é comum ouvir-se entre os usuários frases do tipo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O remédio dele acabou, eu posso dar o meu?”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Minha vizinha estava como eu fiquei e eu dei meu remédio para ela”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e tipo de dúvida ou afirmação chega com maior freqüência para o enfermeiro do que para outros profissionais do sector, e este precisa ter segurança ao afirmar que esta prescrição só pode ser feita pelo médico e que o uso indevido destas medicações pode ser perigos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8B50-1375-4C67-B6A9-63C8844DFC7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5" descr="j0296847"/>
          <p:cNvPicPr/>
          <p:nvPr/>
        </p:nvPicPr>
        <p:blipFill>
          <a:blip r:embed="rId1"/>
          <a:stretch/>
        </p:blipFill>
        <p:spPr>
          <a:xfrm>
            <a:off x="395280" y="1125360"/>
            <a:ext cx="96984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7:57:27Z</dcterms:created>
  <dc:creator>Escolastica</dc:creator>
  <dc:description/>
  <dc:language>en-US</dc:language>
  <cp:lastModifiedBy>Mendoza</cp:lastModifiedBy>
  <dcterms:modified xsi:type="dcterms:W3CDTF">2012-02-02T08:36:35Z</dcterms:modified>
  <cp:revision>33</cp:revision>
  <dc:subject/>
  <dc:title>Formas de tratamento para os transtornos mentais mais frequentes: Medicamentoso e Psicossocial.</dc:title>
</cp:coreProperties>
</file>