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8839-3971-4326-B6DC-89549C7CE9D1}"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8A533-4332-432F-ACD3-BBA9D7C4EF5C}" type="slidenum">
              <a:rPr b="0" lang="en-US" sz="1200" spc="-1" strike="noStrike">
                <a:solidFill>
                  <a:srgbClr val="000000"/>
                </a:solidFill>
                <a:latin typeface="Calibri"/>
                <a:ea typeface="Arial"/>
              </a:rPr>
              <a:t>&lt;number&gt;</a:t>
            </a:fld>
            <a:endParaRPr b="0" lang="en-US" sz="1200" spc="-1" strike="noStrike">
              <a:solidFill>
                <a:srgbClr val="000000"/>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
        <p:nvSpPr>
          <p:cNvPr id="205" name="Espaço Reservado para Número de Slid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8E59-6E36-45E6-BA53-9F84ADEA60BA}" type="slidenum">
              <a:rPr b="0" lang="pt-BR"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596664-8A65-4271-AB64-247E1F5580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E20613-399D-49DA-80AE-D0D33C61FA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D79C82-C99F-4AF2-B35E-CAED5A8F60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5EB84D-8DCD-47BD-B120-E55AFD7964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F594EE-C7E4-4B41-81CB-70A23CE12E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0"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4D105C-8507-4E27-B68A-E947F8BC58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1123C7-2274-4DDE-B255-BD1A2B9239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69A5EE-8300-4F23-A5D0-68C53C6E3F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E5F659-80D4-46A4-9D3E-28EACD3615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31149F-173D-429F-A83C-46E8B07F46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785B56-38F5-4EEA-829C-ACD116A19A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86716E-2533-4EBE-8571-3AF8C34B22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AD91-5C09-48C3-89F8-B5DFBE38FF4F}"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826920" y="170028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95280" y="33336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47640" y="1844640"/>
            <a:ext cx="6266160" cy="220968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s orgânicos:</a:t>
            </a:r>
            <a:br>
              <a:rPr sz="3200"/>
            </a:br>
            <a:r>
              <a:rPr b="1" lang="pt-PT" sz="3200" spc="-1" strike="noStrike">
                <a:solidFill>
                  <a:srgbClr val="ffffff"/>
                </a:solidFill>
                <a:latin typeface="Verdana"/>
              </a:rPr>
              <a:t>Demência, </a:t>
            </a:r>
            <a:br>
              <a:rPr sz="3200"/>
            </a:br>
            <a:r>
              <a:rPr b="1" lang="pt-PT" sz="3200" spc="-1" strike="noStrike">
                <a:solidFill>
                  <a:srgbClr val="ffffff"/>
                </a:solidFill>
                <a:latin typeface="Verdana"/>
              </a:rPr>
              <a:t>Demências vasculares e</a:t>
            </a:r>
            <a:br>
              <a:rPr sz="3200"/>
            </a:br>
            <a:r>
              <a:rPr b="1" lang="pt-BR" sz="3200" spc="-1" strike="noStrike">
                <a:solidFill>
                  <a:srgbClr val="ffffff"/>
                </a:solidFill>
                <a:latin typeface="Verdana"/>
              </a:rPr>
              <a:t>Doença de </a:t>
            </a:r>
            <a:r>
              <a:rPr b="1" lang="pt-PT" sz="3200" spc="-1" strike="noStrike">
                <a:solidFill>
                  <a:srgbClr val="ffffff"/>
                </a:solidFill>
                <a:latin typeface="Verdana"/>
              </a:rPr>
              <a:t>Alzheimer </a:t>
            </a:r>
            <a:endParaRPr b="1" lang="en-US" sz="3200" spc="-1" strike="noStrike">
              <a:solidFill>
                <a:srgbClr val="ffffff"/>
              </a:solidFill>
              <a:latin typeface="Verdana"/>
            </a:endParaRPr>
          </a:p>
        </p:txBody>
      </p:sp>
      <p:sp>
        <p:nvSpPr>
          <p:cNvPr id="91" name="PlaceHolder 2"/>
          <p:cNvSpPr>
            <a:spLocks noGrp="1"/>
          </p:cNvSpPr>
          <p:nvPr>
            <p:ph type="subTitle"/>
          </p:nvPr>
        </p:nvSpPr>
        <p:spPr>
          <a:xfrm>
            <a:off x="826560" y="4292280"/>
            <a:ext cx="7705800" cy="1297080"/>
          </a:xfrm>
          <a:prstGeom prst="rect">
            <a:avLst/>
          </a:prstGeom>
          <a:solidFill>
            <a:srgbClr val="ffffff"/>
          </a:solidFill>
          <a:ln w="9360">
            <a:solidFill>
              <a:srgbClr val="000000"/>
            </a:solidFill>
            <a:miter/>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Módulo 11: Prática de Enfermagem IV -</a:t>
            </a:r>
            <a:endParaRPr b="1" lang="en-US" sz="2400" spc="-1" strike="noStrike">
              <a:solidFill>
                <a:srgbClr val="000066"/>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Verdana"/>
              </a:rPr>
              <a:t>Enfermagem em Saúde Mental e Enfermagem Geriátrica</a:t>
            </a:r>
            <a:endParaRPr b="1" lang="en-US" sz="2400" spc="-1" strike="noStrike">
              <a:solidFill>
                <a:srgbClr val="000066"/>
              </a:solidFill>
              <a:latin typeface="Verdana"/>
            </a:endParaRPr>
          </a:p>
        </p:txBody>
      </p:sp>
      <p:sp>
        <p:nvSpPr>
          <p:cNvPr id="92"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ipos de demências</a:t>
            </a:r>
            <a:endParaRPr b="1" lang="en-US" sz="3200" spc="-1" strike="noStrike">
              <a:solidFill>
                <a:srgbClr val="ffffff"/>
              </a:solidFill>
              <a:latin typeface="Verdana"/>
            </a:endParaRPr>
          </a:p>
        </p:txBody>
      </p:sp>
      <p:sp>
        <p:nvSpPr>
          <p:cNvPr id="127"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Tipos de Demência</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Uma das maneiras de classificar as Demências é quanto à causa.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gundo Galton (1999) as freqüências relativas das causas de demência diferem com a idade, mas, de qualquer forma, a Doença de Alzheimer é a causa mais comum, tanto em menores quanto em maiores de 65 ano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causa genética das demências, como por exemplo, a Doença de Alzheimer, juntamente com outras causas mais raras, é mais freqüente no grupo etário mais jovem. </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24816-2146-4877-9EA6-477A5F9AF1F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tipos de demências</a:t>
            </a:r>
            <a:endParaRPr b="1" lang="en-US" sz="3200" spc="-1" strike="noStrike">
              <a:solidFill>
                <a:srgbClr val="ffffff"/>
              </a:solidFill>
              <a:latin typeface="Verdana"/>
            </a:endParaRPr>
          </a:p>
        </p:txBody>
      </p:sp>
      <p:sp>
        <p:nvSpPr>
          <p:cNvPr id="13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2D74A-483C-4BA3-988E-2D767D8EA8E4}"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graphicFrame>
        <p:nvGraphicFramePr>
          <p:cNvPr id="133" name=""/>
          <p:cNvGraphicFramePr/>
          <p:nvPr/>
        </p:nvGraphicFramePr>
        <p:xfrm>
          <a:off x="826920" y="1197000"/>
          <a:ext cx="7417080" cy="5037120"/>
        </p:xfrm>
        <a:graphic>
          <a:graphicData uri="http://schemas.openxmlformats.org/drawingml/2006/table">
            <a:tbl>
              <a:tblPr/>
              <a:tblGrid>
                <a:gridCol w="3942000"/>
                <a:gridCol w="1622520"/>
                <a:gridCol w="1852560"/>
              </a:tblGrid>
              <a:tr h="561960">
                <a:tc gridSpan="3">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Calibri"/>
                        </a:rPr>
                        <a:t>Tabela 1 - Freqüência dos tipos de demência*</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r h="1098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alibri"/>
                        </a:rPr>
                        <a:t>Menos de 65 anos</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Calibri"/>
                        </a:rPr>
                        <a:t>Mais de 65 anos</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Calibri"/>
                        </a:rPr>
                        <a:t>Doença de Alzheimer</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34%</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55%</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Demência Vascular</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18%</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20%</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61960">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Calibri"/>
                        </a:rPr>
                        <a:t>Demência Fronto-Temporal</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12%</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63400">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Calibri"/>
                        </a:rPr>
                        <a:t>Demência corpos de Lewy</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7%</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20%</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62320">
                <a:tc>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Outros</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29%</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5%</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563400">
                <a:tc gridSpan="3">
                  <a:txBody>
                    <a:bodyPr lIns="0" rIns="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alibri"/>
                        </a:rPr>
                        <a:t>* (HENRY BRODATY, 2004)</a:t>
                      </a:r>
                      <a:endParaRPr b="0" lang="en-US" sz="2400" spc="-1" strike="noStrike">
                        <a:solidFill>
                          <a:srgbClr val="000000"/>
                        </a:solidFill>
                        <a:latin typeface="Verdana"/>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92440" y="4800240"/>
            <a:ext cx="5486400" cy="114948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3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3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0B48-B1EB-4626-8533-10A90965C49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37" name="Picture 2" descr="papel de parede de paisagem"/>
          <p:cNvPicPr/>
          <p:nvPr/>
        </p:nvPicPr>
        <p:blipFill>
          <a:blip r:embed="rId1"/>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39" name=""/>
          <p:cNvSpPr txBox="1"/>
          <p:nvPr/>
        </p:nvSpPr>
        <p:spPr>
          <a:xfrm>
            <a:off x="324000" y="981000"/>
            <a:ext cx="576072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o tipo mais comum de demência. As pessoas com algum tipo de prejuízo cognitivo representam 5-10% da população com 65 anos ou mais e, entre essas, mais de 50% dos casos são devidos à DA (JELLINGER, 1990).</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levada incidência, avanços terapêuticos e perspectivas otimistas com relação às novas drogas ativas no SNC tem levado a grande interesse no diagnóstico precoce dessa patologi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4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19F00-E5B4-45DD-A355-135E00E1DAB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42" name="Picture 1" descr="http://www.ghente.org/imagens/ciencia/alois_alzheimer.jpg"/>
          <p:cNvPicPr/>
          <p:nvPr/>
        </p:nvPicPr>
        <p:blipFill>
          <a:blip r:embed="rId1"/>
          <a:stretch/>
        </p:blipFill>
        <p:spPr>
          <a:xfrm>
            <a:off x="6227640" y="1268280"/>
            <a:ext cx="2592360" cy="3703680"/>
          </a:xfrm>
          <a:prstGeom prst="rect">
            <a:avLst/>
          </a:prstGeom>
          <a:ln w="0">
            <a:noFill/>
          </a:ln>
        </p:spPr>
      </p:pic>
      <p:sp>
        <p:nvSpPr>
          <p:cNvPr id="143" name="Retângulo 6"/>
          <p:cNvSpPr/>
          <p:nvPr/>
        </p:nvSpPr>
        <p:spPr>
          <a:xfrm>
            <a:off x="6191280" y="5013360"/>
            <a:ext cx="2952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Alemão, Psiquiatra e Neuropatologista descreveu a DA em 190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228600"/>
            <a:ext cx="779616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45" name=""/>
          <p:cNvSpPr txBox="1"/>
          <p:nvPr/>
        </p:nvSpPr>
        <p:spPr>
          <a:xfrm>
            <a:off x="250560" y="1268280"/>
            <a:ext cx="4392360" cy="38894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66"/>
                </a:solidFill>
                <a:latin typeface="Verdana"/>
              </a:rPr>
              <a:t>Na Doença de Alzheimer pôde-se localizar um grupo de genes responsáveis, porém ainda não explica a doença, completamente</a:t>
            </a:r>
            <a:r>
              <a:rPr b="0" lang="pt-PT" sz="2800" spc="-1" strike="noStrike">
                <a:solidFill>
                  <a:srgbClr val="000066"/>
                </a:solidFill>
                <a:latin typeface="Verdana"/>
              </a:rPr>
              <a:t>.</a:t>
            </a:r>
            <a:endParaRPr b="1" lang="en-US" sz="28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1º. diagnóstico foi dado em 1906 pelo psiquiatra alemão Alois Alzheimer.</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4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4365-BDF5-4BD5-BBAC-30DC42B650C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48" name="Picture 2" descr="http://3.bp.blogspot.com/-0KgoA-zs_s0/TkFwgnouvpI/AAAAAAAAAOM/36FTOGRxmzE/s1600/alzheimer1.jpg2.jpg"/>
          <p:cNvPicPr/>
          <p:nvPr/>
        </p:nvPicPr>
        <p:blipFill>
          <a:blip r:embed="rId1"/>
          <a:stretch/>
        </p:blipFill>
        <p:spPr>
          <a:xfrm>
            <a:off x="4859280" y="1844640"/>
            <a:ext cx="4114800" cy="3191040"/>
          </a:xfrm>
          <a:prstGeom prst="rect">
            <a:avLst/>
          </a:prstGeom>
          <a:ln w="0">
            <a:noFill/>
          </a:ln>
        </p:spPr>
      </p:pic>
      <p:sp>
        <p:nvSpPr>
          <p:cNvPr id="149" name="Retângulo 6"/>
          <p:cNvSpPr/>
          <p:nvPr/>
        </p:nvSpPr>
        <p:spPr>
          <a:xfrm>
            <a:off x="324000" y="5300640"/>
            <a:ext cx="8640720" cy="1008720"/>
          </a:xfrm>
          <a:prstGeom prst="rect">
            <a:avLst/>
          </a:prstGeom>
          <a:gradFill rotWithShape="0">
            <a:gsLst>
              <a:gs pos="0">
                <a:srgbClr val="c1c1fb"/>
              </a:gs>
              <a:gs pos="100000">
                <a:srgbClr val="ededff"/>
              </a:gs>
            </a:gsLst>
            <a:lin ang="16200000"/>
          </a:gradFill>
          <a:ln w="9360">
            <a:solidFill>
              <a:srgbClr val="9494c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O sintoma primário é a perda da memória. Com o avançar da doença vão surgindo sinais como confusão mental, irritabilidade e agressividade, alteração do humor, falhas na linguage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51"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causa da DA de maior evidência até o momento diz respeito à mutações nos genes da presenilina I e II e no gene da proteína precursora do amilóide (Amyloid Precursor Protein-APP), confirmando, assim, a hipótese do depósito da substância amilóide para o surgimento da D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squisa sugere que o acúmulo do peptídeo beta-amilóide, por superprodução ou por incapacidade de degradação, levaria ao acúmulo de substância amilóide, causando as chamadas placas amilóides no tecido cerebral, causando a morte celular (PLASSMAN, 2000).</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5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6746-AE1A-4F31-B5FB-4D424413596E}"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55"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la dificuldade de se obter evidências patológicas diretas da presença da DA procura-se, no afã de ter um diagnóstico precoce, avaliar cuidadosamente o Comprometimento Cognitivo Leve (CCL), que representa um déficit nas tarefas de memória episódica (do dia-a-dia), mas que é ainda insuficiente para preencher os critérios de diagnóstico para demênci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É cada vez mais evidente que muitas das pessoas com CCL podem se encontrar em um estágio pré-clínico da DA e que essa progressão até a demência plena poderá levar vários anos (PETERSEN, 1999).</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5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5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2D5B-2AD2-4D9F-ABC7-5520FAC01B2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59"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utro esforço de diagnóstico tem sido feito com as imagens de Ressonância Magnética (RM).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Tudo leva a crer que pacientes com a DA nos estágios mais precoces e com CCL, podem revelar evidências de atrofia do hipocampo e da região medial do lobo, porém, até o momento, tais anormalidades não são específicas o bastante para terem valor de diagnóstico definitivo.</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60F7-9C4B-4CCE-8644-F8D8A4CA086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Doença de Alzheimer</a:t>
            </a:r>
            <a:endParaRPr b="1" lang="en-US" sz="3200" spc="-1" strike="noStrike">
              <a:solidFill>
                <a:srgbClr val="ffffff"/>
              </a:solidFill>
              <a:latin typeface="Verdana"/>
            </a:endParaRPr>
          </a:p>
        </p:txBody>
      </p:sp>
      <p:sp>
        <p:nvSpPr>
          <p:cNvPr id="163"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Mais recentemente, pós Ressonância Magnética, recorre-se à Tomografia Computadorizada de Perfusão por Emissão de Fóton (SPECT) e Ressonância Magnética Funcional (FMR), além da Espectroscopia de Ressonância Magnética (MRE) e Tomografia por Emissão de Pósitron (PET).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Todos esses exames podem melhorar a exatidão diagnóstica, embora ainda não sejam específicos para DA e nem tenham validade absoluta</a:t>
            </a:r>
            <a:endParaRPr b="1" lang="en-US" sz="2800" spc="-1" strike="noStrike">
              <a:solidFill>
                <a:srgbClr val="000066"/>
              </a:solidFill>
              <a:latin typeface="Verdana"/>
            </a:endParaRPr>
          </a:p>
        </p:txBody>
      </p:sp>
      <p:sp>
        <p:nvSpPr>
          <p:cNvPr id="16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7A53-F8C5-4254-8BB2-A5EAE469E01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92440" y="4800240"/>
            <a:ext cx="5486400" cy="71604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 VASCULAR</a:t>
            </a:r>
            <a:endParaRPr b="1" lang="en-US" sz="3200" spc="-1" strike="noStrike">
              <a:solidFill>
                <a:srgbClr val="ffffff"/>
              </a:solidFill>
              <a:latin typeface="Verdana"/>
            </a:endParaRPr>
          </a:p>
        </p:txBody>
      </p:sp>
      <p:sp>
        <p:nvSpPr>
          <p:cNvPr id="16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6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3761C-3450-4D2F-9307-A9EC89DE4F3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69" name="Picture 2" descr="Imagens de paisagens em papel de parede"/>
          <p:cNvPicPr/>
          <p:nvPr/>
        </p:nvPicPr>
        <p:blipFill>
          <a:blip r:embed="rId1"/>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Transtornos orgânicos</a:t>
            </a:r>
            <a:endParaRPr b="1" lang="en-US" sz="3200" spc="-1" strike="noStrike">
              <a:solidFill>
                <a:srgbClr val="ffffff"/>
              </a:solidFill>
              <a:latin typeface="Verdana"/>
            </a:endParaRPr>
          </a:p>
        </p:txBody>
      </p:sp>
      <p:sp>
        <p:nvSpPr>
          <p:cNvPr id="94" name=""/>
          <p:cNvSpPr txBox="1"/>
          <p:nvPr/>
        </p:nvSpPr>
        <p:spPr>
          <a:xfrm>
            <a:off x="456840" y="1484280"/>
            <a:ext cx="838188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66"/>
                </a:solidFill>
                <a:latin typeface="Verdana"/>
              </a:rPr>
              <a:t>Demência;</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66"/>
                </a:solidFill>
                <a:latin typeface="Verdana"/>
              </a:rPr>
              <a:t>Doença de Alzheimer;</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66"/>
                </a:solidFill>
                <a:latin typeface="Verdana"/>
              </a:rPr>
              <a:t>Demências vasculares;</a:t>
            </a:r>
            <a:endParaRPr b="1" lang="en-US" sz="2800" spc="-1" strike="noStrike">
              <a:solidFill>
                <a:srgbClr val="000066"/>
              </a:solidFill>
              <a:latin typeface="Verdana"/>
            </a:endParaRPr>
          </a:p>
        </p:txBody>
      </p:sp>
      <p:sp>
        <p:nvSpPr>
          <p:cNvPr id="9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9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6E85-6922-43D5-81BE-34BB13CFFBCC}"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 vascular</a:t>
            </a:r>
            <a:endParaRPr b="1" lang="en-US" sz="3200" spc="-1" strike="noStrike">
              <a:solidFill>
                <a:srgbClr val="ffffff"/>
              </a:solidFill>
              <a:latin typeface="Verdana"/>
            </a:endParaRPr>
          </a:p>
        </p:txBody>
      </p:sp>
      <p:sp>
        <p:nvSpPr>
          <p:cNvPr id="171" name=""/>
          <p:cNvSpPr txBox="1"/>
          <p:nvPr/>
        </p:nvSpPr>
        <p:spPr>
          <a:xfrm>
            <a:off x="456840" y="1143000"/>
            <a:ext cx="8381880" cy="5029200"/>
          </a:xfrm>
          <a:prstGeom prst="rect">
            <a:avLst/>
          </a:prstGeom>
          <a:noFill/>
          <a:ln w="0">
            <a:noFill/>
          </a:ln>
        </p:spPr>
        <p:txBody>
          <a:bodyPr anchor="t">
            <a:normAutofit fontScale="99000"/>
          </a:bodyPr>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Demência Vascular é a segunda causa mais comum de demência.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Tende a apresentar início um tanto mais precoce que a Doença de Alzheimer e, ao contrário desta, os homens são mais freqüentemente afetados que as mulheres.</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início da Demência vascular é tipicamente súbito, seguido por um curso flutuante e gradativo, caracterizado por rápidas alterações no funcionamento, ao invés de uma progressão lenta. </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 curso, entretanto, pode ser altamente variável, e um início insidioso com declínio gradual também é encontrado.</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7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86D3-AE5E-4E53-9EF1-1AA5755257E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 vascular</a:t>
            </a:r>
            <a:endParaRPr b="1" lang="en-US" sz="3200" spc="-1" strike="noStrike">
              <a:solidFill>
                <a:srgbClr val="ffffff"/>
              </a:solidFill>
              <a:latin typeface="Verdana"/>
            </a:endParaRPr>
          </a:p>
        </p:txBody>
      </p:sp>
      <p:sp>
        <p:nvSpPr>
          <p:cNvPr id="175"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Para o diagnóstico de Demência vascular deve haver evidências laboratoriais de doença cerebrovascular consideradas relacionadas com a demência.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s sinais neurológicos focais na Demência vascular incluem resposta extensora plantar, paralisia pseudobulbar, anormalidades da marcha, exagero dos reflexos tendinosos profundos ou fraqueza de uma das extremidade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7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D4DB-6D2B-4C3D-A843-E26F937E0355}"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 vascular</a:t>
            </a:r>
            <a:endParaRPr b="1" lang="en-US" sz="3200" spc="-1" strike="noStrike">
              <a:solidFill>
                <a:srgbClr val="ffffff"/>
              </a:solidFill>
              <a:latin typeface="Verdana"/>
            </a:endParaRPr>
          </a:p>
        </p:txBody>
      </p:sp>
      <p:sp>
        <p:nvSpPr>
          <p:cNvPr id="179"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tomografia computadorizada do crânio e a imagem por ressonância magnética evidenciam, geralmente, múltiplas lesões vasculares do córtex cerebral e estruturas subcorticais.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Existem cada vez mais evidências de que a Demência Vascular possa coexistir com a DA, levando a uma confusão diagnóstica. Nesse caso as lesões vasculares contribuiriam para a gravidade da DA (SNOWDON, 1997).</a:t>
            </a: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BDBBA-EA90-4A5C-AB16-9EEE77D52EDA}"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 vascular</a:t>
            </a:r>
            <a:endParaRPr b="1" lang="en-US" sz="3200" spc="-1" strike="noStrike">
              <a:solidFill>
                <a:srgbClr val="ffffff"/>
              </a:solidFill>
              <a:latin typeface="Verdana"/>
            </a:endParaRPr>
          </a:p>
        </p:txBody>
      </p:sp>
      <p:sp>
        <p:nvSpPr>
          <p:cNvPr id="183"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Portanto, a diferenciação entre DA e Demência Vascular costuma ser difícil e muitos tipos de doenças vasculares do cérebro podem levar a um comprometimento da cognição suficiente para originar um quadro demencial.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Essas doenças vasculares incluem: Infartos grandes, lacunares e fronteiriços e Doença de pequeno vaso (doença de Binswanger).</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D8E0-E102-4156-B873-18702B55936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 vascular</a:t>
            </a:r>
            <a:endParaRPr b="1" lang="en-US" sz="3200" spc="-1" strike="noStrike">
              <a:solidFill>
                <a:srgbClr val="ffffff"/>
              </a:solidFill>
              <a:latin typeface="Verdana"/>
            </a:endParaRPr>
          </a:p>
        </p:txBody>
      </p:sp>
      <p:sp>
        <p:nvSpPr>
          <p:cNvPr id="187"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Ressonância Magnética ampliou o conhecimento do padrão de lesões na demência vascular, proporcionando ainda indícios para a causa de base da demência vascula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r exemplo, múltiplos infartos grandes sugerem embolia repetida e, portanto, as investigações cardíacas devem ser direcionadas para a detecção de uma fonte de embolia.</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s infartos lacunares sugerem hipertensão mal controlada, ao passo que alterações isquêmicas sugerem doença de pequeno vaso, que pode produzir um quadro clínico de declínio gradual semelhante ao da Doença de Alzheimer.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8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8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B6C5-54B3-4AF2-BEB4-A304131F24AB}"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servação</a:t>
            </a:r>
            <a:endParaRPr b="1" lang="en-US" sz="3200" spc="-1" strike="noStrike">
              <a:solidFill>
                <a:srgbClr val="ffffff"/>
              </a:solidFill>
              <a:latin typeface="Verdana"/>
            </a:endParaRPr>
          </a:p>
        </p:txBody>
      </p:sp>
      <p:sp>
        <p:nvSpPr>
          <p:cNvPr id="191" name=""/>
          <p:cNvSpPr txBox="1"/>
          <p:nvPr/>
        </p:nvSpPr>
        <p:spPr>
          <a:xfrm>
            <a:off x="539640" y="1700280"/>
            <a:ext cx="8382240" cy="4086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pesar de a Demência Fronto-Temporal e a Demência por corpos de Lewy não fazerem parte do conteúdo deste Módulo, tomou-se a decisão de acrescentá-los no texto de apoio para que a classificação dos tipos de demência fosse apresentada de forma completa.</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ssim, propomos a leitura em pequenos grupos destes dois tipos de demência.</a:t>
            </a: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9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4A21-09D9-4D94-AA00-2DEBDCCD8C3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228600"/>
            <a:ext cx="777240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vidade em pequenos grupos</a:t>
            </a:r>
            <a:endParaRPr b="1" lang="en-US" sz="3200" spc="-1" strike="noStrike">
              <a:solidFill>
                <a:srgbClr val="ffffff"/>
              </a:solidFill>
              <a:latin typeface="Verdana"/>
            </a:endParaRPr>
          </a:p>
        </p:txBody>
      </p:sp>
      <p:sp>
        <p:nvSpPr>
          <p:cNvPr id="195" name=""/>
          <p:cNvSpPr txBox="1"/>
          <p:nvPr/>
        </p:nvSpPr>
        <p:spPr>
          <a:xfrm>
            <a:off x="3886200" y="1828800"/>
            <a:ext cx="5029200" cy="2463840"/>
          </a:xfrm>
          <a:prstGeom prst="rect">
            <a:avLst/>
          </a:prstGeom>
          <a:noFill/>
          <a:ln w="9360">
            <a:solidFill>
              <a:srgbClr val="0000cc"/>
            </a:solidFill>
            <a:miter/>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00"/>
                </a:solidFill>
                <a:latin typeface="Verdana"/>
              </a:rPr>
              <a:t>Leitura do Texto de apoio – Transtornos mentais mais frequentes (p. 11 e 12).</a:t>
            </a:r>
            <a:endParaRPr b="1" lang="en-US" sz="2800" spc="-1" strike="noStrike">
              <a:solidFill>
                <a:srgbClr val="000066"/>
              </a:solidFill>
              <a:latin typeface="Verdana"/>
            </a:endParaRPr>
          </a:p>
        </p:txBody>
      </p:sp>
      <p:sp>
        <p:nvSpPr>
          <p:cNvPr id="19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9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DA19-565E-44D8-AF31-8A11DDFA1E19}"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98" name="Picture 2" descr="http://t3.gstatic.com/images?q=tbn:ANd9GcSmVOdWeBqvsftn7Ib3XggusoTYRgRGpp1ANB8sFO6emGYqU1xw"/>
          <p:cNvPicPr/>
          <p:nvPr/>
        </p:nvPicPr>
        <p:blipFill>
          <a:blip r:embed="rId1"/>
          <a:stretch/>
        </p:blipFill>
        <p:spPr>
          <a:xfrm>
            <a:off x="457200" y="2514600"/>
            <a:ext cx="3200400" cy="3625920"/>
          </a:xfrm>
          <a:prstGeom prst="rect">
            <a:avLst/>
          </a:prstGeom>
          <a:ln w="0">
            <a:noFill/>
          </a:ln>
        </p:spPr>
      </p:pic>
      <p:sp>
        <p:nvSpPr>
          <p:cNvPr id="199" name="Retângulo 6"/>
          <p:cNvSpPr/>
          <p:nvPr/>
        </p:nvSpPr>
        <p:spPr>
          <a:xfrm>
            <a:off x="4211640" y="4365720"/>
            <a:ext cx="4572000" cy="155700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luída a leitura, dois grupos serão sorteados para explicar, resumidamente, os dois tipos de demência.</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bjectivos de aprendizagem</a:t>
            </a:r>
            <a:endParaRPr b="1" lang="en-US" sz="3200" spc="-1" strike="noStrike">
              <a:solidFill>
                <a:srgbClr val="ffffff"/>
              </a:solidFill>
              <a:latin typeface="Verdana"/>
            </a:endParaRPr>
          </a:p>
        </p:txBody>
      </p:sp>
      <p:sp>
        <p:nvSpPr>
          <p:cNvPr id="98" name=""/>
          <p:cNvSpPr txBox="1"/>
          <p:nvPr/>
        </p:nvSpPr>
        <p:spPr>
          <a:xfrm>
            <a:off x="2050920" y="1413000"/>
            <a:ext cx="6788160" cy="475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o final desta sessão os estudantes deverão ser capazes 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Explicar em que consiste um quadro de demê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Citar os principais tipos de demê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Listar sinais e sintomas de demência.</a:t>
            </a: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9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989D-31BE-4B83-BADD-7032AD929B92}"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1" name="Picture 15" descr="http://www.estudiantes.info/images/estudiantes/maripo.gif"/>
          <p:cNvPicPr/>
          <p:nvPr/>
        </p:nvPicPr>
        <p:blipFill>
          <a:blip r:embed="rId1"/>
          <a:stretch/>
        </p:blipFill>
        <p:spPr>
          <a:xfrm>
            <a:off x="468360" y="2708280"/>
            <a:ext cx="2158920" cy="23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440" y="4800240"/>
            <a:ext cx="5486400" cy="716040"/>
          </a:xfrm>
          <a:prstGeom prst="rect">
            <a:avLst/>
          </a:prstGeom>
          <a:solidFill>
            <a:srgbClr val="000099"/>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a:t>
            </a:r>
            <a:endParaRPr b="1" lang="en-US" sz="3200" spc="-1" strike="noStrike">
              <a:solidFill>
                <a:srgbClr val="ffffff"/>
              </a:solidFill>
              <a:latin typeface="Verdana"/>
            </a:endParaRPr>
          </a:p>
        </p:txBody>
      </p:sp>
      <p:sp>
        <p:nvSpPr>
          <p:cNvPr id="10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803A-214C-4A45-BFC9-450350EDAC97}"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pic>
        <p:nvPicPr>
          <p:cNvPr id="105" name="Picture 4" descr="http://www.papeldeparede.etc.br/wallpapers/paisagem-dos-sonhos_2402_1024x768.jpg"/>
          <p:cNvPicPr/>
          <p:nvPr/>
        </p:nvPicPr>
        <p:blipFill>
          <a:blip r:embed="rId1"/>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a:t>
            </a:r>
            <a:endParaRPr b="1" lang="en-US" sz="3200" spc="-1" strike="noStrike">
              <a:solidFill>
                <a:srgbClr val="ffffff"/>
              </a:solidFill>
              <a:latin typeface="Verdana"/>
            </a:endParaRPr>
          </a:p>
        </p:txBody>
      </p:sp>
      <p:sp>
        <p:nvSpPr>
          <p:cNvPr id="107" name=""/>
          <p:cNvSpPr txBox="1"/>
          <p:nvPr/>
        </p:nvSpPr>
        <p:spPr>
          <a:xfrm>
            <a:off x="324000" y="1143000"/>
            <a:ext cx="864072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demência pode ser caracterizada como um conjunto de sinais e sintomas, isto é, uma síndrome causada por alguma doença cerebral, na qual encontraremo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rturbações de vários aspectos do funcionamento mental, como memória, pensamento, compreensão, cálculos, capacidade de aprendizagem, orientação, linguagem e julga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ão há, no entanto, obnubilação (</a:t>
            </a:r>
            <a:r>
              <a:rPr b="0" lang="pt-PT" sz="2400" spc="-1" strike="noStrike">
                <a:solidFill>
                  <a:srgbClr val="000066"/>
                </a:solidFill>
                <a:latin typeface="Verdana"/>
              </a:rPr>
              <a:t>estado de perturbação da consciência, caracterizado por ofuscação da vista e obscurecimento do pensamento)</a:t>
            </a:r>
            <a:r>
              <a:rPr b="0" lang="pt-BR" sz="2400" spc="-1" strike="noStrike">
                <a:solidFill>
                  <a:srgbClr val="000066"/>
                </a:solidFill>
                <a:latin typeface="Verdana"/>
              </a:rPr>
              <a:t>.</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891E-3F27-417A-8EDD-A8A6D7AC22C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a:t>
            </a:r>
            <a:endParaRPr b="1" lang="en-US" sz="3200" spc="-1" strike="noStrike">
              <a:solidFill>
                <a:srgbClr val="ffffff"/>
              </a:solidFill>
              <a:latin typeface="Verdana"/>
            </a:endParaRPr>
          </a:p>
        </p:txBody>
      </p:sp>
      <p:sp>
        <p:nvSpPr>
          <p:cNvPr id="111"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Nos quadros de demência pode-se observar, ainda:</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iminuição progressiva de comportamentos de adaptação, como o controle de esfíncteres, hábitos de higiene e alimentação e do próprio controle emocional, o que leva a maioria das pessoas a dizer que o paciente está “voltando a ser criança”.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ão exemplos de patologias que desenvolvem quadros de demência: a Doença de Alzheimer e as demências vasculare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5669-6CFB-4E08-9EEF-ED42D2E0573D}"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a:t>
            </a:r>
            <a:endParaRPr b="1" lang="en-US" sz="3200" spc="-1" strike="noStrike">
              <a:solidFill>
                <a:srgbClr val="ffffff"/>
              </a:solidFill>
              <a:latin typeface="Verdana"/>
            </a:endParaRPr>
          </a:p>
        </p:txBody>
      </p:sp>
      <p:sp>
        <p:nvSpPr>
          <p:cNvPr id="115" name=""/>
          <p:cNvSpPr txBox="1"/>
          <p:nvPr/>
        </p:nvSpPr>
        <p:spPr>
          <a:xfrm>
            <a:off x="394920" y="981000"/>
            <a:ext cx="8381880" cy="5400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Três principais características dos quadros de demênci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ejuízo da memória: Varia de um esquecimento leve até o prejuízo severo a ponto de não se recordar da própria ident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oblemas de comportamento: Normalmente se caracteriza por agitação, insônia, choro fácil, comportamentos inadequados, perda da inibição social normal e alterações de person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rda das habilidades: São as habilidades adquiridas durante a vida, como organizar os compromissos, dirigir, vestir a roupa, cuidar da vida financeira, cozinhar.</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1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950D-B93F-485B-A69F-51FF345CCEE8}"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a:t>
            </a:r>
            <a:endParaRPr b="1" lang="en-US" sz="3200" spc="-1" strike="noStrike">
              <a:solidFill>
                <a:srgbClr val="ffffff"/>
              </a:solidFill>
              <a:latin typeface="Verdana"/>
            </a:endParaRPr>
          </a:p>
        </p:txBody>
      </p:sp>
      <p:sp>
        <p:nvSpPr>
          <p:cNvPr id="119"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10 sintomas mais comuns nas demência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éficit de memór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ificuldades de executar tarefas doméstic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oblema com o vocabulári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Desorientação no tempo e espaç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capacidade de julgar situaçõ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oblemas com o raciocínio abstra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locar objetos em lugares equivocad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lterações de humor de comporta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lterações de person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rda da iniciativa – passividade.</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1A3C-440F-47AB-B6DD-747678091CAF}"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mência</a:t>
            </a:r>
            <a:endParaRPr b="1" lang="en-US" sz="3200" spc="-1" strike="noStrike">
              <a:solidFill>
                <a:srgbClr val="ffffff"/>
              </a:solidFill>
              <a:latin typeface="Verdana"/>
            </a:endParaRPr>
          </a:p>
        </p:txBody>
      </p:sp>
      <p:sp>
        <p:nvSpPr>
          <p:cNvPr id="123" name=""/>
          <p:cNvSpPr txBox="1"/>
          <p:nvPr/>
        </p:nvSpPr>
        <p:spPr>
          <a:xfrm>
            <a:off x="468000" y="981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Os sintomas iniciais de demência variam, mas a perda de memória em curto prazo costuma ser a característica principal ou única a ser trazida à atenção do profissional.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Ainda assim, nem todos os problemas cognitivos nos idosos são devidos à demência.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Perguntas cuidadosas aos pacientes e aos familiares podem ajudar a determinar a natureza do comprometimento cognitivo e a estreitar o diagnóstico.</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2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0" lang="en-US" sz="1200" spc="-1" strike="noStrike">
              <a:solidFill>
                <a:srgbClr val="000000"/>
              </a:solidFill>
              <a:latin typeface="Verdana"/>
            </a:endParaRPr>
          </a:p>
        </p:txBody>
      </p:sp>
      <p:sp>
        <p:nvSpPr>
          <p:cNvPr id="12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8B9E9-700C-469D-A713-75EEC59B92B0}" type="slidenum">
              <a:rPr b="0" lang="pt-PT" sz="1200" spc="-1" strike="noStrike">
                <a:solidFill>
                  <a:srgbClr val="9999ff"/>
                </a:solidFill>
                <a:latin typeface="Verdana"/>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6T08:41:34Z</dcterms:created>
  <dc:creator>Escolastica</dc:creator>
  <dc:description/>
  <dc:language>en-US</dc:language>
  <cp:lastModifiedBy>Mendoza</cp:lastModifiedBy>
  <dcterms:modified xsi:type="dcterms:W3CDTF">2012-02-02T08:05:12Z</dcterms:modified>
  <cp:revision>29</cp:revision>
  <dc:subject/>
  <dc:title>Transtornos orgânicos: Demência,  Demências vasculares e Doença de Alzheimer </dc:title>
</cp:coreProperties>
</file>