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wmf" ContentType="image/x-wmf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8F43-DD2F-4FD0-820E-A04B0657CF6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34BC-7DFD-44A3-A727-3947058C284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9E2B-9D13-4B7D-BC5D-6C7412AFF1B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1DBEA-84CB-4A28-9433-CE74EFC5AA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32CF6-CC02-4996-A14E-7B9236A9A2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4C418-9244-4513-880C-73D021AA00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7D8A5-E23F-4723-B837-565CFE95E4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1F6A4-217D-4AF9-BC9D-7C3C733C72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B1B27-49D0-4BD6-BAA1-C5B62ACFF5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F42E7-141A-4B5F-A340-436A6573D4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A91EB-3898-4EF1-8B63-7695A969D0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B74EE-829F-4171-B68C-CDD0F3AD96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7AC39-1F0E-4090-86D4-1E6679F596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7E9AA-DBC3-4366-87FD-C0B68EA374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35684-4E59-4237-A7BF-6B496028E6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2BB1-71E2-4042-854E-73D6BEB4C8C1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900000" y="170028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com.br/imgres?q=alcoolismo&amp;um=1&amp;hl=pt-BR&amp;rlz=1R2RNQN_pt-BRBR458&amp;biw=1024&amp;bih=302&amp;tbm=isch&amp;tbnid=71tJtTj0QZHeiM:&amp;imgrefurl=http://www.acessojovem.com.br/alcoolismo.html&amp;docid=Y6h3fU-BiMbSkM&amp;imgurl=http://www.acessojovem.com.br/images/Alcoolismo.jpg&amp;w=964&amp;h=963&amp;ei=QizlTrD8OI2ItwfC-smIBA&amp;zoom=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92000" y="1773360"/>
            <a:ext cx="6265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sicoses: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Esquizofrenia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lcoolism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99640" y="4292280"/>
            <a:ext cx="770436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Comportamento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indivíduo com transtorno esquizofrênico está com suas funções perceptivas alteradas, vê, ouve e sente coisas que não são reais (as chamadas alucinações)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leciona estímulos do ambiente que normalmente passam despercebidos, estando frequentemente alheio ao que se passa à sua frent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u pensamento encontra-se invariavelmente esvaziado, sem sentid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CE95-BE53-4A89-A8FB-7FADB4DEDB1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mportamento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Ás vezes, sente que alguém lhe “rouba os pensamentos da cabeça”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Seu comportamento é geralmente identificado como estranho e sua aparência também pode causar estranheza, pois, estando imerso em percepções distorcidas do mundo e de si mesmo, acaba deixando de cuidar de si (inclusive dos hábitos de higiene) ou pode vestir-se de acordo com os pensamentos delirantes, que comumente apresent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E3B7-1EF3-4835-8840-EF5A030D56B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mportamento do ut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43000"/>
            <a:ext cx="8507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indivíduo também apresenta actividade psicomotora anormal, como ficar se balançando, fazendo movimentos estranhos ou permanecer totalmente imóvel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 comunicação fica prejudicada, seja pelo mutismo, por expressão incoerente de idéias ou por uso inadequado da linguagem como frases incoerentes e neologismo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Tal como outros transtornos, pode apresentar-se em diferentes graus, podendo ser confundida com outros quadro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679E-37D0-4631-907E-1034436C809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LCOOLISM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2DF7-F812-4D2A-83DA-935C856A178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Espaço Reservado para Imagem 7" descr="http://t1.gstatic.com/images?q=tbn:ANd9GcRH9QINRKH93z89isNsskQ5-1dJ0x6RObQjxT0kvvN0ZKrCeXZk">
            <a:hlinkClick r:id="rId1"/>
          </p:cNvPr>
          <p:cNvPicPr/>
          <p:nvPr/>
        </p:nvPicPr>
        <p:blipFill>
          <a:blip r:embed="rId2"/>
          <a:srcRect l="0" t="12333" r="0" b="12333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stória do álcoo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álcool foi mencionado como medicamento na Mesopotâmia em 2.200 anos a.C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Há registos de uso de vinho no Antigo Testamento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800 anos d.C na Arábia deu-se a descoberta do processo de destilação do álcool, gerando enorme incremento ao seu uso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destilados foram usados em princípio como medicament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4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ço Reservado para Número de Slide 5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5F64-A158-4A19-A6D9-5EF083976DC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stória do álcoo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Problemas gerados pelo consumo de álcool e de outras drogas são conhecidos há muitos século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Hipócrates descreveu em 385 a.C fatores que predispunham às doenças pelo consumo de álcool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No Séc. XVIII começa o processo de industrialização  do álcool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9CD8-D4E3-4F62-B656-4B38248C169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História do álcoo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uso de drogas adquire estatuto médico no fim do séc. XIX e início do séc. XX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agnus Huss (alcoolismo), Thomas Trotter (embriaguez – doença da mente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pós a 2ª Guerra Mundial, com a responsabilidade da OMS em organizar definições e conceitos, estes termos são disseminad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percussão das concepções do médico inglês Adams (1920) sobre os conceitos de Tolerância, Dependência, Síndrome de Abstinência e Recaída relacionados ao uso de álcoo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DDC8-CFDE-4755-AC23-1AFF26AC90E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lcoolism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8000" y="105264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ceit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alcoolismo é o conjunto de problemas relacionados ao consumo excessivo e prolongado do álcool e todas as conseqüências decorrent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alcoolismo existe a tolerância, a dependência, a abstinência, o abuso (uso excessivo, porém não continuado), intoxicação por álcool (embriaguez). Síndromes amnéstica (perdas restritas de memória), demencial, alucinatória, delirante, de humor. Distúrbios de ansiedade, sexuais, do sono e distúrbios inespecíficos. Por fim o </a:t>
            </a:r>
            <a:r>
              <a:rPr b="0" i="1" lang="pt-BR" sz="2400" spc="-1" strike="noStrike">
                <a:solidFill>
                  <a:srgbClr val="000066"/>
                </a:solidFill>
                <a:latin typeface="Verdana"/>
              </a:rPr>
              <a:t>delirium tremens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, que pode ser fatal. 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08B3-AD53-461C-AD8B-40CFDF4A061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ceit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tolerância e a dependência ao álcool são dois eventos distintos e indissociáve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olerância: é a necessidade de doses maiores de álcool para alcançar os mesmos efeit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pendência: é simultânea à tolerância e será tanto mais intensa quanto mais intenso for o grau de tolerância ao álcool. Dizemos que a pessoa tornou-se dependente do álcool quando ela não tem mais forças por si própria de interromper ou diminuir o uso do mesmo.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C367-7601-42CB-B847-FFB7A721F1C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ceit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índrome de Abstinência: É um conjunto de sinais e sintomas apresentados pelo utente ao parar de beber subitam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álcool é uma droga depressora do Sistema Nervoso Central. Para equilibrar esse efeito, o usuário crônico aumenta a actividade de certos circuitos de neurônios que se opõem à ação depressiva. Quando a droga é suspensa abruptamente, esses circuitos estimulatórios não encontram mais a ação depressora para equilibrá-los e surge, então, a síndrome de hiperexcitabilidade ou de abstinênc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caída: o usuário volta a bebe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257A-F54E-423C-A633-35B27373D7A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66" name="Conector angulado 6"/>
          <p:cNvCxnSpPr/>
          <p:nvPr/>
        </p:nvCxnSpPr>
        <p:spPr>
          <a:xfrm flipV="1" rot="10800000">
            <a:off x="6658920" y="5516280"/>
            <a:ext cx="1008720" cy="505440"/>
          </a:xfrm>
          <a:prstGeom prst="bentConnector3">
            <a:avLst>
              <a:gd name="adj1" fmla="val 49982"/>
            </a:avLst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sicos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Esquizofrenia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Alcoolism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880A-1DC8-4158-B292-740547ADAAA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ceit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94920" y="980640"/>
            <a:ext cx="838188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intoxicação aguda é a alteração do estado mental pelo aumento dos níveis da substância no organismo, como por exemplo a embriaguez, o coma alcóolico, as convulsões pelo uso de substânci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Quando o uso contínuo de alguma substância está causando algum dano à saúde física ou mental do paciente diz-se que a mesma é de uso nocivo como exemplo, o </a:t>
            </a:r>
            <a:r>
              <a:rPr b="0" i="1" lang="pt-BR" sz="2400" spc="-1" strike="noStrike">
                <a:solidFill>
                  <a:srgbClr val="000066"/>
                </a:solidFill>
                <a:latin typeface="Verdana"/>
              </a:rPr>
              <a:t>Delliriuns tremen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7721-B169-4A3C-BA0E-7196E690576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2" descr="http://t2.gstatic.com/images?q=tbn:ANd9GcREo5uGHh1vZqMJnMXOWMeu5xnu3OrR7fHoprIYXK0QIyHgiMzM"/>
          <p:cNvPicPr/>
          <p:nvPr/>
        </p:nvPicPr>
        <p:blipFill>
          <a:blip r:embed="rId1"/>
          <a:stretch/>
        </p:blipFill>
        <p:spPr>
          <a:xfrm>
            <a:off x="5003640" y="4437000"/>
            <a:ext cx="27464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Fatores relacionados ao alcoolism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9640" y="1197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m desprezar a importância do ambiente no alcoolismo, há evidências de que alguns fatores genéticos aumentam o risco de contrair a doenç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alcoolismo tende a ocorrer com mais frequência em certas famílias, entre gêmeos idênticos (univitelinos), e mesmo em filhos biológicos de pais alcoólicos adotados por famílias de pessoas que não bebem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tudos mostram que adolescentes abstêmios, filhos de pais alcoólicos, têm mais resistência aos efeitos do álcool do que jovens da mesma idade, cujos pais não abusam da drog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4CDF-13C1-4130-928E-D6783D5049F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Fatores relacionados ao alcoolism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Muitos desses filhos de alcoólicos se recusam a beber para não seguir o exemplo de casa. Quando acompanhados por vários anos, porém, esses adolescentes apresentam maior probabilidade de abandonar a abstinência e tornarem-se dependente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Filhos biológicos de pais alcoólicos criados por famílias adotivas têm mais dificuldade de abandonar a bebida do que alcoólicos que não têm história familiar de abuso da drog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5205-D7F7-47A5-898B-A334472ACEF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serva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4920" y="1197000"/>
            <a:ext cx="8381880" cy="172728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esar de a aula ter como foco principal o alcoolismo, vamos tratar de forma abrangente à outros tipos de drogas em diversos tópico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A0E4-7B35-4EE0-B123-5FB4F9C43DA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2" descr="http://1.bp.blogspot.com/-FQT-NcaIw3I/TazSNrprGiI/AAAAAAAAAEA/xHZgXcA76zw/s1600/o-que-as-drogas-causam.jpg"/>
          <p:cNvPicPr/>
          <p:nvPr/>
        </p:nvPicPr>
        <p:blipFill>
          <a:blip r:embed="rId1"/>
          <a:stretch/>
        </p:blipFill>
        <p:spPr>
          <a:xfrm>
            <a:off x="2627280" y="3141720"/>
            <a:ext cx="445608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rog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Conceito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gundo a Organização Mundial de Saúde, Droga é qualquer substância, que, não sendo produzida pelo organismo, tem a propriedade de atuar sobre um ou mais de seus sistemas, produzindo alterações no funcionamento cerebral, na mente, no corpo e no comportamento das pesso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dem ser lícitas ou ilícit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2CC3-7687-446C-9866-1789895C31F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rogas 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sideram-se como psicoativas as substâncias que provocam um estado de alteração no funcionamento mental, aumentando, diminuindo ou distorcendo sua atividade, e que causam dependênc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demos citar vários exemplos de substância psicoativa, desde o álcool, o cigarro e as substâncias ilegais (cocaína, maconha, LSD), até aquelas prescritas pelo médico, como os ansiolíticos e hipnótic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1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Espaço Reservado para Número de Slide 5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42FC-A84F-42FE-8914-2A900F3987C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rog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uso abusivo de substâncias psicoativas envolve complicadas causas e conseqüências em nível físico, social e emocional e uma pessoa pode desenvolver um transtorno mental a partir deste uso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enfermeiro geral muitas vezes terá informação de que o transtorno mental de algum paciente é conseqüência do uso de alguma droga ou presenciará reações mais agudas; por isso, é importante que conheça as mais comun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04EE-3CA1-4625-B75F-83C318DDC1D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rogas mais comun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DF40-49EF-45C3-BE18-E9AA75D02F7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2733840" y="2205000"/>
            <a:ext cx="3676320" cy="2448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755640" y="887400"/>
            <a:ext cx="792648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assificação das drog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forme as ações das drogas sobre o Sistema Nervoso Central (SNC) e as modificações observáveis na atividade mental, podem ser classificadas como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pressoras da atividade mental: causam diminuição da atividade global ou de certos subsistemas do SNC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timulantes da atividade mental: causam o aumento da atividade de determinados sistemas neuronais, o que traz como conseqüências estado de alerta exagerado, insônia e aceleração dos processos psíquicos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35CF-9724-46AD-9F89-FFAAF0B14D9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empl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AC2D-97BE-4643-9726-9B3C9E2A702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826920" y="1268280"/>
          <a:ext cx="8066160" cy="2776680"/>
        </p:xfrm>
        <a:graphic>
          <a:graphicData uri="http://schemas.openxmlformats.org/drawingml/2006/table">
            <a:tbl>
              <a:tblPr/>
              <a:tblGrid>
                <a:gridCol w="2521080"/>
                <a:gridCol w="2855880"/>
                <a:gridCol w="2689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rogas estimulant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rogas depressora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rogas perturbadora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58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caí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Álc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conh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ack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nzodiazepi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S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34920" y="1413000"/>
            <a:ext cx="700380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screver sinais e sintomas de um quadro esquizofrênic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latar a etiologia da esquizofren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conhecer o alcoolismo como doenç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itar sinais e sintomas de síndrome de abstinênc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dentificar prejuízos do alcoolismo para o utente e para a sociedad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F97F-D8EF-4A10-AD5C-9F12923B9DF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250920" y="2708280"/>
            <a:ext cx="19875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feitos no organism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Drogas estimulantes: causam alterações no funcionamento do organismo, como: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umento dos batimentos cardíacos, respiração, pressão sanguínea, temperatura corporal, perda de apetite e do son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Drogas depressoras: um exemplo é o efeito psíquico do álcool; Distúrbio de personalidade, atitudes impulsivas e desinibição social. Efeitos físicos: Cirrose hepática, perda da consciência (coma alcoólica) e outra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D50E-7ECE-452B-9209-DB2D50E1380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feitos no organism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Drogas pertubadoras: provocam alterações na percepção, alucinações, dificuldade para concentração, convulsão, síndrome motivacional, prejuízo de memória e atenção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lterações visuais e táteis, despersonalização, assemelhando-se a reações esquizofrênicas aguda, alucinações profund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ão comuns suicídios involuntários (o individuo pensa que pode voar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D342-1664-4674-9B9B-17BC9D63850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conh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s efeitos podem ser: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remor corporal, vertigem, náuseas, vômitos, taquicardia, excitação psíquica, diarréia, alterações sensoriais, lentidão do raciocínio, oscilação involuntária dos olhos, zumbidos, desorientação, medo de morrer, depressão, alucinações, amnésia temporária, pânico, idéias paranóid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75F3-A91E-4BD3-804E-2F203300BB3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2" descr="http://t1.gstatic.com/images?q=tbn:ANd9GcQKYR9l-6zs7IrzvTFALe92ikyJLa_q_ulyqVqkde6O2Nluko__"/>
          <p:cNvPicPr/>
          <p:nvPr/>
        </p:nvPicPr>
        <p:blipFill>
          <a:blip r:embed="rId1"/>
          <a:stretch/>
        </p:blipFill>
        <p:spPr>
          <a:xfrm>
            <a:off x="1042920" y="4365720"/>
            <a:ext cx="3457800" cy="1727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http://t1.gstatic.com/images?q=tbn:ANd9GcQkWExoojgHOHwym4Z3EcRW8YsryoyC5d76ImqHOwkYLX7wDOSZ9g"/>
          <p:cNvPicPr/>
          <p:nvPr/>
        </p:nvPicPr>
        <p:blipFill>
          <a:blip r:embed="rId2"/>
          <a:stretch/>
        </p:blipFill>
        <p:spPr>
          <a:xfrm>
            <a:off x="4788000" y="4365720"/>
            <a:ext cx="26384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caín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Eleva a pressão arterial, provoca taquicardia e leva à parada cardíaca, o que em geral acontece nos casos de overdose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uso crônico lesa o septo nasal e causa degeneração dos músculos esquelético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CCFF-9A85-4516-885B-256A131A362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2" descr="http://t3.gstatic.com/images?q=tbn:ANd9GcQBvfR3GshE7eADyPWb0-Ui-QeKh2aPbmWgWDoPYq-tPzwzR-Xf"/>
          <p:cNvPicPr/>
          <p:nvPr/>
        </p:nvPicPr>
        <p:blipFill>
          <a:blip r:embed="rId1"/>
          <a:stretch/>
        </p:blipFill>
        <p:spPr>
          <a:xfrm>
            <a:off x="971640" y="3716280"/>
            <a:ext cx="3538440" cy="2305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http://t3.gstatic.com/images?q=tbn:ANd9GcQlmf6ajtlXcmao-GYaFcexHvKlq0TZOvDL-jp5szljZMpp5C5p"/>
          <p:cNvPicPr/>
          <p:nvPr/>
        </p:nvPicPr>
        <p:blipFill>
          <a:blip r:embed="rId2"/>
          <a:stretch/>
        </p:blipFill>
        <p:spPr>
          <a:xfrm>
            <a:off x="4788000" y="3716280"/>
            <a:ext cx="327168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rack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Pode produzir dilatação das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pupilas, taquicardia, degeneração muscular, ansiedade, pânico, pensamentos paranóicos, agressividade, irritabilidade, crises convulsivas, podendo ocorrer morte por overdose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DBEC-8250-4602-ACD4-10FC775E14D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2" descr="http://t1.gstatic.com/images?q=tbn:ANd9GcTBogTrvD7W8mze-r2HHU6EknKsEsbrp3-flFtdwELatypwKF3abg"/>
          <p:cNvPicPr/>
          <p:nvPr/>
        </p:nvPicPr>
        <p:blipFill>
          <a:blip r:embed="rId1"/>
          <a:stretch/>
        </p:blipFill>
        <p:spPr>
          <a:xfrm>
            <a:off x="1042920" y="3860640"/>
            <a:ext cx="4165560" cy="23115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http://t1.gstatic.com/images?q=tbn:ANd9GcQIyhxGitc1lfUUvJFwyHBhypuAKZ7dxuM4cACatUUaq_h6Haj7"/>
          <p:cNvPicPr/>
          <p:nvPr/>
        </p:nvPicPr>
        <p:blipFill>
          <a:blip r:embed="rId2"/>
          <a:stretch/>
        </p:blipFill>
        <p:spPr>
          <a:xfrm>
            <a:off x="6804000" y="620640"/>
            <a:ext cx="2147760" cy="11988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http://t3.gstatic.com/images?q=tbn:ANd9GcRu8cELifQFrHPqAZIuvn1_t_HQ6JEkYbFH_OP7rDkMRCMGIUwH"/>
          <p:cNvPicPr/>
          <p:nvPr/>
        </p:nvPicPr>
        <p:blipFill>
          <a:blip r:embed="rId3"/>
          <a:stretch/>
        </p:blipFill>
        <p:spPr>
          <a:xfrm>
            <a:off x="5435640" y="3860640"/>
            <a:ext cx="3076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42920" y="228600"/>
            <a:ext cx="779616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Êxtase/Ecstasy (MDMA)</a:t>
            </a:r>
            <a:br>
              <a:rPr sz="2800"/>
            </a:b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 Metileno-Dioxo-Meta-Anfetamina.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000" y="141300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um alucinógeno sintético, que pode provocar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tensa euforia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lírios, alucinações visuais e auditivas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umento dos batimentos cardíac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tensa desidrataçã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metabolismo acelerado eleva a temperatura do corp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F4CF-535F-4506-A394-51D02508739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2" descr="http://t0.gstatic.com/images?q=tbn:ANd9GcSbPS4NBjaO5dp_aoCnG3hz0HfRI17q-LDTpDK3vwZz-3rySfDcmg"/>
          <p:cNvPicPr/>
          <p:nvPr/>
        </p:nvPicPr>
        <p:blipFill>
          <a:blip r:embed="rId1"/>
          <a:stretch/>
        </p:blipFill>
        <p:spPr>
          <a:xfrm>
            <a:off x="3132000" y="4076640"/>
            <a:ext cx="285588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Anfetamin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94920" y="981000"/>
            <a:ext cx="838188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sas drogas estimulantes do SNC são sintéticas e constituem o elemento básico dos medicamentos chamados "moderadores do apetite“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lém do seu uso pelas pessoas que desejam perder peso, têm sido procuradas por apresentar também efeitos como redução do sono e da fadiga e aumento da capacidade de trabalh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las podem ser consumidas via oral, aspiradas na forma de pó ou injetad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06D9-61C3-4880-AA2E-0C1D9DEBB73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2" descr="http://t1.gstatic.com/images?q=tbn:ANd9GcQ_tjFMxvOE1ETdIRftsuYVrVPNLmNNCV5Z-MVtw0zaX1XiC1pT"/>
          <p:cNvPicPr/>
          <p:nvPr/>
        </p:nvPicPr>
        <p:blipFill>
          <a:blip r:embed="rId1"/>
          <a:stretch/>
        </p:blipFill>
        <p:spPr>
          <a:xfrm>
            <a:off x="5076720" y="4183200"/>
            <a:ext cx="179892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92180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sequências das drogas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7DE9-118F-4350-972E-EC4514550C8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Picture 2" descr="http://t2.gstatic.com/images?q=tbn:ANd9GcTt6JDsPLEIAV7cVAB66rz7qvmZCQ_oZqiNWwpexkq19aGjSgTq"/>
          <p:cNvPicPr/>
          <p:nvPr/>
        </p:nvPicPr>
        <p:blipFill>
          <a:blip r:embed="rId1"/>
          <a:stretch/>
        </p:blipFill>
        <p:spPr>
          <a:xfrm>
            <a:off x="468360" y="1052640"/>
            <a:ext cx="3311640" cy="2367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http://t0.gstatic.com/images?q=tbn:ANd9GcQtRyWVdWxYEs1a8PMr-3aDRkRVLMI80FUP_GC1m0gRktTNCJ7efg"/>
          <p:cNvPicPr/>
          <p:nvPr/>
        </p:nvPicPr>
        <p:blipFill>
          <a:blip r:embed="rId2"/>
          <a:stretch/>
        </p:blipFill>
        <p:spPr>
          <a:xfrm>
            <a:off x="468360" y="4149720"/>
            <a:ext cx="3414600" cy="2448000"/>
          </a:xfrm>
          <a:prstGeom prst="rect">
            <a:avLst/>
          </a:prstGeom>
          <a:ln w="0">
            <a:noFill/>
          </a:ln>
        </p:spPr>
      </p:pic>
      <p:sp>
        <p:nvSpPr>
          <p:cNvPr id="252" name="CaixaDeTexto 8"/>
          <p:cNvSpPr/>
          <p:nvPr/>
        </p:nvSpPr>
        <p:spPr>
          <a:xfrm>
            <a:off x="468360" y="3357720"/>
            <a:ext cx="359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osição a violência e risco de vi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CaixaDeTexto 9"/>
          <p:cNvSpPr/>
          <p:nvPr/>
        </p:nvSpPr>
        <p:spPr>
          <a:xfrm>
            <a:off x="4211640" y="4365720"/>
            <a:ext cx="475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agregação familiar, violência doméstica, maus tratos de crianças, perda de empreg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CaixaDeTexto 12"/>
          <p:cNvSpPr/>
          <p:nvPr/>
        </p:nvSpPr>
        <p:spPr>
          <a:xfrm>
            <a:off x="3924360" y="5661000"/>
            <a:ext cx="521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mento de gastos públicos, em particular com saú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2" descr="http://t2.gstatic.com/images?q=tbn:ANd9GcS6wVRhDXsaUzp063KDf6fBcbRo4zuCLrSCuUE4Jhb8QdYsuDvIFQ"/>
          <p:cNvPicPr/>
          <p:nvPr/>
        </p:nvPicPr>
        <p:blipFill>
          <a:blip r:embed="rId3"/>
          <a:stretch/>
        </p:blipFill>
        <p:spPr>
          <a:xfrm>
            <a:off x="4427640" y="1052640"/>
            <a:ext cx="403200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ítimas inocent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E6BF-6E8B-4847-9BC9-6ECA50D0658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6" descr="http://t0.gstatic.com/images?q=tbn:ANd9GcTjNOAMW9gCV3EtiuoWfX9AFVYGfmKvZJWvtQeGPwppu52jOGa2"/>
          <p:cNvPicPr/>
          <p:nvPr/>
        </p:nvPicPr>
        <p:blipFill>
          <a:blip r:embed="rId1"/>
          <a:stretch/>
        </p:blipFill>
        <p:spPr>
          <a:xfrm>
            <a:off x="468360" y="1413000"/>
            <a:ext cx="4230720" cy="3033720"/>
          </a:xfrm>
          <a:prstGeom prst="rect">
            <a:avLst/>
          </a:prstGeom>
          <a:ln w="0">
            <a:noFill/>
          </a:ln>
        </p:spPr>
      </p:pic>
      <p:sp>
        <p:nvSpPr>
          <p:cNvPr id="260" name="CaixaDeTexto 7"/>
          <p:cNvSpPr/>
          <p:nvPr/>
        </p:nvSpPr>
        <p:spPr>
          <a:xfrm>
            <a:off x="468360" y="4508640"/>
            <a:ext cx="46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identes de trânsito: vítimas inocentes, aumento de gastos públic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CaixaDeTexto 10"/>
          <p:cNvSpPr/>
          <p:nvPr/>
        </p:nvSpPr>
        <p:spPr>
          <a:xfrm>
            <a:off x="5435640" y="5877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inquência - cri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CaixaDeTexto 11"/>
          <p:cNvSpPr/>
          <p:nvPr/>
        </p:nvSpPr>
        <p:spPr>
          <a:xfrm>
            <a:off x="5292720" y="98100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tornos menta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2" descr="http://4.bp.blogspot.com/_S5-c9NvS53E/TPbtTNJbk_I/AAAAAAAAB24/6CbSdtHq8FE/s1600/maconha.jpg"/>
          <p:cNvPicPr/>
          <p:nvPr/>
        </p:nvPicPr>
        <p:blipFill>
          <a:blip r:embed="rId2"/>
          <a:stretch/>
        </p:blipFill>
        <p:spPr>
          <a:xfrm>
            <a:off x="4788000" y="2924280"/>
            <a:ext cx="4140000" cy="30369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http://t3.gstatic.com/images?q=tbn:ANd9GcR_-We1gr6Xz6R6eozjKhwzh_GFbTdOFEislaLbLc004Eu3E-P50g"/>
          <p:cNvPicPr/>
          <p:nvPr/>
        </p:nvPicPr>
        <p:blipFill>
          <a:blip r:embed="rId3"/>
          <a:stretch/>
        </p:blipFill>
        <p:spPr>
          <a:xfrm>
            <a:off x="5148360" y="1341360"/>
            <a:ext cx="31716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SQUIZOFRE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396D-10F5-4738-9915-D76932858D1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http://1.bp.blogspot.com/_R3nwxscBsCw/TAM-FDuDLhI/AAAAAAAAABo/50HT07nGKE4/s1600/esquizofrenia22.jpg"/>
          <p:cNvPicPr/>
          <p:nvPr/>
        </p:nvPicPr>
        <p:blipFill>
          <a:blip r:embed="rId1"/>
          <a:srcRect l="6188" t="0" r="6188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ceit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um dos mais graves transtornos ment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também o que mais freqüentemente as pessoas identificam como loucura, pois escapa mais claramente a idéia de normalida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uma perturbação com duração mínima de 6 meses e inclui, no mínimo, 1 mês da fase ativa, com um ou mais dos seguintes sintomas: delírios, alucinações, discurso desorganizado, comportamento amplamente desorganizado ou catatônico, sintomas negativos (DSM-IV, 2002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pt-BR" sz="1600" spc="-1" strike="noStrike">
                <a:solidFill>
                  <a:srgbClr val="000066"/>
                </a:solidFill>
                <a:latin typeface="Verdana"/>
              </a:rPr>
              <a:t>DSM-IV-TR – Manual diagnóstico de transtornos mentais. DORNELLES, Cláudia (tradução). 4 ed. Porto Alegre: Artmed, 2002. </a:t>
            </a: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7E2F-8046-4E3F-9D83-86C3A4ADB24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tiolog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557000"/>
            <a:ext cx="838188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 Esquizofrenia é um transtorno crônico e não tem causa única, pois decorre de uma combinação variável de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Predisposição genética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Disfunção bioquímica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Fatores fisiológicos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Estresse psicossocial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BEDD-E0A6-48DB-B8D1-4EDA2159A9D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ipos de Esquizofre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Tipo Paranóide: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aracterística essencial é a presença de delírios e alucinações auditivas proeminentes no contexto de uma relativa preservação do funcionamento cognitivo e do afet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Tipo Desorganizado: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aracteriza-se por discurso e comportamento desorganizados e afeto embotado ou desorganizad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BECF-3CB9-4613-ABD9-5A147033FBE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ipos de Esquizofre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Tipo Catatônico: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ipo de Esquizofrenia em que se fazem presentes pelo menos dois dos seguintes sintomas: imobilidade motora, atividade motora excessiva, negativismo extremo, peculiaridades de movimentos voluntários, ecolalia, ecopraxi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Tipo Indiferenciado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Quando não são satisfeitos os critérios para os Tipos Paranóide, Catatônico ou Desorganizad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1B7C-DF24-488E-A5AC-AE10E283F5F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ipos de Esquizofre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000" y="1557360"/>
            <a:ext cx="838188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Tipo Residual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Quando houve pelo menos um episódio de Esquizofrenia, mas o quadro clínico atual não apresenta sintomas psicóticos positivos proeminentes (delírios, alucinações, discurso ou comportamento desorganizados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xistem contínuas evidências da perturbação, indicadas pela presença de sintomas negativ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5838-1E07-4F51-BC06-496185A5399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0:01:21Z</dcterms:created>
  <dc:creator>Escolastica</dc:creator>
  <dc:description/>
  <dc:language>en-US</dc:language>
  <cp:lastModifiedBy>Mendoza</cp:lastModifiedBy>
  <dcterms:modified xsi:type="dcterms:W3CDTF">2012-02-02T08:24:00Z</dcterms:modified>
  <cp:revision>46</cp:revision>
  <dc:subject/>
  <dc:title>Psicoses: Esquizofrenia Alcoolismo</dc:title>
</cp:coreProperties>
</file>