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9F20-A1C2-4901-A6ED-2A653D3122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0F49-A236-475C-96E1-6E788819DD2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1C80-F116-485D-8EA4-50C07E75F7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CA97-D8B8-4F73-BC3B-E08084D88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9DF1-F4CA-4651-B616-E9DEAA8EE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D2E4-471D-4AFA-956F-E9BE944B6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809B5-D583-4A92-88F7-A7DDE2DDE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D09A6-C68E-4292-A10F-08C99AF37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8E67-9D24-4546-88FF-4941EC756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EF20-42CD-44B4-A0FF-A62EA42B6A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F484-B7E9-4B1E-9A4E-76ACE5894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7449D-52B9-4FC9-A02D-C1EC8A0F1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1DDB4-E374-465A-BFA9-AEE0644C1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D119-A126-4BD2-872A-12D2DF48B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B92F-AD55-4F72-8A5A-F614F98A7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F394-DE54-4D86-995D-3756793B644B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130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1557360"/>
            <a:ext cx="626616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0536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s Fob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F64A-FE2D-4D39-B26B-50CC683AE0F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2" descr="http://t1.gstatic.com/images?q=tbn:ANd9GcTPhETCWyW1QdBD01fgBn-b2wkawOd0ksEQHhMGlUqPnGN1zX2KLw"/>
          <p:cNvPicPr/>
          <p:nvPr/>
        </p:nvPicPr>
        <p:blipFill>
          <a:blip r:embed="rId1"/>
          <a:stretch/>
        </p:blipFill>
        <p:spPr>
          <a:xfrm>
            <a:off x="2484360" y="1268280"/>
            <a:ext cx="48783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Soci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43000"/>
            <a:ext cx="801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sicoterapia capacita o paciente a desenvolver habilidades sociais e como enfrentar as situações sociais, levando a modificação da avaliação das mesmas, tornando-as menos ameaçadoras e, portanto, diminuindo a ansiedade em situações semelhantes no futur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1A22-70C1-4C36-961F-C4ECBCD800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Fobia Especí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é realizado com medicação e psicoterapia cognitivo-comportament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erapia comportamental é o tipo de intervenção psicológica que tem demonstrado maior eficácia no tratamento de todos os tipos de fobias, capacitando o paciente a enfrentar e diminuir o medo principalmente através de técnicas baseadas na exposição gradual e sistemática ao objeto tem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AA0-E48E-4924-BC81-FF6FCCF2B9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4360" y="907920"/>
            <a:ext cx="815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haja mudança do comportamento de esquiva é necessário que o terapeuta elabore um plano de tratamento a partir da análise funcional do comportamen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baseado numa entrevista detalhada deverá identificar os estímulos que antecedem e, portanto, desencadeiam o comportamento patológico e as prováveis conseqüências que o mantê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quer estímulo pode desencadear uma avaliação inicial de perigo, principalmente, as sensações corporais e suas conseqüências, normalmente estão relacionadas à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DB4-437C-4B9F-8665-DEE9DE499B9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413000"/>
            <a:ext cx="808344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écnica comportamental mais utilizada no tratamento do pânico é a exposição. Esta técnica consiste em ensinar o paciente a enfrentar as situações temidas, lidar com os sintomas físicos causados pela ansiedade durante um ataque de pânico e comportar-se diferentemente diante destas situaçõe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ra-se uma redução da resposta de ansiedade quando o indivíduo entra em contato várias vezes com o estímulo que lhe causa o medo e os respectivos sintomas desagradáveis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31A7-64B9-4D6D-8EC1-00E58DBC23D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826920" y="1268280"/>
            <a:ext cx="809496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fronto sistemático do paciente com o estímulo do pânico faz com que este desconfirme a idéia de uma conseqüência negativa, promovendo a redução do seu desconforto e a segurança para parar de evitar as situa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erapeuta deve orientar o paciente a se expor progressivamente aos estímul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necessário que o paciente esteja em estado de relaxamento durante os exercícios de exposição. Neste caso, o terapeuta deverá ensinar o paciente a relax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36E4-6FFF-4FB4-AC60-423FEE2971C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paciente aprenda a respiração abdominal, que contribui no relaxamento e, consequentemente, na diminuição da ansiedade e seus sintomas físic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tratamentos de exposição funcionam por permitirem aos pacientes experimentarem a situação temida e, desse modo, perceber que seus temores são infund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iniciado o tratamento, é importante que se faça uma monitoração contínua dos exercícios de exposição para verificar os progressos obti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42D0-2C2D-479F-B5EC-1441463F433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Pân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640" y="114300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o acompanhamento o terapeuta deverá identificar as variáveis que estão interferindo no sucesso do tratamento e que podem estar relacionadas com as dificuldades ou resistências do paci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procedimento mais comum de monitoração é o diário, onde o paciente registra as situações de exposição, as sensações experimentadas e atribui uma nota para sua ansieda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2B23-85AE-4634-B63E-5A32435DF66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o Transtorno Obsessivo Compulsivo (TOC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55640" y="1773000"/>
            <a:ext cx="808344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tamento comportamental tem como ingredientes fundamentais a exposição às obsessões e a prevenção dos rit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é indicado o uso de ansiolíticos, álcool e barbitúricos concomitante ao tratamento comportamental, pois estes interferem com o processo de habituação, objetivo principal da terap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1054-F3E7-41C6-BA51-FF1C6FEF2D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 Transtorno de Estresse Pós-Traumático (TEPT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360" y="1341000"/>
            <a:ext cx="8154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tamento do TEPT com melhores resultados é a associação entre medicação e psicoterapia cognitivo-comporta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dicação vai ajudar a diminuir a ansiedade e a psicoterapia vai ensinar o paciente a lidar com os sintomas decorrentes do quadro, como por exemplo: pesadelos, flashbacks, esquiva, além de capacitá-lo a como se expor às situações ou lembranças traumáticas porventura evi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ocorrência dos sintomas apresentados acima, perdurarem por duas a quatro semanas o diagnóstico é de Transtorno de Estresse Agudo e, portanto, desaparecendo após certo perío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7A2F-0220-44D9-892F-800A7A25AA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D80B-54FB-4431-9DF0-A0F03C80462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transtornos de ans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9A71-B95D-4771-9F92-70738DB138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8991-A0D4-4F80-AB6B-D6FEC0946F7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2" descr="http://loucosporciencia.com.br/blog/imagens/fobiab.jpg"/>
          <p:cNvPicPr/>
          <p:nvPr/>
        </p:nvPicPr>
        <p:blipFill>
          <a:blip r:embed="rId1"/>
          <a:stretch/>
        </p:blipFill>
        <p:spPr>
          <a:xfrm>
            <a:off x="2484360" y="126828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8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63360" y="-608040"/>
            <a:ext cx="144792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000" y="1125000"/>
            <a:ext cx="8280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o tratamento medicamentoso, geralmente são prescritos antidepressivos e benzodiazepíncos (calmantes/ansiolíticos), quando o psiquiatra ou o clínico julga necessário usá-l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depressivos são as drogas de escolha para o tratamento dos transtornos ansiosos. Inibidores Seletivos da Recaptação da Serotonina (ISRS) e os tricíclicos são os mais utiliz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olíticos como os benzodiazepínicos devem ser prescritos com cautela, pois medicamentos dessa classe podem causar distúrbios da memória e levar à dependência fís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7B41-6440-4230-9ED0-5197095CC1D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ixaDeTexto 6"/>
          <p:cNvSpPr/>
          <p:nvPr/>
        </p:nvSpPr>
        <p:spPr>
          <a:xfrm>
            <a:off x="900000" y="5732640"/>
            <a:ext cx="7848720" cy="6426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ses aspectos do tratamento medicamentoso são válidos para todos os transtornos de ansieda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s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e Ans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6FB0-210D-43FA-BE87-F7FA0B77A28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2" descr="http://t1.gstatic.com/images?q=tbn:ANd9GcS4WmqySRZnrWWu9uNiR7XURIhWYasayqdQACZ776H0S7N2rkcd8A"/>
          <p:cNvPicPr/>
          <p:nvPr/>
        </p:nvPicPr>
        <p:blipFill>
          <a:blip r:embed="rId1"/>
          <a:stretch/>
        </p:blipFill>
        <p:spPr>
          <a:xfrm>
            <a:off x="2195640" y="1197000"/>
            <a:ext cx="4824360" cy="2421000"/>
          </a:xfrm>
          <a:prstGeom prst="rect">
            <a:avLst/>
          </a:prstGeom>
          <a:ln w="0">
            <a:noFill/>
          </a:ln>
        </p:spPr>
      </p:pic>
      <p:sp>
        <p:nvSpPr>
          <p:cNvPr id="120" name="CaixaDeTexto 6"/>
          <p:cNvSpPr/>
          <p:nvPr/>
        </p:nvSpPr>
        <p:spPr>
          <a:xfrm>
            <a:off x="324000" y="3429000"/>
            <a:ext cx="864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pesar do forte controle na venda de calmantes, sabe-se que boa parte das mulheres faz uso por conta própria, problema que ocorre no mundo inteir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mulher está mais vulnerável aos transtornos de ansiedade devido a sobrecargas, como: cuidado dos filhos, do esposo, do lar, trabalho fora de casa e as graves; a violência e a desigualdade de gêne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5640" y="1125360"/>
            <a:ext cx="8083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á várias formas de tratamentos para o TAG, algumas com evidência científica definida e outras n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leve usam-se técnicas de relaxamento, yoga, acupuntura, caminhad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ara a ansiedade patológica pode ser necessário o uso de medic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71F-8ADA-4863-B034-B89C3C32A8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4" descr="http://t1.gstatic.com/images?q=tbn:ANd9GcQUPbX2jUpUO2B_x2WQpwLaOotWCzZx0cClhbkLHDjN2mfj9lHELA"/>
          <p:cNvPicPr/>
          <p:nvPr/>
        </p:nvPicPr>
        <p:blipFill>
          <a:blip r:embed="rId1"/>
          <a:stretch/>
        </p:blipFill>
        <p:spPr>
          <a:xfrm>
            <a:off x="3780000" y="3844800"/>
            <a:ext cx="2520720" cy="2509920"/>
          </a:xfrm>
          <a:prstGeom prst="rect">
            <a:avLst/>
          </a:prstGeom>
          <a:ln w="0">
            <a:noFill/>
          </a:ln>
        </p:spPr>
      </p:pic>
      <p:sp>
        <p:nvSpPr>
          <p:cNvPr id="126" name="CaixaDeTexto 7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5640" y="1052640"/>
            <a:ext cx="8083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a psicoterapia é fundamental saber a origem da ansiedade e como lidar com a mesma; a associação medicação + psicoterapia tem ótimos resulta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aioria dos utentes experimenta uma acentuada redução da ansiedade quando lhes é oferecida a oportunidade de discutir suas dificuldades com um profissional experie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udança de hábitos de vida: exercícios físicos, acupuntura, yoga, otimização dos horários de trabalho, higiene do sono, criação de "áreas de lazer" no cronograma semanal são fundamentais para auxiliar o indivíduo a ficar menos ansioso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2F7F-795E-422C-9C72-F15D7BD8CAD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o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de Ansiedade Generalizado (TAG)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484280"/>
            <a:ext cx="8083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medicação ajudará na diminuição da ansie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sicoterapia ajudará a pessoa a identificar os sintomas de ansiedade associados à preocupação excessiva, praticar técnicas para controlá-los e auxiliar no desenvolvimento de habilidades e capacidades para enfrentar e lidar melhor com os estressores da vi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8E6A-ECE9-464D-AD9E-04EB010A830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CaixaDeTexto 5"/>
          <p:cNvSpPr/>
          <p:nvPr/>
        </p:nvSpPr>
        <p:spPr>
          <a:xfrm rot="16200000">
            <a:off x="-1889280" y="3337560"/>
            <a:ext cx="46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NSTORNO DE ANSIE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8:00:55Z</dcterms:created>
  <dc:creator>Escolastica</dc:creator>
  <dc:description/>
  <dc:language>en-US</dc:language>
  <cp:lastModifiedBy>Mendoza</cp:lastModifiedBy>
  <dcterms:modified xsi:type="dcterms:W3CDTF">2012-02-02T09:34:53Z</dcterms:modified>
  <cp:revision>7</cp:revision>
  <dc:subject/>
  <dc:title>Tratamento dos Transtornos de Ansiedade</dc:title>
</cp:coreProperties>
</file>