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5A6-2951-4271-A78A-AD8BA8CA854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CAF-7090-44F5-8480-BF6AE016D2B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D2ECD-3C9E-4E78-99C2-3D919FCB2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9B01-70BC-44C7-ACEF-D4C56C62E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9179-78C6-46B5-80CF-DF298173D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99C0-AA98-415F-AF7B-8AC2ABFE3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98488-DA52-4733-AF80-42C8C22E16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1CC4-2210-4878-89F3-84E01E4AF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CCFE4-95ED-4636-9E02-A7E9DAEB6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39BD-CB5E-48DA-AAB5-F6307E43E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BEBD-D05F-4AD4-B75E-635B92E58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24B0B-0F01-4FA2-9486-5F26C1AE6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DFB7-C0CF-4BF1-81AF-7541ADCB7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2F62-C9DB-4BCF-B7A9-8C1DB14DD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FD2-BE7B-4CC7-9BED-9FEFC20CA4E1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br>
              <a:rPr sz="3200"/>
            </a:b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560" y="4292280"/>
            <a:ext cx="77058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vidade física intensa e exager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ão, síndrome do pânico, comportamentos obsessivo-compul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ão distorcida do próprio corpo. Apesar de extremamente magras, essas pessoas julgam-se com excesso de pe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le extremamente seca e coberta por lanugo (pelos parecidos com a barba de milh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89E6-B231-4E89-AAE0-F4130F5C8D1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atores que favorecem o aparecimento da doença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disposição genética; e a existência de alterações neuroquímicas cerebrais, especialmente nas concentrações de serotonina e de noradrenalin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ceito atual de moda que determina a magreza absoluta como símbolo de beleza e elegâ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são da família, de conjuge e do grupo soci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B113-F63C-4F9C-8EC9-52242837E42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5280" y="981000"/>
            <a:ext cx="446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 transtorno alimentar comum é a bulimia, que se caracteriza pela ingestão de grande quantidade de alimentos, seguida por uma acção compensatória (a pessoa provoca o vômito após a ingestão de comida) pelo medo de ganhar peso, sendo comum entre as modelos e as atlet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B070-3A91-42E7-823C-D0CDD941CB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4" descr="http://t0.gstatic.com/images?q=tbn:ANd9GcTI-sRM1NuG40C0JbmO7SAZNaLCSv-rpI1eCgUXj47WsNnF26Rs"/>
          <p:cNvPicPr/>
          <p:nvPr/>
        </p:nvPicPr>
        <p:blipFill>
          <a:blip r:embed="rId1"/>
          <a:stretch/>
        </p:blipFill>
        <p:spPr>
          <a:xfrm>
            <a:off x="4932360" y="1484280"/>
            <a:ext cx="39783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essoas com bulimia têm vergonha de seus sintomas, portanto, evitam comer em público e evitam lugares como praias e piscinas onde precisam mostrar o corp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À medida que a doença se desenvolve, essas pessoas só se interessam por assuntos relacionados à comida, peso e forma corpor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97FA-96CA-4FD0-8E28-9EDD288A247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e bulim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sim como na anorexia, a bulimia nervosa é uma síndrome multideterminada por uma mescla de fatores biológicos, psicológicos, familiares e cultur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ênfase cultural na aparência física pode ter um papel super importa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imples desejo de emagrecer e se manter de acordo com os preceitos sociais e da moda – escravatura da belez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blemas familiar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uto-estima e conflitos de identidade também são fatores envolvidos no desfecho desses quad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1BB7-F33A-4DAA-A9B8-FCEE6F2E89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venção do transtorno alim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Uma diminuição na ênfase da aparência física, tanto no aspecto cultural quanto familiar, pode eventualmente reduzir a incidência desses quadr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É importante fornecer informações a respeito dos riscos de regimes rigorosos para obtenção de uma silhueta "ideal", já que os mesmos desempenham papel fundamental no desencadeamento dos transtornos alimentar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C249-9CAA-47CD-AEE2-74A7178B8E6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perfa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981000"/>
            <a:ext cx="8381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a fome insaciável, fazendo com que a pessoa coma compulsivamente. A única diferença da bulimia é que o indivíduo não pensa em vomit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iperfagia têm causas múltiplas: predisposições genéticas e constitucionais, influências socioculturais e vulnerabilidades psicológicas pesso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E0AB-BA9C-468A-ACDF-A275F4129FA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Picture 2" descr="http://t1.gstatic.com/images?q=tbn:ANd9GcQNRBEZl-taE4oLL2oRBcv4Tsx5RA3sZ8L2XYcskiwHpmcDLvDS"/>
          <p:cNvPicPr/>
          <p:nvPr/>
        </p:nvPicPr>
        <p:blipFill>
          <a:blip r:embed="rId1"/>
          <a:stretch/>
        </p:blipFill>
        <p:spPr>
          <a:xfrm>
            <a:off x="2916360" y="3429000"/>
            <a:ext cx="47401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Hiperfa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000" y="1628640"/>
            <a:ext cx="83818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brança exagerada do controle alimentar por familiares, vigilância insistente sobre a dieta, críticas pretensamente construtivas, comparações maldosas com pessoas “esbeltas e elegantes” acabam, muitas vezes,  causando efeito contrário do que esperavam esses familiares, ou seja, a pessoa vigiada acaba desenvolvendo algum transtorno alimentar e, entre eles, com muita freqüência a hiperfag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3B0E-AC57-4068-9C43-F54CBD32A3B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581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SOMATOFORMES OU HIPOCONDRIAS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DEFE-3327-4992-8676-1D03E48E7E7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2" descr="http://t3.gstatic.com/images?q=tbn:ANd9GcQz8eS9hY4I8Zk4EiUONLAYMo6NUm5AMsGq8tUunlvUSO5FkKfI"/>
          <p:cNvPicPr/>
          <p:nvPr/>
        </p:nvPicPr>
        <p:blipFill>
          <a:blip r:embed="rId1"/>
          <a:srcRect l="0" t="3178" r="0" b="317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pacientes com esse tipo de transtorno são aqueles que vão repetidamente à clínica geral, com queixas de problemas físicos que não são identificados como de causa orgânica, o que não lhes satisfaz, fazendo com que solicitem continuamente novas investigações, mudando de um médico para outr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ó conseguem identificar seu “mal estar” como tendo origem no corpo, o que faz com que, geralmente, resistam a um encaminhamento para o setor de Saúde Mental, ou se sintam, até mesmo, ofendi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1443-F924-49D9-8291-F8C02695662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alimentares e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s alimenta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s somatoformes/hipocondrías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EBA4-584D-4803-B152-2BA34A452DE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nstornos somatofor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43000"/>
            <a:ext cx="837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aciente pode apresentar queixas de dores que não passam, problemas gastrintestinais, cardiovasculares, respiratórios, sexuais, menstruais e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uitos casos, podem aparecer problemas na pel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grupo de transtornos, um dos mais graves é o transtorno hipocondríaco, de difícil tratamento, no qual a pessoa se encontra “convencida” de estar portando grave doença (câncer, Sida), buscando todos os recursos para confirmá-la. Em muitos casos, estes pacientes chegam ao cúmulo de serem submetidos à cirurgia, sem necess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EB85-F146-47CD-93BE-783BF50C6E6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ausas de hipocondr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hipocondria pode surgir subitamente sem nenhum desencadeante identificado, e ser estável ao longo do tempo, ou manifestar-se em sequência de um período mais vulneráve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urge muitas vezes em pessoas que sofreram uma doença orgânica durante a infância ou que contactaram durante muito tempo com familiares doentes, sobretudo, se houve um desfecho fa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s factores são os desapontamentos, as rejeições, as perdas, o stress, a ansiedade, e a própria personalidade do utente, com traços de baixa auto-estima, introversão e obst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5A21-9DE4-436C-8C74-111E3EDCD65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339640" y="1413000"/>
            <a:ext cx="64990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umerar os principais transtornos alimentares e somatoform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sinais e sintomas desses transtorn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BBB4-FA1C-4069-8261-8E0D9098103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611280" y="2781360"/>
            <a:ext cx="21193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114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DDA4-11C0-4681-9CCD-F1A4180C1ED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http://t3.gstatic.com/images?q=tbn:ANd9GcS1uY0PDT3lTbOkXajKYvTgMZVzoRrZ298kuTaKhfTinbugS7hStQ"/>
          <p:cNvPicPr/>
          <p:nvPr/>
        </p:nvPicPr>
        <p:blipFill>
          <a:blip r:embed="rId1"/>
          <a:srcRect l="0" t="24268" r="0" b="2426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alimenta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s transtornos mentais que levam a dificuldades na alimentação, talvez o mais freqüente e grave seja a anorexia nervos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transtorno, a pessoa não consegue comer, emagrece exageradamente e entra, muitas vezes, em estado de desnutrição grav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itos casos necessitam de internação para um tratamento adequ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247A-B321-4BFF-BC58-1D9CB2DED3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2" descr="http://www.caltabianoelupopsicologia.com/wp-content/themes/Caltabiano-theme/timthumb.php?src=http://www.caltabianoelupopsicologia.com/wp-content/uploads/2010/09/img-transtornos_alimentares.jpg&amp;h=190&amp;w=595&amp;zc=1"/>
          <p:cNvPicPr/>
          <p:nvPr/>
        </p:nvPicPr>
        <p:blipFill>
          <a:blip r:embed="rId1"/>
          <a:stretch/>
        </p:blipFill>
        <p:spPr>
          <a:xfrm>
            <a:off x="1258920" y="4292640"/>
            <a:ext cx="634536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4259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pessoa se olha no espelho e, embora extremamente magra, se vê obes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 medo de engordar, exagera na atividade física, jejua, vomita, toma laxantes e diurét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64D3-0538-486F-A39B-CEFFAD6F70B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2" descr="http://t2.gstatic.com/images?q=tbn:ANd9GcRv_2AXA7oBYQ3Ut9qM2F7uvWI1fCOKnzuPObWhEqkjigUV7NkSHQ"/>
          <p:cNvPicPr/>
          <p:nvPr/>
        </p:nvPicPr>
        <p:blipFill>
          <a:blip r:embed="rId1"/>
          <a:stretch/>
        </p:blipFill>
        <p:spPr>
          <a:xfrm>
            <a:off x="4551480" y="1916280"/>
            <a:ext cx="43099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980640"/>
            <a:ext cx="8381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um transtorno que se manifesta principalmente em mulheres jovens, embora sua incidência esteja aumentando também em homen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B647-2A9C-48FC-B893-EF2D2F670BA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4" descr="http://t0.gstatic.com/images?q=tbn:ANd9GcRJDDk4eNF_B2HXsgrGtqJo_iXmZqgyoewtCJ_fM0HALZCkKnUX"/>
          <p:cNvPicPr/>
          <p:nvPr/>
        </p:nvPicPr>
        <p:blipFill>
          <a:blip r:embed="rId1"/>
          <a:stretch/>
        </p:blipFill>
        <p:spPr>
          <a:xfrm>
            <a:off x="5364000" y="2421000"/>
            <a:ext cx="3645000" cy="3522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2.gstatic.com/images?q=tbn:ANd9GcRJEK9D69kzQfCFZE6rr-DL7bm-UtO30PbDmm521fHG4cdtrlg"/>
          <p:cNvPicPr/>
          <p:nvPr/>
        </p:nvPicPr>
        <p:blipFill>
          <a:blip r:embed="rId2"/>
          <a:stretch/>
        </p:blipFill>
        <p:spPr>
          <a:xfrm>
            <a:off x="382680" y="2133720"/>
            <a:ext cx="442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, os pacientes anoréxicos chegam rapidamente à caquexia, um grau extremo da desnutrição e o índice de mortalidade chega a atingir 15% a 20% dos cas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16A2-4E23-4632-9DC8-2E586F96EA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2" descr="http://t0.gstatic.com/images?q=tbn:ANd9GcRjbc6gMWb07PlwG6xUAxmDVmZrVeFGZ9v7BJIBb617TTXKx7_I"/>
          <p:cNvPicPr/>
          <p:nvPr/>
        </p:nvPicPr>
        <p:blipFill>
          <a:blip r:embed="rId1"/>
          <a:stretch/>
        </p:blipFill>
        <p:spPr>
          <a:xfrm>
            <a:off x="2843280" y="2997360"/>
            <a:ext cx="44164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anorexia nervos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exagerada de peso em curto espaço de tempo sem nenhuma justificativa. Nos casos mais graves, o Índice de Massa Corpórea (IMC) chega a ser inferior a 17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usa em participar das refeições familiares. Os anoréxicos alegam que já comeram e que não estão mais com fom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eocupação exagerada com o valor calórico dos alimentos. Esses pacientes chegam a ingerir apenas 200kcal por d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rrupção do ciclo menstrual (amenorréia) e regressão das características feminin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C84C-8D5C-4FB7-8EFB-ED0087BD394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0:03:12Z</dcterms:created>
  <dc:creator>Escolastica</dc:creator>
  <dc:description/>
  <dc:language>en-US</dc:language>
  <cp:lastModifiedBy>Mendoza</cp:lastModifiedBy>
  <dcterms:modified xsi:type="dcterms:W3CDTF">2012-02-02T08:27:47Z</dcterms:modified>
  <cp:revision>27</cp:revision>
  <dc:subject/>
  <dc:title>Transtornos alimentares Transtornos somatoformes, hipocondriase</dc:title>
</cp:coreProperties>
</file>