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gif" ContentType="image/gif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D5920-34BA-4880-AE1B-EBEB5F1F769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C53A1-447C-44A8-AA27-03D237D79BC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5C953-DC8C-46A4-97BF-D67F4C25D8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459D8-B165-48AF-B91E-BCBEE889C7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F858B-84F2-43C3-903B-01F76863C2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1994C-FF61-439F-BC98-5C51DD685C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22868-78B0-46CE-8360-0032D27577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6A8BB-008B-4D18-99AD-1C342D10F5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5A668-D897-44EC-9162-C9007E7383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62F6E-9BD4-4E10-91AD-CBA61E5B54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1F236-D512-4156-9FB3-5BB1FC4D49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2C37E-F34B-4EC2-98A2-1F3DF8A709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F4E6D-787C-49BF-8DA6-35EDF6D776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040C8-0CEC-4295-8B07-F63A52F594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01B03-65C0-4F98-B42C-0D81395B8BD7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826920" y="141300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7"/>
          <p:cNvSpPr/>
          <p:nvPr/>
        </p:nvSpPr>
        <p:spPr>
          <a:xfrm>
            <a:off x="2971800" y="16765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18920" y="1483920"/>
            <a:ext cx="6265800" cy="23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Formas de tratamento para os transtornos mentais mais frequentes:</a:t>
            </a: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Medicamentoso e</a:t>
            </a: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Psicossocial.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26560" y="4005000"/>
            <a:ext cx="770580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Módulo 11: Prática de Enfermagem IV -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Enfermagem em Saúde Mental e Enfermagem Geriátric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2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o transtorno alimenta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controle nutricional busca a determinação de quais são as alterações metabólicas de cada paciente, e deve suprir todas as suas necessidades a fim de restabelecer a saúd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través de um plano alimentar discutido e pactuado entre o profissional e o paciente, se estabelece uma alimentação adequad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É importante que o paciente se sinta interessado e veja os benefícios que a alimentação adequada irá lhe proporcionar, e também que tenha confiança no profissional para a adesão ao tratamento.</a:t>
            </a:r>
            <a:br>
              <a:rPr sz="2400"/>
            </a:b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rreção de possíveis alterações metabólicas e um plano alimentar bem definido são fundamentais para restabelecimento da saúd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30F46-A197-415E-AE9F-4FF546997FF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Tratamento de transtonos somatoformes /hipocondrías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557000"/>
            <a:ext cx="838188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Um dos primeiros passos para o tratamento dos pacientes deve ser conscientizá-los sobre a importante participação dos fatores emocionais na sintomatologia de suas queixas, tentar uma mudança no significado cultural de suas doenças e incentivar maior honestidade pessoal sobre sua natureza emocional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único fator capaz de atenuar as queixas é a capacidade da pessoa expressar melhor seus sentimentos, verbalment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A55FA-50FE-4790-BB06-08C9C7EFD6F3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9616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Tratamento de transtonos somatoformes /hipocondrías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6840" y="1557000"/>
            <a:ext cx="838188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Vale lembrar que entre os médicos, muitas vezes, ocorre a sensação de que o paciente somatizador tenta enganá-los;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Intimamente o médico se aborrece porque as queixas somatoformes não seguem as descrições clínicas clássicas, representando um desafio a mais para seus conhecimentos científicos e fisiopatológicos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8DB93-2207-4D75-96DA-B5253078229F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42920" y="228600"/>
            <a:ext cx="7796160" cy="1039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Tratamento dos transtornos alimentares e somatoform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6840" y="1484280"/>
            <a:ext cx="83818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Verdana"/>
              </a:rPr>
              <a:t>Formas de tratamento para os transtornos alimentares e somatoformes mais frequentes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Medicamentoso: actuação e efeitos secundári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Psicossocia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D683E-E5DC-4317-B42E-4D9CF207965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bjectivos de aprendiz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050920" y="1413000"/>
            <a:ext cx="678816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Ao final desta sessão os estudantes deverão ser capazes de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screver aspectos gerais dos tratamentos indicados para os principais transtornos alimentares e somatoforme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xplicar as duas principais formas de tratament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31DCB-631E-4A51-8390-924F6860133D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15" descr="http://www.estudiantes.info/images/estudiantes/maripo.gif"/>
          <p:cNvPicPr/>
          <p:nvPr/>
        </p:nvPicPr>
        <p:blipFill>
          <a:blip r:embed="rId1"/>
          <a:stretch/>
        </p:blipFill>
        <p:spPr>
          <a:xfrm>
            <a:off x="468360" y="2708280"/>
            <a:ext cx="19857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e transtornos alimentar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0489C-8B06-41BB-9F48-1D70B920F7F5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2" descr="http://t0.gstatic.com/images?q=tbn:ANd9GcTKXgYyZqqxphBtq8ivMCe_nBhgafmAPJbm3fCsqHLzRumTtT_X"/>
          <p:cNvPicPr/>
          <p:nvPr/>
        </p:nvPicPr>
        <p:blipFill>
          <a:blip r:embed="rId1"/>
          <a:stretch/>
        </p:blipFill>
        <p:spPr>
          <a:xfrm>
            <a:off x="2195640" y="1197000"/>
            <a:ext cx="5184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o transtorno alimenta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9640" y="1557000"/>
            <a:ext cx="838224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anorexia nervosa, por ser uma doença com raízes psicológicas, é difícil de ser tratad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Uma vez diagnosticada, o anoréxico passa por terapia individual, terapia em grupo e terapia familiar, em casos leves e moderad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meta é aumentar gradualmente a quantidade de alimento ingerido, estabelecendo três refeições e dois lanche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envolvimento da família é determinante na mudança do quadr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4612B-8C93-4922-881F-3D74322BBB44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o transtorno alimenta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134100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Como a negação do problema é freqüente, médicos, terapeutas, enfermeiros e familiares precisam de tranquilidade e equilíbrio enquanto motivam o anoréxico em sua recuperação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Casos de reincidências (recaídas) são comuns em pessoas anoréxicas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Em casos mais graves, o tratamento hospitalar é indicado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FF806-83CB-4334-B169-B1C984641DBC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o transtorno alimenta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8000" y="1988640"/>
            <a:ext cx="8381880" cy="264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tratamento da bulimia exige o acompanhamento de equipe multidisciplinar composta por médicos, psicólogos, enfermeiros e nutricionista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Medicamentos antidepressivos podem ser úteis, especialmente se ocorrerem distúrbios como depressão e ansiedad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6ADE7-E0EF-48FD-A488-693110E132A7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o transtorno alimenta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8000" y="1557000"/>
            <a:ext cx="838188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O diagnóstico da bulimia é complexo, porque os sintomas não são evidentes como os da anorexia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Infelizmente, não se conhecem métodos eficazes para prevenir patologias como a bulimia e a anorexia. Seria necessário um empenho da sociedade na mudança de certos valores estéticos ligados ao culto do corpo e à magreza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73628-406A-44D1-B12E-DA1227CE8900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o transtorno alimenta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6840" y="1413000"/>
            <a:ext cx="838188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mo estes são transtornos que envolvem tanto componentes psicológicos, fisiológicos quanto sociais, o tratamento precisa de uma abordagem multiprofissional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s principais pontos são o tratamento medicamentoso, a terapia psicológica e a orientação nutricional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odem acontecer recaídas, por isso é importante que seja um acompanhamento por longo período.</a:t>
            </a:r>
            <a:br>
              <a:rPr sz="2400"/>
            </a:br>
            <a:br>
              <a:rPr sz="2400"/>
            </a:b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FBB2F-FC8B-44A8-8253-73C474E911C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2T09:50:41Z</dcterms:created>
  <dc:creator>Escolastica</dc:creator>
  <dc:description/>
  <dc:language>en-US</dc:language>
  <cp:lastModifiedBy>Mendoza</cp:lastModifiedBy>
  <dcterms:modified xsi:type="dcterms:W3CDTF">2012-02-02T09:40:33Z</dcterms:modified>
  <cp:revision>142</cp:revision>
  <dc:subject/>
  <dc:title>Slide 1</dc:title>
</cp:coreProperties>
</file>