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68F1-5DE6-46C4-8A3F-2A7BB21259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7B99-6C5F-4C25-9718-7BAFF593553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5892-155A-475C-AB7A-4819AA67F2E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1CAB-AAC1-4E3D-B4E3-F130321C3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F772-7CE2-4239-97D3-FFAE6C0AA8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41B23-A505-435B-B951-0BA81EF77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3D010-35DE-4FEA-BDC8-E4EE050F1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E617-3691-467B-B0E5-413D52CE87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CF45-1A0E-43AB-9C86-283B0BAC4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92B5-7A12-42F5-AEA6-A155152C9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339BE-FDFE-4E63-A60D-E143E3E27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C42CC-E1D7-4DB4-AEBA-ED15A9E7A4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4530-674A-44F5-84A8-7BCEAD7B35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D0D91-100B-4003-B945-ECCA2C7C7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9FBD-1665-4F36-9601-1805DA9E5A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730C-EC83-4E74-AA2B-0A665DF6FF19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484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ratamentoalcoolismo.org/105-clinica-de-alcoolismo/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63280" y="1557360"/>
            <a:ext cx="6265800" cy="23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076280"/>
            <a:ext cx="7705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000" y="981000"/>
            <a:ext cx="816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icoterapia envolve um encontro regular entre o paciente e um profissional de saúde mental, geralmente um psicólogo ou psiquiatr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es encontros, ou sessões, podem abordar problemas atuais ou passados, pensamentos, idéias, sentimentos, relações e vivênc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meio do compartilhamento destas experiências com o terapeuta – de falar sobre seu mundo com alguém de fora – as pessoas com esquizofrenia podem gradualmente entender mais sobre si próprias e seus problemas. Também podem aprender a discernir aquilo que é real do que não é re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1ACC-4CBA-463D-8C19-1C7A67707E9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4360" y="1143000"/>
            <a:ext cx="815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udos recentes indicam que a psicoterapia de suporte e as abordagens cognitivo-comportamentais que ajudam o paciente a conviver melhor com a doença e a desenvolver recursos para a resolução de problemas e dificuldades, podem trazer benefícios para as pessoas com esquizofren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icoterapia não substitui a medicação. É uma abordagem coadjuvante, que funciona melhor se os sintomas psicóticos estiverem controlados pela medicaçã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B6ED-3818-44B8-B89A-62F10F0B141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8000" y="105264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medicamentos utilizados para tratar a esquizofrenia pertencem a dois grandes grup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ipsicóticos convencionais (chamados de neuroléptico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ipsicóticos novos (também denominados antipsicóticos de segunda geração ou "atípicos"); Estes são capazes de ajudar a controlar os sintomas do transtorno sem causar tantos efeitos adversos estigmatiz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720B-10C7-4EBA-AAE6-64DB7E9DF51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Retângulo 5"/>
          <p:cNvSpPr/>
          <p:nvPr/>
        </p:nvSpPr>
        <p:spPr>
          <a:xfrm>
            <a:off x="826920" y="4869000"/>
            <a:ext cx="777744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s nomes dos produtos variam de país para país e mais de um nome de produto pode ser usado para a mesma droga dentro de um paí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ixaDeTexto 6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3640" y="980640"/>
            <a:ext cx="85978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recomendações atuais para tratamento do alcoolismo, envolvem duas etap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intoxicação: realizada por alguns dias sob supervisão médica, permite combater os efeitos agudos da retirada do álcoo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ido aos altos índices de recaídas, o alcoolismo não é tratada somente pela medicina tradi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bilitação (Alcoólicos Anônimos-AA): Depois de controlados os sintomas agudos da crise de abstinência, os pacientes devem ser encaminhados para programas de reabilitação, cujo objetivo é ajudá-los a viver sem álcool na circulação sanguíne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60EA-D21B-4679-B180-911171CD457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140360" y="1143000"/>
            <a:ext cx="469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m-se hoje já comprovadas, ou em fase avançada de testes, três substâncias eficazes na supressão do desejo pelo álcool: naltrexona, acamprosato e ondansetron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do alcoolismo não deve ser confundido com o tratamento da abstinência alcoólica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435B-F1A4-41A8-9867-9D2B987F82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2" descr="Clínica de alcoolismo, funcionamen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052640"/>
            <a:ext cx="36720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o organismo incorpora literalmente o álcool ao seu metabolismo, a interrupção da ingestão de álcool faz com que o corpo se ressinta: a isto chamamos de abstinência que, dependendo, do tempo e da quantidade de álcool consumidos pode causar sérios problemas e até a morte nos casos não trat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medicações citadas na projecção anterior não têm finalidade de atuar nessa fas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bstinência já tem suas alternativas de tratamento bem estabelecidas e relativamente satisfatóri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1647-EAD8-4C5D-94B9-0167109AF57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xplosão 1 5"/>
          <p:cNvSpPr/>
          <p:nvPr/>
        </p:nvSpPr>
        <p:spPr>
          <a:xfrm>
            <a:off x="4284720" y="5373720"/>
            <a:ext cx="3024000" cy="1079640"/>
          </a:xfrm>
          <a:prstGeom prst="irregularSeal1">
            <a:avLst/>
          </a:pr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JAMOS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Dissulfiran é uma substância que força o paciente a não beber sob a pena de intenso mal es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os alcoólatras morreram por não conseguirem conter o desejo pelo álcool enquanto estavam sob efeito do Dissulfira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smo sabendo o que poderia acontecer, não conseguiram evitar a combinação do álcool com o Dissulfiram, não conseguiram sequer esperar a eliminação do Dissulfira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EBF5-383D-4ADE-8F08-15BA06FA555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naltrexona possui um efeito bloqueador do prazer proporcionado pelo álcool, cortando o ciclo de reforço positivo que leva e mantém o alco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 primeira substância a atingir a essência do alcoolismo: o desejo pelo consumo de álcoo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era uma medicação conhecida quanto aos efeitos benéficos e colaterais, sua utilização para o alcoolismo foi relativamente rápida, pois já se encontrava no mercado há muitos anos: bastou que se acrescentasse na bula uma nova indicação, o tratamento do alcool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32C-34E8-489D-BC5D-35D56A1457E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000" y="1268280"/>
            <a:ext cx="83818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principais efeitos colaterais da naltrexona (enjôo e vômito), são leve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s principais acções da naltrexona s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ibir o desejo pelo álcool e mesmo que se beba, o prazer da sensação de estar "alto" é abolido. Assim, a bebida para o alcoólatra em uso de naltrexona se torna sem gra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não há uma interação danosa entre álcool e naltrexona, esta exerce uma real atividade terapêutica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EBD7-28FF-42B8-AB96-7549771448A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abstin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4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acamprosato, ao contrário da naltrexona, é novo e foi criado especificamente para o tratamento do alcoolism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á sendo introduzido no mercado brasileiro pela Merck, mas já é usado na Europa há alguns an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mecanismo do acamprosato é distinto da naltrexona embora também diminua o desejo pelo álcool. Atua mais na abstinência, reduzindo o reforço negativo deixado pela supressão do álcool naqueles que se tornaram dependent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30F8-FC44-46EC-9FA5-F65DD448D44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das principais psicos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as principais psicos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738C-AD96-4805-8B0A-CBE606C35B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tipos de psicos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AE71-B9B1-4BCF-96E0-6385D4C78FE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s Psicos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BC1-6C45-4975-8CC7-678921366E2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12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2" descr="http://t2.gstatic.com/images?q=tbn:ANd9GcQ8N9nDq3fueJSMz1t4dDhTkjRMeQsa2WPyMsDf9Y1BHa30ztmO"/>
          <p:cNvPicPr/>
          <p:nvPr/>
        </p:nvPicPr>
        <p:blipFill>
          <a:blip r:embed="rId1"/>
          <a:stretch/>
        </p:blipFill>
        <p:spPr>
          <a:xfrm>
            <a:off x="3203640" y="1052640"/>
            <a:ext cx="340992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6920" y="1413000"/>
            <a:ext cx="8012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inda não há um tratamento único que cure esse distúrbi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eficaz requer um esforço multidisciplinar abrangente, incluindo a psicoterapia e diversos tipos de cuidado psicossocial, como o treinamento de capacidades de vida e sociais, reabilitação e terapia de família e comunitári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1370-69C1-46A4-B81D-11DFB0F2266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42920" y="1143000"/>
            <a:ext cx="7796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É muito importante que o tratamento comece o mais rápido possíve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Às vezes não é possível tratar em casa, porque o paciente não aceita que esteja doente nem aceita ser medic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é sempre medicamentoso, mas a Psicoterapia pode ser importante para a recuperaç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ratar uma Psicose sem medicação tem entre outros riscos, o de cronificaç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E917-58D1-4835-A67B-D80862141C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00000" y="1483920"/>
            <a:ext cx="8064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Às vezes o primeiro tratamento não produz melhora e tem que ser mud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esmo que já esteja se sentindo bem, o paciente não deve interromper a medica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Uma psicose pode ser benigna e rapidamente curável, mas também pode ser longa, difícil de tratar, ter recaídas, ter fases de depressões e de trocas de medic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6B27-EE58-4416-A4B8-B765716DE4E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16000" y="1916280"/>
            <a:ext cx="7794720" cy="28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cientes jovens (14 a 24 anos), o tratamento não pode esperar. As conseqüências da cronificação podem ser catastróf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pais arrependidos por não terem tratado a tempo, mas nunca por terem forçado o tratamento mesmo que contra a vontade do paci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AE14-61BC-4279-A2C0-F3406382328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ângulo 5"/>
          <p:cNvSpPr/>
          <p:nvPr/>
        </p:nvSpPr>
        <p:spPr>
          <a:xfrm rot="16200000">
            <a:off x="18720" y="340416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63280" y="981000"/>
            <a:ext cx="828036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abilit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termos gerais, a reabilitação inclui uma ampla gama de intervenções não-médic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gramas de reabilitação enfatizam o treinamento social, vocacional e ocupacional para ajudar as pessoas a superarem as dificuldad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alguns países esses programas incluem o desenvolvimento de habilidades, como: lidar com dinheiro, usar transporte público, treinamento de hábitos sociais para que o paciente se relacione melhor socialmente, técnicas de resolução de problemas e aconselhamento voca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AEF4-CC6F-4C6E-8EC4-8BA2B314DC9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CaixaDeTexto 5"/>
          <p:cNvSpPr/>
          <p:nvPr/>
        </p:nvSpPr>
        <p:spPr>
          <a:xfrm rot="16200000">
            <a:off x="-268560" y="33004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IC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8:04:53Z</dcterms:created>
  <dc:creator>Escolastica</dc:creator>
  <dc:description/>
  <dc:language>en-US</dc:language>
  <cp:lastModifiedBy>Mendoza</cp:lastModifiedBy>
  <dcterms:modified xsi:type="dcterms:W3CDTF">2012-02-02T09:37:14Z</dcterms:modified>
  <cp:revision>4</cp:revision>
  <dc:subject/>
  <dc:title>Tratamento das Psicoses</dc:title>
</cp:coreProperties>
</file>