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gif" ContentType="image/gif"/>
  <Override PartName="/ppt/media/image6.png" ContentType="image/png"/>
  <Override PartName="/ppt/media/image7.jpeg" ContentType="image/jpeg"/>
  <Override PartName="/ppt/media/image12.jpeg" ContentType="image/jpeg"/>
  <Override PartName="/ppt/media/image3.gif" ContentType="image/gif"/>
  <Override PartName="/ppt/media/image4.png" ContentType="image/png"/>
  <Override PartName="/ppt/media/image8.jpeg" ContentType="image/jpeg"/>
  <Override PartName="/ppt/media/image5.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8B14-0431-4F24-AE6E-70538E94B173}"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4D66-2914-4D9D-B050-60D35EBE8971}"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E78FF0-6FAA-430E-B9ED-D5FA4A0FDD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706EF5-447E-409D-A5D4-24FBDDD9E5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5D3CD3-FCD0-4E25-9433-CD25C5A101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D2F604-8564-42F9-A123-257D9D6C11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0A20EF-DC80-41A8-AD6D-826685372A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048632-2C6F-413C-B149-68774B3D9C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AFE6A2-B0D0-459E-8586-ED5B993FDE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A9F639-C51E-4DD2-845E-D9B89608E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C5FE6A-E214-43EC-AE89-51D6F5CF6D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C2B115-1192-4226-B556-3D0E1686F2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CCAEC3-5ACB-4A66-B462-D707B5AF66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F978ED-4229-45F2-92F5-089EB22AB0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5708-99EE-447F-B287-80048E1E57A1}"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755640" y="1484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b23-cmdt-conceicao-silva.rcts.pt/janela_solucao1.htm" TargetMode="Externa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92000" y="1557000"/>
            <a:ext cx="6265800" cy="237636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Actividades do Enfermeiro em Saúde Mental;</a:t>
            </a:r>
            <a:br>
              <a:rPr sz="2800"/>
            </a:br>
            <a:r>
              <a:rPr b="1" lang="pt-PT" sz="2800" spc="-1" strike="noStrike">
                <a:solidFill>
                  <a:srgbClr val="ffffff"/>
                </a:solidFill>
                <a:latin typeface="Verdana"/>
              </a:rPr>
              <a:t>Intervenções nos momentos de crise; Como prevenir acidentes.</a:t>
            </a:r>
            <a:endParaRPr b="1" lang="en-US" sz="2800" spc="-1" strike="noStrike">
              <a:solidFill>
                <a:srgbClr val="ffffff"/>
              </a:solidFill>
              <a:latin typeface="Verdana"/>
            </a:endParaRPr>
          </a:p>
        </p:txBody>
      </p:sp>
      <p:sp>
        <p:nvSpPr>
          <p:cNvPr id="91" name="PlaceHolder 2"/>
          <p:cNvSpPr>
            <a:spLocks noGrp="1"/>
          </p:cNvSpPr>
          <p:nvPr>
            <p:ph type="subTitle"/>
          </p:nvPr>
        </p:nvSpPr>
        <p:spPr>
          <a:xfrm>
            <a:off x="755280" y="4076280"/>
            <a:ext cx="7777080" cy="129708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27"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ornada a crise, pensar no retorno do utente ao meio social deverá ser a principal meta dos profissionais de saú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intervenção a ser adotada é o diálogo direto, ativo, dirigido para os sintomas e para o real acontecim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xiliar o indivíduo a retornar sua vida normal depois da crise é garantir sua permanência com o mesmo grau de importância nos espaços antes ocupados por ele - trabalho, escola, família e comunidade.</a:t>
            </a:r>
            <a:endParaRPr b="1" lang="en-US" sz="24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FD6D-758A-45ED-8D08-83BB3E98510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3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delo de seis etapas a ser utilizado para intervenção em cris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xplorar e definir o problema com base na perspectiva do utente, com atenção para as mensagens não-verbais. Nem tudo que o indivíduo fala é o que sente - um utente pode pedir ao enfermeiro que o deixe sozinho enquanto chora e segura firmemente sua m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monstrar de modo verbal e não-verbal que se importa com o utente. O olhar, o tom de voz, a expressão são itens indispensáveis para que o utente confie no enfermeir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3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64A4-5D64-4508-BEAC-C6850D829E9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35" name=""/>
          <p:cNvSpPr txBox="1"/>
          <p:nvPr/>
        </p:nvSpPr>
        <p:spPr>
          <a:xfrm>
            <a:off x="457200" y="1143000"/>
            <a:ext cx="850752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mover segurança ao utente, avaliando o grau de risco para a segurança física e psicológica do mesmo e de terceiros.</a:t>
            </a:r>
            <a:endParaRPr b="1" lang="en-US" sz="2400" spc="-1" strike="noStrike">
              <a:solidFill>
                <a:srgbClr val="000066"/>
              </a:solidFill>
              <a:latin typeface="Verdana"/>
            </a:endParaRPr>
          </a:p>
          <a:p>
            <a:pPr lvl="2" marL="1131480" indent="-22608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se trata de fazer ameaças, mas de alertar o utente das conseqüências de atitudes impensadas, dialogando sobre alternativas para comportamentos destrutivos impulsivos.</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xiliá-lo a buscar alternativas de escolhas disponíveis, facilitando a busca por apoio situacional (família e amigos), mecanismos de defesa/adaptação e padrões construtivos de pensamento.</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EEA6-B148-4B29-ABFD-E0032BFC840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3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struir com o utente planos realistas de curto prazo que identifiquem recursos disponíveis e mecanismos de adaptação bem definidos. Isso só pode se efetuar pelo hábito de ouvir e conversar com o utente. </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que o enfermeiro não se veja como um conselheiro e decida as questões da vida do indivídu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bter do utente o compromisso de seguir os passos necessários, possíveis e aceitáveis para correção do problema.</a:t>
            </a:r>
            <a:endParaRPr b="1" lang="en-US" sz="2400" spc="-1" strike="noStrike">
              <a:solidFill>
                <a:srgbClr val="000066"/>
              </a:solidFill>
              <a:latin typeface="Verdana"/>
            </a:endParaRPr>
          </a:p>
        </p:txBody>
      </p:sp>
      <p:sp>
        <p:nvSpPr>
          <p:cNvPr id="14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3C582-D0F8-43E4-94B9-28BD5FBFCF4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7BE8-467A-4B61-A026-9E1AE375407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5" name="Retângulo 5"/>
          <p:cNvSpPr/>
          <p:nvPr/>
        </p:nvSpPr>
        <p:spPr>
          <a:xfrm>
            <a:off x="611280" y="1341360"/>
            <a:ext cx="806436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Eu já não durmo direito. Morro de medo de tudo. Tem horas que me dá uma crise e eu preciso estar perto de alguém. Eu sei que parece um absurdo, mas não consigo controlar.”</a:t>
            </a:r>
            <a:endParaRPr b="0" lang="en-US" sz="2400" spc="-1" strike="noStrike">
              <a:solidFill>
                <a:srgbClr val="000000"/>
              </a:solidFill>
              <a:latin typeface="Verdana"/>
            </a:endParaRPr>
          </a:p>
        </p:txBody>
      </p:sp>
      <p:sp>
        <p:nvSpPr>
          <p:cNvPr id="146" name="Retângulo 6"/>
          <p:cNvSpPr/>
          <p:nvPr/>
        </p:nvSpPr>
        <p:spPr>
          <a:xfrm>
            <a:off x="1476360" y="3284640"/>
            <a:ext cx="64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Você se lembra das reações de um paciente com transtorno de ansiedade</a:t>
            </a:r>
            <a:endParaRPr b="0" lang="en-US" sz="2400" spc="-1" strike="noStrike">
              <a:solidFill>
                <a:srgbClr val="000000"/>
              </a:solidFill>
              <a:latin typeface="Verdana"/>
            </a:endParaRPr>
          </a:p>
        </p:txBody>
      </p:sp>
      <p:pic>
        <p:nvPicPr>
          <p:cNvPr id="147" name="Picture 19" descr="http://www.eb23-cmdt-conceicao-silva.rcts.pt/J0288870.gif">
            <a:hlinkClick r:id="rId1"/>
          </p:cNvPr>
          <p:cNvPicPr/>
          <p:nvPr/>
        </p:nvPicPr>
        <p:blipFill>
          <a:blip r:embed="rId2"/>
          <a:stretch/>
        </p:blipFill>
        <p:spPr>
          <a:xfrm>
            <a:off x="7524720" y="3645000"/>
            <a:ext cx="466920" cy="619200"/>
          </a:xfrm>
          <a:prstGeom prst="rect">
            <a:avLst/>
          </a:prstGeom>
          <a:ln w="0">
            <a:noFill/>
          </a:ln>
        </p:spPr>
      </p:pic>
      <p:sp>
        <p:nvSpPr>
          <p:cNvPr id="148" name="Retângulo 8"/>
          <p:cNvSpPr/>
          <p:nvPr/>
        </p:nvSpPr>
        <p:spPr>
          <a:xfrm>
            <a:off x="468360" y="4292640"/>
            <a:ext cx="835164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e é tido, muitas vezes, pela equipe como um paciente “chato”. Queixa-se de medos injustificáveis, “incomoda” e solicita a equipe em demasia, pois sentir-se só diante de tantos medos pode ser muito assustador, não ach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50" name=""/>
          <p:cNvSpPr txBox="1"/>
          <p:nvPr/>
        </p:nvSpPr>
        <p:spPr>
          <a:xfrm>
            <a:off x="790560" y="1267920"/>
            <a:ext cx="8353440" cy="4759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manutenção de um ambiente terapêutico, ouvir as queixas e receios do utente é essenci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strar-se tranqüilo, usar frases curtas, com um tom de voz firme, também ajud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utente ansioso pode apresentar padrão respiratório ineficaz. Portanto, cabe ao enfermeir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bservar a possibilidade de estar usando roupas apertad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xiliá-lo e estimulá-lo na execução de exercícios respiratórios, além de observar a coloração de mucosas e leito ungueal.</a:t>
            </a:r>
            <a:endParaRPr b="1" lang="en-US" sz="2400" spc="-1" strike="noStrike">
              <a:solidFill>
                <a:srgbClr val="000066"/>
              </a:solidFill>
              <a:latin typeface="Verdana"/>
            </a:endParaRPr>
          </a:p>
        </p:txBody>
      </p:sp>
      <p:sp>
        <p:nvSpPr>
          <p:cNvPr id="15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2679-6301-42F5-9A5D-53BBD9F452D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3" name="Picture 29" descr="http://1.bp.blogspot.com/_3G1ndBzZHQ4/R6nvWsefgfI/AAAAAAAAAQY/VpcvSvPEDv0/s400/enfermagem.gif"/>
          <p:cNvPicPr/>
          <p:nvPr/>
        </p:nvPicPr>
        <p:blipFill>
          <a:blip r:embed="rId1"/>
          <a:stretch/>
        </p:blipFill>
        <p:spPr>
          <a:xfrm>
            <a:off x="250920" y="452268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55" name=""/>
          <p:cNvSpPr txBox="1"/>
          <p:nvPr/>
        </p:nvSpPr>
        <p:spPr>
          <a:xfrm>
            <a:off x="1403280" y="1267920"/>
            <a:ext cx="7740720" cy="4759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observar também o padrão de alimentação, pois o utente pode apresentar hiperfagia. Assim, fornecer-lhe orientações e supervisão quanto à dieta evitará aumento ponderal; A família deve participar.</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excretas devem ser observadas e registada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deve orientar o utente em relação ao tempo, espaço e pessoas, caso esteja desorientad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nútil mostrar-lhe que o medo que sente é irreal e pode fazer com que se sinta sozinho e incompreendido, aumentando a tensão.</a:t>
            </a:r>
            <a:endParaRPr b="1" lang="en-US" sz="2400" spc="-1" strike="noStrike">
              <a:solidFill>
                <a:srgbClr val="000066"/>
              </a:solidFill>
              <a:latin typeface="Verdana"/>
            </a:endParaRPr>
          </a:p>
        </p:txBody>
      </p:sp>
      <p:sp>
        <p:nvSpPr>
          <p:cNvPr id="15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AA62-8372-464A-845F-4E6605128A4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58" name="Picture 29" descr="http://1.bp.blogspot.com/_3G1ndBzZHQ4/R6nvWsefgfI/AAAAAAAAAQY/VpcvSvPEDv0/s400/enfermagem.gif"/>
          <p:cNvPicPr/>
          <p:nvPr/>
        </p:nvPicPr>
        <p:blipFill>
          <a:blip r:embed="rId1"/>
          <a:stretch/>
        </p:blipFill>
        <p:spPr>
          <a:xfrm>
            <a:off x="250920" y="452268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nsiedade</a:t>
            </a:r>
            <a:endParaRPr b="1" lang="en-US" sz="3200" spc="-1" strike="noStrike">
              <a:solidFill>
                <a:srgbClr val="ffffff"/>
              </a:solidFill>
              <a:latin typeface="Verdana"/>
            </a:endParaRPr>
          </a:p>
        </p:txBody>
      </p:sp>
      <p:sp>
        <p:nvSpPr>
          <p:cNvPr id="160" name=""/>
          <p:cNvSpPr txBox="1"/>
          <p:nvPr/>
        </p:nvSpPr>
        <p:spPr>
          <a:xfrm>
            <a:off x="1403280" y="1412640"/>
            <a:ext cx="756144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Inicialmente, o enfermeiro pode estimular o utente a participar de actividades simples para vencer o med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É esperado que o utente apresente medo de realizá-las; o enfermeiro deve evitar forçar e ou criticar o ut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É inútil tentar provocar situações para que ele “perca o medo” sem seu consentimento, correndo-se o risco de fazê-lo entrar em pânic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Comece participando com ele, até que se sinta seguro.</a:t>
            </a:r>
            <a:endParaRPr b="1" lang="en-US" sz="2400" spc="-1" strike="noStrike">
              <a:solidFill>
                <a:srgbClr val="000066"/>
              </a:solidFill>
              <a:latin typeface="Verdana"/>
            </a:endParaRPr>
          </a:p>
        </p:txBody>
      </p:sp>
      <p:sp>
        <p:nvSpPr>
          <p:cNvPr id="16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FC20-177D-468F-98AC-76E82423BF2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63" name="Picture 29" descr="http://1.bp.blogspot.com/_3G1ndBzZHQ4/R6nvWsefgfI/AAAAAAAAAQY/VpcvSvPEDv0/s400/enfermagem.gif"/>
          <p:cNvPicPr/>
          <p:nvPr/>
        </p:nvPicPr>
        <p:blipFill>
          <a:blip r:embed="rId1"/>
          <a:stretch/>
        </p:blipFill>
        <p:spPr>
          <a:xfrm>
            <a:off x="250920" y="452268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65" name=""/>
          <p:cNvSpPr txBox="1"/>
          <p:nvPr/>
        </p:nvSpPr>
        <p:spPr>
          <a:xfrm>
            <a:off x="3635280" y="2997000"/>
            <a:ext cx="5329440" cy="3384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te paciente mostra-se triste, culpado, isolado, “baixo astral”. É comum membros da equipe que não gostam de trabalhar com esse tipo de paciente, e pode ser por ver no outro um quadro agravado do que sente, pois a depressão é um problema muito comum.</a:t>
            </a:r>
            <a:endParaRPr b="1" lang="en-US" sz="2400" spc="-1" strike="noStrike">
              <a:solidFill>
                <a:srgbClr val="000066"/>
              </a:solidFill>
              <a:latin typeface="Verdana"/>
            </a:endParaRPr>
          </a:p>
        </p:txBody>
      </p:sp>
      <p:sp>
        <p:nvSpPr>
          <p:cNvPr id="16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80512-C52E-4D27-99DB-C5D0B5B1C1B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68" name="Retângulo 6"/>
          <p:cNvSpPr/>
          <p:nvPr/>
        </p:nvSpPr>
        <p:spPr>
          <a:xfrm>
            <a:off x="324000" y="1268280"/>
            <a:ext cx="864072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Sinto vontade de morrer. Já tentei suicídio por</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ês vezes. Acho que estou sendo um estorvo na vida de meu marido e de meus filhos. Eles são muito bons para mim e eu não queria mais atrapalhá-los.”</a:t>
            </a:r>
            <a:endParaRPr b="0" lang="en-US" sz="2400" spc="-1" strike="noStrike">
              <a:solidFill>
                <a:srgbClr val="000000"/>
              </a:solidFill>
              <a:latin typeface="Verdana"/>
            </a:endParaRPr>
          </a:p>
        </p:txBody>
      </p:sp>
      <p:pic>
        <p:nvPicPr>
          <p:cNvPr id="169" name="Picture 2" descr=""/>
          <p:cNvPicPr/>
          <p:nvPr/>
        </p:nvPicPr>
        <p:blipFill>
          <a:blip r:embed="rId1"/>
          <a:stretch/>
        </p:blipFill>
        <p:spPr>
          <a:xfrm>
            <a:off x="311040" y="3429000"/>
            <a:ext cx="3322800" cy="2160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71" name=""/>
          <p:cNvSpPr txBox="1"/>
          <p:nvPr/>
        </p:nvSpPr>
        <p:spPr>
          <a:xfrm>
            <a:off x="456840" y="1413000"/>
            <a:ext cx="8381880" cy="3024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ra lidar com este tipo de transtorno, é necessário que o enfermeiro se conscientize de que “sentir pena” não ajuda e ainda pode atrapalh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relacionamento terapêutico requer respeito, e “sentir pena” pode não ser a melhor forma de demonstrá-lo.</a:t>
            </a: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5A96-C2D7-4693-8DF7-6DF3FEB7A03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74" name="Picture 29" descr="http://1.bp.blogspot.com/_3G1ndBzZHQ4/R6nvWsefgfI/AAAAAAAAAQY/VpcvSvPEDv0/s400/enfermagem.gif"/>
          <p:cNvPicPr/>
          <p:nvPr/>
        </p:nvPicPr>
        <p:blipFill>
          <a:blip r:embed="rId1"/>
          <a:stretch/>
        </p:blipFill>
        <p:spPr>
          <a:xfrm>
            <a:off x="3276720" y="4076640"/>
            <a:ext cx="1582560" cy="223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42920" y="228600"/>
            <a:ext cx="779616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Actividades do Enfermeiro em Saúde Mental</a:t>
            </a:r>
            <a:endParaRPr b="1" lang="en-US" sz="3200" spc="-1" strike="noStrike">
              <a:solidFill>
                <a:srgbClr val="ffffff"/>
              </a:solidFill>
              <a:latin typeface="Verdana"/>
            </a:endParaRPr>
          </a:p>
        </p:txBody>
      </p:sp>
      <p:sp>
        <p:nvSpPr>
          <p:cNvPr id="94" name=""/>
          <p:cNvSpPr txBox="1"/>
          <p:nvPr/>
        </p:nvSpPr>
        <p:spPr>
          <a:xfrm>
            <a:off x="468000" y="141300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ctividades do Enfermeiro em Saúde Ment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Intervenções nos momentos de cris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nsie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Depress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gitação/agressiv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aranó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Tóxico depend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mportamento anti-soci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omo prevenir acidentes na interação com os utentes de saúde mental.</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1D9F-353F-4DE9-B527-B3E76F13CF0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7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maior risco em lidar com esse tipo de paciente é o de suicídio (esse risco aumenta quando começa a melhorar de seu transtorn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e deve ser mantido sob vigilância quando em uso de objetos pontiagudos, cortantes, cordas e tudo o que possa por em risco a sua integridade física até que passe o perig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a vigilância deve ser discreta para não lembrar ao paciente de seu risco.</a:t>
            </a:r>
            <a:endParaRPr b="1" lang="en-US" sz="2400" spc="-1" strike="noStrike">
              <a:solidFill>
                <a:srgbClr val="000066"/>
              </a:solidFill>
              <a:latin typeface="Verdana"/>
            </a:endParaRPr>
          </a:p>
        </p:txBody>
      </p:sp>
      <p:sp>
        <p:nvSpPr>
          <p:cNvPr id="1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74A1-51B6-4279-8ABF-06C6F7C46B9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79" name="Picture 29" descr="http://1.bp.blogspot.com/_3G1ndBzZHQ4/R6nvWsefgfI/AAAAAAAAAQY/VpcvSvPEDv0/s400/enfermagem.gif"/>
          <p:cNvPicPr/>
          <p:nvPr/>
        </p:nvPicPr>
        <p:blipFill>
          <a:blip r:embed="rId1"/>
          <a:stretch/>
        </p:blipFill>
        <p:spPr>
          <a:xfrm>
            <a:off x="4859280" y="4292640"/>
            <a:ext cx="1584360" cy="2230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81" name=""/>
          <p:cNvSpPr txBox="1"/>
          <p:nvPr/>
        </p:nvSpPr>
        <p:spPr>
          <a:xfrm>
            <a:off x="324000" y="1197000"/>
            <a:ext cx="852624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pode perguntar ao paciente se deseja morrer, pois a pergunta não irá induzi-lo. Porém, deve fornecer dados para seus cuidad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ontra-indicado tecer comentários quanto a essa atitude. Sua presença constante, ouvindo-o e participando das atividades, é uma boa maneira de manter a vigilância e integrá-lo ao grup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so o paciente pergunte se está sendo vigiado, o enfermeiro pode lembrá-lo de que já fez referência à vontade ou tentativa de morrer e que a equipe deseja protegê-l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um bom momento para fazê-lo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sentir-se valorizado.</a:t>
            </a:r>
            <a:endParaRPr b="1" lang="en-US" sz="2400" spc="-1" strike="noStrike">
              <a:solidFill>
                <a:srgbClr val="000066"/>
              </a:solidFill>
              <a:latin typeface="Verdana"/>
            </a:endParaRPr>
          </a:p>
        </p:txBody>
      </p:sp>
      <p:sp>
        <p:nvSpPr>
          <p:cNvPr id="18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B763-12FB-4515-AFB0-E85D066D074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84" name="Picture 29" descr="http://1.bp.blogspot.com/_3G1ndBzZHQ4/R6nvWsefgfI/AAAAAAAAAQY/VpcvSvPEDv0/s400/enfermagem.gif"/>
          <p:cNvPicPr/>
          <p:nvPr/>
        </p:nvPicPr>
        <p:blipFill>
          <a:blip r:embed="rId1"/>
          <a:stretch/>
        </p:blipFill>
        <p:spPr>
          <a:xfrm>
            <a:off x="6227640" y="5013360"/>
            <a:ext cx="1081080" cy="1520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86" name=""/>
          <p:cNvSpPr txBox="1"/>
          <p:nvPr/>
        </p:nvSpPr>
        <p:spPr>
          <a:xfrm>
            <a:off x="324000" y="1197000"/>
            <a:ext cx="85262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erto profissional, depois de ouvir um paciente falar que tomou 20 comprimidos de psicotrópico porque queria morrer, afirmou: “Você não queria morrer! Quem quer morrer dá logo um tiro na cabeça!” Dois dias depois, recebeu a notícia de que o paciente se suicidara com um tiro na cabeç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caso de uma tentativa de suicídio, o enfermeiro deve prestar os primeiros socorros (hemorragia, asfixia), evitar deixar o paciente sozinho e, uma vez que ele seja removido, atuar junto aos outros pacientes para evitar o pânico.</a:t>
            </a:r>
            <a:endParaRPr b="1" lang="en-US" sz="2400" spc="-1" strike="noStrike">
              <a:solidFill>
                <a:srgbClr val="000066"/>
              </a:solidFill>
              <a:latin typeface="Verdana"/>
            </a:endParaRPr>
          </a:p>
        </p:txBody>
      </p:sp>
      <p:sp>
        <p:nvSpPr>
          <p:cNvPr id="18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5E0E-3C82-4AB1-A843-CF02C823B5D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89" name="Picture 29" descr="http://1.bp.blogspot.com/_3G1ndBzZHQ4/R6nvWsefgfI/AAAAAAAAAQY/VpcvSvPEDv0/s400/enfermagem.gif"/>
          <p:cNvPicPr/>
          <p:nvPr/>
        </p:nvPicPr>
        <p:blipFill>
          <a:blip r:embed="rId1"/>
          <a:stretch/>
        </p:blipFill>
        <p:spPr>
          <a:xfrm>
            <a:off x="6227640" y="4941720"/>
            <a:ext cx="1125720" cy="158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91" name=""/>
          <p:cNvSpPr txBox="1"/>
          <p:nvPr/>
        </p:nvSpPr>
        <p:spPr>
          <a:xfrm>
            <a:off x="394920" y="1197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paciente deprimido costuma se descuidar da aparência e das necessidades básicas por não valorizá-los ou por achar que deve ser punido. Por isso, é importante o enfermeiro estar atento 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imentação - A comida deve ter bom aspecto e temperatura adequada. No caso de se recusar a comer, deve-se fracionar a diet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idratação - Deve-se ter uma atenção especial a este item, observando na pele e mucosas qualquer sinal de desidratação e oferecendo líquido em abundância.</a:t>
            </a:r>
            <a:endParaRPr b="1" lang="en-US" sz="2400" spc="-1" strike="noStrike">
              <a:solidFill>
                <a:srgbClr val="000066"/>
              </a:solidFill>
              <a:latin typeface="Verdana"/>
            </a:endParaRPr>
          </a:p>
        </p:txBody>
      </p:sp>
      <p:sp>
        <p:nvSpPr>
          <p:cNvPr id="19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6B60-1A16-408E-9525-C101CFF48D5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4" name="Picture 29" descr="http://1.bp.blogspot.com/_3G1ndBzZHQ4/R6nvWsefgfI/AAAAAAAAAQY/VpcvSvPEDv0/s400/enfermagem.gif"/>
          <p:cNvPicPr/>
          <p:nvPr/>
        </p:nvPicPr>
        <p:blipFill>
          <a:blip r:embed="rId1"/>
          <a:stretch/>
        </p:blipFill>
        <p:spPr>
          <a:xfrm>
            <a:off x="6227640" y="508464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196" name=""/>
          <p:cNvSpPr txBox="1"/>
          <p:nvPr/>
        </p:nvSpPr>
        <p:spPr>
          <a:xfrm>
            <a:off x="684360" y="1143000"/>
            <a:ext cx="815472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creta - Observar se está defecando e se há algum sinal de alteração. Como muitas vezes fica acamado, pode apresentar constip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da ponderal - O paciente com depressão grave deve ser pesado diariam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Sinais de infecções ou lesões - Deve-se examinar o paciente em busca de sinais que possam ocasionar uma solução de continuidade.</a:t>
            </a:r>
            <a:endParaRPr b="1" lang="en-US" sz="2400" spc="-1" strike="noStrike">
              <a:solidFill>
                <a:srgbClr val="000066"/>
              </a:solidFill>
              <a:latin typeface="Verdana"/>
            </a:endParaRPr>
          </a:p>
        </p:txBody>
      </p:sp>
      <p:sp>
        <p:nvSpPr>
          <p:cNvPr id="1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4069-9B47-44DE-BC77-F06BBC6B908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9" name="Picture 29" descr="http://1.bp.blogspot.com/_3G1ndBzZHQ4/R6nvWsefgfI/AAAAAAAAAQY/VpcvSvPEDv0/s400/enfermagem.gif"/>
          <p:cNvPicPr/>
          <p:nvPr/>
        </p:nvPicPr>
        <p:blipFill>
          <a:blip r:embed="rId1"/>
          <a:stretch/>
        </p:blipFill>
        <p:spPr>
          <a:xfrm>
            <a:off x="395280" y="450864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Depressão</a:t>
            </a:r>
            <a:endParaRPr b="1" lang="en-US" sz="3200" spc="-1" strike="noStrike">
              <a:solidFill>
                <a:srgbClr val="ffffff"/>
              </a:solidFill>
              <a:latin typeface="Verdana"/>
            </a:endParaRPr>
          </a:p>
        </p:txBody>
      </p:sp>
      <p:sp>
        <p:nvSpPr>
          <p:cNvPr id="201" name=""/>
          <p:cNvSpPr txBox="1"/>
          <p:nvPr/>
        </p:nvSpPr>
        <p:spPr>
          <a:xfrm>
            <a:off x="684360" y="1143000"/>
            <a:ext cx="8154720" cy="502920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stuário - Valorizar o aquecimento do corpo,</a:t>
            </a:r>
            <a:endParaRPr b="1" lang="en-US" sz="2400" spc="-1" strike="noStrike">
              <a:solidFill>
                <a:srgbClr val="000066"/>
              </a:solidFill>
              <a:latin typeface="Verdana"/>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ois a circulação pode estar mais lenta. Estar bem vestido, arrumado e penteado também pode melhorar sua aparência e auto-estima.</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didas posturais de conforto - Evitar transtornos musculares por má postura.</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drões de sono e repouso – Observar tempo de sono e sono restaurador (dorme, mas se sente pior).</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ividade física - Estimulá-lo a realizar em pequenos períodos ao longo do dia, como se sentiu ao realizá-la e as de sua preferência.</a:t>
            </a:r>
            <a:endParaRPr b="1" lang="en-US" sz="2400" spc="-1" strike="noStrike">
              <a:solidFill>
                <a:srgbClr val="000066"/>
              </a:solidFill>
              <a:latin typeface="Verdana"/>
            </a:endParaRPr>
          </a:p>
        </p:txBody>
      </p:sp>
      <p:sp>
        <p:nvSpPr>
          <p:cNvPr id="20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EE369-9422-4ED6-8200-586DE55EC45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4" name="Picture 29" descr="http://1.bp.blogspot.com/_3G1ndBzZHQ4/R6nvWsefgfI/AAAAAAAAAQY/VpcvSvPEDv0/s400/enfermagem.gif"/>
          <p:cNvPicPr/>
          <p:nvPr/>
        </p:nvPicPr>
        <p:blipFill>
          <a:blip r:embed="rId1"/>
          <a:stretch/>
        </p:blipFill>
        <p:spPr>
          <a:xfrm>
            <a:off x="395280" y="450864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gitação</a:t>
            </a:r>
            <a:endParaRPr b="1" lang="en-US" sz="3200" spc="-1" strike="noStrike">
              <a:solidFill>
                <a:srgbClr val="ffffff"/>
              </a:solidFill>
              <a:latin typeface="Verdana"/>
            </a:endParaRPr>
          </a:p>
        </p:txBody>
      </p:sp>
      <p:sp>
        <p:nvSpPr>
          <p:cNvPr id="20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9DC3-ED2E-477A-B059-D0CAFF42829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08" name="Retângulo 5"/>
          <p:cNvSpPr/>
          <p:nvPr/>
        </p:nvSpPr>
        <p:spPr>
          <a:xfrm>
            <a:off x="539640" y="1557360"/>
            <a:ext cx="842508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a:t>
            </a:r>
            <a:r>
              <a:rPr b="0" lang="pt-BR" sz="2400" spc="-1" strike="noStrike">
                <a:solidFill>
                  <a:srgbClr val="000000"/>
                </a:solidFill>
                <a:latin typeface="Verdana"/>
              </a:rPr>
              <a:t>Não agüento mais meu irmão. Ele quase não dorme e não me deixa dormir. Anda pela casa a noite inteira falando e cantando. Agora inventou de anunciar a volta de Jesus, e anda por ônibus e metrôs...”</a:t>
            </a:r>
            <a:endParaRPr b="0" lang="en-US" sz="2400" spc="-1" strike="noStrike">
              <a:solidFill>
                <a:srgbClr val="000000"/>
              </a:solidFill>
              <a:latin typeface="Verdana"/>
            </a:endParaRPr>
          </a:p>
        </p:txBody>
      </p:sp>
      <p:pic>
        <p:nvPicPr>
          <p:cNvPr id="209" name="Picture 2" descr=""/>
          <p:cNvPicPr/>
          <p:nvPr/>
        </p:nvPicPr>
        <p:blipFill>
          <a:blip r:embed="rId1"/>
          <a:stretch/>
        </p:blipFill>
        <p:spPr>
          <a:xfrm>
            <a:off x="2484360" y="3357720"/>
            <a:ext cx="4618080" cy="3036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gitação</a:t>
            </a:r>
            <a:endParaRPr b="1" lang="en-US" sz="3200" spc="-1" strike="noStrike">
              <a:solidFill>
                <a:srgbClr val="ffffff"/>
              </a:solidFill>
              <a:latin typeface="Verdana"/>
            </a:endParaRPr>
          </a:p>
        </p:txBody>
      </p:sp>
      <p:sp>
        <p:nvSpPr>
          <p:cNvPr id="211" name=""/>
          <p:cNvSpPr txBox="1"/>
          <p:nvPr/>
        </p:nvSpPr>
        <p:spPr>
          <a:xfrm>
            <a:off x="323640" y="1267920"/>
            <a:ext cx="8597880" cy="4969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equipe, muitas vezes, descreve esse paciente como “irritante”, e para equipe despreparada pode até ser alvo de zombarias e deboch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extremamente ativo, pode falar, gritar, cantar, dançar. A melhor forma de interagir com ele é chamá-lo para as atividades e conversar sobre assuntos gerai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deve estabelecer limites para ele, porém somente após ter criado com ele uma relação de confiança e, mesmo assim, com</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o cuidado de não fazê-lo de forma autoritária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ara não provocar reações desagradáveis que possam gerar agressividade.</a:t>
            </a:r>
            <a:endParaRPr b="1" lang="en-US" sz="2400" spc="-1" strike="noStrike">
              <a:solidFill>
                <a:srgbClr val="000066"/>
              </a:solidFill>
              <a:latin typeface="Verdana"/>
            </a:endParaRPr>
          </a:p>
        </p:txBody>
      </p:sp>
      <p:sp>
        <p:nvSpPr>
          <p:cNvPr id="2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53397-AC51-4AAC-9368-DC1CF9C0CE0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14" name="Picture 29" descr="http://1.bp.blogspot.com/_3G1ndBzZHQ4/R6nvWsefgfI/AAAAAAAAAQY/VpcvSvPEDv0/s400/enfermagem.gif"/>
          <p:cNvPicPr/>
          <p:nvPr/>
        </p:nvPicPr>
        <p:blipFill>
          <a:blip r:embed="rId1"/>
          <a:stretch/>
        </p:blipFill>
        <p:spPr>
          <a:xfrm>
            <a:off x="8018640" y="4437000"/>
            <a:ext cx="1125360" cy="158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Agitação</a:t>
            </a:r>
            <a:endParaRPr b="1" lang="en-US" sz="3200" spc="-1" strike="noStrike">
              <a:solidFill>
                <a:srgbClr val="ffffff"/>
              </a:solidFill>
              <a:latin typeface="Verdana"/>
            </a:endParaRPr>
          </a:p>
        </p:txBody>
      </p:sp>
      <p:sp>
        <p:nvSpPr>
          <p:cNvPr id="216" name=""/>
          <p:cNvSpPr txBox="1"/>
          <p:nvPr/>
        </p:nvSpPr>
        <p:spPr>
          <a:xfrm>
            <a:off x="250560" y="1197000"/>
            <a:ext cx="8381880" cy="4759200"/>
          </a:xfrm>
          <a:prstGeom prst="rect">
            <a:avLst/>
          </a:prstGeom>
          <a:noFill/>
          <a:ln w="0">
            <a:noFill/>
          </a:ln>
        </p:spPr>
        <p:txBody>
          <a:bodyPr anchor="t">
            <a:normAutofit fontScale="93000"/>
          </a:bodyPr>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um paciente que dorme pouco e, em geral, acorda cedo.</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ste-se de forma extravagante,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com cores berrantes e vários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enfeites desarmônicos. </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imenta-se mal, pois sua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hiperatividade não lhe permite sentar para alimentar-se. É muito importante que lhe sejam oferecidos líquidos e alimentos que possa ingerir enquanto mantém a atividade. </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ferição de seus sinais vitais, perda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onderal e grau de hidratação são </a:t>
            </a:r>
            <a:endParaRPr b="1" lang="en-US" sz="2400" spc="-1" strike="noStrike">
              <a:solidFill>
                <a:srgbClr val="000066"/>
              </a:solidFill>
              <a:latin typeface="Verdana"/>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imprescindíveis.</a:t>
            </a:r>
            <a:endParaRPr b="1" lang="en-US" sz="24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874B-85BF-4335-8ED2-8819840D7F3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19" name="Picture 29" descr="http://1.bp.blogspot.com/_3G1ndBzZHQ4/R6nvWsefgfI/AAAAAAAAAQY/VpcvSvPEDv0/s400/enfermagem.gif"/>
          <p:cNvPicPr/>
          <p:nvPr/>
        </p:nvPicPr>
        <p:blipFill>
          <a:blip r:embed="rId1"/>
          <a:stretch/>
        </p:blipFill>
        <p:spPr>
          <a:xfrm>
            <a:off x="7380360" y="4991040"/>
            <a:ext cx="936720" cy="1317600"/>
          </a:xfrm>
          <a:prstGeom prst="rect">
            <a:avLst/>
          </a:prstGeom>
          <a:ln w="0">
            <a:noFill/>
          </a:ln>
        </p:spPr>
      </p:pic>
      <p:pic>
        <p:nvPicPr>
          <p:cNvPr id="220" name="Picture 2" descr="http://t3.gstatic.com/images?q=tbn:ANd9GcQIe1M1_YGNSNdFcaxf0huIzrI5EjpCmd3UFRfX6SYjY1IeUrgn"/>
          <p:cNvPicPr/>
          <p:nvPr/>
        </p:nvPicPr>
        <p:blipFill>
          <a:blip r:embed="rId2"/>
          <a:stretch/>
        </p:blipFill>
        <p:spPr>
          <a:xfrm>
            <a:off x="5796000" y="1700280"/>
            <a:ext cx="3138480" cy="2089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Paranóia</a:t>
            </a:r>
            <a:endParaRPr b="1" lang="en-US" sz="3200" spc="-1" strike="noStrike">
              <a:solidFill>
                <a:srgbClr val="ffffff"/>
              </a:solidFill>
              <a:latin typeface="Verdana"/>
            </a:endParaRPr>
          </a:p>
        </p:txBody>
      </p:sp>
      <p:sp>
        <p:nvSpPr>
          <p:cNvPr id="222" name=""/>
          <p:cNvSpPr txBox="1"/>
          <p:nvPr/>
        </p:nvSpPr>
        <p:spPr>
          <a:xfrm>
            <a:off x="468000" y="2420640"/>
            <a:ext cx="8381880" cy="3390840"/>
          </a:xfrm>
          <a:prstGeom prst="rect">
            <a:avLst/>
          </a:prstGeom>
          <a:noFill/>
          <a:ln w="0">
            <a:noFill/>
          </a:ln>
        </p:spPr>
        <p:txBody>
          <a:bodyPr anchor="t">
            <a:normAutofit fontScale="95000"/>
          </a:bodyPr>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e paciente é descrito pela equipe como “difícil”. Sua desconfiança pode apresentar grau variado, desde a dúvida até delírios paranóicos. Assim, é importante estar ciente que este paciente pode estar pronto a responder com ameaças, agressão e agitação. </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 freqüência, interpreta mal qualquer assunto.</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omo se estivesse se defendendo o tempo todo. Por estas razões tende a provocar medo das pessoas, afastando-se das mesmas.</a:t>
            </a:r>
            <a:endParaRPr b="1" lang="en-US" sz="24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CF84-FD8D-4EBD-8A3C-4D263F56A80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25" name="Retângulo 5"/>
          <p:cNvSpPr/>
          <p:nvPr/>
        </p:nvSpPr>
        <p:spPr>
          <a:xfrm>
            <a:off x="468360" y="1341360"/>
            <a:ext cx="8351640" cy="82548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Eu gosto da minha mãe, mas não confio nela. Há muitos interesses na minha pessoa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1834920" y="1052640"/>
            <a:ext cx="7003800" cy="4471920"/>
          </a:xfrm>
          <a:prstGeom prst="rect">
            <a:avLst/>
          </a:prstGeom>
          <a:noFill/>
          <a:ln w="0">
            <a:noFill/>
          </a:ln>
        </p:spPr>
        <p:txBody>
          <a:bodyPr anchor="t">
            <a:normAutofit fontScale="92000"/>
          </a:bodyPr>
          <a:p>
            <a:pPr marL="315360" indent="-3153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o final desta sessão os estudantes deverão ser capazes de:</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crever as actividades de enfermagem mais comuns junto ao utente com transtorno mental;</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itar as principais intervenções de enfermagem durante momentos de crise desses utentes (</a:t>
            </a:r>
            <a:r>
              <a:rPr b="0" lang="pt-PT" sz="2400" spc="-1" strike="noStrike">
                <a:solidFill>
                  <a:srgbClr val="000066"/>
                </a:solidFill>
                <a:latin typeface="Verdana"/>
              </a:rPr>
              <a:t>Ansiedade, depressão, agitação/agressividade, paranóia, tóxico dependente e comportamento anti-social);</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itar alguns cuidados para prevenir acidentes na interação com os utentes de saúde mental.</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C66A-5FB5-4709-9B05-C0AEB5DD4BA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395280" y="2708280"/>
            <a:ext cx="1987560" cy="216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Paranóia</a:t>
            </a:r>
            <a:endParaRPr b="1" lang="en-US" sz="3200" spc="-1" strike="noStrike">
              <a:solidFill>
                <a:srgbClr val="ffffff"/>
              </a:solidFill>
              <a:latin typeface="Verdana"/>
            </a:endParaRPr>
          </a:p>
        </p:txBody>
      </p:sp>
      <p:sp>
        <p:nvSpPr>
          <p:cNvPr id="227" name=""/>
          <p:cNvSpPr txBox="1"/>
          <p:nvPr/>
        </p:nvSpPr>
        <p:spPr>
          <a:xfrm>
            <a:off x="394920" y="1484280"/>
            <a:ext cx="8381880" cy="3392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Ganhar a confiança deste paciente não é fácil e mantê-la é quase impossí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lquer atitude não planejada pode gerar desconfianç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preciso ter cuidado com mensagens verbais e não-verbais para evitar que “confirmem suas suspeit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ve-se evitar situações que lhe provoquem ansiedade.</a:t>
            </a:r>
            <a:endParaRPr b="1" lang="en-US" sz="2400" spc="-1" strike="noStrike">
              <a:solidFill>
                <a:srgbClr val="000066"/>
              </a:solidFill>
              <a:latin typeface="Verdana"/>
            </a:endParaRPr>
          </a:p>
        </p:txBody>
      </p:sp>
      <p:sp>
        <p:nvSpPr>
          <p:cNvPr id="2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C5D4-2DDA-449B-B6EF-5B12F8D5B36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30" name="Picture 29" descr="http://1.bp.blogspot.com/_3G1ndBzZHQ4/R6nvWsefgfI/AAAAAAAAAQY/VpcvSvPEDv0/s400/enfermagem.gif"/>
          <p:cNvPicPr/>
          <p:nvPr/>
        </p:nvPicPr>
        <p:blipFill>
          <a:blip r:embed="rId1"/>
          <a:stretch/>
        </p:blipFill>
        <p:spPr>
          <a:xfrm>
            <a:off x="5003640" y="4724280"/>
            <a:ext cx="1125720" cy="158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ões nos momentos de crise - Paranóia</a:t>
            </a:r>
            <a:endParaRPr b="1" lang="en-US" sz="3200" spc="-1" strike="noStrike">
              <a:solidFill>
                <a:srgbClr val="ffffff"/>
              </a:solidFill>
              <a:latin typeface="Verdana"/>
            </a:endParaRPr>
          </a:p>
        </p:txBody>
      </p:sp>
      <p:sp>
        <p:nvSpPr>
          <p:cNvPr id="232" name=""/>
          <p:cNvSpPr txBox="1"/>
          <p:nvPr/>
        </p:nvSpPr>
        <p:spPr>
          <a:xfrm>
            <a:off x="394920" y="1268280"/>
            <a:ext cx="8381880" cy="432144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 alimentação e hidratação desse paciente pode estar prejudicada, pois ele pode achar que estão tentando envenená-lo. Por isso deve-se permitir que escolha o que deseja comer e, se possível, que ele mesmo prepare seus alimento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lo mesmo motivo, deve-se verificar sua boca após a administração de medicamentos, ou administrá-los na forma líquida.</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Manter uma conduta firme e franca com o paciente, ouvindo seus receios, pode ser </a:t>
            </a:r>
            <a:endParaRPr b="1" lang="en-US" sz="2400" spc="-1" strike="noStrike">
              <a:solidFill>
                <a:srgbClr val="000066"/>
              </a:solidFill>
              <a:latin typeface="Verdana"/>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	</a:t>
            </a:r>
            <a:r>
              <a:rPr b="0" lang="en-US" sz="2400" spc="-1" strike="noStrike">
                <a:solidFill>
                  <a:srgbClr val="000066"/>
                </a:solidFill>
                <a:latin typeface="Verdana"/>
              </a:rPr>
              <a:t>uma boa maneira de ganhar sua confiança.</a:t>
            </a:r>
            <a:endParaRPr b="1" lang="en-US" sz="2400" spc="-1" strike="noStrike">
              <a:solidFill>
                <a:srgbClr val="000066"/>
              </a:solidFill>
              <a:latin typeface="Verdana"/>
            </a:endParaRPr>
          </a:p>
        </p:txBody>
      </p:sp>
      <p:sp>
        <p:nvSpPr>
          <p:cNvPr id="23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9F1F-1A00-451A-9560-03127E5CCA3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35" name="Picture 29" descr="http://1.bp.blogspot.com/_3G1ndBzZHQ4/R6nvWsefgfI/AAAAAAAAAQY/VpcvSvPEDv0/s400/enfermagem.gif"/>
          <p:cNvPicPr/>
          <p:nvPr/>
        </p:nvPicPr>
        <p:blipFill>
          <a:blip r:embed="rId1"/>
          <a:stretch/>
        </p:blipFill>
        <p:spPr>
          <a:xfrm>
            <a:off x="7524720" y="4076640"/>
            <a:ext cx="1123920" cy="1584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228600"/>
            <a:ext cx="792180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37" name=""/>
          <p:cNvSpPr txBox="1"/>
          <p:nvPr/>
        </p:nvSpPr>
        <p:spPr>
          <a:xfrm>
            <a:off x="323640" y="1341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ses utentes são vistos na equipe como “sedutores” e desafiador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se consideram doentes e, se buscam o serviço de Saúde Mental, em geral o fazem por imposiç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sentam boa verbalização, são inteligentes e agradáveis, atributos que muitas vezes usam para atrair simpatia e conseguir o que querem.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mportante que o enfermeiro esteja alerta a estas manobras, para não ser usado.</a:t>
            </a:r>
            <a:endParaRPr b="1" lang="en-US" sz="2400" spc="-1" strike="noStrike">
              <a:solidFill>
                <a:srgbClr val="000066"/>
              </a:solidFill>
              <a:latin typeface="Verdana"/>
            </a:endParaRPr>
          </a:p>
        </p:txBody>
      </p:sp>
      <p:sp>
        <p:nvSpPr>
          <p:cNvPr id="23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C720-75B5-416E-A7E9-482AE6ADC7C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40" name="Picture 29" descr="http://1.bp.blogspot.com/_3G1ndBzZHQ4/R6nvWsefgfI/AAAAAAAAAQY/VpcvSvPEDv0/s400/enfermagem.gif"/>
          <p:cNvPicPr/>
          <p:nvPr/>
        </p:nvPicPr>
        <p:blipFill>
          <a:blip r:embed="rId1"/>
          <a:stretch/>
        </p:blipFill>
        <p:spPr>
          <a:xfrm>
            <a:off x="7020000" y="4581360"/>
            <a:ext cx="1125360" cy="1582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42" name=""/>
          <p:cNvSpPr txBox="1"/>
          <p:nvPr/>
        </p:nvSpPr>
        <p:spPr>
          <a:xfrm>
            <a:off x="250560" y="1197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sta categoria podem estar incluídos os tóxico dependentes de drogas ilícitas e os alcoolist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ve-se estar alerta aos sinais de intoxicações ou abstinênc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selhos ou promessas “retiradas” destes pacientes não serão capazes de resolver seus problemas enquanto não admitirem que têm uma dependência para controlar - o uso da substâ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bastante útil estimulá-los a participar de atividades.</a:t>
            </a:r>
            <a:endParaRPr b="1" lang="en-US" sz="2400" spc="-1" strike="noStrike">
              <a:solidFill>
                <a:srgbClr val="000066"/>
              </a:solidFill>
              <a:latin typeface="Verdana"/>
            </a:endParaRPr>
          </a:p>
        </p:txBody>
      </p:sp>
      <p:sp>
        <p:nvSpPr>
          <p:cNvPr id="2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B73E-E768-49B1-85B2-62462CA22B8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45" name="Picture 29" descr="http://1.bp.blogspot.com/_3G1ndBzZHQ4/R6nvWsefgfI/AAAAAAAAAQY/VpcvSvPEDv0/s400/enfermagem.gif"/>
          <p:cNvPicPr/>
          <p:nvPr/>
        </p:nvPicPr>
        <p:blipFill>
          <a:blip r:embed="rId1"/>
          <a:stretch/>
        </p:blipFill>
        <p:spPr>
          <a:xfrm>
            <a:off x="7667640" y="4437000"/>
            <a:ext cx="1125360" cy="1584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47" name=""/>
          <p:cNvSpPr txBox="1"/>
          <p:nvPr/>
        </p:nvSpPr>
        <p:spPr>
          <a:xfrm>
            <a:off x="323640" y="1196640"/>
            <a:ext cx="85690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m relação ao potencial de violência, o enfermeiro não deve demonstrar receio, também não deve se expor desnecessariament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onveniente solicitar a ajuda de mais pessoas do serviço e até mesmo conter o utente. O que não deve ser esquecido é que, seja qual for a medida adotada, esta deve vir acompanhada de respeito, evitando-se desafios como: “Vem me bater agor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indispensável que se explique ao utente que a medida adotada se deu porque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ele passou do limite ou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ara protegê-lo.</a:t>
            </a:r>
            <a:endParaRPr b="1" lang="en-US" sz="2400" spc="-1" strike="noStrike">
              <a:solidFill>
                <a:srgbClr val="000066"/>
              </a:solidFill>
              <a:latin typeface="Verdana"/>
            </a:endParaRPr>
          </a:p>
        </p:txBody>
      </p:sp>
      <p:sp>
        <p:nvSpPr>
          <p:cNvPr id="24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673F-6111-4FAF-819C-16638EA029D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50" name="Picture 29" descr="http://1.bp.blogspot.com/_3G1ndBzZHQ4/R6nvWsefgfI/AAAAAAAAAQY/VpcvSvPEDv0/s400/enfermagem.gif"/>
          <p:cNvPicPr/>
          <p:nvPr/>
        </p:nvPicPr>
        <p:blipFill>
          <a:blip r:embed="rId1"/>
          <a:stretch/>
        </p:blipFill>
        <p:spPr>
          <a:xfrm>
            <a:off x="6227640" y="4797360"/>
            <a:ext cx="1125720" cy="1582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52"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 contenções podem ser medicamentosa (química) ou mecânica (físic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 contenções mecânicas são indicadas em estados de agitação não controláveis com medicação ou em episódios agudos, como conduta violenta que implique em risco de lesões físicas para si e para os outros.</a:t>
            </a:r>
            <a:endParaRPr b="1" lang="en-US" sz="2400" spc="-1" strike="noStrike">
              <a:solidFill>
                <a:srgbClr val="000066"/>
              </a:solidFill>
              <a:latin typeface="Verdana"/>
            </a:endParaRPr>
          </a:p>
        </p:txBody>
      </p:sp>
      <p:sp>
        <p:nvSpPr>
          <p:cNvPr id="2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8E6CA-E0E8-4D7F-8D8F-7432E56DF4E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56"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ante a necessidade de contenção mecânica, é importante que esta seja feita por profissionais preparados, para evitar agravos ao utent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ara tal, é necessária a utilização de técnicas apropriadas e uma boa dose de compressão e carinho.</a:t>
            </a:r>
            <a:endParaRPr b="1" lang="en-US" sz="2400" spc="-1" strike="noStrike">
              <a:solidFill>
                <a:srgbClr val="000066"/>
              </a:solidFill>
              <a:latin typeface="Verdana"/>
            </a:endParaRPr>
          </a:p>
        </p:txBody>
      </p:sp>
      <p:sp>
        <p:nvSpPr>
          <p:cNvPr id="25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6410-FADD-450E-9BB6-33CC3A6552F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60" name=""/>
          <p:cNvSpPr txBox="1"/>
          <p:nvPr/>
        </p:nvSpPr>
        <p:spPr>
          <a:xfrm>
            <a:off x="468000" y="3860640"/>
            <a:ext cx="8381880" cy="216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ara realizar uma contenção mecânica o enfermeiro necessita de ataduras, braçadeiras, camisa de força e/ou lençóis, podendo também ser realizada com o corpo do profissional de saúde ou de outra pessoa.</a:t>
            </a:r>
            <a:endParaRPr b="1" lang="en-US" sz="2400" spc="-1" strike="noStrike">
              <a:solidFill>
                <a:srgbClr val="000066"/>
              </a:solidFill>
              <a:latin typeface="Verdana"/>
            </a:endParaRPr>
          </a:p>
        </p:txBody>
      </p:sp>
      <p:sp>
        <p:nvSpPr>
          <p:cNvPr id="26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5528-5E9A-45DF-8D6E-15F6C104571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63" name="Retângulo 5"/>
          <p:cNvSpPr/>
          <p:nvPr/>
        </p:nvSpPr>
        <p:spPr>
          <a:xfrm>
            <a:off x="539640" y="1628640"/>
            <a:ext cx="8353440" cy="192276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É importante que durante o procedimento de contenção, o profissional com maior vínculo</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 o utente, conduza o diálogo, orientando, explicando e lembrando a ele, os motivos que levaram a necessidade da contençã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42560" y="228600"/>
            <a:ext cx="792180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65"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mprego das técnicas de contenção deve ser feito com firmeza e rapidez, longe dos olhos de outros utentes para não impressioná-l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ima de tudo, nunca se emprega uma contenção se não for absolutamente necessária e sem passar informações ao utente durante o procedim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utente não deve se sentir agredid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utros membros da equipe terapêutica devem estar cientes quanto a medida adotada para que a apóiem  e fortaleçam aos profissionais envolvidos e demais pacientes, evitando maiores transtornos.</a:t>
            </a:r>
            <a:endParaRPr b="1" lang="en-US" sz="2400" spc="-1" strike="noStrike">
              <a:solidFill>
                <a:srgbClr val="000066"/>
              </a:solidFill>
              <a:latin typeface="Verdana"/>
            </a:endParaRPr>
          </a:p>
        </p:txBody>
      </p:sp>
      <p:sp>
        <p:nvSpPr>
          <p:cNvPr id="26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9D3B-0DE6-4ABA-B851-B828B539AAC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42560" y="228240"/>
            <a:ext cx="792180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69"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ra evitar fraturas por queda, procura-se colocar o utente no chão o mais depressa possível, segurando-o pelos ombros, braços e pern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ter o utente, apertando o pescoço “numa gravata” ou o tórax, pode causar acident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ceder a contenção mecânica: colocar um lençol forte ou cobertor debaixo do corpo do utente. Segurando uma das extremidades, passá-la por cima do corpo, prendendo-a entre o tórax e o braço oposto, abaixo do cotovelo. Fazer o mesmo movimento com a outra ponta do lençol ou coberto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licar esparadrapo para fixar.</a:t>
            </a:r>
            <a:endParaRPr b="1" lang="en-US" sz="2400" spc="-1" strike="noStrike">
              <a:solidFill>
                <a:srgbClr val="000066"/>
              </a:solidFill>
              <a:latin typeface="Verdana"/>
            </a:endParaRPr>
          </a:p>
        </p:txBody>
      </p:sp>
      <p:sp>
        <p:nvSpPr>
          <p:cNvPr id="27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AA7B3-3503-4166-A2E0-122D14F67EF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vidades do enfermeiro em saúde mental</a:t>
            </a:r>
            <a:endParaRPr b="1" lang="en-US" sz="3200" spc="-1" strike="noStrike">
              <a:solidFill>
                <a:srgbClr val="ffffff"/>
              </a:solidFill>
              <a:latin typeface="Verdana"/>
            </a:endParaRPr>
          </a:p>
        </p:txBody>
      </p:sp>
      <p:sp>
        <p:nvSpPr>
          <p:cNvPr id="103" name=""/>
          <p:cNvSpPr txBox="1"/>
          <p:nvPr/>
        </p:nvSpPr>
        <p:spPr>
          <a:xfrm>
            <a:off x="539640" y="1773360"/>
            <a:ext cx="8382240" cy="3311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mover o conforto do utente, atender suas necessidades básicas e prevenir acidentes são questões sempre presentes na actuação do enfermeiro, independente do sector que estej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entanto, na saúde mental, o enfermeiro deve estar atento aos comportamentos e atitudes dos utentes, pois suas necessidades estão mais nos campos psicológico, emocional e da afetividade.</a:t>
            </a:r>
            <a:endParaRPr b="1" lang="en-US" sz="2400" spc="-1" strike="noStrike">
              <a:solidFill>
                <a:srgbClr val="000066"/>
              </a:solidFill>
              <a:latin typeface="Verdana"/>
            </a:endParaRPr>
          </a:p>
        </p:txBody>
      </p:sp>
      <p:sp>
        <p:nvSpPr>
          <p:cNvPr id="10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D8E0-59EC-442C-A690-4A94DE0BC62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73" name=""/>
          <p:cNvSpPr txBox="1"/>
          <p:nvPr/>
        </p:nvSpPr>
        <p:spPr>
          <a:xfrm>
            <a:off x="457200" y="1341000"/>
            <a:ext cx="512280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ansportar o utente para seu leito, colocar ataduras almofadadas nos punhos e tornozelos, prendendo no estrado da cam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ndo prescrita, administrar a medicação por via parenteral (contenção químic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versar com os demais utentes sobre o fato, após registrar o ocorrido e os procedimentos realizados.</a:t>
            </a:r>
            <a:endParaRPr b="1" lang="en-US" sz="2400" spc="-1" strike="noStrike">
              <a:solidFill>
                <a:srgbClr val="000066"/>
              </a:solidFill>
              <a:latin typeface="Verdana"/>
            </a:endParaRPr>
          </a:p>
        </p:txBody>
      </p:sp>
      <p:sp>
        <p:nvSpPr>
          <p:cNvPr id="27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04A0-A0AB-4D6B-B1FB-B151A648723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76" name="Picture 2" descr="http://samuelalmeida.files.wordpress.com/2008/10/03eutanasia.jpg"/>
          <p:cNvPicPr/>
          <p:nvPr/>
        </p:nvPicPr>
        <p:blipFill>
          <a:blip r:embed="rId1"/>
          <a:stretch/>
        </p:blipFill>
        <p:spPr>
          <a:xfrm>
            <a:off x="5580000" y="2060640"/>
            <a:ext cx="3048120" cy="3047760"/>
          </a:xfrm>
          <a:prstGeom prst="rect">
            <a:avLst/>
          </a:prstGeom>
          <a:ln w="0">
            <a:noFill/>
          </a:ln>
        </p:spPr>
      </p:pic>
      <p:cxnSp>
        <p:nvCxnSpPr>
          <p:cNvPr id="277" name="Conector angulado 7"/>
          <p:cNvCxnSpPr/>
          <p:nvPr/>
        </p:nvCxnSpPr>
        <p:spPr>
          <a:xfrm>
            <a:off x="3995280" y="3429000"/>
            <a:ext cx="1369080" cy="216720"/>
          </a:xfrm>
          <a:prstGeom prst="bentConnector3">
            <a:avLst>
              <a:gd name="adj1" fmla="val 50000"/>
            </a:avLst>
          </a:prstGeom>
          <a:ln w="1260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écnicas de contenção</a:t>
            </a:r>
            <a:endParaRPr b="1" lang="en-US" sz="3200" spc="-1" strike="noStrike">
              <a:solidFill>
                <a:srgbClr val="ffffff"/>
              </a:solidFill>
              <a:latin typeface="Verdana"/>
            </a:endParaRPr>
          </a:p>
        </p:txBody>
      </p:sp>
      <p:sp>
        <p:nvSpPr>
          <p:cNvPr id="279" name=""/>
          <p:cNvSpPr txBox="1"/>
          <p:nvPr/>
        </p:nvSpPr>
        <p:spPr>
          <a:xfrm>
            <a:off x="539280" y="4005360"/>
            <a:ext cx="3961080" cy="1008000"/>
          </a:xfrm>
          <a:prstGeom prst="rect">
            <a:avLst/>
          </a:prstGeom>
          <a:noFill/>
          <a:ln w="0">
            <a:noFill/>
          </a:ln>
        </p:spPr>
        <p:txBody>
          <a:bodyPr anchor="t">
            <a:norm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Cadeira estomoterapia com dispositivo para contenção.</a:t>
            </a:r>
            <a:endParaRPr b="1" lang="en-US" sz="2000" spc="-1" strike="noStrike">
              <a:solidFill>
                <a:srgbClr val="000066"/>
              </a:solidFill>
              <a:latin typeface="Verdana"/>
            </a:endParaRPr>
          </a:p>
        </p:txBody>
      </p:sp>
      <p:sp>
        <p:nvSpPr>
          <p:cNvPr id="2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C3DE-5F11-4E15-AEAF-FE36F19A863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82" name="Picture 2" descr="http://3.bp.blogspot.com/-ffU8KuEbkxs/TIQFpSKW9VI/AAAAAAAAAvA/Bv92HupV2kM/s1600/P4300023.JPG"/>
          <p:cNvPicPr/>
          <p:nvPr/>
        </p:nvPicPr>
        <p:blipFill>
          <a:blip r:embed="rId1"/>
          <a:stretch/>
        </p:blipFill>
        <p:spPr>
          <a:xfrm>
            <a:off x="539640" y="1052640"/>
            <a:ext cx="3932280" cy="2952720"/>
          </a:xfrm>
          <a:prstGeom prst="rect">
            <a:avLst/>
          </a:prstGeom>
          <a:ln w="0">
            <a:noFill/>
          </a:ln>
        </p:spPr>
      </p:pic>
      <p:pic>
        <p:nvPicPr>
          <p:cNvPr id="283" name="Picture 4" descr="http://2.bp.blogspot.com/-J3FlP96z9cQ/ThzXwONveLI/AAAAAAAAAAc/c6kmBCI2GQY/s1600/manicomio_san_salvi_firenze_chille_balanza.jpeg"/>
          <p:cNvPicPr/>
          <p:nvPr/>
        </p:nvPicPr>
        <p:blipFill>
          <a:blip r:embed="rId2"/>
          <a:stretch/>
        </p:blipFill>
        <p:spPr>
          <a:xfrm>
            <a:off x="4932360" y="981000"/>
            <a:ext cx="3505320" cy="4286160"/>
          </a:xfrm>
          <a:prstGeom prst="rect">
            <a:avLst/>
          </a:prstGeom>
          <a:ln w="0">
            <a:noFill/>
          </a:ln>
        </p:spPr>
      </p:pic>
      <p:sp>
        <p:nvSpPr>
          <p:cNvPr id="284" name="Espaço Reservado para Conteúdo 2"/>
          <p:cNvSpPr/>
          <p:nvPr/>
        </p:nvSpPr>
        <p:spPr>
          <a:xfrm>
            <a:off x="4716360" y="5229360"/>
            <a:ext cx="39592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Camisa de força usada no século XIX.</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écnicas de contenção</a:t>
            </a:r>
            <a:endParaRPr b="1" lang="en-US" sz="3200" spc="-1" strike="noStrike">
              <a:solidFill>
                <a:srgbClr val="ffffff"/>
              </a:solidFill>
              <a:latin typeface="Verdana"/>
            </a:endParaRPr>
          </a:p>
        </p:txBody>
      </p:sp>
      <p:sp>
        <p:nvSpPr>
          <p:cNvPr id="28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8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218F1-4FE9-43E0-ADDF-30D87F94720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88" name="Picture 2" descr="http://t1.gstatic.com/images?q=tbn:ANd9GcS6fYcpl-EEbgT_rBplUX5iNkbm9z_hby0GXIXr1weIgL-l7HXbAw"/>
          <p:cNvPicPr/>
          <p:nvPr/>
        </p:nvPicPr>
        <p:blipFill>
          <a:blip r:embed="rId1"/>
          <a:stretch/>
        </p:blipFill>
        <p:spPr>
          <a:xfrm>
            <a:off x="611280" y="1268280"/>
            <a:ext cx="4540320" cy="2448000"/>
          </a:xfrm>
          <a:prstGeom prst="rect">
            <a:avLst/>
          </a:prstGeom>
          <a:ln w="0">
            <a:noFill/>
          </a:ln>
        </p:spPr>
      </p:pic>
      <p:sp>
        <p:nvSpPr>
          <p:cNvPr id="289" name="CaixaDeTexto 6"/>
          <p:cNvSpPr/>
          <p:nvPr/>
        </p:nvSpPr>
        <p:spPr>
          <a:xfrm>
            <a:off x="611280" y="3716280"/>
            <a:ext cx="4537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ção com atadura. Pode ser apenas de MMII para proteger o acesso venoso, por exemplo. </a:t>
            </a:r>
            <a:endParaRPr b="0" lang="en-US" sz="2000" spc="-1" strike="noStrike">
              <a:solidFill>
                <a:srgbClr val="000000"/>
              </a:solidFill>
              <a:latin typeface="Verdana"/>
            </a:endParaRPr>
          </a:p>
        </p:txBody>
      </p:sp>
      <p:pic>
        <p:nvPicPr>
          <p:cNvPr id="290" name="Picture 4" descr="http://t2.gstatic.com/images?q=tbn:ANd9GcTHh2ir8QHPYzx1o7pOnol3yidkt5K7zg8BPuUCLv9jxzmFTnnFHQ"/>
          <p:cNvPicPr/>
          <p:nvPr/>
        </p:nvPicPr>
        <p:blipFill>
          <a:blip r:embed="rId2"/>
          <a:stretch/>
        </p:blipFill>
        <p:spPr>
          <a:xfrm>
            <a:off x="5292720" y="3068640"/>
            <a:ext cx="3462480" cy="2305080"/>
          </a:xfrm>
          <a:prstGeom prst="rect">
            <a:avLst/>
          </a:prstGeom>
          <a:ln w="0">
            <a:noFill/>
          </a:ln>
        </p:spPr>
      </p:pic>
      <p:sp>
        <p:nvSpPr>
          <p:cNvPr id="291" name="CaixaDeTexto 8"/>
          <p:cNvSpPr/>
          <p:nvPr/>
        </p:nvSpPr>
        <p:spPr>
          <a:xfrm>
            <a:off x="5435640" y="5373720"/>
            <a:ext cx="3457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ção com atadura, de MMII e MMSS.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ervenções nos momentos de crise - comportamento anti-social</a:t>
            </a:r>
            <a:endParaRPr b="1" lang="en-US" sz="2800" spc="-1" strike="noStrike">
              <a:solidFill>
                <a:srgbClr val="ffffff"/>
              </a:solidFill>
              <a:latin typeface="Verdana"/>
            </a:endParaRPr>
          </a:p>
        </p:txBody>
      </p:sp>
      <p:sp>
        <p:nvSpPr>
          <p:cNvPr id="293"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umente, ouve-se frase do tipo: “Só trabalho num sector de Saúde Mental se tiver apoio polici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 entanto, portadores de transtorno mental não são criminosos e tampouco os policiais são profissionais preparados para atuar na área de saú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equipe precisa aprender a lidar com os utentes do serviço de Saúde Mental, e não a se defender deles.</a:t>
            </a:r>
            <a:endParaRPr b="1" lang="en-US" sz="2400" spc="-1" strike="noStrike">
              <a:solidFill>
                <a:srgbClr val="000066"/>
              </a:solidFill>
              <a:latin typeface="Verdana"/>
            </a:endParaRPr>
          </a:p>
        </p:txBody>
      </p:sp>
      <p:sp>
        <p:nvSpPr>
          <p:cNvPr id="29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9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39898-98BB-4936-9DED-C6ACC6301C6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Como prevenir acidentes na interação com os utentes de saúde mental</a:t>
            </a:r>
            <a:endParaRPr b="1" lang="en-US" sz="2800" spc="-1" strike="noStrike">
              <a:solidFill>
                <a:srgbClr val="ffffff"/>
              </a:solidFill>
              <a:latin typeface="Verdana"/>
            </a:endParaRPr>
          </a:p>
        </p:txBody>
      </p:sp>
      <p:sp>
        <p:nvSpPr>
          <p:cNvPr id="297"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idar com o utente portador de transtorno mental de forma adequada, particularmente nos momentos de crise, implica em prevenir acidentes na interação enfermeiro-utent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forme o que apresentamos  quantos as intervenções nos momentos de crise, o enfermeiro previne acidentes quand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abelece um diálogo direto e activo com o ut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ata-o com respeito e atenção, e observa as expressões não-verbais;</a:t>
            </a:r>
            <a:endParaRPr b="1" lang="en-US" sz="2400" spc="-1" strike="noStrike">
              <a:solidFill>
                <a:srgbClr val="000066"/>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29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9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57707-2C47-40FA-853F-EA55236948A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42560" y="228240"/>
            <a:ext cx="792180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Como prevenir acidentes na interação com os utentes de saúde mental</a:t>
            </a:r>
            <a:endParaRPr b="1" lang="en-US" sz="2800" spc="-1" strike="noStrike">
              <a:solidFill>
                <a:srgbClr val="ffffff"/>
              </a:solidFill>
              <a:latin typeface="Verdana"/>
            </a:endParaRPr>
          </a:p>
        </p:txBody>
      </p:sp>
      <p:sp>
        <p:nvSpPr>
          <p:cNvPr id="30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tá ciente de que nem tudo que o utente fala é o que ele s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monstra que se importa com o ut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romove a segurança do utente analisando o grau de risco do mesmo;</a:t>
            </a:r>
            <a:endParaRPr b="1" lang="en-US" sz="2400" spc="-1" strike="noStrike">
              <a:solidFill>
                <a:srgbClr val="000066"/>
              </a:solidFill>
              <a:latin typeface="Verdana"/>
            </a:endParaRPr>
          </a:p>
        </p:txBody>
      </p:sp>
      <p:sp>
        <p:nvSpPr>
          <p:cNvPr id="30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30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4FAC-F60D-4C31-BE3D-C363866C1E8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16000" y="228240"/>
            <a:ext cx="784872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Como prevenir acidentes na interação com os utentes de saúde mental</a:t>
            </a:r>
            <a:endParaRPr b="1" lang="en-US" sz="2800" spc="-1" strike="noStrike">
              <a:solidFill>
                <a:srgbClr val="ffffff"/>
              </a:solidFill>
              <a:latin typeface="Verdana"/>
            </a:endParaRPr>
          </a:p>
        </p:txBody>
      </p:sp>
      <p:sp>
        <p:nvSpPr>
          <p:cNvPr id="30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inu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abelece vigilância discreta dos utentes com idéia suic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volve pacientes agitados em atividades ocupacionais e estabelece limites após conquistar sua confianç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bserva alimentação, hidratação, sono, excreção, peso, sinais de infecção dos utentes com auto-cuidado das necessidades básicas prejudicad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aliza contenção física somente nos casos extremamente necessários, sempre explicando para o utente o motivo e seus benefícios.</a:t>
            </a:r>
            <a:endParaRPr b="1" lang="en-US" sz="2400" spc="-1" strike="noStrike">
              <a:solidFill>
                <a:srgbClr val="000066"/>
              </a:solidFill>
              <a:latin typeface="Verdana"/>
            </a:endParaRPr>
          </a:p>
        </p:txBody>
      </p:sp>
      <p:sp>
        <p:nvSpPr>
          <p:cNvPr id="30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30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6082-604B-442A-B828-C0F72466C44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vidades do enfermeiro em saúde mental</a:t>
            </a:r>
            <a:endParaRPr b="1" lang="en-US" sz="3200" spc="-1" strike="noStrike">
              <a:solidFill>
                <a:srgbClr val="ffffff"/>
              </a:solidFill>
              <a:latin typeface="Verdana"/>
            </a:endParaRPr>
          </a:p>
        </p:txBody>
      </p:sp>
      <p:sp>
        <p:nvSpPr>
          <p:cNvPr id="107" name=""/>
          <p:cNvSpPr txBox="1"/>
          <p:nvPr/>
        </p:nvSpPr>
        <p:spPr>
          <a:xfrm>
            <a:off x="456840" y="1341000"/>
            <a:ext cx="8381880" cy="483084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enfermeiro vai actuar conforme cada caso e características do transtorno, conforme apresentaremos a seguir.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m geral, este irá se deparar com:</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da de autonomia ou incapacidade para a tomada de decisã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Perda da auto-estima, da auto-imagem;</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interesse ou incapacidade para exercer suas actividades de vida diária;</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orientação, delírios, tristeza, inquietação, agitação, distúrbio de sono, agressividade, comportamento anti-social.</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CA5F-8C5D-48A1-B2AB-418CC595BB6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920" y="228240"/>
            <a:ext cx="7580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11" name=""/>
          <p:cNvSpPr txBox="1"/>
          <p:nvPr/>
        </p:nvSpPr>
        <p:spPr>
          <a:xfrm>
            <a:off x="394920" y="1341000"/>
            <a:ext cx="8381880" cy="475956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rise não escolhe pessoas, é universal.</a:t>
            </a:r>
            <a:endParaRPr b="1" lang="en-US" sz="2400" spc="-1" strike="noStrike">
              <a:solidFill>
                <a:srgbClr val="000066"/>
              </a:solidFill>
              <a:latin typeface="Verdana"/>
            </a:endParaRPr>
          </a:p>
          <a:p>
            <a:pPr lvl="1" marL="713160" indent="-274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comete ricos, pobres, negros, brancos, profissionais bem-sucedidos, chefes de família e parlamentares, como também indivíduos que por quaisquer causas estejam fragilizados nas relações com o mundo.</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m a equipe de saúde está fora do risco de crise. Quantas vezes nota-se que colegas de trabalho estão angustiados, tomando medicamentos em exagero, tornando-se alcoólicos “sociais”?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lquer pessoa pode entrar em crise, pois vivemos no mesmo mundo e estamos suscetíveis às mazelas da modernidade.</a:t>
            </a:r>
            <a:endParaRPr b="1" lang="en-US" sz="24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E295-07A5-4C28-8DF3-51FD4EF9A50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15" name=""/>
          <p:cNvSpPr txBox="1"/>
          <p:nvPr/>
        </p:nvSpPr>
        <p:spPr>
          <a:xfrm>
            <a:off x="394920" y="134136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crise, o indivíduo tem a oportunidade de desenvolver mecanismos que o ajude a controlar suas acções e reacções ou passar por ela com uma total desorganização da compreensão de sua essê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le pode tornar-se mais vulnerável e psicologicamente instável, ou pode retomar sua vida normal, tendo o controle da sua naturez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ompreensão e delimitação da fase que o cliente está vivenciando requer que a intervenção seja precisa, coordenada e em tempo adequado de restaurar os mecanismos de defesa do indivíduo.</a:t>
            </a:r>
            <a:endParaRPr b="1" lang="en-US" sz="24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94AA8-7141-4533-A5F8-DBABE9D0AAE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19" name=""/>
          <p:cNvSpPr txBox="1"/>
          <p:nvPr/>
        </p:nvSpPr>
        <p:spPr>
          <a:xfrm>
            <a:off x="323640" y="1143000"/>
            <a:ext cx="8515080" cy="5029200"/>
          </a:xfrm>
          <a:prstGeom prst="rect">
            <a:avLst/>
          </a:prstGeom>
          <a:noFill/>
          <a:ln w="0">
            <a:noFill/>
          </a:ln>
        </p:spPr>
        <p:txBody>
          <a:bodyPr anchor="t">
            <a:normAutofit fontScale="94000"/>
          </a:bodyPr>
          <a:p>
            <a:pPr marL="322200" indent="-322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as quem são os indivíduos mais vulneráveis à crise? Geralmente são: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empregados, subempregados ou insatisfeitos com sua ocupação;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suários de drogas lícitas e ilícitas;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divíduos que não conseguem lidar com seus problemas, com baixa estima e inseguros;</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soas com história de crises mal resolvidas;</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divíduos que subutilizam os recursos de apoio social ou não acessam o sistema de apoio, como família, amigos, igreja; </a:t>
            </a:r>
            <a:endParaRPr b="1" lang="en-US" sz="2400" spc="-1" strike="noStrike">
              <a:solidFill>
                <a:srgbClr val="000066"/>
              </a:solidFill>
              <a:latin typeface="Verdana"/>
            </a:endParaRPr>
          </a:p>
          <a:p>
            <a:pPr lvl="1" marL="698400" indent="-2685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soas que cultivam sentimento de isolamento </a:t>
            </a:r>
            <a:r>
              <a:rPr b="0" lang="pt-BR" sz="2400" spc="-1" strike="noStrike">
                <a:solidFill>
                  <a:srgbClr val="000066"/>
                </a:solidFill>
                <a:latin typeface="Verdana"/>
              </a:rPr>
              <a:t>	</a:t>
            </a:r>
            <a:r>
              <a:rPr b="0" lang="pt-BR" sz="2400" spc="-1" strike="noStrike">
                <a:solidFill>
                  <a:srgbClr val="000066"/>
                </a:solidFill>
                <a:latin typeface="Verdana"/>
              </a:rPr>
              <a:t>ou são impulsivas em excesso.</a:t>
            </a:r>
            <a:endParaRPr b="1" lang="en-US" sz="24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AEB3-B699-4888-9C62-B8B138F1798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ervenção nos momentos de crise</a:t>
            </a:r>
            <a:endParaRPr b="1" lang="en-US" sz="3200" spc="-1" strike="noStrike">
              <a:solidFill>
                <a:srgbClr val="ffffff"/>
              </a:solidFill>
              <a:latin typeface="Verdana"/>
            </a:endParaRPr>
          </a:p>
        </p:txBody>
      </p:sp>
      <p:sp>
        <p:nvSpPr>
          <p:cNvPr id="123"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suscetibilidade à crise normalmente é precipitada a partir de eventos que popularmente as pessoas dizem ser a “gota d’água”, co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morte de um ente querido, mudança de status, casamento, separação, gravidez especialmente fora do casamento ou indesejada, doença física, perda de emprego, mudança nas condições de trabalho, aposentadoria, climatério, violência sexual, desastres naturais (enchentes, quedas de barreiras).</a:t>
            </a:r>
            <a:endParaRPr b="1" lang="en-US" sz="24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15DC-53AA-4157-9C42-9D9A6EF6BB4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2T10:00:28Z</dcterms:created>
  <dc:creator>Escolastica</dc:creator>
  <dc:description/>
  <dc:language>en-US</dc:language>
  <cp:lastModifiedBy>Mendoza</cp:lastModifiedBy>
  <dcterms:modified xsi:type="dcterms:W3CDTF">2012-02-02T09:44:35Z</dcterms:modified>
  <cp:revision>67</cp:revision>
  <dc:subject/>
  <dc:title>Psicoses: Esquizofrenia Alcoolismo</dc:title>
</cp:coreProperties>
</file>