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7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5.jpeg" ContentType="image/jpeg"/>
  <Override PartName="/ppt/media/image10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6AC84A-F3E5-4423-83D2-CA129A7100C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E31782-6BF5-46E3-B1D4-51D88EF5FBE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5FAF5C-A53A-444A-8013-CF833566B45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75D4-4FF5-43B3-9B57-A6A19C60A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9FEA4-7919-4697-8D7C-96BC83230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81279-9EEE-4B1D-A2B8-FE8149A6C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F8A2-3FDD-40EA-95B9-923A1C755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8A748-D58E-4141-BEA3-FF60EEE81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D3A6D-18FB-48D0-A83A-03DBC11F8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E5B68-1272-4EFC-BF51-DC776C796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59E22-9048-4EA6-8DE6-E96772AA1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474B-16F4-49B8-9ECF-7603EEA3A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54FF6-F913-4746-A5E4-E6547377F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9A6F-3648-4546-AF09-56833F85AD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45C1-45F6-46E8-959B-92E3B8372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ADB1-1AED-4EE6-B965-9B3799A3A78E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916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b23-cmdt-conceicao-silva.rcts.pt/janela_solucao1.htm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000" y="2060640"/>
            <a:ext cx="65530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pidemiologia da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6920" y="4581000"/>
            <a:ext cx="777744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Módulo 11: Prática de Enfermagem IV -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Verdana"/>
              </a:rPr>
              <a:t>Enfermagem em Saúde Mental e Enfermagem Geriátric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 primeiro Seminário Nacional de Saúde Mental ocorreu no país, dias 15 e 16 de outubro de1984, já no período pós-independênc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Participaram representantes de instituições da saúde e ONG que operavam no país na área psicossocial, identificando os seguintes problemas na área da saúde mental: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entralização das estruturas de trata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ificuldades na planificação de ações de enfrentamento pela ausência de dados sobre prevalência dos transtornos mentais no paí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B52D-47E5-44F4-93DC-C6BE3720556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000" y="1628280"/>
            <a:ext cx="8381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rência de recursos humanos, materiais e financei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sência de sensibilidade para a saúde mental, por parte do pessoal de saúde e comun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stabilidade dos quadros técnicos, na sua maioria, cooperantes estrangei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usência de colaboração multisectori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7B03-2153-4A62-B0FC-B74B9320F4E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1052640"/>
            <a:ext cx="842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Naquele seminário foram também feitas recomendações, com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ceder à criação de uma estrutura que organizasse, dinamizasse, coordenasse e supervisionasse as acções em saúde mental em âmbito nacio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apacitar na área da saúde mental, os diferentes quadros a operar na saúde, e/ou ainda em form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omover a investigação epidemiológica em saúde mental; 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dequar a legislação à realidade sócio-cultural de Moçambiqu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9C9D-DB04-4F0B-9650-5496FAC32D0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Programa Nacional de Saúde Mental de Moçambique (PNSM) foi aprovado em 1990, no XVI Conselho Coordenador do MISAU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estratégia aprovada no Conselho salientava a necessidade de integração da saúde mental com os cuidados de saúde em geral e enfatizava a importância da promoção e da prevenção, da humanização dos cuidados, do treino formal e contínuo de profissionais de saúde mental, da investigação, da colaboração intersectorial, da implementação de legislação e da supervisão e avaliação dos processos iniciad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BB0A-917A-43E0-AA8A-C72D02D791F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560" y="981000"/>
            <a:ext cx="5051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seu lançamento, o PNSM contava com 1 psiquiatra nacional e 4 infra-estruturas, ainda datadas do período colonial e em condições muito precária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. Psiq. do Infulene, em Mapu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. Psiq. de Nampul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fermaria de Psiquiatria no Hosp. Central da Bei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pital Asilar de Chissuio, em Man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8697-DC78-47DD-B8E0-EB39D59D95A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http://noticias.sinfic.pt/pls/notimz2/docs/oficiais/s2/inful1.jpg"/>
          <p:cNvPicPr/>
          <p:nvPr/>
        </p:nvPicPr>
        <p:blipFill>
          <a:blip r:embed="rId1"/>
          <a:stretch/>
        </p:blipFill>
        <p:spPr>
          <a:xfrm>
            <a:off x="5219640" y="2205000"/>
            <a:ext cx="3781440" cy="2519280"/>
          </a:xfrm>
          <a:prstGeom prst="rect">
            <a:avLst/>
          </a:prstGeom>
          <a:ln w="0">
            <a:noFill/>
          </a:ln>
        </p:spPr>
      </p:pic>
      <p:sp>
        <p:nvSpPr>
          <p:cNvPr id="150" name="Espaço Reservado para Conteúdo 2"/>
          <p:cNvSpPr/>
          <p:nvPr/>
        </p:nvSpPr>
        <p:spPr>
          <a:xfrm>
            <a:off x="5435640" y="4653000"/>
            <a:ext cx="35290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Hospital Psiquiátrico do Infulene-Mapu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000" y="1700280"/>
            <a:ext cx="8381880" cy="40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primeira tarefa do PNSM foi promover curso de formação de quadros médios para actuar na saúde mental, cujas competências os habilitavam a fazer diagnóstico psiquiátrico e prescrever psicotrópicos no formulário nacional de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1996, formaram-se 34 técnicos de psiquiatria que, até hoje, assumem a bandeira da saúde mental nas 11 províncias do país, e estão a ser integrados neste momento os 31 técnicos de psiquiatria formados nos últimos 3 a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BBF7-50A7-45F7-B976-E48547FD069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º de Unidades Sanitárias com Serviço de Saúde Mental, Moçambiqu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58B6-9B36-4059-8DF2-016C866D5A1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11280" y="1393920"/>
          <a:ext cx="8281800" cy="4829040"/>
        </p:xfrm>
        <a:graphic>
          <a:graphicData uri="http://schemas.openxmlformats.org/drawingml/2006/table">
            <a:tbl>
              <a:tblPr/>
              <a:tblGrid>
                <a:gridCol w="2592360"/>
                <a:gridCol w="1944720"/>
                <a:gridCol w="1871640"/>
                <a:gridCol w="1873080"/>
              </a:tblGrid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íncias/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48744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uto cidad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4863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puto Provínc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z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hambane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al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ic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te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ambézi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pul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ass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4863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bo Delgad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6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5840" marR="1584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cursos Humanos em Saúde Mental – Moçambique, 2005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4EBF-9B01-40FE-9C81-7110953A93A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24000" y="1484280"/>
          <a:ext cx="8609040" cy="3645000"/>
        </p:xfrm>
        <a:graphic>
          <a:graphicData uri="http://schemas.openxmlformats.org/drawingml/2006/table">
            <a:tbl>
              <a:tblPr/>
              <a:tblGrid>
                <a:gridCol w="2376360"/>
                <a:gridCol w="934920"/>
                <a:gridCol w="505080"/>
                <a:gridCol w="576000"/>
                <a:gridCol w="647640"/>
                <a:gridCol w="576360"/>
                <a:gridCol w="576360"/>
                <a:gridCol w="503280"/>
                <a:gridCol w="720720"/>
                <a:gridCol w="760320"/>
                <a:gridCol w="432000"/>
              </a:tblGrid>
              <a:tr h="144684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íncias/No. profiss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81000" rIns="81000" tIns="40680" bIns="40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1000" marR="81000">
                    <a:lnL w="432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64404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quiatr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(3**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*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**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33912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cólog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64404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écn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iquiatr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 (2*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  <a:tr h="570960">
                <a:tc>
                  <a:txBody>
                    <a:bodyPr lIns="16920" rIns="16920" tIns="16920" bIns="16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  <a:tc>
                  <a:txBody>
                    <a:bodyPr lIns="16920" rIns="16920" tIns="16920" bIns="16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16920" marR="16920">
                    <a:lnL w="4320">
                      <a:solidFill>
                        <a:srgbClr val="ffffff"/>
                      </a:solidFill>
                    </a:lnL>
                    <a:lnR w="432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9c9cff"/>
                    </a:solidFill>
                  </a:tcPr>
                </a:tc>
              </a:tr>
            </a:tbl>
          </a:graphicData>
        </a:graphic>
      </p:graphicFrame>
      <p:sp>
        <p:nvSpPr>
          <p:cNvPr id="163" name="Retângulo 6"/>
          <p:cNvSpPr/>
          <p:nvPr/>
        </p:nvSpPr>
        <p:spPr>
          <a:xfrm rot="16200000">
            <a:off x="2685600" y="1877760"/>
            <a:ext cx="11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puto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ida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ângulo 7"/>
          <p:cNvSpPr/>
          <p:nvPr/>
        </p:nvSpPr>
        <p:spPr>
          <a:xfrm rot="16200000">
            <a:off x="3537000" y="211320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z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ângulo 8"/>
          <p:cNvSpPr/>
          <p:nvPr/>
        </p:nvSpPr>
        <p:spPr>
          <a:xfrm rot="16200000">
            <a:off x="3684240" y="1979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Inhamba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tângulo 9"/>
          <p:cNvSpPr/>
          <p:nvPr/>
        </p:nvSpPr>
        <p:spPr>
          <a:xfrm rot="16200000">
            <a:off x="4623840" y="204012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Sofa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tângulo 11"/>
          <p:cNvSpPr/>
          <p:nvPr/>
        </p:nvSpPr>
        <p:spPr>
          <a:xfrm rot="16200000">
            <a:off x="5142240" y="20091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Man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tângulo 12"/>
          <p:cNvSpPr/>
          <p:nvPr/>
        </p:nvSpPr>
        <p:spPr>
          <a:xfrm rot="16200000">
            <a:off x="5871600" y="20667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Te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tângulo 13"/>
          <p:cNvSpPr/>
          <p:nvPr/>
        </p:nvSpPr>
        <p:spPr>
          <a:xfrm rot="16200000">
            <a:off x="6162840" y="20253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mbéz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ângulo 14"/>
          <p:cNvSpPr/>
          <p:nvPr/>
        </p:nvSpPr>
        <p:spPr>
          <a:xfrm rot="16200000">
            <a:off x="6837480" y="20505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mpu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ângulo 15"/>
          <p:cNvSpPr/>
          <p:nvPr/>
        </p:nvSpPr>
        <p:spPr>
          <a:xfrm rot="16200000">
            <a:off x="7590960" y="19440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b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g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tângulo 16"/>
          <p:cNvSpPr/>
          <p:nvPr/>
        </p:nvSpPr>
        <p:spPr>
          <a:xfrm rot="16200000">
            <a:off x="8272080" y="21297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iass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tângulo 17"/>
          <p:cNvSpPr/>
          <p:nvPr/>
        </p:nvSpPr>
        <p:spPr>
          <a:xfrm>
            <a:off x="1258920" y="551664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*) Maputo Província; (**) Quadros Estrangeiros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921800" cy="936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ranstornos Mentais em Moçambique, 2008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Object 2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90704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mportância da Epidemiologia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8000" y="14842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m havido um aumento dramático na incidência de transtornos mentais, no mundo, fazendo com que a importância deste sector da saúde tenha crescido na agenda dos planeadores e políti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tanto, o registo dos casos, da contextualização destes e de seus desdobramentos é fundamental à compreensão técnico-científica dos profissionais e da Ciência, bem como à gestão dos serviços de saúde mental (tomada de decisão, priorização de acçõe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0195-0671-4071-93B2-C2FEF86A52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pidemiologia da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197000"/>
            <a:ext cx="8308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Concei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 Saúde Mental em Moçambiqu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spectos éticos na prestação de cuidados ao utente com transtorno menta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Equipa que trabalha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em Saúde Mental e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tribuiçõ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F69A-96FD-4D72-91AC-E2181AB3FFC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2" descr="http://t3.gstatic.com/images?q=tbn:ANd9GcQltXYPMfdJLRMf58_4C3cf3lhu4Uf0nmaaup8sGWRt166vroERAAbKagkj"/>
          <p:cNvPicPr/>
          <p:nvPr/>
        </p:nvPicPr>
        <p:blipFill>
          <a:blip r:embed="rId1"/>
          <a:stretch/>
        </p:blipFill>
        <p:spPr>
          <a:xfrm>
            <a:off x="5003640" y="3068640"/>
            <a:ext cx="35449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spectos epidemiológicos da saúde mental em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conjuntura socioeconômica de Moçambique concorre para o elevado número de casos, bem como o contexto político de pós-independência (pobreza extrema, reflexos psicológicos da guerr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Grupos sociais que, pelas suas características de desenvolvimento e/ou situacionais, se encontram em maior risco para os transtornos mentai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rianças órfãs (pela guerra e HIV/sida, principalmente), vítimas de abuso sexual e violência, portadoras de deficiência fís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Idosos, mulheres vítimas de violência sexual e domést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Filhos de mães com deficiência de iod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5351-4BF9-46A3-89D8-6339086E8F3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iclo vicioso da pobreza e perturbação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A584-01F3-4996-853A-9AB57DE487C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Picture 2" descr="http://www.misau.gov.mz/var/corporate/storage/images/media/images/ciclo_vicioso_da_pobreza_e_perturbacao_mental/3125-2-por-MZ/ciclo_vicioso_da_pobreza_e_perturbacao_mental.gif"/>
          <p:cNvPicPr/>
          <p:nvPr/>
        </p:nvPicPr>
        <p:blipFill>
          <a:blip r:embed="rId1"/>
          <a:stretch/>
        </p:blipFill>
        <p:spPr>
          <a:xfrm>
            <a:off x="1116000" y="1341360"/>
            <a:ext cx="66834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39CE-5CBC-4690-AE28-EC69AD209BF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tângulo 5"/>
          <p:cNvSpPr/>
          <p:nvPr/>
        </p:nvSpPr>
        <p:spPr>
          <a:xfrm>
            <a:off x="4284720" y="1341360"/>
            <a:ext cx="4572000" cy="44830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comum que algumas pessoas achem “graça” do indivíduo desorientado, muitas vezes ironizando falas e comportamentos 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e apresente. Esta, obviamente, não deve ser a atitude do enfermeiro geral, pois por mais desorientado que esteja, o paciente percebe esse tipo de reacção e sente-se bastante desampar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07D0-8BA7-4F60-80C3-47D75CCD7C5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o Explicativo 3 (Ênfase) 5"/>
          <p:cNvSpPr/>
          <p:nvPr/>
        </p:nvSpPr>
        <p:spPr>
          <a:xfrm>
            <a:off x="2627280" y="1268280"/>
            <a:ext cx="6265800" cy="3745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3600" y="21600"/>
                </a:lnTo>
                <a:lnTo>
                  <a:pt x="-2262" y="3073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9999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É comum pensarem que um paciente nunca se lembra do que fez durante um surto. No entanto, isso não é verdade. Após uma crise, apresentando-se mais controlada, uma paciente passou a recusar a atenção de uma enfermeira. Quando se perguntou a razão disso, ela explico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a estava zombando de mim quando eu estava falando bobagens..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000" y="105264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ctualmente, existe pouca actividade de advocacia e legislação levada a efeito pelo governo de Moçambique no âmbito da saúde ment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á déficit de reconhecimento da importância da saúde mental pela sociedade civil e pelos responsáveis das instituições da saúd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lacionado com isto, estão as questões ligadas ao reconhecimento dos direitos humanos dos doentes mentais, à discriminação e ao estigm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D919-5B7F-4C4B-AE7A-82CB415C69B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esmo no sector formal de cuidados, a falta de suporte psicossocial conduz ao fenómeno denominado “porta giratória”, em que as recaídas dos pacientes são frequentes e este entra no circuito internamento-alta-descompensação-internament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e fenómeno reforça as crenças acerca da natureza incurável das doenças mentais e dos fracos resultados terapêuticos do sistema psiquiátrico convencional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4CC8-133E-4879-86B1-8CBE2A97CA2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000" y="1143000"/>
            <a:ext cx="849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Moçambique, não existe legislação neste âmbito, e também há desconhecimento das linhas de orientação universais da defesa dos direitos humanos dos doentes ment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o entanto, o PNSM desenvolveu um draft de uma lei de saúde 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e draft representa oportunidade única de assegurar que seu desenvolvimento esteja conforme os 10 princípios básicos dos cuidados em saúde mental e os princípios internacionais de regulamentação dos direitos das pessoas com transtornos ment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36D3-C7C9-43BC-A9C6-DE61EA7FA57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08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rincípios internacionais de regulamentação dos direitos das pessoas com transtornos mentai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1991, os Princípios das Nações Unidas para a Proteção de Pessoas com Enfermidade Mental e a Melhoria da Atenção à Saúde Mental (Princípios ASM) estabeleceram padrões mínimos de direitos humanos para a prática no campo da saúde mental.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Princípios ASM têm funcionado como um marco referencial para a definição de legislação de saúde mental em muitos país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plicam-se, genericamente, a pessoas com transtornos mentais, estejam elas ou não em hospitais psiquiátric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036B-55C6-470A-B4EB-97012C99D2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4920" y="1268280"/>
            <a:ext cx="8381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z Princípios Básic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. Promoção da saúde mental e prevenção dos transtornos mentai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2. Acesso à atenção básica em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3. Avaliações de saúde mental em conformidade com princípios internacionalmente acei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4. Cláusula de tipo menos restritivo de atenção à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5. Autodeterminação:O tratamento sem autorização de um corpo legalmente constituído só deve ser instituído, estritamente, em emergências, e somente enquanto durar a emerg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438C-F83A-4C43-929B-18821A220A1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10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tinuação 10 Princípios Básic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6. Direito a ser assistido no exercício da autodetermin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7. Disponibilidade de procedimento de revisão: as entidades de revisão de saúde mental devem ter poderes estatutários para obrigar o cumprimento das disposições da legislação de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8. Mecanismo automático de revisão periódic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9. Tomador de decisão qualificado (tomar suas próprias decisões, baseado no direito à informaçã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10. Respeito a lei em vigor no paí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                                               </a:t>
            </a:r>
            <a:r>
              <a:rPr b="0" i="1" lang="en-US" sz="2400" spc="-1" strike="noStrike">
                <a:solidFill>
                  <a:srgbClr val="000066"/>
                </a:solidFill>
                <a:latin typeface="Verdana"/>
              </a:rPr>
              <a:t>(WHO, 1996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7E3B-B478-4023-9C0F-9EDB81D1DC9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bjectivos de aprendiz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35280" y="1557360"/>
            <a:ext cx="701496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o final desta sessão os estudantes deverão ser capazes d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Conceituar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Reconhecer a importância da epidemiologia na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screver aspectos gerais da atenção a saúde mental em Moçambique (serviços, recursos humanos, epidemiologia, política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D679-F39F-4AA0-BB40-9877234ECECA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5" descr="http://www.estudiantes.info/images/estudiantes/maripo.gif"/>
          <p:cNvPicPr/>
          <p:nvPr/>
        </p:nvPicPr>
        <p:blipFill>
          <a:blip r:embed="rId1"/>
          <a:stretch/>
        </p:blipFill>
        <p:spPr>
          <a:xfrm>
            <a:off x="468360" y="2492280"/>
            <a:ext cx="18716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spectos éticos em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estigma, a discriminação e a marginalização que ainda impregnam a área da saúde mental, aumentam a probabilidade de atropelo aos direitos humanos dos portadores de doença 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or outro lado, a fraca capacidade de afirmação por parte desta população agrava ainda mais este problema, conduzindo a situações gritantes de violação de direitos humanos e civ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por esta razão que se torna imperioso que exista um quadro legal que proteja os direitos destas pesso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2B76-25BC-4229-AC97-E46F749EFF0B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Verdana"/>
              </a:rPr>
              <a:t>Equipa que trabalha em Saúde Mental e atribuiçõ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4000" y="1125360"/>
            <a:ext cx="858672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acordo com a Estratégia e Plano de Acção para a Saúde Mental – 2015, o MISAU estabeleceu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 reformulação da carreira de “Técnicos de Psiquiatria e Saúde Mental” torna-se imperiosa e deveria contemplar a seguinte estrutura: um nível médio de entrada na carreira, vocacionado para os cuidados primários, secundários e terciários; e um nível superior, correspondendo à especialização dos Clínicos Gerais em Psiquiatria e Saúde Mental em Programas de Pós-Graduação, Psicólogos Clínicos, Terapeutas Ocupacionais e Enfermeiros Especializados em Psiquiatria e Saúde Mental no Instituto Superior de Ciências da Saúde, vocacionados para a prestação de cuidados nas unidades sanitárias de nível terciário e quaternário”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5C3A-5DB0-48CB-B863-9456A72EC5C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É preciso defender a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C5ED-BF0A-4B65-919E-660C5E446CA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2" descr="http://www2.portalminassaude.com.br/javascript/tiny_mce/plugins/uploaded/Sanatorio-%C3%A0-reforma---foto.jpg"/>
          <p:cNvPicPr/>
          <p:nvPr/>
        </p:nvPicPr>
        <p:blipFill>
          <a:blip r:embed="rId1"/>
          <a:stretch/>
        </p:blipFill>
        <p:spPr>
          <a:xfrm>
            <a:off x="2470320" y="1384200"/>
            <a:ext cx="40464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4920" y="980640"/>
            <a:ext cx="8381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A Organização Mundial de Saúde (OMS) afirma que não existe definição "oficial" para saúde mental. Porém, afirma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iferenças culturais, julgamentos subjetivos e teorias relacionadas afetam o modo como a "saúde mental" é defini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Saúde mental é um termo usado para descrever o nível de qualidade de vida cognitiva ou emocional dos indivídu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saúde mental pode incluir a capacidade de um indivíduo de apreciar a vida e procurar um equilíbrio entre as atividades e os esforços para atingir a resiliência psicológica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E78A-193A-4C76-B16F-FD5D123780E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 o que é Resiliência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205000"/>
            <a:ext cx="838188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É a habilidade de persistir nos momentos difíceis, mantendo a esperança e a saúde mental. Pessoas resilientes se tornam mais fortes após situações difíce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or que isso acontece?  Porque essas pessoas desenvolvem confiança em si, aprendendo novas formas de lidar com os conflit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87E7-2063-4C75-B261-E1C0379B236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9" descr="http://www.eb23-cmdt-conceicao-silva.rcts.pt/J02888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981000"/>
            <a:ext cx="79200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sili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m geral, a resiliência depende de condições psicológicas internas e externa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nível interno são favorecidas as pessoas optimistas, que assumem a responsabilidade pelas próprias escolhas, que prezam a autonomia, que estabelecem vínculos sociais e familiares positivos e que são flexíveis no que diz respeito à mudança de posicionamentos, sentimentos e pensamen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o nível das condições externas estão as relações positivas, àquelas que promovem suporte afetivo/material, acolhimento e cumplic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6C52-5422-4EBA-8B7B-D470A6849D2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dmite-se, entretanto, que o conceito de Saúde Mental é mais amplo que a ausência de transtornos mentais“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aúde Mental é o equilíbrio emocional entre o patrimônio interno e as exigências ou vivências externas. É a capacidade de administrar a própria vida e as suas emoções dentro de um amplo espectro de variações, sem contudo perder o valor do real e do precioso. É ser capaz de ser sujeito de suas próprias ações sem perder a noção de tempo e espaço. É buscar viver a vida na sua plenitude máxima, respeitando o legal e o outro” (Dr. Loruss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0179-435C-4C3B-A90E-3851A2EC399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000" y="1988640"/>
            <a:ext cx="838188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291600" indent="-2916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aúde Mental é estar de bem consigo e com os outros. É aceitar as exigências da vida. Saber lidar com as boas emoções e também com as desagradáveis: alegria/tristeza; coragem/medo; amor/ódio; serenidade/raiva; ciúmes; culpa; frustrações. É reconhecer seus limites e buscar ajuda quando necessário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B8C3-1A6D-4773-8029-F65574AC5F7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ceito de Saúde Ment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560" y="1052640"/>
            <a:ext cx="511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Seis aspectos foram identificados como critérios para se ter saúde mental: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Atitudes positivas de si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Crescimento, desenvolvimento e auto-realização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Integração e resposta emocional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Autonomia e autodeterminação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Percepção da realidade;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57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Verdana"/>
              </a:rPr>
              <a:t>Domínio ambiental e competência social; </a:t>
            </a: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A036-4359-4016-B013-650C430E059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2" descr="http://www.solidario.blog.br/wp-content/uploads/2011/10/sa%C3%BAde-mental.jpg"/>
          <p:cNvPicPr/>
          <p:nvPr/>
        </p:nvPicPr>
        <p:blipFill>
          <a:blip r:embed="rId1"/>
          <a:srcRect l="5584" t="0" r="5584" b="0"/>
          <a:stretch/>
        </p:blipFill>
        <p:spPr>
          <a:xfrm>
            <a:off x="4932360" y="2060640"/>
            <a:ext cx="404352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10:37Z</dcterms:created>
  <dc:creator>Escolastica</dc:creator>
  <dc:description/>
  <dc:language>en-US</dc:language>
  <cp:lastModifiedBy>Maputo</cp:lastModifiedBy>
  <dcterms:modified xsi:type="dcterms:W3CDTF">2012-05-30T12:42:01Z</dcterms:modified>
  <cp:revision>101</cp:revision>
  <dc:subject/>
  <dc:title>Epidemiologia da Saúde Mental</dc:title>
</cp:coreProperties>
</file>