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A431-5AEF-4F0D-B7DD-272FD57EFCF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36EF-86AA-479A-AC0F-6E39316CF2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406D8-965B-423B-A8DC-918E693B4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B1844-EB43-4D5D-8999-0FC0D6BE8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26FE-693B-4DC1-B682-2ACE8A7E43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86C3-84FF-45FF-9D1A-F5D15F2B5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D30E-A057-4066-BBEA-22ADF191F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D05D-CEF9-430A-A004-4EDF89C12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9573-AF5C-4D28-91D6-A8F6E53EF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B81C-B41C-4D7F-93DF-468486628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D968-9761-4E3C-8C60-A36619122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1D62-6BDA-426E-B082-AD7CF77D3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C05A-293E-4F66-A5D3-987C4C9D12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36C5-3B55-4BB2-B526-2A05FA5E1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6159-8890-4833-B3B0-C8CD9A924D93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755640" y="1557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B9IPDE9PPnh46M:&amp;imgrefurl=http://fobias-ap.freehostia.com/projecto/tratamentos2.htm&amp;docid=r-1gtNwEgH6SIM&amp;imgurl=http://www.farofananeve.blogger.com.br/grito.gif&amp;w=384&amp;h=343&amp;ei=IBnlTqntIoqWtweQrszrAw&amp;zoo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m.br/imgres?q=fobia&amp;um=1&amp;hl=pt-BR&amp;rlz=1R2RNQN_pt-BRBR458&amp;biw=1024&amp;bih=302&amp;tbm=isch&amp;tbnid=WxkZJirYeV4QuM:&amp;imgrefurl=http://www.poderdasmaos.com/site/?p=Fobia_(e_Ansiedade)_Social04142&amp;docid=idD-djcaQFwB4M&amp;imgurl=http://www.poderdasmaos.com/site/pub/bancoimg/bancodeimagens/Depress&#227;o/voltando-a-ter-crises-de-fobia-social-2112762-770[1].jpg&amp;w=570&amp;h=570&amp;ei=IBnlTqntIoqWtweQrszrAw&amp;zoom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8920" y="1700280"/>
            <a:ext cx="6265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: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Mania</a:t>
            </a: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640" y="4149720"/>
            <a:ext cx="77040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 endóge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00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É de origem interna, indefinida. Embora o primeiro episódio possa se dar após alguma perda ou crise, os outros geralmente não apresentam causas observáv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Geralmente é uma forma grave de depressão, apresentando grande risco de suicídio (10 a 15% dos casos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ntigamente era chamada de depressão psicótic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sponde melhor a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A38E-15F8-4416-8F48-94933FDFBD3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psic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suas causas mais facilmente localizadas na história de vida do indivíduo, que apresenta fatos que o levaram aos sintomas. Tanto que já foi chamada de depressão reativa ou situacion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sintomas são menos graves que na depressão endógena, e o risco de suicídio, embora existente, é menor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sponde melhor à psicoterapia do que ao tratamento medicamentos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F8FB-499A-4ECC-953B-76075AEDC0E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epressão somatogên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844280"/>
            <a:ext cx="83822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quela causada por algum fator de alteração principalmente orgânico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uso de algumas medicações: alguns tipos de anti-hipertensivos, anti-inflamatórios e contraceptivos or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nterrupção do uso de psicoestimul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20D2-2A36-45A0-8E7A-7D362D2FB3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D39D-BE93-4AC1-A2E6-7A4EA9E83D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Espaço Reservado para Imagem 7" descr="http://t3.gstatic.com/images?q=tbn:ANd9GcQp74rlMgYnoWwbjL-GcyZ0iE0ydZSqiG-n1VU1P1FPqiNHMoXe">
            <a:hlinkClick r:id="rId1"/>
          </p:cNvPr>
          <p:cNvPicPr/>
          <p:nvPr/>
        </p:nvPicPr>
        <p:blipFill>
          <a:blip r:embed="rId2"/>
          <a:srcRect l="0" t="7898" r="0" b="78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episódios de mania caracterizam-se como o oposto da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indivíduo apresenta ritmo acelerado, fala muito e alto, troca constantemente de assunto (fuga de idéias), movimenta-se amplamente, tem muita energia, tanto que, muitas vezes não consegue dormir (hiperatividade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stra-se eufórico, com auto-estima exagerada (achando que pode tudo), a sexualidade também pode estar exacerbada, gosta de atrair atenç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acha que tenha problema algum, o que muitas vezes prejudica a aceitação do trat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A8CD-26A6-484E-ACB3-80A8F785B2E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n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Às vezes, evolui para um episódio claramente psicótico e a pessoa passa a apresentar delírios, alucinações e comportamento estranh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mo na depressão, também há uma variedade de graus de gravidade, sendo o mais leve a chamada hipomania, caracterizada por euforia, hiperatividade e desinibição mais leve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2DEA-1088-49CC-BE07-A79C9DE2F94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107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BE9B-37E7-4D63-BFD5-21C72EB750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Espaço Reservado para Imagem 7" descr="http://t3.gstatic.com/images?q=tbn:ANd9GcQp74rlMgYnoWwbjL-GcyZ0iE0ydZSqiG-n1VU1P1FPqiNHMoXe"/>
          <p:cNvPicPr/>
          <p:nvPr/>
        </p:nvPicPr>
        <p:blipFill>
          <a:blip r:embed="rId1"/>
          <a:srcRect l="0" t="7898" r="0" b="7898"/>
          <a:stretch/>
        </p:blipFill>
        <p:spPr>
          <a:xfrm>
            <a:off x="1619280" y="1341360"/>
            <a:ext cx="3902040" cy="3456000"/>
          </a:xfrm>
          <a:prstGeom prst="rect">
            <a:avLst/>
          </a:prstGeom>
          <a:ln w="0">
            <a:noFill/>
          </a:ln>
        </p:spPr>
      </p:pic>
      <p:pic>
        <p:nvPicPr>
          <p:cNvPr id="155" name="Espaço Reservado para Imagem 7" descr="http://t1.gstatic.com/images?q=tbn:ANd9GcTrUDZdlGI5xN2m_SE8yFQP9q3MPAoBb3S8XxEruwq78N3wkgIipA"/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4211640" y="1341360"/>
            <a:ext cx="360036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000" y="1628640"/>
            <a:ext cx="838188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pessoa com transtorno bipolar geralmente apresenta uma variação de estados de humor, ora apresentando mania, ora apresentando depressã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ssas variações podem se dar em intervalos de dias, semanas ou meses, e é comum falarmos em “fase de mania” e “fase depressiva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AAED-FAE7-4FD7-A500-829E7253DC4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28280"/>
            <a:ext cx="83818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verdade, uma pessoa muito raramente apresenta apenas mania, como descrito no item anterior, o mais comum é que ela intercale episódios maníacos com episódios depressiv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também pode se apresentar de forma mais grave ou mais leve, quando é chamado de ciclo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5517-8FD1-46AE-AF7C-A134A6545DB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628640"/>
            <a:ext cx="838224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 transtorno bipolar afeta homens e mulheres igualm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tem início, geralmente, entre os 15 e 25 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 causa exata ainda é desconhecida, mas ocorre com mais frequência em familiares de pessoas com 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32B9-A7B9-437D-BFD0-8329BDF7CC6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Depressã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Man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Transtorno bipol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A949-6E63-4DBE-8139-71817639ADD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a a maioria das pessoas com transtorno bipolar, não existe uma causa evidente para os episódios maníacos ou depressivos, contudo fatores podem desencadear um episódio maníaco nas pessoas vulneráveis à doenç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danças na vida, como o nascimento de um bebê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edicamentos, como antidepressivos ou esteróide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íodos de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so de drogas recreativ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2499-EE1E-4412-AF80-E1BFA452554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manía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95280" y="1268280"/>
            <a:ext cx="424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itação ou irritaçã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-estima exagerada (ilusões de grandeza, de habilidades especiai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dução do son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umor visivelmente elevad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peratividade, aumento de energia, falta de autocontrole, pensamentos aceler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716000" y="1268280"/>
            <a:ext cx="4248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nvolvimento excessivo em activ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uco controle do temper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ortamento imprud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mpulsão alimentar, por álcool, outras drogas, sexo; incapacidade de tomar decisões consciente; e gastos exces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D788-1A1D-4CC0-ABFE-9E21FCE8080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nais e sintomas da fase depressiv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ânimo diário, com dificuldade de lembrar, concentrar, e tomar decis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ranstornos alimentares: perda de apetite e de peso; ou comer em excesso e ganho de pe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adiga ou apatia, sentir-se inútil, sem esperança e/ou culpa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723920" y="1143000"/>
            <a:ext cx="4240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aixa auto-estim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isteza constante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nsamentos recorrentes sobre morte e suicídi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nolência excessiva ou insôni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erda de interesse nas atividades que antes eram prazeros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fastamento dos amig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9DD2-E80B-4BAC-814E-9767A375926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 bipol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risco de tentativas de suicídio em pessoas com transtorno bipolar é muito elevado. Em qualquer uma das fases, os pacientes podem abusar do álcool ou de outras substâncias, piorando os sintom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Em alguns casos, ocorre uma sobreposição entre as duas fases. Os sintomas maníacos e depressivos podem ocorrer juntos ou rapidamente um após o outro. Isso recebe o nome de estado mi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EF5A-ACA9-446D-B9DD-FA0CF60B453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50920" y="1413000"/>
            <a:ext cx="678816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itar os principais transtornos de humo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Listar os principais sinais e sintomas desses transtor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em que consiste a depressão, a mania e o transtorno bipo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1C17-A9D5-49C0-A414-255B770FE03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250920" y="2708280"/>
            <a:ext cx="2160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do humo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981000"/>
            <a:ext cx="8569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eralmente oscilamos entre um estado de ânimo mais elevado (elação) e um mais baix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em nunca acordou indisposto para uma atividade, ou nunca se sentiu “eufórico” com alguma boa notícia? No entanto, isso não costuma prejudicar as atividades diári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Quando o indivíduo se fixa em uma destas polaridades ou varia entre elas intensamente, a prejudicar sua vida habitual, pode-se pensar em transtornos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também chamados de transtornos afetivos, pois se caracterizam por dificuldades na área do afeto, principalmente, que é a capacidade de vivenciar internamente os senti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BD7-2C47-4943-8E0D-09EF7C9E133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440" y="4800240"/>
            <a:ext cx="5486400" cy="716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C2A1-6057-451A-8884-89784A52D0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Espaço Reservado para Imagem 7" descr="http://t1.gstatic.com/images?q=tbn:ANd9GcTrUDZdlGI5xN2m_SE8yFQP9q3MPAoBb3S8XxEruwq78N3wkgIipA">
            <a:hlinkClick r:id="rId1"/>
          </p:cNvPr>
          <p:cNvPicPr/>
          <p:nvPr/>
        </p:nvPicPr>
        <p:blipFill>
          <a:blip r:embed="rId2"/>
          <a:srcRect l="0" t="12498" r="0" b="12498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possível que a depressão seja devido a variações na responsividade dos circuitos neurais (Berke e Hyman, 2000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depressão não é o mesmo que “baixo astral”, por mais que esteja incluída na gíria como “fulano está na maior “deprê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contrário da tristeza comum, a depressão caracteriza-se por um estágio mais prolongado e grave de abatimento do hu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essoa com depressão apresenta tristeza patológica com perda da auto-estima, normalmente reclama de falta de ânimo, cansaço fácil e de não sentir interesse por n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6F5-3B66-4A8D-9DF6-F782386EC4A3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utros sintomas identificados na depressão são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centração e atenção reduzi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toconfiança reduz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de culpa e inu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sões desoladas e pessimistas do futuro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éias ou atos autodestrutivos ou lesivos ou suicídio (dependendo da gravidade do episódi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ficuldades em relação ao sono e apeti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é um transtorno muito freqüente (em torno de 20% dos pacientes em geral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309B-4C3E-4746-83AD-4C70D289ECA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de apresentar-se em diferentes graus, podendo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ve, moderada ou grave, mais incapacitante em alguns casos, menos incapacitante em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gumas pessoas, embora se sentindo todo o tempo mal e deprimidas, continuam desempenhando suas atividades cotidia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Quando este humor permanece um tempo igual ou superior a dois anos, denomina-se distim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09CD-7488-42B4-8627-66392F10BC6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press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Quanto à causa, a depressão pode se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8360-52A6-40BD-AD98-828C6ECFB35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lipse 5"/>
          <p:cNvSpPr/>
          <p:nvPr/>
        </p:nvSpPr>
        <p:spPr>
          <a:xfrm>
            <a:off x="90000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óg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Elipse 6"/>
          <p:cNvSpPr/>
          <p:nvPr/>
        </p:nvSpPr>
        <p:spPr>
          <a:xfrm>
            <a:off x="2843280" y="4437000"/>
            <a:ext cx="345744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mat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lipse 7"/>
          <p:cNvSpPr/>
          <p:nvPr/>
        </p:nvSpPr>
        <p:spPr>
          <a:xfrm>
            <a:off x="5003640" y="2492280"/>
            <a:ext cx="3456000" cy="172872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gên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9:54:47Z</dcterms:created>
  <dc:creator>Escolastica</dc:creator>
  <dc:description/>
  <dc:language>en-US</dc:language>
  <cp:lastModifiedBy>Mendoza</cp:lastModifiedBy>
  <dcterms:modified xsi:type="dcterms:W3CDTF">2012-02-02T08:17:25Z</dcterms:modified>
  <cp:revision>19</cp:revision>
  <dc:subject/>
  <dc:title>Transtornos do humor: Depressão Mania Transtorno bipolar</dc:title>
</cp:coreProperties>
</file>