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4557"/>
                </a:solidFill>
                <a:latin typeface="CG Omega"/>
              </a:rPr>
              <a:t>Click to move the slide</a:t>
            </a:r>
            <a:endParaRPr b="0" lang="en-US" sz="3600" spc="-1" strike="noStrike">
              <a:solidFill>
                <a:srgbClr val="af4557"/>
              </a:solidFill>
              <a:latin typeface="CG Omeg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2E3C-5152-4BD9-B2CD-B108F3A7BD89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cleaning up after an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0D77-A470-4D05-AC1F-AF95EAD28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CE39-8940-4780-808D-078CAD087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3E02-3FBB-49B9-B60E-24AD0458E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704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068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704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068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86A4-B529-4A86-AF1B-DDE59F699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9A9D7-A586-4924-9BA4-7E8E7B300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04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068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5998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704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068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6C67-2B1A-474C-ABFA-CE02AC04D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E807-FCD4-4F3A-AB3E-E13D7F6E7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5739-21F4-498A-93B7-CFB00CDAE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9160-0480-4B5E-862E-F55EA2B81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FCD6D-6C22-4786-8BD2-EC118EA17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0A29-E6E8-4E20-B35C-70EBC524A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4DF2-9B42-4EB0-957A-D549D3FDB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057400" y="2286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150b5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2C9E-6576-4EF2-9746-3900A47D75F0}" type="slidenum">
              <a:rPr b="1" lang="en-US" sz="1800" spc="-1" strike="noStrike">
                <a:solidFill>
                  <a:srgbClr val="150b5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406d"/>
                </a:solidFill>
                <a:latin typeface="CG Omega"/>
              </a:rPr>
              <a:t>Click to edit the title text format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2" marL="154296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3" marL="199872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4" marL="2455920" indent="-343080">
              <a:spcBef>
                <a:spcPts val="601"/>
              </a:spcBef>
              <a:buClr>
                <a:srgbClr val="af4557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5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6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95280"/>
            <a:ext cx="990720" cy="5562720"/>
          </a:xfrm>
          <a:prstGeom prst="rect">
            <a:avLst/>
          </a:prstGeom>
          <a:solidFill>
            <a:srgbClr val="090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82440"/>
            <a:ext cx="987480" cy="121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4557"/>
                </a:solidFill>
                <a:latin typeface="CG Omega"/>
              </a:rPr>
              <a:t>Click to edit the title text format</a:t>
            </a:r>
            <a:endParaRPr b="0" lang="en-US" sz="3600" spc="-1" strike="noStrike">
              <a:solidFill>
                <a:srgbClr val="af4557"/>
              </a:solidFill>
              <a:latin typeface="CG Omega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80060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32520" y="2362320"/>
            <a:ext cx="2211480" cy="271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67360"/>
            <a:ext cx="9167760" cy="1790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64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0644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2" marL="857160" indent="344520" algn="ctr">
              <a:lnSpc>
                <a:spcPct val="8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644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3" marL="1200240" indent="457200" algn="ctr">
              <a:lnSpc>
                <a:spcPct val="7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644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4" marL="1542960" indent="569880" algn="ctr">
              <a:lnSpc>
                <a:spcPct val="70000"/>
              </a:lnSpc>
              <a:spcBef>
                <a:spcPts val="451"/>
              </a:spcBef>
              <a:buClr>
                <a:srgbClr val="af4557"/>
              </a:buClr>
              <a:buSzPct val="90000"/>
              <a:buFont typeface="Marlett" charset="2"/>
              <a:buChar char="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  <a:p>
            <a:pPr lvl="5" marL="1542960" indent="569880">
              <a:spcBef>
                <a:spcPts val="45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  <a:p>
            <a:pPr lvl="6" marL="1542960" indent="569880">
              <a:spcBef>
                <a:spcPts val="45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4.png"/><Relationship Id="rId7" Type="http://schemas.openxmlformats.org/officeDocument/2006/relationships/image" Target="../media/image6.wmf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af4557"/>
                </a:solidFill>
                <a:latin typeface="CG Omega"/>
              </a:rPr>
              <a:t>Limpeza</a:t>
            </a:r>
            <a:endParaRPr b="0" lang="en-US" sz="4400" spc="-1" strike="noStrike">
              <a:solidFill>
                <a:srgbClr val="af4557"/>
              </a:solidFill>
              <a:latin typeface="CG Ome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14240" y="335232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Como limpar salpicos de sangue ou outros fluidos corporais</a:t>
            </a:r>
            <a:br>
              <a:rPr sz="4000"/>
            </a:b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99840" y="22093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af4557"/>
                </a:solidFill>
                <a:latin typeface="Arial"/>
              </a:rPr>
              <a:t>Pequenos salpicos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Com luvas calçadas, remova o material visível utilizando um pano embebido numa solução de cloro a 0,5%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Depois limpe com uma solução desinfectante de limpeza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af4557"/>
                </a:solidFill>
                <a:latin typeface="Arial"/>
              </a:rPr>
              <a:t>Grandes salpicos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Com luvas calçadas, lave a área com uma solução de cloro a 0,5%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Passe um esfregão na área para recolher o salpico e depois limpe da forma habitual com detergente e água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Como limpar equipamento de limpeza sujo e contaminado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c1c1c"/>
                </a:solidFill>
                <a:latin typeface="Arial"/>
              </a:rPr>
              <a:t>Descontamine o equipamento de limpeza mergulhando-o durante 10 minutos numa solução de cloro a 0,5% 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c1c1c"/>
                </a:solidFill>
                <a:latin typeface="Arial"/>
              </a:rPr>
              <a:t>Lave os baldes de limpeza, panos, escovas e esfregões com detergente e água diariamente, e com maior frequência se estiverem visivelmente suj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c1c1c"/>
                </a:solidFill>
                <a:latin typeface="Arial"/>
              </a:rPr>
              <a:t>Lave com água limpa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1c1c1c"/>
                </a:solidFill>
                <a:latin typeface="Arial"/>
              </a:rPr>
              <a:t>Seque completamente antes de voltar a utilizar ou guardar. Os panos e os esfregões quando guardados molhados ou húmidos ficam altamente contaminados com microrganism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Não esqueça: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af4557"/>
                </a:solidFill>
                <a:latin typeface="Arial"/>
              </a:rPr>
              <a:t>Não Fazer: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Esfregar a seco ou limpar o pó com pano sec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Varrer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af4557"/>
                </a:solidFill>
                <a:latin typeface="Arial"/>
              </a:rPr>
              <a:t>Fazer: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Esfregar e limpar o pó com esfregão ou pano molhado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Limpeza total ou final do BO a cada 24 hora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Limpar as salas de operações e salas de procedimentos entre paciente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Descontaminar, lavar e secar o equipamento antes de reutilizar ou guardar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Objectivo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CONCEITOS-CHAVE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A importância da limpeza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Os seus princípios gerai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A preparação de soluções desinfectante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de limpeza 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Como e quando limpar áreas de baixo e de alto risc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Como limpar salpicos de sangue e outros fluidos corporai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Como limpar o equipamento de limpeza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Porque é importante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20968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90644"/>
                </a:solidFill>
                <a:latin typeface="Arial"/>
              </a:rPr>
              <a:t>“</a:t>
            </a:r>
            <a:r>
              <a:rPr b="1" lang="pt-PT" sz="2400" spc="-1" strike="noStrike">
                <a:solidFill>
                  <a:srgbClr val="090644"/>
                </a:solidFill>
                <a:latin typeface="Arial"/>
              </a:rPr>
              <a:t>A acumulação de pó, sujidade e contaminantes microbianos nas superfícies é esteticamente desagradável e também uma fonte potencial de infecções adquiridas em unidades sanitárias. São, portanto, necessários métodos e planos efectivos e eficazes de limpeza para manter um ambiente limpo e saudável nas unidades sanitárias.” </a:t>
            </a:r>
            <a:br>
              <a:rPr sz="2400"/>
            </a:br>
            <a:r>
              <a:rPr b="1" lang="pt-PT" sz="2400" spc="-1" strike="noStrike">
                <a:solidFill>
                  <a:srgbClr val="090644"/>
                </a:solidFill>
                <a:latin typeface="Arial"/>
              </a:rPr>
              <a:t>(Chou 2002)</a:t>
            </a: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Princípios gerai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76212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O esfregar (limpeza por fricção) é a melhor forma de remover fisicamente a sujidade, os detritos e os microrganismo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A limpeza é necessária antes de qualquer procedimento de desinfecçã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Os produtos de limpeza devem ser escolhidos em função da sua utilização, eficácia, segurança e cust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A limpeza deve progredir das áreas menos sujas em direcção às áreas mais sujas e das áreas altas para as áreas baixas 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O varrimento e a limpeza do pó a seco devem ser evitado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As instruções de mistura (diluição) devem ser seguidas quando se utilizam desinfectante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Os métodos de limpeza e os planos escritos das limpezas devem basear-se no tipo de superfície, quantidade e tipo de sujeira presente e na finalidade da área 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A limpeza de rotina é necessária para manter um padrão de limpeza. Os planos de limpeza devem ser constantes e estar afixado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be406d"/>
                </a:solidFill>
                <a:latin typeface="CG Omega"/>
              </a:rPr>
              <a:t>Preparar um solução desinfectante de limpeza</a:t>
            </a:r>
            <a:endParaRPr b="0" lang="en-US" sz="36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22856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4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1c1c1c"/>
                </a:solidFill>
                <a:latin typeface="Arial"/>
              </a:rPr>
              <a:t>Prepare uma solução de cloro a 0,5% (desinfectantes alternativos incluem os fenóis a 1</a:t>
            </a:r>
            <a:r>
              <a:rPr b="0" lang="pt-PT" sz="2600" spc="-1" strike="noStrike">
                <a:solidFill>
                  <a:srgbClr val="1c1c1c"/>
                </a:solidFill>
                <a:latin typeface="Arial"/>
                <a:ea typeface="Arial"/>
              </a:rPr>
              <a:t>–</a:t>
            </a:r>
            <a:r>
              <a:rPr b="0" lang="pt-PT" sz="2600" spc="-1" strike="noStrike">
                <a:solidFill>
                  <a:srgbClr val="1c1c1c"/>
                </a:solidFill>
                <a:latin typeface="Arial"/>
              </a:rPr>
              <a:t>2% ou ácido carbónico a 5%)</a:t>
            </a:r>
            <a:endParaRPr b="0" lang="en-US" sz="26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4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1c1c1c"/>
                </a:solidFill>
                <a:latin typeface="Arial"/>
              </a:rPr>
              <a:t>Adicione uma quantidade suficiente de detergente à solução de cloro a 0,5% ou outro desinfectante para preparar uma solução espumosa suave</a:t>
            </a:r>
            <a:endParaRPr b="0" lang="en-US" sz="26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Métodos de limpeza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5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af4557"/>
                </a:solidFill>
                <a:latin typeface="Arial"/>
              </a:rPr>
              <a:t>A lavagem com o esfregão molhado </a:t>
            </a:r>
            <a:r>
              <a:rPr b="0" lang="pt-PT" sz="2400" spc="-1" strike="noStrike">
                <a:solidFill>
                  <a:srgbClr val="1c1c1c"/>
                </a:solidFill>
                <a:latin typeface="Arial"/>
              </a:rPr>
              <a:t>é o método mais comum e o preferido para limpar os pisos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200" spc="-1" strike="noStrike">
                <a:solidFill>
                  <a:srgbClr val="1c1c1c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Técnica de balde único (bacia)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Técnica de dois balde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Técnica de três balde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5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af4557"/>
                </a:solidFill>
                <a:latin typeface="Arial"/>
              </a:rPr>
              <a:t>A</a:t>
            </a:r>
            <a:r>
              <a:rPr b="0" lang="pt-PT" sz="2000" spc="-1" strike="noStrike">
                <a:solidFill>
                  <a:srgbClr val="af4557"/>
                </a:solidFill>
                <a:latin typeface="Arial"/>
              </a:rPr>
              <a:t> </a:t>
            </a:r>
            <a:r>
              <a:rPr b="1" lang="pt-PT" sz="2000" spc="-1" strike="noStrike">
                <a:solidFill>
                  <a:srgbClr val="af4557"/>
                </a:solidFill>
                <a:latin typeface="Arial"/>
              </a:rPr>
              <a:t>limpeza do pó com pano húmido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é geralmente mais utilizada para limpar paredes, tectos, portas, janelas, mobiliário e outras superfícies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pt-PT" sz="2200" spc="-1" strike="noStrike">
                <a:solidFill>
                  <a:srgbClr val="1c1c1c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Molhar os panos ou esfregões limpos 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É recomendado o uso do sistema da técnica de dois balde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Utilizar um ponto inicial com referência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af4557"/>
                </a:solidFill>
                <a:latin typeface="Arial"/>
              </a:rPr>
              <a:t>A aspiração a vácuo </a:t>
            </a: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só é recomendada para a limpeza de tapetes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Utilização de EPI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43000" y="954000"/>
            <a:ext cx="6705720" cy="2527560"/>
            <a:chOff x="1143000" y="954000"/>
            <a:chExt cx="6705720" cy="2527560"/>
          </a:xfrm>
        </p:grpSpPr>
        <p:sp>
          <p:nvSpPr>
            <p:cNvPr id="105" name=""/>
            <p:cNvSpPr/>
            <p:nvPr/>
          </p:nvSpPr>
          <p:spPr>
            <a:xfrm>
              <a:off x="1143000" y="954000"/>
              <a:ext cx="3429000" cy="2527560"/>
            </a:xfrm>
            <a:prstGeom prst="rect">
              <a:avLst/>
            </a:prstGeom>
            <a:noFill/>
            <a:ln w="28440">
              <a:solidFill>
                <a:srgbClr val="af4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090644"/>
                  </a:solidFill>
                  <a:latin typeface="Arial"/>
                </a:rPr>
                <a:t>Para manusear soluções de limpeza desinfectantes</a:t>
              </a:r>
              <a:endParaRPr b="0" lang="en-US" sz="1600" spc="-1" strike="noStrike">
                <a:solidFill>
                  <a:srgbClr val="0906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090644"/>
                  </a:solidFill>
                  <a:latin typeface="Arial"/>
                </a:rPr>
                <a:t>Para limpar áreas de cuidados aos doentes</a:t>
              </a:r>
              <a:endParaRPr b="0" lang="en-US" sz="1600" spc="-1" strike="noStrike">
                <a:solidFill>
                  <a:srgbClr val="0906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090644"/>
                  </a:solidFill>
                  <a:latin typeface="Arial"/>
                </a:rPr>
                <a:t>Para limpar áreas muito contaminadas</a:t>
              </a:r>
              <a:endParaRPr b="0" lang="en-US" sz="1600" spc="-1" strike="noStrike">
                <a:solidFill>
                  <a:srgbClr val="0906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090644"/>
                  </a:solidFill>
                  <a:latin typeface="Arial"/>
                </a:rPr>
                <a:t>Para manusear roupas sujas</a:t>
              </a:r>
              <a:endParaRPr b="0" lang="en-US" sz="1600" spc="-1" strike="noStrike">
                <a:solidFill>
                  <a:srgbClr val="0906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090644"/>
                  </a:solidFill>
                  <a:latin typeface="Arial"/>
                </a:rPr>
                <a:t>Para manusear itens e instrumentos sujos </a:t>
              </a:r>
              <a:endParaRPr b="0" lang="en-US" sz="1600" spc="-1" strike="noStrike">
                <a:solidFill>
                  <a:srgbClr val="0906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090644"/>
                  </a:solidFill>
                  <a:latin typeface="Arial"/>
                </a:rPr>
                <a:t>Para manusear e descartar lixo</a:t>
              </a:r>
              <a:endParaRPr b="0" lang="en-US" sz="16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"/>
            <a:srcRect l="1902" t="18337" r="3810" b="48"/>
            <a:stretch/>
          </p:blipFill>
          <p:spPr>
            <a:xfrm>
              <a:off x="5715000" y="1447920"/>
              <a:ext cx="838080" cy="78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6248520" y="2286000"/>
              <a:ext cx="129528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6934320" y="1523880"/>
              <a:ext cx="914400" cy="61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1371600" y="4038480"/>
            <a:ext cx="7543800" cy="2519640"/>
            <a:chOff x="1371600" y="4038480"/>
            <a:chExt cx="7543800" cy="2519640"/>
          </a:xfrm>
        </p:grpSpPr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8001000" y="5562720"/>
              <a:ext cx="914400" cy="60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5"/>
            <a:stretch/>
          </p:blipFill>
          <p:spPr>
            <a:xfrm>
              <a:off x="7620120" y="4343400"/>
              <a:ext cx="129528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6"/>
            <a:srcRect l="1902" t="18337" r="3810" b="48"/>
            <a:stretch/>
          </p:blipFill>
          <p:spPr>
            <a:xfrm>
              <a:off x="5257800" y="5562720"/>
              <a:ext cx="838080" cy="78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7"/>
            <a:stretch/>
          </p:blipFill>
          <p:spPr>
            <a:xfrm>
              <a:off x="6781680" y="5943600"/>
              <a:ext cx="914400" cy="6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8"/>
            <a:stretch/>
          </p:blipFill>
          <p:spPr>
            <a:xfrm>
              <a:off x="4114800" y="4038480"/>
              <a:ext cx="35053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371600" y="5099040"/>
              <a:ext cx="2666880" cy="531720"/>
            </a:xfrm>
            <a:prstGeom prst="rect">
              <a:avLst/>
            </a:prstGeom>
            <a:noFill/>
            <a:ln w="28440">
              <a:solidFill>
                <a:srgbClr val="af4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090644"/>
                  </a:solidFill>
                  <a:latin typeface="Arial"/>
                </a:rPr>
                <a:t>Para evitar os salpicos ou derrames</a:t>
              </a:r>
              <a:r>
                <a:rPr b="0" lang="en-US" sz="1600" spc="-1" strike="noStrike">
                  <a:solidFill>
                    <a:srgbClr val="090644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Limpeza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47920" y="2328840"/>
            <a:ext cx="4871880" cy="300528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30063" t="0" r="10183" b="0"/>
          <a:stretch/>
        </p:blipFill>
        <p:spPr>
          <a:xfrm>
            <a:off x="6705720" y="1735200"/>
            <a:ext cx="1919160" cy="420840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be406d"/>
                </a:solidFill>
                <a:latin typeface="CG Omega"/>
              </a:rPr>
              <a:t>Planos e procedimentos de limpeza</a:t>
            </a:r>
            <a:r>
              <a:rPr b="0" lang="en-US" sz="4400" spc="-1" strike="noStrike">
                <a:solidFill>
                  <a:srgbClr val="be406d"/>
                </a:solidFill>
                <a:latin typeface="CG Omega"/>
              </a:rPr>
              <a:t> </a:t>
            </a:r>
            <a:endParaRPr b="0" lang="en-US" sz="44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9840" y="4800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Consultar o Manual de referência nas páginas 16-7 e 16-8 (áreas especificas) e 16-8 e 16-9 (sala de operações)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19810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3:34:32Z</dcterms:created>
  <dc:creator>ajfuray</dc:creator>
  <dc:description/>
  <dc:language>en-US</dc:language>
  <cp:lastModifiedBy>mescorcio</cp:lastModifiedBy>
  <dcterms:modified xsi:type="dcterms:W3CDTF">2006-07-27T22:23:27Z</dcterms:modified>
  <cp:revision>397</cp:revision>
  <dc:subject/>
  <dc:title>JHPIEGO PowerPoint Presentation template</dc:title>
</cp:coreProperties>
</file>