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9.wmf" ContentType="image/x-wmf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47B0-465D-46C2-9592-DC7B148E0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6FD5-E4DA-4228-80CE-2A7E9081C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1FAF-D9E4-4C3A-AB2C-4B6C658C9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B400-199A-4488-88B0-E59E7E819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33A5-A71F-4C7D-849C-6663A9434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D347-39F0-49B8-A1F5-2D903B32C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0AE5-7CFB-440A-9285-EDB4EC616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FBCA-EEFE-4207-ABEB-CE2C5D33A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75BA-E374-4F3B-BA81-E4F7A2E71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3801-0642-4712-BBF7-345B15EE6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294C-5292-4B92-AC62-D1E6F9FB9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9CA2-9A79-402E-B2B4-B9D331765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150b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5DF3-5274-4BBA-8578-268185DF58D6}" type="slidenum">
              <a:rPr b="1" lang="en-US" sz="2400" spc="-1" strike="noStrike">
                <a:solidFill>
                  <a:srgbClr val="150b5b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edit the title text format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2" marL="857160" indent="344520" algn="ctr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3" marL="1200240" indent="45720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4" marL="1542960" indent="56988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5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6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af4557"/>
                </a:solidFill>
                <a:latin typeface="CG Omega"/>
              </a:rPr>
              <a:t>Equipamento de protecção individual (EPI) e campos cirúrgicos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665760" cy="4572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77960" y="1143000"/>
            <a:ext cx="6627960" cy="4572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Utilizando campos cirúrgic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9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Não coloque instrumentos estéreis ou submetidos a DAN ou outros itens sobre os campos cirúrgicos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Não cubra campos cirúrgicos molhados; substitua-os por outros secos e esterilizados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2590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895480"/>
            <a:ext cx="4343400" cy="3124440"/>
          </a:xfrm>
          <a:prstGeom prst="rect">
            <a:avLst/>
          </a:prstGeom>
          <a:solidFill>
            <a:srgbClr val="d6e7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00600" y="2971800"/>
            <a:ext cx="3962520" cy="2590560"/>
            <a:chOff x="4800600" y="2971800"/>
            <a:chExt cx="3962520" cy="2590560"/>
          </a:xfrm>
        </p:grpSpPr>
        <p:pic>
          <p:nvPicPr>
            <p:cNvPr id="123" name="SquareOffArea" descr=""/>
            <p:cNvPicPr/>
            <p:nvPr/>
          </p:nvPicPr>
          <p:blipFill>
            <a:blip r:embed="rId1"/>
            <a:stretch/>
          </p:blipFill>
          <p:spPr>
            <a:xfrm>
              <a:off x="4800600" y="3699000"/>
              <a:ext cx="3962520" cy="18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376600" y="2971800"/>
              <a:ext cx="33861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rmAutofit fontScale="40000"/>
            </a:bodyPr>
            <a:p>
              <a:pPr marL="182160" indent="-18216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1600" spc="-1" strike="noStrike">
                  <a:solidFill>
                    <a:srgbClr val="090644"/>
                  </a:solidFill>
                  <a:latin typeface="Arial"/>
                </a:rPr>
                <a:t>Delimitação de uma área de trabalho</a:t>
              </a:r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  <a:p>
              <a:pPr marL="182160" indent="-18216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90644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90644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1907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 CHAVES que ir</a:t>
            </a:r>
            <a:r>
              <a:rPr b="1" lang="pt-PT" sz="2400" spc="-1" strike="noStrike">
                <a:solidFill>
                  <a:srgbClr val="090644"/>
                </a:solidFill>
                <a:latin typeface="Arial"/>
              </a:rPr>
              <a:t>á</a:t>
            </a:r>
            <a:r>
              <a:rPr b="1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 aprender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O que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é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 EPI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Tipos de EPI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o os EPI funcionam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O papel dos campos cirúrgic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  <a:ea typeface="Times New Roman"/>
              </a:rPr>
              <a:t>O que </a:t>
            </a: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é</a:t>
            </a:r>
            <a:r>
              <a:rPr b="0" lang="pt-PT" sz="4000" spc="-1" strike="noStrike">
                <a:solidFill>
                  <a:srgbClr val="be406d"/>
                </a:solidFill>
                <a:latin typeface="CG Omega"/>
                <a:ea typeface="Times New Roman"/>
              </a:rPr>
              <a:t> </a:t>
            </a:r>
            <a:r>
              <a:rPr b="0" lang="pt-BR" sz="4000" spc="-1" strike="noStrike">
                <a:solidFill>
                  <a:srgbClr val="be406d"/>
                </a:solidFill>
                <a:latin typeface="CG Omega"/>
              </a:rPr>
              <a:t>EPI?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8" name=""/>
          <p:cNvSpPr/>
          <p:nvPr/>
        </p:nvSpPr>
        <p:spPr>
          <a:xfrm>
            <a:off x="1050840" y="1066680"/>
            <a:ext cx="507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90644"/>
                </a:solidFill>
                <a:latin typeface="Arial"/>
              </a:rPr>
              <a:t>Equipamento de Proteção Individua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0482" t="4426" r="4897" b="4233"/>
          <a:stretch/>
        </p:blipFill>
        <p:spPr>
          <a:xfrm>
            <a:off x="3733920" y="1905120"/>
            <a:ext cx="1771560" cy="2379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9880" y="4648320"/>
            <a:ext cx="1905120" cy="1801800"/>
          </a:xfrm>
          <a:prstGeom prst="rect">
            <a:avLst/>
          </a:prstGeom>
          <a:ln w="44280">
            <a:solidFill>
              <a:srgbClr val="af4557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19920" y="1905120"/>
            <a:ext cx="2666880" cy="189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rcRect l="29958" t="0" r="10136" b="0"/>
          <a:stretch/>
        </p:blipFill>
        <p:spPr>
          <a:xfrm>
            <a:off x="1096920" y="1905120"/>
            <a:ext cx="1951200" cy="426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324480" y="4495680"/>
            <a:ext cx="25146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  <a:ea typeface="Times New Roman"/>
              </a:rPr>
              <a:t>Como os EPI funcionam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1734840" cy="2057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76720" y="3048120"/>
            <a:ext cx="533376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3399"/>
                </a:solidFill>
                <a:latin typeface="Arial"/>
              </a:rPr>
              <a:t>Abrir o manual de referência na página 5-4 e rever o quadro 5-1.</a:t>
            </a:r>
            <a:endParaRPr b="0" lang="en-US" sz="3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500" spc="-1" strike="noStrike">
                <a:solidFill>
                  <a:srgbClr val="be406d"/>
                </a:solidFill>
                <a:latin typeface="CG Omega"/>
              </a:rPr>
              <a:t>Equipamentos de protecção  individual</a:t>
            </a:r>
            <a:endParaRPr b="0" lang="en-US" sz="35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523880"/>
            <a:ext cx="3810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rmAutofit/>
          </a:bodyPr>
          <a:p>
            <a:pPr marL="455760" indent="-455760">
              <a:spcBef>
                <a:spcPts val="575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90644"/>
                </a:solidFill>
                <a:latin typeface="Arial"/>
              </a:rPr>
              <a:t>Luvas (todos os tipos) reduzem o risco de infecção (contaminação cruzada)</a:t>
            </a:r>
            <a:endParaRPr b="0" lang="en-US" sz="23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75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300" spc="-1" strike="noStrike">
                <a:solidFill>
                  <a:srgbClr val="090644"/>
                </a:solidFill>
                <a:latin typeface="Arial"/>
              </a:rPr>
              <a:t>EPI que é resistente aos fluidos (ex., aventais de borracha ou plástico) podem proteger os trabalhadores de saúde da exposição a sangue contaminado ou a outros fluidos corporais</a:t>
            </a:r>
            <a:endParaRPr b="0" lang="en-US" sz="23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75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1600200"/>
            <a:ext cx="3962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00600" y="1752480"/>
            <a:ext cx="4190760" cy="3886200"/>
            <a:chOff x="4800600" y="1752480"/>
            <a:chExt cx="4190760" cy="3886200"/>
          </a:xfrm>
        </p:grpSpPr>
        <p:sp>
          <p:nvSpPr>
            <p:cNvPr id="101" name=""/>
            <p:cNvSpPr/>
            <p:nvPr/>
          </p:nvSpPr>
          <p:spPr>
            <a:xfrm>
              <a:off x="4800600" y="1752480"/>
              <a:ext cx="4190760" cy="3886200"/>
            </a:xfrm>
            <a:prstGeom prst="rect">
              <a:avLst/>
            </a:prstGeom>
            <a:solidFill>
              <a:srgbClr val="fcf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90644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029200" y="1905120"/>
              <a:ext cx="3809520" cy="3428640"/>
              <a:chOff x="5029200" y="1905120"/>
              <a:chExt cx="3809520" cy="3428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2672280"/>
                <a:ext cx="3809520" cy="26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774400" y="1905120"/>
                <a:ext cx="1821960" cy="4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8920" rIns="88920" tIns="44280" bIns="44280" anchor="t">
                <a:normAutofit/>
              </a:bodyPr>
              <a:p>
                <a:pPr marL="455760" indent="-45576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90644"/>
                    </a:solidFill>
                    <a:latin typeface="Arial"/>
                  </a:rPr>
                  <a:t>Aventais</a:t>
                </a:r>
                <a:endParaRPr b="0" lang="en-US" sz="2000" spc="-1" strike="noStrike">
                  <a:solidFill>
                    <a:srgbClr val="090644"/>
                  </a:solidFill>
                  <a:latin typeface="Arial"/>
                </a:endParaRPr>
              </a:p>
            </p:txBody>
          </p:sp>
        </p:grpSp>
      </p:grp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814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PT" sz="3600" spc="-1" strike="noStrike">
                <a:solidFill>
                  <a:srgbClr val="be406d"/>
                </a:solidFill>
                <a:latin typeface="CG Omega"/>
                <a:ea typeface="Times New Roman"/>
              </a:rPr>
              <a:t>O papel dos campos cirúrgicos</a:t>
            </a:r>
            <a:br>
              <a:rPr sz="3600"/>
            </a:b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7" name=""/>
          <p:cNvSpPr/>
          <p:nvPr/>
        </p:nvSpPr>
        <p:spPr>
          <a:xfrm>
            <a:off x="1003320" y="1219320"/>
            <a:ext cx="763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d3ee1"/>
                </a:solidFill>
                <a:latin typeface="CG Omega"/>
              </a:rPr>
              <a:t>Transferência bacteriana através de tecido molhad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029200"/>
            <a:ext cx="7696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Batas, máscaras, gorros e campos cirúrgicos feitos de material leve, tal como algodão, quando seco proporciona limitada protecção ao doente ou ao trabalhador de saúde e nenhuma protecção se o material fica molhado devido a “salpicos” ou suo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05320" y="1905120"/>
            <a:ext cx="4876560" cy="2971800"/>
            <a:chOff x="3505320" y="1905120"/>
            <a:chExt cx="4876560" cy="2971800"/>
          </a:xfrm>
        </p:grpSpPr>
        <p:sp>
          <p:nvSpPr>
            <p:cNvPr id="110" name=""/>
            <p:cNvSpPr/>
            <p:nvPr/>
          </p:nvSpPr>
          <p:spPr>
            <a:xfrm>
              <a:off x="3505320" y="1905120"/>
              <a:ext cx="4876560" cy="2971800"/>
            </a:xfrm>
            <a:prstGeom prst="rect">
              <a:avLst/>
            </a:prstGeom>
            <a:solidFill>
              <a:srgbClr val="d6e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90644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886200" y="2057400"/>
              <a:ext cx="4114800" cy="260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86200" y="2057400"/>
            <a:ext cx="4114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55800" y="1143000"/>
            <a:ext cx="6373800" cy="4572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77960" y="1143000"/>
            <a:ext cx="6627960" cy="4572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627600" cy="4572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0:18:06Z</dcterms:created>
  <dc:creator>Linda Tietjen</dc:creator>
  <dc:description/>
  <dc:language>en-US</dc:language>
  <cp:lastModifiedBy>Amelia Kaufman</cp:lastModifiedBy>
  <dcterms:modified xsi:type="dcterms:W3CDTF">2006-08-08T19:55:58Z</dcterms:modified>
  <cp:revision>48</cp:revision>
  <dc:subject/>
  <dc:title>Slide 1</dc:title>
</cp:coreProperties>
</file>