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8352-0AAE-4C87-AD37-C1757D0B0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0C28-86FF-484A-A556-260F56E50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4C9D-59D0-4E85-A4C3-194D7157C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66A0-C8D3-443A-A500-4CD8BA0C1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3D20-112E-4723-B947-DEC13FADB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AA1B-B1EE-493B-883E-1B0962CAD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02BA-0C62-491A-A872-2D42F68AD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79B3-809C-4EA0-BA46-AEBF5AD63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5640-17AB-4E5D-9273-C54E10490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7307-4111-4242-9F94-7AE54F71E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E639-3989-42DC-AD1E-B65AFE3EA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0D9B-0E91-453B-B879-E96AB4CAD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7400" y="2286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150b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8882-3BDF-4BC3-BE43-F4E051851083}" type="slidenum">
              <a:rPr b="1" lang="en-US" sz="2400" spc="-1" strike="noStrike">
                <a:solidFill>
                  <a:srgbClr val="150b5b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Click to edit the title text format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2" marL="154296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3" marL="199872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4" marL="2455920" indent="-343080">
              <a:spcBef>
                <a:spcPts val="60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5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6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95280"/>
            <a:ext cx="990720" cy="5562720"/>
          </a:xfrm>
          <a:prstGeom prst="rect">
            <a:avLst/>
          </a:prstGeom>
          <a:solidFill>
            <a:srgbClr val="090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987480" cy="121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4557"/>
                </a:solidFill>
                <a:latin typeface="CG Omega"/>
              </a:rPr>
              <a:t>Click to edit the title text format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2520" y="2362320"/>
            <a:ext cx="2211480" cy="27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67360"/>
            <a:ext cx="9167760" cy="1790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2" marL="857160" indent="344520" algn="ctr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3" marL="1200240" indent="45720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4" marL="1542960" indent="56988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5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6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af4557"/>
                </a:solidFill>
                <a:latin typeface="CG Omega"/>
              </a:rPr>
              <a:t>Anti-sepsia cirúrgica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Objectivo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NCEITOS CHAVE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As causas de infecções em ferid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O que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é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 um antisséptic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mo seleccionar antisséptic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mo usar antisséptic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Armazenamento e distribuição de antisséptic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Infecções em ferida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s infecções em feridas cirúrgicas são responsáveis por mais de 30% de todas as infecções nosocomiais mesmo nos países mais desenvolvid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Os agentes patogénicos encontrados na pele do doente são a maior fonte da maior parte das infecções em feridas cirúrgic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Arial"/>
              </a:rPr>
              <a:t>Factores de risco incluem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O número de microrganismos que entram na ferid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O tipo e virulência do microrganism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Sistema imunológico do doente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Factores externos  (ex., a permanência do doente no hospital durante vários dias antes da cirurgia ou a duração da cirurgia &gt;4 horas)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e406d"/>
                </a:solidFill>
                <a:latin typeface="CG Omega"/>
              </a:rPr>
              <a:t>Definiçõe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af4557"/>
                </a:solidFill>
                <a:latin typeface="Arial"/>
              </a:rPr>
              <a:t>Agente antisséptico ou  antimicrobiano: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Químicos que são aplicados na pele ou outros tecidos vivos para inibir ou destruir microrganismos, reduzindo desta forma a contagem total de bactérias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af4557"/>
                </a:solidFill>
                <a:latin typeface="Arial"/>
              </a:rPr>
              <a:t>Desinfectantes: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Químicos que destroem ou inactivam microrganismos em objectos inanimados, tais como instrumentos ou superfície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Selecção de antisséptico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1981080" cy="890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23880" y="3505320"/>
            <a:ext cx="72392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800" spc="-1" strike="noStrike">
                <a:solidFill>
                  <a:srgbClr val="003399"/>
                </a:solidFill>
                <a:latin typeface="Arial"/>
              </a:rPr>
              <a:t>Manual de Referência, pag. 6-3, Quadro 6-1 e Apêndice B</a:t>
            </a:r>
            <a:endParaRPr b="0" lang="en-US" sz="38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e406d"/>
                </a:solidFill>
                <a:latin typeface="CG Omega"/>
              </a:rPr>
              <a:t>Como usar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99840" y="2133360"/>
            <a:ext cx="7010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Higiene das mã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Preparação da pele antes dos procedimentos cirúrgic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Preparação cervical e/ou vagina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Preparação da pele para injecçõe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Preparação da pele para dispositivo intravascular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e406d"/>
                </a:solidFill>
                <a:latin typeface="CG Omega"/>
              </a:rPr>
              <a:t>Armazenamento e distribuição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c1c1c"/>
                </a:solidFill>
                <a:latin typeface="Arial"/>
              </a:rPr>
              <a:t>Colocar os antissépticos em pequenos contentores reutilizáveis para uso diário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c1c1c"/>
                </a:solidFill>
                <a:latin typeface="Arial"/>
              </a:rPr>
              <a:t>Não armazenar gaze ou algodão em antissépticos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c1c1c"/>
                </a:solidFill>
                <a:latin typeface="Arial"/>
              </a:rPr>
              <a:t>Não encha até ao máximo as soluções antissépticas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c1c1c"/>
                </a:solidFill>
                <a:latin typeface="Arial"/>
              </a:rPr>
              <a:t>Estabeleça um esquema de rotina para a preparação de novas soluções e para a limpeza de contentores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c1c1c"/>
                </a:solidFill>
                <a:latin typeface="Arial"/>
              </a:rPr>
              <a:t>Lave os recipientes abundantemente com sabão e água limpa, enxagúe com água fervida e seque antes de voltar a encher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c1c1c"/>
                </a:solidFill>
                <a:latin typeface="Arial"/>
              </a:rPr>
              <a:t>Coloque a nova data no rótulo dos recipientes reutilizáveis de cada vez que são lavados, secos e feito o enchimento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c1c1c"/>
                </a:solidFill>
                <a:latin typeface="Arial"/>
              </a:rPr>
              <a:t>As soluções concentradas de antisséptico devem se guardadas em áreas frescas e ao abrigo da luz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0:18:06Z</dcterms:created>
  <dc:creator>Linda Tietjen</dc:creator>
  <dc:description/>
  <dc:language>en-US</dc:language>
  <cp:lastModifiedBy>Amelia Kaufman</cp:lastModifiedBy>
  <dcterms:modified xsi:type="dcterms:W3CDTF">2006-08-08T19:59:24Z</dcterms:modified>
  <cp:revision>66</cp:revision>
  <dc:subject/>
  <dc:title>Slide 1</dc:title>
</cp:coreProperties>
</file>