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Click to move the slide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5D0B-AF7F-4EEF-9909-F4647D492722}" type="slidenum">
              <a:rPr b="1" lang="en-US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5CDC-9279-4883-B3A3-57E752AAE523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CEDB-7E78-4682-BF22-A826995C427C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255C-54FB-4FDB-BDB2-BC3DA13B36A9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84C0-06EF-4BC6-93B8-DB474C395545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076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89FA-F6CC-41C9-B7BA-D7348550448C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758B-FACD-44DC-9F0E-1FFC40586EFD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3396-0314-4ABF-9B35-639C0CBFA747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se, instruments and other items should be decontaminated by soaking them in a 0.5% bleach solution for 10 minutes. Decontamination will help protect the person who is cleaning the instru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physically wash the items until they are visibly clea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either sterilize or high-level disinfect the instruments. For a step-by-step description of this process, see the document “Instrument Processing” on the ReFontes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AEB7-9C06-4B6B-8F7A-8C1D58966101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109A-ED2B-4521-B435-ECFEDA6A08E3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50760" y="763560"/>
            <a:ext cx="4897440" cy="367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LD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all microorganisms, including HBV and HIV. Does not reliably kill all bacterial endosp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cceptable alternative when sterilization equipment is 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353D-B6AB-417D-BE52-F61672803F98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5076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CDFE-267A-4243-BB96-F09460E4083E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5076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184" name="Rectangle 4"/>
          <p:cNvSpPr/>
          <p:nvPr/>
        </p:nvSpPr>
        <p:spPr>
          <a:xfrm>
            <a:off x="1057320" y="7899480"/>
            <a:ext cx="2967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i="1" lang="en-US" sz="1200" spc="-1" strike="noStrike">
                <a:solidFill>
                  <a:srgbClr val="090644"/>
                </a:solidFill>
                <a:latin typeface="Times New Roman"/>
              </a:rPr>
              <a:t>Fonte</a:t>
            </a:r>
            <a:r>
              <a:rPr b="0" lang="en-US" sz="1200" spc="-1" strike="noStrike">
                <a:solidFill>
                  <a:srgbClr val="090644"/>
                </a:solidFill>
                <a:latin typeface="Times New Roman"/>
              </a:rPr>
              <a:t>: Favero 1985; McIntosh et al 1994.</a:t>
            </a:r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982800" y="6335640"/>
            <a:ext cx="495144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90644"/>
                </a:solidFill>
                <a:latin typeface="Arial"/>
              </a:rPr>
              <a:t>Boiling instruments for 20 minutes will kill all microorganisms except bacterial endospores. In fact, most microorganisms will be inactivated if heated to 80 degrees C for 10 minutes. The boiling point of water is</a:t>
            </a:r>
            <a:br>
              <a:rPr sz="1200"/>
            </a:br>
            <a:r>
              <a:rPr b="0" lang="en-US" sz="1200" spc="-1" strike="noStrike">
                <a:solidFill>
                  <a:srgbClr val="090644"/>
                </a:solidFill>
                <a:latin typeface="Arial"/>
              </a:rPr>
              <a:t>1.1 degree C lower for each 1,000 feet of altitude; even at altitudes up to 5,500 meters (18,000 ft), the temperature will be adequate for HLD. </a:t>
            </a:r>
            <a:r>
              <a:rPr b="1" lang="en-US" sz="1200" spc="-1" strike="noStrike">
                <a:solidFill>
                  <a:srgbClr val="090644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90644"/>
                </a:solidFill>
                <a:latin typeface="Arial"/>
              </a:rPr>
              <a:t> The highest temperature that boiling water will reach is 100 degrees C (212 degrees F) at sea level. </a:t>
            </a:r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24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LD Practices (boi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il instruments and other items for 20 minutes (sufficient up to 5,500 meters/18,000 fee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boil for 20 minutes in a pot with a 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timing when the water begins to b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add anything to the pot after timing beg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-dry before use or sto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B61C-FD43-4CD9-ABDC-73A4B4DFB5D0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5076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33CE-885F-44DD-8C86-F4260EF36D6D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5076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6480" y="4691160"/>
            <a:ext cx="498456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C143-BFBE-4D16-B5F6-9D22940EF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F060-385A-4BC1-9031-8836EA750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F8FF0-54D0-4F70-9183-05973AF5A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A031-D533-4C08-9424-BE027C90F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5B1F-59E7-457A-8981-899CCADCF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D7AE-B3BC-4E82-81FB-E1909E3AC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DB74-EA4B-46FB-B3B6-1C41ED37F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6204-C73F-47B6-A00A-9FCC2ABE9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8BF9-F868-40E6-86B3-DC45482DA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DCE9-CA13-4BF4-90D5-38EBB8A6C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2EEE-7D55-4733-BB43-304E56266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C74A-AE32-4447-ADA5-06DF31F5C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057400" y="2286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50b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722A-7303-4BE2-A265-D8811B719983}" type="slidenum">
              <a:rPr b="1" lang="en-US" sz="1800" spc="-1" strike="noStrike">
                <a:solidFill>
                  <a:srgbClr val="150b5b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Click to edit the title text format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2" marL="154296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3" marL="199872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4" marL="2455920" indent="-343080">
              <a:spcBef>
                <a:spcPts val="60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5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6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95280"/>
            <a:ext cx="990720" cy="5562720"/>
          </a:xfrm>
          <a:prstGeom prst="rect">
            <a:avLst/>
          </a:prstGeom>
          <a:solidFill>
            <a:srgbClr val="090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6" name="Picture 8" descr="JHP-logo"/>
          <p:cNvPicPr/>
          <p:nvPr/>
        </p:nvPicPr>
        <p:blipFill>
          <a:blip r:embed="rId2"/>
          <a:stretch/>
        </p:blipFill>
        <p:spPr>
          <a:xfrm>
            <a:off x="0" y="82440"/>
            <a:ext cx="987480" cy="121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27"/>
          <p:cNvSpPr/>
          <p:nvPr/>
        </p:nvSpPr>
        <p:spPr>
          <a:xfrm>
            <a:off x="2286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44" name="Picture 1029" descr="JHP-logo"/>
          <p:cNvPicPr/>
          <p:nvPr/>
        </p:nvPicPr>
        <p:blipFill>
          <a:blip r:embed="rId2"/>
          <a:stretch/>
        </p:blipFill>
        <p:spPr>
          <a:xfrm>
            <a:off x="6932520" y="2362320"/>
            <a:ext cx="2211480" cy="271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0" descr="Typography-and-Tagline"/>
          <p:cNvPicPr/>
          <p:nvPr/>
        </p:nvPicPr>
        <p:blipFill>
          <a:blip r:embed="rId3"/>
          <a:stretch/>
        </p:blipFill>
        <p:spPr>
          <a:xfrm>
            <a:off x="0" y="5067360"/>
            <a:ext cx="9167760" cy="1790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Click to edit the title text format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2" marL="154296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3" marL="199872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4" marL="2455920" indent="-343080">
              <a:spcBef>
                <a:spcPts val="60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5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6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af4557"/>
                </a:solidFill>
                <a:latin typeface="CG Omega"/>
              </a:rPr>
              <a:t>Desinfecção de alto nível</a:t>
            </a:r>
            <a:endParaRPr b="0" lang="en-US" sz="44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14240" y="33523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Desinfecção de alto nível pelo vapor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154" name="Picture 5" descr="STEAMER"/>
          <p:cNvPicPr/>
          <p:nvPr/>
        </p:nvPicPr>
        <p:blipFill>
          <a:blip r:embed="rId1"/>
          <a:stretch/>
        </p:blipFill>
        <p:spPr>
          <a:xfrm>
            <a:off x="2971800" y="2971800"/>
            <a:ext cx="32623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Desinfecção de alto nível pelo vapor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28440" y="1142640"/>
            <a:ext cx="342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90644"/>
                </a:solidFill>
                <a:latin typeface="Arial"/>
              </a:rPr>
              <a:t>Aumento da temperatura em função da posição da bandej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57" name="Picture 5" descr="Ch12_TempRise"/>
          <p:cNvPicPr/>
          <p:nvPr/>
        </p:nvPicPr>
        <p:blipFill>
          <a:blip r:embed="rId1"/>
          <a:stretch/>
        </p:blipFill>
        <p:spPr>
          <a:xfrm>
            <a:off x="1905120" y="2743200"/>
            <a:ext cx="594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Marcador de Posição do Número do Diapositivo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6F86-8B73-43FC-9E1F-327D6414481D}" type="slidenum">
              <a:rPr b="1" lang="en-US" sz="1800" spc="-1" strike="noStrike">
                <a:solidFill>
                  <a:srgbClr val="150b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be406d"/>
                </a:solidFill>
                <a:latin typeface="CG Omega"/>
              </a:rPr>
              <a:t>Desinfecção de alto nível utilizando químicos</a:t>
            </a:r>
            <a:endParaRPr b="0" lang="en-US" sz="36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af4557"/>
                </a:solidFill>
                <a:latin typeface="Arial"/>
              </a:rPr>
              <a:t>Prátic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Mergulhe completamente todos os itens no desinfectante escolhido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Deixe mergulhar durante  20 minutos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Enxagúe com água fervida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90644"/>
                </a:solidFill>
                <a:latin typeface="Arial"/>
              </a:rPr>
              <a:t>Deixe secar ao ar antes de usar e guardar</a:t>
            </a:r>
            <a:endParaRPr b="0" lang="en-US" sz="22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61" name="Picture 4" descr="chemicalHLD"/>
          <p:cNvPicPr/>
          <p:nvPr/>
        </p:nvPicPr>
        <p:blipFill>
          <a:blip r:embed="rId1"/>
          <a:stretch/>
        </p:blipFill>
        <p:spPr>
          <a:xfrm>
            <a:off x="4876920" y="2133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ospital-22"/>
          <p:cNvPicPr/>
          <p:nvPr/>
        </p:nvPicPr>
        <p:blipFill>
          <a:blip r:embed="rId1"/>
          <a:stretch/>
        </p:blipFill>
        <p:spPr>
          <a:xfrm>
            <a:off x="4892760" y="685800"/>
            <a:ext cx="4022640" cy="594360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sp>
        <p:nvSpPr>
          <p:cNvPr id="163" name="Text Box 3"/>
          <p:cNvSpPr/>
          <p:nvPr/>
        </p:nvSpPr>
        <p:spPr>
          <a:xfrm>
            <a:off x="1371600" y="304920"/>
            <a:ext cx="25909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af4557"/>
                </a:solidFill>
                <a:latin typeface="Arial"/>
              </a:rPr>
              <a:t>Observemos esta imagem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Qual é este método de DAN?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Este é o EPI correcto?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Objectivo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NCEITOS-CHAVE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Os métodos de desinfecção de alto ní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m efectuar cada métod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2"/>
          <p:cNvSpPr/>
          <p:nvPr/>
        </p:nvSpPr>
        <p:spPr>
          <a:xfrm flipH="1" rot="5400000">
            <a:off x="3751920" y="4619880"/>
            <a:ext cx="731880" cy="907920"/>
          </a:xfrm>
          <a:prstGeom prst="pie">
            <a:avLst/>
          </a:prstGeom>
          <a:solidFill>
            <a:srgbClr val="c46b7a"/>
          </a:solidFill>
          <a:ln cap="rnd" w="2232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4656240" y="2814480"/>
            <a:ext cx="147600" cy="27000"/>
          </a:xfrm>
          <a:prstGeom prst="pie">
            <a:avLst/>
          </a:pr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7" name="Freeform 4"/>
          <p:cNvSpPr/>
          <p:nvPr/>
        </p:nvSpPr>
        <p:spPr>
          <a:xfrm>
            <a:off x="4888080" y="2232000"/>
            <a:ext cx="61920" cy="584280"/>
          </a:xfrm>
          <a:prstGeom prst="pie">
            <a:avLst/>
          </a:pr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8" name="Freeform 5"/>
          <p:cNvSpPr/>
          <p:nvPr/>
        </p:nvSpPr>
        <p:spPr>
          <a:xfrm>
            <a:off x="4843440" y="2233440"/>
            <a:ext cx="54000" cy="27000"/>
          </a:xfrm>
          <a:prstGeom prst="pie">
            <a:avLst/>
          </a:pr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9" name="Freeform 6"/>
          <p:cNvSpPr/>
          <p:nvPr/>
        </p:nvSpPr>
        <p:spPr>
          <a:xfrm rot="16200000">
            <a:off x="5269680" y="4619880"/>
            <a:ext cx="731880" cy="908280"/>
          </a:xfrm>
          <a:prstGeom prst="pie">
            <a:avLst/>
          </a:prstGeom>
          <a:solidFill>
            <a:srgbClr val="c46b7a"/>
          </a:solidFill>
          <a:ln cap="rnd" w="2232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3931560" y="1422360"/>
            <a:ext cx="2225520" cy="1403280"/>
            <a:chOff x="3931560" y="1422360"/>
            <a:chExt cx="2225520" cy="1403280"/>
          </a:xfrm>
        </p:grpSpPr>
        <p:pic>
          <p:nvPicPr>
            <p:cNvPr id="101" name="Picture 8" descr="decontaminate"/>
            <p:cNvPicPr/>
            <p:nvPr/>
          </p:nvPicPr>
          <p:blipFill>
            <a:blip r:embed="rId1"/>
            <a:stretch/>
          </p:blipFill>
          <p:spPr>
            <a:xfrm>
              <a:off x="4190760" y="1793880"/>
              <a:ext cx="1371240" cy="1031760"/>
            </a:xfrm>
            <a:prstGeom prst="rect">
              <a:avLst/>
            </a:prstGeom>
            <a:ln w="38160">
              <a:solidFill>
                <a:srgbClr val="af4557"/>
              </a:solidFill>
              <a:miter/>
            </a:ln>
          </p:spPr>
        </p:pic>
        <p:sp>
          <p:nvSpPr>
            <p:cNvPr id="102" name="Rectangle 9"/>
            <p:cNvSpPr/>
            <p:nvPr/>
          </p:nvSpPr>
          <p:spPr>
            <a:xfrm>
              <a:off x="3931560" y="1422360"/>
              <a:ext cx="2225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90644"/>
                  </a:solidFill>
                  <a:latin typeface="Arial"/>
                </a:rPr>
                <a:t>Descontaminação</a:t>
              </a:r>
              <a:endParaRPr b="0" lang="en-US" sz="2000" spc="-1" strike="noStrike">
                <a:solidFill>
                  <a:srgbClr val="090644"/>
                </a:solidFill>
                <a:latin typeface="Arial"/>
              </a:endParaRPr>
            </a:p>
          </p:txBody>
        </p:sp>
      </p:grpSp>
      <p:grpSp>
        <p:nvGrpSpPr>
          <p:cNvPr id="103" name="Group 10"/>
          <p:cNvGrpSpPr/>
          <p:nvPr/>
        </p:nvGrpSpPr>
        <p:grpSpPr>
          <a:xfrm>
            <a:off x="4191120" y="3355920"/>
            <a:ext cx="1374480" cy="1428840"/>
            <a:chOff x="4191120" y="3355920"/>
            <a:chExt cx="1374480" cy="1428840"/>
          </a:xfrm>
        </p:grpSpPr>
        <p:sp>
          <p:nvSpPr>
            <p:cNvPr id="104" name="Rectangle 11"/>
            <p:cNvSpPr/>
            <p:nvPr/>
          </p:nvSpPr>
          <p:spPr>
            <a:xfrm>
              <a:off x="4417560" y="3355920"/>
              <a:ext cx="1148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90644"/>
                  </a:solidFill>
                  <a:latin typeface="Arial"/>
                </a:rPr>
                <a:t>Limpeza</a:t>
              </a:r>
              <a:endParaRPr b="0" lang="en-US" sz="2000" spc="-1" strike="noStrike">
                <a:solidFill>
                  <a:srgbClr val="090644"/>
                </a:solidFill>
                <a:latin typeface="Arial"/>
              </a:endParaRPr>
            </a:p>
          </p:txBody>
        </p:sp>
        <p:pic>
          <p:nvPicPr>
            <p:cNvPr id="105" name="Picture 12" descr="scrub_sharps"/>
            <p:cNvPicPr/>
            <p:nvPr/>
          </p:nvPicPr>
          <p:blipFill>
            <a:blip r:embed="rId2"/>
            <a:stretch/>
          </p:blipFill>
          <p:spPr>
            <a:xfrm>
              <a:off x="4191120" y="3737160"/>
              <a:ext cx="1371240" cy="1047600"/>
            </a:xfrm>
            <a:prstGeom prst="rect">
              <a:avLst/>
            </a:prstGeom>
            <a:ln w="38160">
              <a:solidFill>
                <a:srgbClr val="af4557"/>
              </a:solidFill>
              <a:miter/>
            </a:ln>
          </p:spPr>
        </p:pic>
      </p:grp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3520800"/>
            <a:ext cx="27432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Esteriliza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Química 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Vapor de alta pressão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Calor seco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07" name="Freeform 14"/>
          <p:cNvSpPr/>
          <p:nvPr/>
        </p:nvSpPr>
        <p:spPr>
          <a:xfrm>
            <a:off x="3314880" y="5803920"/>
            <a:ext cx="452160" cy="596880"/>
          </a:xfrm>
          <a:prstGeom prst="pie">
            <a:avLst/>
          </a:pr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08" name="Freeform 15"/>
          <p:cNvSpPr/>
          <p:nvPr/>
        </p:nvSpPr>
        <p:spPr>
          <a:xfrm>
            <a:off x="3314880" y="5851440"/>
            <a:ext cx="452160" cy="596880"/>
          </a:xfrm>
          <a:prstGeom prst="pie">
            <a:avLst/>
          </a:prstGeom>
          <a:solidFill>
            <a:srgbClr val="c46b7a"/>
          </a:solidFill>
          <a:ln cap="rnd" w="1908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09" name="Freeform 16"/>
          <p:cNvSpPr/>
          <p:nvPr/>
        </p:nvSpPr>
        <p:spPr>
          <a:xfrm>
            <a:off x="6019920" y="5803920"/>
            <a:ext cx="453960" cy="596880"/>
          </a:xfrm>
          <a:prstGeom prst="pie">
            <a:avLst/>
          </a:pr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10" name="Freeform 17"/>
          <p:cNvSpPr/>
          <p:nvPr/>
        </p:nvSpPr>
        <p:spPr>
          <a:xfrm>
            <a:off x="6019920" y="5851440"/>
            <a:ext cx="453960" cy="596880"/>
          </a:xfrm>
          <a:prstGeom prst="pie">
            <a:avLst/>
          </a:prstGeom>
          <a:solidFill>
            <a:srgbClr val="c46b7a"/>
          </a:solidFill>
          <a:ln cap="rnd" w="1908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3583440" y="6338880"/>
            <a:ext cx="255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Secar/guardar/distribuir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12" name="Picture 19" descr="disinfect1"/>
          <p:cNvPicPr/>
          <p:nvPr/>
        </p:nvPicPr>
        <p:blipFill>
          <a:blip r:embed="rId3"/>
          <a:stretch/>
        </p:blipFill>
        <p:spPr>
          <a:xfrm>
            <a:off x="2286000" y="4762440"/>
            <a:ext cx="1371600" cy="108900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grpSp>
        <p:nvGrpSpPr>
          <p:cNvPr id="113" name="Group 20"/>
          <p:cNvGrpSpPr/>
          <p:nvPr/>
        </p:nvGrpSpPr>
        <p:grpSpPr>
          <a:xfrm>
            <a:off x="5943600" y="3352680"/>
            <a:ext cx="3200040" cy="2498400"/>
            <a:chOff x="5943600" y="3352680"/>
            <a:chExt cx="3200040" cy="2498400"/>
          </a:xfrm>
        </p:grpSpPr>
        <p:sp>
          <p:nvSpPr>
            <p:cNvPr id="114" name="Rectangle 21"/>
            <p:cNvSpPr/>
            <p:nvPr/>
          </p:nvSpPr>
          <p:spPr>
            <a:xfrm>
              <a:off x="5943600" y="3352680"/>
              <a:ext cx="3200040" cy="16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5760" indent="-455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90644"/>
                  </a:solidFill>
                  <a:latin typeface="Arial"/>
                </a:rPr>
                <a:t>Desinfecção de alto nível</a:t>
              </a:r>
              <a:endParaRPr b="0" lang="en-US" sz="2000" spc="-1" strike="noStrike">
                <a:solidFill>
                  <a:srgbClr val="090644"/>
                </a:solidFill>
                <a:latin typeface="Arial"/>
              </a:endParaRPr>
            </a:p>
            <a:p>
              <a:pPr marL="455760" indent="-455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90644"/>
                  </a:solidFill>
                  <a:latin typeface="Arial"/>
                </a:rPr>
                <a:t>Fervura</a:t>
              </a:r>
              <a:endParaRPr b="0" lang="en-US" sz="1800" spc="-1" strike="noStrike">
                <a:solidFill>
                  <a:srgbClr val="090644"/>
                </a:solidFill>
                <a:latin typeface="Arial"/>
              </a:endParaRPr>
            </a:p>
            <a:p>
              <a:pPr marL="455760" indent="-455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90644"/>
                  </a:solidFill>
                  <a:latin typeface="Arial"/>
                </a:rPr>
                <a:t>Vapor</a:t>
              </a:r>
              <a:endParaRPr b="0" lang="en-US" sz="1800" spc="-1" strike="noStrike">
                <a:solidFill>
                  <a:srgbClr val="090644"/>
                </a:solidFill>
                <a:latin typeface="Arial"/>
              </a:endParaRPr>
            </a:p>
            <a:p>
              <a:pPr marL="455760" indent="-455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90644"/>
                  </a:solidFill>
                  <a:latin typeface="Arial"/>
                </a:rPr>
                <a:t>Química </a:t>
              </a:r>
              <a:r>
                <a:rPr b="1" lang="pt-PT" sz="1800" spc="-1" strike="noStrike">
                  <a:solidFill>
                    <a:srgbClr val="090644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90644"/>
                </a:solidFill>
                <a:latin typeface="Arial"/>
              </a:endParaRPr>
            </a:p>
          </p:txBody>
        </p:sp>
        <p:pic>
          <p:nvPicPr>
            <p:cNvPr id="115" name="Picture 22" descr="hld"/>
            <p:cNvPicPr/>
            <p:nvPr/>
          </p:nvPicPr>
          <p:blipFill>
            <a:blip r:embed="rId4"/>
            <a:stretch/>
          </p:blipFill>
          <p:spPr>
            <a:xfrm>
              <a:off x="6032520" y="4733640"/>
              <a:ext cx="1599840" cy="1117440"/>
            </a:xfrm>
            <a:prstGeom prst="rect">
              <a:avLst/>
            </a:prstGeom>
            <a:ln w="38160">
              <a:solidFill>
                <a:srgbClr val="af4557"/>
              </a:solidFill>
              <a:miter/>
            </a:ln>
          </p:spPr>
        </p:pic>
      </p:grpSp>
      <p:grpSp>
        <p:nvGrpSpPr>
          <p:cNvPr id="116" name="Group 23"/>
          <p:cNvGrpSpPr/>
          <p:nvPr/>
        </p:nvGrpSpPr>
        <p:grpSpPr>
          <a:xfrm>
            <a:off x="4664160" y="2695680"/>
            <a:ext cx="441000" cy="739800"/>
            <a:chOff x="4664160" y="2695680"/>
            <a:chExt cx="441000" cy="739800"/>
          </a:xfrm>
        </p:grpSpPr>
        <p:sp>
          <p:nvSpPr>
            <p:cNvPr id="117" name="Freeform 24"/>
            <p:cNvSpPr/>
            <p:nvPr/>
          </p:nvSpPr>
          <p:spPr>
            <a:xfrm>
              <a:off x="4676760" y="2697480"/>
              <a:ext cx="415080" cy="734760"/>
            </a:xfrm>
            <a:prstGeom prst="pie">
              <a:avLst/>
            </a:pr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</p:txBody>
        </p:sp>
        <p:sp>
          <p:nvSpPr>
            <p:cNvPr id="118" name="Freeform 25"/>
            <p:cNvSpPr/>
            <p:nvPr/>
          </p:nvSpPr>
          <p:spPr>
            <a:xfrm>
              <a:off x="4664160" y="3278520"/>
              <a:ext cx="147600" cy="27000"/>
            </a:xfrm>
            <a:prstGeom prst="pie">
              <a:avLst/>
            </a:pr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</p:txBody>
        </p:sp>
        <p:sp>
          <p:nvSpPr>
            <p:cNvPr id="119" name="Freeform 26"/>
            <p:cNvSpPr/>
            <p:nvPr/>
          </p:nvSpPr>
          <p:spPr>
            <a:xfrm>
              <a:off x="4671720" y="3276720"/>
              <a:ext cx="220320" cy="158760"/>
            </a:xfrm>
            <a:prstGeom prst="pie">
              <a:avLst/>
            </a:pr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</p:txBody>
        </p:sp>
        <p:sp>
          <p:nvSpPr>
            <p:cNvPr id="120" name="Freeform 27"/>
            <p:cNvSpPr/>
            <p:nvPr/>
          </p:nvSpPr>
          <p:spPr>
            <a:xfrm>
              <a:off x="4882320" y="3273480"/>
              <a:ext cx="222840" cy="160560"/>
            </a:xfrm>
            <a:prstGeom prst="pie">
              <a:avLst/>
            </a:pr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</p:txBody>
        </p:sp>
        <p:sp>
          <p:nvSpPr>
            <p:cNvPr id="121" name="Freeform 28"/>
            <p:cNvSpPr/>
            <p:nvPr/>
          </p:nvSpPr>
          <p:spPr>
            <a:xfrm>
              <a:off x="4946760" y="3276720"/>
              <a:ext cx="145080" cy="27000"/>
            </a:xfrm>
            <a:prstGeom prst="pie">
              <a:avLst/>
            </a:pr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</p:txBody>
        </p:sp>
        <p:sp>
          <p:nvSpPr>
            <p:cNvPr id="122" name="Freeform 29"/>
            <p:cNvSpPr/>
            <p:nvPr/>
          </p:nvSpPr>
          <p:spPr>
            <a:xfrm>
              <a:off x="4895280" y="2695680"/>
              <a:ext cx="61560" cy="584280"/>
            </a:xfrm>
            <a:prstGeom prst="pie">
              <a:avLst/>
            </a:pr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</p:txBody>
        </p:sp>
        <p:sp>
          <p:nvSpPr>
            <p:cNvPr id="123" name="Freeform 30"/>
            <p:cNvSpPr/>
            <p:nvPr/>
          </p:nvSpPr>
          <p:spPr>
            <a:xfrm>
              <a:off x="4851000" y="2697480"/>
              <a:ext cx="54000" cy="27000"/>
            </a:xfrm>
            <a:prstGeom prst="pie">
              <a:avLst/>
            </a:pr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</p:txBody>
        </p:sp>
        <p:sp>
          <p:nvSpPr>
            <p:cNvPr id="124" name="Freeform 31"/>
            <p:cNvSpPr/>
            <p:nvPr/>
          </p:nvSpPr>
          <p:spPr>
            <a:xfrm>
              <a:off x="4801680" y="2697480"/>
              <a:ext cx="64440" cy="583920"/>
            </a:xfrm>
            <a:prstGeom prst="pie">
              <a:avLst/>
            </a:pr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90644"/>
                </a:solidFill>
                <a:latin typeface="Arial"/>
              </a:endParaRPr>
            </a:p>
          </p:txBody>
        </p:sp>
      </p:grpSp>
      <p:sp>
        <p:nvSpPr>
          <p:cNvPr id="125" name="Rectangle 32"/>
          <p:cNvSpPr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Processamento de instrumentos</a:t>
            </a:r>
            <a:endParaRPr b="0" lang="en-US" sz="40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1295280" y="1371600"/>
            <a:ext cx="2514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Processamento de Instrument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be406d"/>
                </a:solidFill>
                <a:latin typeface="CG Omega"/>
              </a:rPr>
              <a:t>Quadro 10-3 Eficácia dos métodos de processamento de instrumentos</a:t>
            </a:r>
            <a:endParaRPr b="0" lang="en-US" sz="2400" spc="-1" strike="noStrike">
              <a:solidFill>
                <a:srgbClr val="be406d"/>
              </a:solidFill>
              <a:latin typeface="CG Omeg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43000" y="1352520"/>
          <a:ext cx="7772400" cy="5270400"/>
        </p:xfrm>
        <a:graphic>
          <a:graphicData uri="http://schemas.openxmlformats.org/drawingml/2006/table">
            <a:tbl>
              <a:tblPr/>
              <a:tblGrid>
                <a:gridCol w="2514600"/>
                <a:gridCol w="2819520"/>
                <a:gridCol w="2438280"/>
              </a:tblGrid>
              <a:tr h="972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MÉTODO</a:t>
                      </a:r>
                      <a:r>
                        <a:rPr b="1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1368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EFICÁCIA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(destruir ou remover microrganismos)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1368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PONTO FINAL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1368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Descontaminação</a:t>
                      </a:r>
                      <a:r>
                        <a:rPr b="1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Destrói o VHB e HIV e a maioria dos microrganismos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mergulhar 10 minutos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Limpeza</a:t>
                      </a: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(só água)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Até 50 %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Até se apresentar limp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Limpeza</a:t>
                      </a: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(sabão e água limpa)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Até 80 %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Até se apresentar limp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Esterilizaçã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Vapor a alta pressão, calor seco ou acção química durante o tempo recomendad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Desinfecção de alto nível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13680">
                      <a:solidFill>
                        <a:srgbClr val="090644"/>
                      </a:solidFill>
                    </a:lnB>
                    <a:solidFill>
                      <a:srgbClr val="e6c0c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95 % (não inactiva alguns tipos de endospora)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13680">
                      <a:solidFill>
                        <a:srgbClr val="090644"/>
                      </a:solidFill>
                    </a:lnB>
                    <a:solidFill>
                      <a:srgbClr val="e6c0c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Fervura, vapor ou acção química durante 20 minutos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13680">
                      <a:solidFill>
                        <a:srgbClr val="090644"/>
                      </a:solidFill>
                    </a:lnB>
                    <a:solidFill>
                      <a:srgbClr val="e6c0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Marcador de Posição do Número do Diapositivo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2366-15DD-4B87-8FCB-2BF99A5C9605}" type="slidenum">
              <a:rPr b="1" lang="en-US" sz="1800" spc="-1" strike="noStrike">
                <a:solidFill>
                  <a:srgbClr val="150b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467480" cy="127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Desinfecção de alto nível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969560"/>
            <a:ext cx="7391520" cy="2907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pt-PT" sz="2400" spc="-1" strike="noStrike">
                <a:solidFill>
                  <a:srgbClr val="af4557"/>
                </a:solidFill>
                <a:latin typeface="Arial"/>
              </a:rPr>
              <a:t>Princípios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Destrói todos os microrganismos incluindo VHB, VHC e HIV; excepto alguns tipos de endosporas bacterian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331920" indent="-33192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A DAN é a única alternativa aceitável se equipamento de esterilização não está disponível ou não é adequad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166400" y="6194520"/>
            <a:ext cx="3603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90644"/>
                </a:solidFill>
                <a:latin typeface="Arial"/>
              </a:rPr>
              <a:t>Fonte</a:t>
            </a:r>
            <a:r>
              <a:rPr b="1" lang="en-US" sz="1400" spc="-1" strike="noStrike">
                <a:solidFill>
                  <a:srgbClr val="090644"/>
                </a:solidFill>
                <a:latin typeface="Arial"/>
              </a:rPr>
              <a:t>: Favero 1985; McIntosh et al 1994.</a:t>
            </a:r>
            <a:endParaRPr b="0" lang="en-US" sz="1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Marcador de Posição do Número do Diapositivo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BEF1-5F71-4C0B-91AB-3FAC66364914}" type="slidenum">
              <a:rPr b="1" lang="en-US" sz="1800" spc="-1" strike="noStrike">
                <a:solidFill>
                  <a:srgbClr val="150b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Métodos de DAN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371600" y="914400"/>
            <a:ext cx="274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af4557"/>
                </a:solidFill>
                <a:latin typeface="Arial"/>
              </a:rPr>
              <a:t>Fervur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066680" y="403848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af4557"/>
                </a:solidFill>
                <a:latin typeface="Arial"/>
              </a:rPr>
              <a:t>Químic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477120" y="1812960"/>
            <a:ext cx="1676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4557"/>
                </a:solidFill>
                <a:latin typeface="Arial"/>
              </a:rPr>
              <a:t>Vapor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38" name="Picture 9" descr="SPECPOT"/>
          <p:cNvPicPr/>
          <p:nvPr/>
        </p:nvPicPr>
        <p:blipFill>
          <a:blip r:embed="rId1"/>
          <a:stretch/>
        </p:blipFill>
        <p:spPr>
          <a:xfrm>
            <a:off x="1066680" y="13906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2"/>
          <a:srcRect l="19031" t="0" r="26289" b="28"/>
          <a:stretch/>
        </p:blipFill>
        <p:spPr>
          <a:xfrm>
            <a:off x="5826240" y="2286000"/>
            <a:ext cx="2936880" cy="3809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hemicalHLD"/>
          <p:cNvPicPr/>
          <p:nvPr/>
        </p:nvPicPr>
        <p:blipFill>
          <a:blip r:embed="rId3"/>
          <a:stretch/>
        </p:blipFill>
        <p:spPr>
          <a:xfrm>
            <a:off x="1066680" y="44956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Marcador de Posição do Número do Diapositivo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5A41-FA98-4453-B8DA-427E923B79B6}" type="slidenum">
              <a:rPr b="1" lang="en-US" sz="1800" spc="-1" strike="noStrike">
                <a:solidFill>
                  <a:srgbClr val="150b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100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Desinfecção de alto nível pela fervura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af4557"/>
                </a:solidFill>
                <a:latin typeface="Arial"/>
              </a:rPr>
              <a:t>Prátic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Ferva os instrumentos durante 20 minutos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Ferva sempre os instrumentos numa panela com tampa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Comece a contar o tempo quando a água começa a ferver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Não acrescente nada à panela depois do inicio da contagem do temp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Deixe secar ao ar antes de usar ou guardar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65040" y="61945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0644"/>
              </a:solidFill>
              <a:latin typeface="Arial"/>
            </a:endParaRPr>
          </a:p>
        </p:txBody>
      </p:sp>
      <p:pic>
        <p:nvPicPr>
          <p:cNvPr id="145" name="Picture 5" descr="SPECPOT"/>
          <p:cNvPicPr/>
          <p:nvPr/>
        </p:nvPicPr>
        <p:blipFill>
          <a:blip r:embed="rId1"/>
          <a:stretch/>
        </p:blipFill>
        <p:spPr>
          <a:xfrm>
            <a:off x="5257800" y="21337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Marcador de Posição do Número do Diapositivo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6EAB-72C4-417B-856B-EEAAFE7A7DB1}" type="slidenum">
              <a:rPr b="1" lang="en-US" sz="1800" spc="-1" strike="noStrike">
                <a:solidFill>
                  <a:srgbClr val="150b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Desinfecção de alto nível pelo vapor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af4557"/>
                </a:solidFill>
                <a:latin typeface="Arial"/>
              </a:rPr>
              <a:t>Prática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Submeta os itens ao vapor durante 20 minut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Certifique-se que há água suficiente na panela inferior para todo o período de vapor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Deixe a água entrar em franca ebuliçã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Quando o vapor começar a sair entre as panelas e a tampa, ligue o temporizador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Não acrescente nada à panela depois do inicio da contagem do temp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Deixe os itens secar ao ar nas panelas de vapor antes da utilizaçã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Marcador de Posição do Número do Diapositivo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E540-5C41-4951-A078-407249148842}" type="slidenum">
              <a:rPr b="1" lang="en-US" sz="1800" spc="-1" strike="noStrike">
                <a:solidFill>
                  <a:srgbClr val="150b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100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88920" rIns="8892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Vaporizador utilizado para DAN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rcRect l="19031" t="0" r="26289" b="28"/>
          <a:stretch/>
        </p:blipFill>
        <p:spPr>
          <a:xfrm>
            <a:off x="5268960" y="1785960"/>
            <a:ext cx="3230640" cy="438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CIIP-117"/>
          <p:cNvPicPr/>
          <p:nvPr/>
        </p:nvPicPr>
        <p:blipFill>
          <a:blip r:embed="rId2"/>
          <a:stretch/>
        </p:blipFill>
        <p:spPr>
          <a:xfrm>
            <a:off x="1295280" y="18288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OLGA</cp:lastModifiedBy>
  <dcterms:modified xsi:type="dcterms:W3CDTF">2013-05-22T13:23:54Z</dcterms:modified>
  <cp:revision>211</cp:revision>
  <dc:subject/>
  <dc:title>JHPIEGO PowerPoint Presentation template</dc:title>
</cp:coreProperties>
</file>