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CA4A-029C-4995-A1C5-6D977DFAE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27A9-A3DF-454D-BC5F-EE3D66C87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E63D-DB92-42C9-858A-39354083F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342F-42D5-4AFB-AC74-5E2A4BFD1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B688-B5F3-436C-A0DA-EC8224857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CFE3-B99D-4F61-BFB8-42E6819FA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7FD0-784F-41C5-A3E0-537843C81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DA2B-2394-480C-A519-3A0DF0C72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BA59-AB95-49D8-A4C4-DA7EF56A5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5A4C-7B5E-404D-9624-820EBD313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B13D-6F78-415F-A86B-772AABC1D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EA52-8235-4579-8F59-F7C418716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65E-D0A8-449F-92CB-14521E612CD9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Luvas</a:t>
            </a:r>
            <a:endParaRPr b="0" lang="en-US" sz="4400" spc="-1" strike="noStrike">
              <a:solidFill>
                <a:srgbClr val="af4557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 CHAVE que irá aprender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Quando utilizar luv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Que tipo de luvas utiliza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Quais são as exigências em termos de luvas para procedimentos clín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O que Fazer e que Não Fazer quanto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à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utilização de luv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Quando utilizar luv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As luvas devem ser utilizadas quand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Existe uma probabilidade razoável de contacto das mãos com sangue ou outros fluidos corporais, membranas mucosas ou pele não íntegr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Se realizam procedimentos médicos invasiv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Manuseiam lixo contaminado ou tocam superfícies contaminad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Tipos de Luv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7199" t="2418" r="15191" b="25595"/>
          <a:stretch/>
        </p:blipFill>
        <p:spPr>
          <a:xfrm>
            <a:off x="5791320" y="4114800"/>
            <a:ext cx="2666880" cy="2023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rcRect l="1902" t="18337" r="3810" b="48"/>
          <a:stretch/>
        </p:blipFill>
        <p:spPr>
          <a:xfrm>
            <a:off x="5334120" y="2286000"/>
            <a:ext cx="1904760" cy="1397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71600" y="406404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20482" t="4426" r="4897" b="4233"/>
          <a:stretch/>
        </p:blipFill>
        <p:spPr>
          <a:xfrm>
            <a:off x="1600200" y="380880"/>
            <a:ext cx="238140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xigências em termos de luv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180828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14800" y="3489480"/>
            <a:ext cx="4343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3399"/>
                </a:solidFill>
                <a:latin typeface="Arial"/>
              </a:rPr>
              <a:t>Consultar o manual de refer</a:t>
            </a:r>
            <a:r>
              <a:rPr b="1" lang="pt-PT" sz="3000" spc="-1" strike="noStrike">
                <a:solidFill>
                  <a:srgbClr val="003399"/>
                </a:solidFill>
                <a:latin typeface="Arial"/>
              </a:rPr>
              <a:t>ê</a:t>
            </a:r>
            <a:r>
              <a:rPr b="1" lang="pt-PT" sz="3000" spc="-1" strike="noStrike">
                <a:solidFill>
                  <a:srgbClr val="003399"/>
                </a:solidFill>
                <a:latin typeface="Arial"/>
              </a:rPr>
              <a:t>ncia, página 4-5, Quadro 4-2</a:t>
            </a:r>
            <a:r>
              <a:rPr b="1" lang="pt-BR" sz="3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Outros tópicos com as luv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Recolocar luvas depois da contamin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Reacções alérgicas a luva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Fazer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Utilize o tamanho correcto de luva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Mude as luvas cirúrgicas de borracha periodicamente durante casos demorado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Mantenha as unhas aparadas moderadamente curta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Puxe as luvas ate as poder prender por cima dos punhos da bata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Utilize loções e cremes para as mãos à base de água e hidratantes com frequência para evitar que as mãos sequem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Não Fazer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Não utilize loções e cremes para as mãos à base de óleos e com fragrância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Não guarde as luvas em áreas com temperaturas extrema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Não esquecer d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4114800"/>
            <a:ext cx="1957680" cy="2152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485720" cy="175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3880" y="1660680"/>
            <a:ext cx="2971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99"/>
                </a:solidFill>
                <a:latin typeface="Arial"/>
              </a:rPr>
              <a:t>Antes de colocar as luvas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478476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99"/>
                </a:solidFill>
                <a:latin typeface="Arial"/>
              </a:rPr>
              <a:t>Após remover as luvas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Amelia Kaufman</cp:lastModifiedBy>
  <dcterms:modified xsi:type="dcterms:W3CDTF">2006-08-08T19:51:05Z</dcterms:modified>
  <cp:revision>112</cp:revision>
  <dc:subject/>
  <dc:title>JHPIEGO PowerPoint Presentation template</dc:title>
</cp:coreProperties>
</file>