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8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27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4.wmf" ContentType="image/x-wmf"/>
  <Override PartName="/ppt/media/image9.jpeg" ContentType="image/jpeg"/>
  <Override PartName="/ppt/media/image26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99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4557"/>
                </a:solidFill>
                <a:latin typeface="CG Omega"/>
              </a:rPr>
              <a:t>Click to move the slide</a:t>
            </a:r>
            <a:endParaRPr b="0" lang="en-US" sz="3600" spc="-1" strike="noStrike">
              <a:solidFill>
                <a:srgbClr val="af4557"/>
              </a:solidFill>
              <a:latin typeface="CG Omeg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6371-C944-41FB-BA10-CA62730587C3}" type="slidenum">
              <a:rPr b="1" lang="pt-BR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95320" y="4346640"/>
            <a:ext cx="5067360" cy="4122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needle stick accidents continue to be a problem in the clinic and hospital, immediately after using a needle and syringe, place it in a puncture-proof container for dispos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a possibility that someone else may come into contact with used needles and syringes, decontaminate them by flushing them three times with a disinfectant before disposal (bleach is cheap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bend, break, or recap a needle before disposal. If, in some instances, it is absolutely necessary, recap the needle using the one-hand recap meth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E691-4864-41A0-A9B2-E7445C7A3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075B-9575-4AF6-8A89-03845D394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4703-6578-4D6B-BB9A-35081D1AC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90A2-5CE5-446F-9504-54D37C990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BFEF-DCCB-4319-8D8B-AF02CB929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1785-C311-4974-8276-B6273834F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1AF9-13CF-448A-9879-E6FE65299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10AD-393B-491F-968E-0CF1F66C7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BB41-FC4E-4E47-841B-64571CA42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E8CE-AD47-4A4A-81B4-7CA94A9FD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1323-57E2-4CE7-B31A-C7AFDD075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CA35-C760-40EB-887E-92D225D24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7400" y="2286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150b5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26DD-F427-4CC3-AAAF-FA627FE63C99}" type="slidenum">
              <a:rPr b="1" lang="en-US" sz="1800" spc="-1" strike="noStrike">
                <a:solidFill>
                  <a:srgbClr val="150b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Click to edit the title text format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2" marL="154296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3" marL="199872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4" marL="2455920" indent="-343080">
              <a:spcBef>
                <a:spcPts val="60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5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6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95280"/>
            <a:ext cx="990720" cy="5562720"/>
          </a:xfrm>
          <a:prstGeom prst="rect">
            <a:avLst/>
          </a:prstGeom>
          <a:solidFill>
            <a:srgbClr val="090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987480" cy="121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4557"/>
                </a:solidFill>
                <a:latin typeface="CG Omega"/>
              </a:rPr>
              <a:t>Click to edit the title text format</a:t>
            </a:r>
            <a:endParaRPr b="0" lang="en-US" sz="3600" spc="-1" strike="noStrike">
              <a:solidFill>
                <a:srgbClr val="af4557"/>
              </a:solidFill>
              <a:latin typeface="CG Omega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2520" y="2362320"/>
            <a:ext cx="2211480" cy="271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67360"/>
            <a:ext cx="9167760" cy="1790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2" marL="857160" indent="344520" algn="ctr">
              <a:lnSpc>
                <a:spcPct val="8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3" marL="1200240" indent="457200" algn="ctr">
              <a:lnSpc>
                <a:spcPct val="7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4" marL="1542960" indent="569880" algn="ctr">
              <a:lnSpc>
                <a:spcPct val="70000"/>
              </a:lnSpc>
              <a:spcBef>
                <a:spcPts val="45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  <a:p>
            <a:pPr lvl="5" marL="1542960" indent="569880">
              <a:spcBef>
                <a:spcPts val="45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  <a:p>
            <a:pPr lvl="6" marL="1542960" indent="569880">
              <a:spcBef>
                <a:spcPts val="45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af4557"/>
                </a:solidFill>
                <a:latin typeface="CG Omega"/>
              </a:rPr>
              <a:t>Práticas seguras na sala de operações</a:t>
            </a:r>
            <a:endParaRPr b="0" lang="en-US" sz="3600" spc="-1" strike="noStrike">
              <a:solidFill>
                <a:srgbClr val="af4557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Práticas seguras na SO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455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90644"/>
                </a:solidFill>
                <a:latin typeface="Arial"/>
              </a:rPr>
              <a:t>Conceber operações seguras:</a:t>
            </a: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Breve conversa antes da operação sobre os passos de como serão manipulados os objectos pérfuro-cortantes 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Minimizar o uso de objectos cortantes ou usar os menos perigosos (tesouras de ponta romba em vez do bisturi) sempre que possível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Utilizar uma técnica de “Sem Mãos” (Zona segura)para passar instrumentos pérfuro-cortante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Usar agulhas de ponta romba para suturar e pinça  para tecidos para segurar os tecido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Usar pinças, para apanhar agulhas de sutura, ou colocar no recipiente, ou para remover a lâmina do bisturi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Evitar suturação cega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Usar luvas duplas 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Usar luvas compridas que cubram os antebraços para procedimentos obstétrico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be406d"/>
                </a:solidFill>
                <a:latin typeface="CG Omega"/>
              </a:rPr>
              <a:t>Passagem sem mãos, “zona segura”</a:t>
            </a: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7440" y="1601640"/>
            <a:ext cx="5484960" cy="411336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Colocação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08160" y="1679400"/>
            <a:ext cx="5969160" cy="411192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467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be406d"/>
                </a:solidFill>
                <a:latin typeface="CG Omega"/>
              </a:rPr>
              <a:t>Bisturi com lamina retráctil</a:t>
            </a: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816520" cy="411480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-1526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Zona neutra ou zona segura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4876920" cy="329868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8320" y="3500280"/>
            <a:ext cx="4343400" cy="320544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Agulha de ponta romba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4496040" cy="310500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33840" y="3727440"/>
            <a:ext cx="4457880" cy="290196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0720" y="1371600"/>
            <a:ext cx="7924680" cy="48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Caso não estejam disponíveis luvas compridas, pode ser realizada uma alternativa barata e eficaz, a partir de luvas cirúrgicas previamente utilizadas que foram descontaminadas, limpas e secas 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c46b7a"/>
                </a:solidFill>
                <a:latin typeface="Arial"/>
              </a:rPr>
              <a:t>Os passos para a confecção de luvas compridas são:</a:t>
            </a: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af4557"/>
                </a:solidFill>
                <a:latin typeface="Arial"/>
                <a:ea typeface="Times New Roman"/>
              </a:rPr>
              <a:t>Passo 1: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Times New Roman"/>
              </a:rPr>
              <a:t> 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Cortar completamente os quatro dedos de cada luva, logo abaixo do ponto em que os dedos encontram a luva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af4557"/>
                </a:solidFill>
                <a:latin typeface="Arial"/>
                <a:ea typeface="Times New Roman"/>
              </a:rPr>
              <a:t>Passo 2: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Times New Roman"/>
              </a:rPr>
              <a:t> 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Esterilizar ou submeter a desinfecção de alto nível 2 a 3 pares de luvas cortadas (sem dedos), de acordo com o procedimento recomendado para cada método. Após o processamento final, guardar as luvas num recipiente esterilizado ou submetido a desinfecção de alto nível até que sejam necessárias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Luvas que cubram os antebraços</a:t>
            </a:r>
            <a:endParaRPr b="0" lang="en-US" sz="40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371600" y="533520"/>
            <a:ext cx="3276720" cy="2543040"/>
            <a:chOff x="1371600" y="533520"/>
            <a:chExt cx="3276720" cy="25430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1676520" y="1523880"/>
              <a:ext cx="2971800" cy="15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371600" y="533520"/>
              <a:ext cx="91440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800" spc="-1" strike="noStrike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38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648320" y="3352680"/>
            <a:ext cx="4114800" cy="3070440"/>
            <a:chOff x="4648320" y="3352680"/>
            <a:chExt cx="4114800" cy="307044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5105520" y="3657600"/>
              <a:ext cx="3657600" cy="27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648320" y="3352680"/>
              <a:ext cx="106668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800" spc="-1" strike="noStrike">
                  <a:solidFill>
                    <a:srgbClr val="003399"/>
                  </a:solidFill>
                  <a:latin typeface="Arial"/>
                </a:rPr>
                <a:t>2</a:t>
              </a:r>
              <a:endParaRPr b="0" lang="en-US" sz="38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be406d"/>
                </a:solidFill>
                <a:latin typeface="CG Omega"/>
              </a:rPr>
              <a:t>Manuseamento seguro das agulhas hipodérmicas e seringas</a:t>
            </a: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33800" y="2093760"/>
            <a:ext cx="33433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Práticas de injecções segura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1719360"/>
            <a:ext cx="7467840" cy="3773880"/>
          </a:xfrm>
          <a:prstGeom prst="rect">
            <a:avLst/>
          </a:prstGeom>
          <a:noFill/>
          <a:ln w="28440">
            <a:solidFill>
              <a:srgbClr val="b8b5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marL="227160" indent="-227160" algn="ctr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f4557"/>
                </a:solidFill>
                <a:latin typeface="Arial"/>
              </a:rPr>
              <a:t>Conselhos de segurança para a utilização </a:t>
            </a:r>
            <a:br>
              <a:rPr sz="2400"/>
            </a:br>
            <a:r>
              <a:rPr b="1" i="1" lang="pt-PT" sz="2400" spc="-1" strike="noStrike">
                <a:solidFill>
                  <a:srgbClr val="af4557"/>
                </a:solidFill>
                <a:latin typeface="Arial"/>
              </a:rPr>
              <a:t>de agulhas hipodérmicas e seringas</a:t>
            </a: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spcAft>
                <a:spcPts val="1001"/>
              </a:spcAft>
              <a:buClr>
                <a:srgbClr val="af4557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Utilize cada agulha e cada seringa somente uma vez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spcAft>
                <a:spcPts val="1001"/>
              </a:spcAft>
              <a:buClr>
                <a:srgbClr val="af4557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Não desmonte a agulha e a seringa após utilização</a:t>
            </a:r>
            <a:r>
              <a:rPr b="0" lang="en-US" sz="2000" spc="-1" strike="noStrike">
                <a:solidFill>
                  <a:srgbClr val="09064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spcAft>
                <a:spcPts val="1001"/>
              </a:spcAft>
              <a:buClr>
                <a:srgbClr val="af4557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Não coloque a tampa, dobre ou parta as agulhas antes de as descartar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spcAft>
                <a:spcPts val="1001"/>
              </a:spcAft>
              <a:buClr>
                <a:srgbClr val="af4557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Descontamine a agulha e a seringa antes do descarte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spcAft>
                <a:spcPts val="1001"/>
              </a:spcAft>
              <a:buClr>
                <a:srgbClr val="af4557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Descarte a agulha e a seringa num recipiente para pérfuro-cortantes (caixa incineradora) no local do procedimento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Objectivo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90644"/>
                </a:solidFill>
                <a:latin typeface="Arial"/>
              </a:rPr>
              <a:t>CONCEITOS-CHAVE</a:t>
            </a:r>
            <a:r>
              <a:rPr b="1" lang="en-US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As razões para que existam tantos riscos na sala de operações 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Quais são os instrumentos que causam a maioria das lesões 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Como evitar lesões por objectos pérfuro-cortantes 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Como gerir a exposição ao sangue e a fluidos corporais 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Práticas de injecções segura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5638680"/>
            <a:ext cx="70866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af4557"/>
                </a:solidFill>
                <a:latin typeface="Arial"/>
                <a:ea typeface="Arial"/>
              </a:rPr>
              <a:t>Nota: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 Se reencapar for necessário porque o contentor de objectos pérfuro-cortantes não est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á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 disponível ou por perto, treinar o pessoal a usar o método de “uma mão”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40" name="capneedle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37335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be406d"/>
                </a:solidFill>
                <a:latin typeface="CG Omega"/>
              </a:rPr>
              <a:t>Manuseamento de agulhas e objectos pérfuro-cortantes</a:t>
            </a: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91320" y="1828440"/>
            <a:ext cx="3047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Não recolocar a tampa da agulha antes de descartar a não ser que use a técnica “de uma mão”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  <a:ea typeface="Times New Roman"/>
              </a:rPr>
              <a:t>Lavar a agulha e a seringa três vezes com uma solução de cloro a 0.5% e colocar a agulha e a seringa montada num recipiente para objectos pérfuro-cortantes no local do procedimento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3353040" cy="288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905120" y="4114800"/>
            <a:ext cx="36576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be406d"/>
                </a:solidFill>
                <a:latin typeface="CG Omega"/>
              </a:rPr>
              <a:t>Manuseamento de agulhas e objectos pérfuro-cortantes</a:t>
            </a: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1240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Times New Roman"/>
              </a:rPr>
              <a:t>Use um recipiente para objectos pérfuro-cortantes resistente 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à 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Times New Roman"/>
              </a:rPr>
              <a:t>perfuração para armazenar e/ou descartar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1080" indent="-451080">
              <a:lnSpc>
                <a:spcPct val="80000"/>
              </a:lnSpc>
              <a:spcBef>
                <a:spcPts val="1250"/>
              </a:spcBef>
              <a:spcAft>
                <a:spcPts val="1001"/>
              </a:spcAft>
              <a:buClr>
                <a:srgbClr val="c46b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Quando o recipiente estiver três-quartos cheio, descartá-lo através de enterramento, encapsulamento ou incineraç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200400" cy="2979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95880" y="4343400"/>
            <a:ext cx="27432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391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Utilização de agulhas e seringas autodestructiva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391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gulhas e seringas autodestrutivas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Times New Roman"/>
              </a:rPr>
              <a:t> (ex., SoloShot FX</a:t>
            </a:r>
            <a:r>
              <a:rPr b="0" lang="pt-PT" sz="2000" spc="-1" strike="noStrike">
                <a:solidFill>
                  <a:srgbClr val="090644"/>
                </a:solidFill>
                <a:latin typeface="Symbol"/>
                <a:ea typeface="Symbol"/>
              </a:rPr>
              <a:t></a:t>
            </a:r>
            <a:r>
              <a:rPr b="0" lang="pt-PT" sz="2000" spc="-1" strike="noStrike">
                <a:solidFill>
                  <a:srgbClr val="090644"/>
                </a:solidFill>
                <a:latin typeface="Times New Roman"/>
                <a:ea typeface="Times New Roman"/>
              </a:rPr>
              <a:t> 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Times New Roman"/>
              </a:rPr>
              <a:t>ou Uniject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™)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gulhas e seringas autodestrutivas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Times New Roman"/>
              </a:rPr>
              <a:t> não podem ser reutilizadas a fim de reduzir o risco para os doentes. No entanto, </a:t>
            </a:r>
            <a:r>
              <a:rPr b="0" lang="pt-PT" sz="2000" spc="-1" strike="noStrike">
                <a:solidFill>
                  <a:srgbClr val="c46b7a"/>
                </a:solidFill>
                <a:latin typeface="Arial"/>
                <a:ea typeface="Times New Roman"/>
              </a:rPr>
              <a:t>nenhuma: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7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  <a:ea typeface="Times New Roman"/>
              </a:rPr>
              <a:t>elimina o risco de lesões por picadas de agulhas nos trabalhadores de saúde, pessoal de limpeza e a comunidade a não ser que tenham sido descontaminadas antes de colocar no recipiente de objectos pérfuro-cortantes, ou garantir que o destino final das mesmas seja apropriado 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76920" y="4114800"/>
            <a:ext cx="411480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143000" y="4419720"/>
            <a:ext cx="4038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305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be406d"/>
                </a:solidFill>
                <a:latin typeface="CG Omega"/>
              </a:rPr>
              <a:t>Como minimizar riscos para os pacientes, trabalhadores de saúde e a comunidade</a:t>
            </a:r>
            <a:endParaRPr b="0" lang="en-US" sz="32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Reduzir o número de injecções desnecessárias através de educação e mudanças de comportamento do trabalhador de cuidados de saúde e dos doentes e utente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Manter abastecimento adequado de seringas e agulhas de uso único ( descartável)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Treinar o pessoal a usar as praticas de injecções seguras 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Times New Roman"/>
              </a:rPr>
              <a:t>Após a descontaminação, descartar imediatamente a seringa e a agulha num recipiente para objectos pérfuro-cortantes. Tentar reemcapar conta para um terço de todas as picadas de agulha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Times New Roman"/>
              </a:rPr>
              <a:t>Colocar os recipientes para objectos pérfuro-cortantes o mais perto do local de utilização (ex., cama do doente ou a mesa de exame) se possível ao alcance da m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Implementar um sistema efectivo para descartar os recipientes de objectos pérfuro-cortante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6434280"/>
            <a:ext cx="2514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0644"/>
                </a:solidFill>
                <a:latin typeface="Arial"/>
              </a:rPr>
              <a:t>Fonte: Jagger et al 1998</a:t>
            </a:r>
            <a:endParaRPr b="0" lang="en-US" sz="12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Introdução aos cuidados pós-exposição ao sangue e/ou outros fluidos corporai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Prevenir a transmissão de  agentes patogénicos do sangue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480" y="2209320"/>
            <a:ext cx="7010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Promover a vacinação contra a  hepatite B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Tratar todos os doentes e utentes como sendo potencialmente infectad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Usar as precauções básicas em todos os doentes e utente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Prevenir lesões percutâne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77240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Elementos do programa de gestão da pós-exposição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52480" y="2209320"/>
            <a:ext cx="7010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Claros procedimentos e polític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Formação do pessoal de saúde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Rápido acesso a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Cuidados clínico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Profilaxia da pós-exposição (PPE)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Testar a origem dos doentes e utente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Avaliação da prevenção do acidente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77240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Elementos da gestão da pós-exposição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52480" y="2209320"/>
            <a:ext cx="7010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Gestão das ferid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Apresentação do relatório da exposiçã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Avaliação do risco de infecção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Tipo e  severidade da exposiç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Estatuto da origem de infecção do sangue do doente ou utente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Apropriado tratamento, seguimento e serviço de aconselhament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Gestão das ferida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52480" y="2209320"/>
            <a:ext cx="7010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Limpar as feridas com sabão e água limpa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Limpar com água limpa as membranas mucos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Não há evidência de benefício de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plicação de antissépticos ou desinfectante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Espremer o sitio da perfuraç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Evitar o uso de hipoclorito de sódio ou outro agente cáustico nas ferid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A sala de operações é arriscada?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1768680" cy="1795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562720" y="2819520"/>
            <a:ext cx="304632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e406d"/>
                </a:solidFill>
                <a:latin typeface="CG Omega"/>
              </a:rPr>
              <a:t>HIV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f4557"/>
                </a:solidFill>
                <a:latin typeface="Arial"/>
              </a:rPr>
              <a:t>O risco aumenta para exposições envolvendo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Lesão profunda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Sangue visível no dispositiv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Dispositivo na artéria ou veia do doente de origem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O doente de origem morreu de SIDA dentro de 60 dias após exposiçã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f4557"/>
                </a:solidFill>
                <a:latin typeface="Arial"/>
              </a:rPr>
              <a:t>Risco médio de infecção de HIV por rota da exposição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Percutânea: 0.3%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Membranas mucosas : 0.1%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Pele não íntegra: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Arial"/>
              </a:rPr>
              <a:t>&lt;0.1%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e406d"/>
                </a:solidFill>
                <a:latin typeface="CG Omega"/>
              </a:rPr>
              <a:t>HIV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f4557"/>
                </a:solidFill>
                <a:latin typeface="Arial"/>
              </a:rPr>
              <a:t>Teste de HIV da origem da exposição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Teste rápid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Arial"/>
              </a:rPr>
              <a:t>Se os testes do paciente de origem são HIV negativos e não há evidencia clínica de infecção de HIV, não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é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Arial"/>
              </a:rPr>
              <a:t> indicado avaliação posterior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f4557"/>
                </a:solidFill>
                <a:latin typeface="Arial"/>
              </a:rPr>
              <a:t>Testar os trabalhadores de saúde para HIV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Teste rápid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Intervalo de teste recomendado 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Teste de base, 6 e 12 semanas, 6 meses (se a origem é HIV+ ou desconhecida)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valiação posterior não é indicada se a origem é HIV negativa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e406d"/>
                </a:solidFill>
                <a:latin typeface="CG Omega"/>
              </a:rPr>
              <a:t>PPE HIV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af4557"/>
                </a:solidFill>
                <a:latin typeface="Arial"/>
              </a:rPr>
              <a:t>Considerar: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Risco de transmissão 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Risco de efeitos adverso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af4557"/>
                </a:solidFill>
                <a:latin typeface="Arial"/>
              </a:rPr>
              <a:t>PPE HIV: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Se for indicado, dar inicio a uma PPE o mais cedo possível após a exposiç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Considerar reavaliação da pessoa exposta dentro de 72 horas: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Informação adicional acerca do doente de origem talvez venha estar disponível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Se o paciente de origem testar HIV negativo, parar com a PPE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Decidir qual regime de PPE deve ser usado de acordo com o protocolo vigente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5029200" cy="346896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038480" y="3289320"/>
            <a:ext cx="4953240" cy="341640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5486400" cy="376236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038480" y="3305160"/>
            <a:ext cx="4953240" cy="341784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100" spc="-1" strike="noStrike">
                <a:solidFill>
                  <a:srgbClr val="be406d"/>
                </a:solidFill>
                <a:latin typeface="CG Omega"/>
              </a:rPr>
              <a:t>Características especiais do ambiente cirúrgico:</a:t>
            </a:r>
            <a:endParaRPr b="0" lang="en-US" sz="41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7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90644"/>
                </a:solidFill>
                <a:latin typeface="Arial"/>
              </a:rPr>
              <a:t>Espaço confinado, geralmente com pobre visibilidade, e </a:t>
            </a:r>
            <a:r>
              <a:rPr b="0" i="1" lang="pt-PT" sz="2800" spc="-1" strike="noStrike">
                <a:solidFill>
                  <a:srgbClr val="090644"/>
                </a:solidFill>
                <a:latin typeface="Arial"/>
              </a:rPr>
              <a:t>stress </a:t>
            </a:r>
            <a:r>
              <a:rPr b="0" lang="pt-PT" sz="2800" spc="-1" strike="noStrike">
                <a:solidFill>
                  <a:srgbClr val="090644"/>
                </a:solidFill>
                <a:latin typeface="Arial"/>
              </a:rPr>
              <a:t>elevado</a:t>
            </a: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7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90644"/>
                </a:solidFill>
                <a:latin typeface="Arial"/>
              </a:rPr>
              <a:t>A maior parte de lesões com objectos pérfuro-cortantes ocorrem na sala de operações</a:t>
            </a: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be406d"/>
                </a:solidFill>
                <a:latin typeface="CG Omega"/>
              </a:rPr>
              <a:t>Quais são os instrumentos que causam lesões?</a:t>
            </a: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 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524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90644"/>
                </a:solidFill>
                <a:latin typeface="Arial"/>
              </a:rPr>
              <a:t>Agulhas hipodérmicas</a:t>
            </a:r>
            <a:endParaRPr b="0" lang="en-US" sz="21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524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90644"/>
                </a:solidFill>
                <a:latin typeface="Arial"/>
              </a:rPr>
              <a:t>Fios de sutura metálicos</a:t>
            </a:r>
            <a:endParaRPr b="0" lang="en-US" sz="21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524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90644"/>
                </a:solidFill>
                <a:latin typeface="Arial"/>
              </a:rPr>
              <a:t>Trocartes para laparoscopia e drenagem cirúrgica</a:t>
            </a:r>
            <a:endParaRPr b="0" lang="en-US" sz="21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524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90644"/>
                </a:solidFill>
                <a:latin typeface="Arial"/>
              </a:rPr>
              <a:t>Trépanos ortopédicos, parafusos, cavilhas, fios e serras</a:t>
            </a:r>
            <a:endParaRPr b="0" lang="en-US" sz="21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524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90644"/>
                </a:solidFill>
                <a:latin typeface="Arial"/>
              </a:rPr>
              <a:t>Pontas de cauterização</a:t>
            </a:r>
            <a:endParaRPr b="0" lang="en-US" sz="21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524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90644"/>
                </a:solidFill>
                <a:latin typeface="Arial"/>
              </a:rPr>
              <a:t>Ganchos para a pele e grampos para tecido</a:t>
            </a:r>
            <a:endParaRPr b="0" lang="en-US" sz="21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524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90644"/>
                </a:solidFill>
                <a:latin typeface="Arial"/>
              </a:rPr>
              <a:t>Tesouras de ponta fina e pinças mosquito de ponta fina</a:t>
            </a:r>
            <a:endParaRPr b="0" lang="en-US" sz="21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524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90644"/>
                </a:solidFill>
                <a:latin typeface="Arial"/>
              </a:rPr>
              <a:t>Pinças de dissecção</a:t>
            </a:r>
            <a:endParaRPr b="0" lang="en-US" sz="21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524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90644"/>
                </a:solidFill>
                <a:latin typeface="Arial"/>
              </a:rPr>
              <a:t>Ganchos</a:t>
            </a:r>
            <a:endParaRPr b="0" lang="en-US" sz="21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2747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be406d"/>
                </a:solidFill>
                <a:latin typeface="CG Omega"/>
              </a:rPr>
              <a:t>Quando ocorrem  </a:t>
            </a:r>
            <a:br>
              <a:rPr sz="4000"/>
            </a:br>
            <a:r>
              <a:rPr b="1" lang="pt-PT" sz="4000" spc="-1" strike="noStrike">
                <a:solidFill>
                  <a:srgbClr val="be406d"/>
                </a:solidFill>
                <a:latin typeface="CG Omega"/>
              </a:rPr>
              <a:t>as lesões</a:t>
            </a: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 </a:t>
            </a:r>
            <a:r>
              <a:rPr b="0" lang="en-US" sz="3600" spc="-1" strike="noStrike">
                <a:solidFill>
                  <a:srgbClr val="be406d"/>
                </a:solidFill>
                <a:latin typeface="CG Omega"/>
              </a:rPr>
              <a:t>?</a:t>
            </a: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o colocar e retirar a lâmina descartável 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o passar o bisturi de mão em m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o cortar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ntes e depois de utilizar o bisturi: ao deixá-lo no campo cirúrgico, deixando-o cair, etc..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o colocar o bisturi num recipiente de objectos pérfuro-cortantes já cheio ou mal localizad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o posicionar ou reposicionar a agulha no porta-agulha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o passar a agulha de mão em mão 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o suturar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o dar o nó com a agulha ainda presa antes e depois de utilizar a agulha ao deixá-la no campo cirúrgic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o colocar as agulhas num recipiente de objectos pérfuro-cortantes já cheio ou num recipiente mal localizad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1131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pt-PT" sz="3000" spc="-1" strike="noStrike">
                <a:solidFill>
                  <a:srgbClr val="be406d"/>
                </a:solidFill>
                <a:latin typeface="CG Omega"/>
              </a:rPr>
              <a:t>CONCEBER OPERAÇÕES MAIS SEGURAS</a:t>
            </a:r>
            <a:br>
              <a:rPr sz="3200"/>
            </a:br>
            <a:endParaRPr b="0" lang="en-US" sz="30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24964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03:57:37Z</dcterms:created>
  <dc:creator>ltietjen</dc:creator>
  <dc:description/>
  <dc:language>en-US</dc:language>
  <cp:lastModifiedBy>Amelia Kaufman</cp:lastModifiedBy>
  <dcterms:modified xsi:type="dcterms:W3CDTF">2006-08-08T20:00:21Z</dcterms:modified>
  <cp:revision>183</cp:revision>
  <dc:subject/>
  <dc:title>PowerPoint Presentation</dc:title>
</cp:coreProperties>
</file>