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19.png" ContentType="image/png"/>
  <Override PartName="/ppt/media/image26.jpeg" ContentType="image/jpeg"/>
  <Override PartName="/ppt/media/image16.jpeg" ContentType="image/jpeg"/>
  <Override PartName="/ppt/media/image5.wmf" ContentType="image/x-wmf"/>
  <Override PartName="/ppt/media/image9.gif" ContentType="image/gif"/>
  <Override PartName="/ppt/media/image15.jpeg" ContentType="image/jpeg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37.jpeg" ContentType="image/jpeg"/>
  <Override PartName="/ppt/media/image11.wmf" ContentType="image/x-wmf"/>
  <Override PartName="/ppt/media/image17.jpeg" ContentType="image/jpeg"/>
  <Override PartName="/ppt/media/image34.jpeg" ContentType="image/jpeg"/>
  <Override PartName="/ppt/media/image38.jpeg" ContentType="image/jpeg"/>
  <Override PartName="/ppt/media/image40.jpeg" ContentType="image/jpeg"/>
  <Override PartName="/ppt/media/image39.wmf" ContentType="image/x-wmf"/>
  <Override PartName="/ppt/media/image35.jpeg" ContentType="image/jpeg"/>
  <Override PartName="/ppt/media/image42.jpeg" ContentType="image/jpeg"/>
  <Override PartName="/ppt/media/image43.jpeg" ContentType="image/jpeg"/>
  <Override PartName="/ppt/media/image1.png" ContentType="image/png"/>
  <Override PartName="/ppt/media/image21.gif" ContentType="image/gif"/>
  <Override PartName="/ppt/media/image3.png" ContentType="image/png"/>
  <Override PartName="/ppt/media/image33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4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3903-7823-43EA-8470-CA87127F9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28DE-7447-4068-A2A7-EFF4F3E31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C8DA-BAB3-4FE6-9FFD-D40A615E1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2292-F9B2-43D5-A082-7C9A2FC16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4B96-0973-4DDE-9013-9DCF095A7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33F1-7E32-4A5D-85C0-414A9D8FE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7B33-87A9-4940-B93E-8398E62A3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8B76-C857-44F9-9ED4-8BED36286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E881-5226-4253-BD57-907F1785D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8242-A113-438C-BD3E-49822ACA7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169A-2FB6-4B4E-B2C7-E6356232B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25E7-77E6-40A8-B941-EF29B56DE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4663-772C-4F7F-BD8D-58B255A18C76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9.wmf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af4557"/>
                </a:solidFill>
                <a:latin typeface="CG Omega"/>
              </a:rPr>
              <a:t>Fluxo e padrões de actividades</a:t>
            </a: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 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4572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 </a:t>
            </a: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Bloco operatório </a:t>
            </a:r>
            <a:br>
              <a:rPr sz="3600"/>
            </a:b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af4557"/>
                </a:solidFill>
                <a:latin typeface="Arial"/>
              </a:rPr>
              <a:t>Área restricta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Limitar o fluxo ao pessoal autorizado e aos doentes, em qualquer situ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Manter a porta sempre fechada, excepto durante a movimentação de pessoal, doentes, material e equipament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pessoal preparado deve utilizar vestuário cirúrgico completo e cobrir a cabeça e os pêlos faciais com um gorro e uma máscara quando na presença de um campo estéri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pessoal deve utilizar sapatos fechados limpos que lhes protejam os pés de fluidos e itens que possam cai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s máscaras são necessárias quando é aberto material esterilizado e o pessoal preparado está a opera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s doentes que entram na unidade cirúrgica devem utilizar gorros e batas limpos ou devem estar cobertos por lençóis limpos e ter o cabelo cobert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s doentes não precisam utilizar máscara durante o transporte, excepto aqueles que necessitem de cuidados quanto à transmissão pelo ar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Bloco operatório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685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ntrada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600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Área dos vestiário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97180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Sala de recuperação ou preparo dos doentes, área para a guarda de materiai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4114800"/>
            <a:ext cx="21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Área de lavagem cirúrgica, sala de operaçõe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5332320"/>
            <a:ext cx="1033560" cy="1220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5257800"/>
            <a:ext cx="1181160" cy="125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886200" y="1066680"/>
            <a:ext cx="1214280" cy="1581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338960" y="3524400"/>
            <a:ext cx="12715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Sala de operaçõe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ntes dos procedimentos cirúrg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urante os procedimentos cirúrgico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pós os procedimentos cirúrgic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3452760"/>
            <a:ext cx="1981080" cy="890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4997520"/>
            <a:ext cx="72392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3399"/>
                </a:solidFill>
                <a:latin typeface="Arial"/>
              </a:rPr>
              <a:t>Ver o Manual de referência, páginas 15-6 a 15-8</a:t>
            </a:r>
            <a:endParaRPr b="0" lang="en-US" sz="34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45720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e406d"/>
                </a:solidFill>
                <a:latin typeface="CG Omega"/>
              </a:rPr>
              <a:t>Área de trabalho (processamento de instrumentos)</a:t>
            </a:r>
            <a:endParaRPr b="0" lang="en-US" sz="28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619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central de processamento de instrumentos é constituída por quatro áreas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área “suja” de recepção/limpeza,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área “limpa” de trabalho (empacotamento e esterilização ou DAN),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área para a guarda de equipamentos e instrumentos limpos, e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a área para a guarda para materiais esterilizados ou submetidos a DAN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981440" cy="149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205740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be406d"/>
                </a:solidFill>
                <a:latin typeface="CG Omega"/>
              </a:rPr>
              <a:t>Processamento de instrumentos em uma unidade sanitária de baixa complexidade</a:t>
            </a:r>
            <a:r>
              <a:rPr b="0" lang="en-US" sz="2800" spc="-1" strike="noStrike">
                <a:solidFill>
                  <a:srgbClr val="be406d"/>
                </a:solidFill>
                <a:latin typeface="CG Omega"/>
              </a:rPr>
              <a:t> </a:t>
            </a:r>
            <a:endParaRPr b="0" lang="en-US" sz="28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7" name=""/>
          <p:cNvSpPr/>
          <p:nvPr/>
        </p:nvSpPr>
        <p:spPr>
          <a:xfrm>
            <a:off x="234324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8592" b="-284"/>
          <a:stretch/>
        </p:blipFill>
        <p:spPr>
          <a:xfrm>
            <a:off x="1447920" y="16765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instrumentos num hospital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Exemplos de fluxo e padrões de actividad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99840" y="22856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Áreas de trabalho de parto e de parto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Central de esterilização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Lavandaria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9880" y="127944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rabalho de part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4724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Part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Pós part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22860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Higiene das mão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0"/>
            <a:ext cx="426708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Áreas de trabalho de parto e de pós parto</a:t>
            </a:r>
            <a:br>
              <a:rPr sz="4400"/>
            </a:br>
            <a:endParaRPr b="0" lang="en-US" sz="36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2590920" cy="1870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562720" y="4114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733920" y="3352680"/>
            <a:ext cx="188748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464832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6934320" y="510552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819160" cy="213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29200" y="15080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scontaminação no local de utilizaçã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5627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Limpeza dos instrumentos 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286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f4557"/>
                </a:solidFill>
                <a:latin typeface="Arial"/>
              </a:rPr>
              <a:t>Central de esterilização</a:t>
            </a:r>
            <a:endParaRPr b="0" lang="en-US" sz="32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2914560" cy="2303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276720" y="2743200"/>
            <a:ext cx="31176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257800" y="1432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Preparação do materiais limpos para esterilizaçã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32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Autoclave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54688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Área de guarda de materiais estéreis e fornecimento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1522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af4557"/>
                </a:solidFill>
                <a:latin typeface="Arial"/>
              </a:rPr>
              <a:t>Central de esterilização</a:t>
            </a:r>
            <a:endParaRPr b="0" lang="en-US" sz="32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58164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335304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257800" y="4278240"/>
            <a:ext cx="373392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s razões da importância da regulação do fluxo e da definição de padrões de actividades nos hospitais e outras unidades sanitári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omo conceber o fluxo e os padrões de actividades nos procedimentos, processamento de instrumentos e áreas cirúrg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s exigências de fluxo para as diversas áreas</a:t>
            </a: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10810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Recepção da roup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6049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Selecção da roupa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Descontaminação ou pôr de molho (se for necessário)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206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af4557"/>
                </a:solidFill>
                <a:latin typeface="Arial"/>
              </a:rPr>
              <a:t>Lavandaria</a:t>
            </a:r>
            <a:endParaRPr b="0" lang="en-US" sz="36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17841" t="17855" r="14057" b="-1741"/>
          <a:stretch/>
        </p:blipFill>
        <p:spPr>
          <a:xfrm>
            <a:off x="1066680" y="4175280"/>
            <a:ext cx="3657600" cy="2682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57800" y="76320"/>
            <a:ext cx="3429000" cy="2460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3886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5288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Lavar as roupas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514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Secar as roupas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4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90644"/>
                </a:solidFill>
                <a:latin typeface="Arial"/>
              </a:rPr>
              <a:t>Guardar as roupas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1177920" cy="1047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238880" y="3124080"/>
            <a:ext cx="1376640" cy="1028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0" y="914400"/>
            <a:ext cx="655560" cy="1182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33520" y="152280"/>
            <a:ext cx="4038480" cy="2594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2971800" y="2590920"/>
            <a:ext cx="3733920" cy="228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5410080" y="4241880"/>
            <a:ext cx="3657600" cy="2387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271520" y="2514600"/>
            <a:ext cx="2157480" cy="243216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Alguns pontos para a discussão...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99840" y="22856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Lavar à mão e limpar os instrumentos no mesmo lavatório?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Triagem e descontaminação da roupa no local de utilização?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Colocar a máscara cirúrgica na zona de transição?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Usar protecção de sapatos de tecido leve na sala de operações?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685800"/>
            <a:ext cx="693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“</a:t>
            </a:r>
            <a:r>
              <a:rPr b="1" lang="pt-PT" sz="2400" spc="-1" strike="noStrike">
                <a:solidFill>
                  <a:srgbClr val="090644"/>
                </a:solidFill>
                <a:latin typeface="Arial"/>
              </a:rPr>
              <a:t>A contaminação microbiana é minimizada pela redução do número de pessoas autorizadas numa área e pela definição das actividades que nela têm lugar.” (Russell, Hugo and Ayliffe 1982)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3070080"/>
            <a:ext cx="7696080" cy="3009600"/>
          </a:xfrm>
          <a:prstGeom prst="rect">
            <a:avLst/>
          </a:prstGeom>
          <a:noFill/>
          <a:ln w="38160">
            <a:solidFill>
              <a:srgbClr val="af4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Um dos mais importantes objectivos da prevenção de infecções é minimizar o nível de contaminação microbiana nas áreas onde se trata dos doentes ou onde os instrumentos são processados. Tais áreas incluem: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Áreas de procedimento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Blocos operatórios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 </a:t>
            </a: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Áreas de processamento de instrumentos (central de esterilização)</a:t>
            </a:r>
            <a:endParaRPr b="0" lang="en-US" sz="20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1524240" cy="1150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Quais são os diferentes requerimentos para estas áreas?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730080"/>
            <a:ext cx="1776600" cy="163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781680" y="4618080"/>
            <a:ext cx="852480" cy="9446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181160" y="4307040"/>
            <a:ext cx="2247480" cy="2322360"/>
            <a:chOff x="1181160" y="4307040"/>
            <a:chExt cx="2247480" cy="232236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1181160" y="4307040"/>
              <a:ext cx="1247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2247840" y="5373720"/>
              <a:ext cx="11808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2728800"/>
            <a:ext cx="1371600" cy="1081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051680" y="2000160"/>
            <a:ext cx="1863720" cy="1809720"/>
            <a:chOff x="7051680" y="2000160"/>
            <a:chExt cx="1863720" cy="1809720"/>
          </a:xfrm>
        </p:grpSpPr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7737480" y="2761920"/>
              <a:ext cx="11779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7051680" y="2000160"/>
              <a:ext cx="114804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191120" y="1447920"/>
            <a:ext cx="2057400" cy="153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4648320" y="4419720"/>
            <a:ext cx="1523880" cy="111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400800" y="5715000"/>
            <a:ext cx="1054080" cy="787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7848720" y="5283360"/>
            <a:ext cx="1066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Salas/áreas de esper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Público geral (visitas, doentes/utentes, fornecedores, pessoal administrativo)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contaminação microbiana tende ser mais elevada quanto mais  congestionada estiver a área (mais pessoas juntas)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Não são realizados procedimentos invasiv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Riscos??? (salpicos, tosse)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4572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Área de procedimentos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 algn="just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Limitar o fluxo ao pessoal autorizado e aos doentes/utente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s doentes podem usar as suas próprias roupas limpas</a:t>
            </a: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 algn="just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O pessoal deve utilizar vestuário e equipamento de protecção individual (EPI) em conformidade com os procedimentos realizados 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 algn="just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scontaminar materiais usados no local de ut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 algn="just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r um recipiente resistente a perfuração para o descarte no local de utilização (caixas incineradoras)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Separar o lixo no local de ut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Ter recipientes para a recolha de roupas no local de ut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2438640" cy="163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21337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4572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Bloco operatório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5333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Área não restrita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Zona de transição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Área semi-restrita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70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90644"/>
                </a:solidFill>
                <a:latin typeface="Arial"/>
              </a:rPr>
              <a:t>Área restrita</a:t>
            </a:r>
            <a:endParaRPr b="0" lang="en-US" sz="28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4572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Bloco operatório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Área não restrita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A entrada do corredor principa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O pessoal, doentes e materiais entram no bloco operatóri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Zona de transição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Vestiários e armári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O pessoal veste as roupas cirúrgicas que lhes permite mover-se nas áreas semi-restritas ou restrit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c1c1c"/>
                </a:solidFill>
                <a:latin typeface="Arial"/>
              </a:rPr>
              <a:t>Somente pessoal autorizad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4572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Bloco operatório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af4557"/>
                </a:solidFill>
                <a:latin typeface="Arial"/>
              </a:rPr>
              <a:t>Área semi-restricta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Limitar o fluxo ao pessoal autorizado e aos doentes, em qualquer situ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isponibilizar um espaço de armazenamento para itens limpos e esterilizados 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isponibilizar portas que limitem o acesso à área restrita do B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 pessoal que trabalha nesta área deve utilizar vestuário cirúrgico e um gorr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O pessoal deve utilizar sapatos fechados limpos que lhes protejam os pés de fluidos e itens que possam cai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mescorcio</cp:lastModifiedBy>
  <dcterms:modified xsi:type="dcterms:W3CDTF">2006-07-27T22:21:52Z</dcterms:modified>
  <cp:revision>398</cp:revision>
  <dc:subject/>
  <dc:title>JHPIEGO PowerPoint Presentation template</dc:title>
</cp:coreProperties>
</file>