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F353-E6A5-4FF3-A422-45B33C04AEE4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DE13-6A25-46CF-9CBC-3AAE62F5395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DEA0-839C-488F-9EFC-FA1A36A819B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4696-0A9D-4829-B36E-1FDC3DFCC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9876-E6E3-4EBA-814F-142C0DD45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A3A1-132D-4ABE-83F5-5FE2484E9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726C-E07C-4743-A8ED-8BA5587B3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0615-452B-47C8-8E56-BA584AAC5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564D-D656-445A-9093-982709C8C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FD0B-5EB9-4FD5-98E6-09CF1ED13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168F-EF95-4ACF-94FB-95B5E7018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7C67-7802-4BFC-B9BE-6E3325C57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FBD5-7781-490B-A0F6-5B5887B77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1915-4981-47D1-BB6D-45AE53545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6CA5-F570-4625-A6BF-1445F6291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0AC7-88D1-4704-AB69-74E8D38A79A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cache.googleusercontent.com/wiki/Patologia" TargetMode="External"/><Relationship Id="rId2" Type="http://schemas.openxmlformats.org/officeDocument/2006/relationships/hyperlink" Target="http://webcache.googleusercontent.com/wiki/Patologia" TargetMode="External"/><Relationship Id="rId3" Type="http://schemas.openxmlformats.org/officeDocument/2006/relationships/hyperlink" Target="http://webcache.googleusercontent.com/wiki/Sistema_digestivo" TargetMode="External"/><Relationship Id="rId4" Type="http://schemas.openxmlformats.org/officeDocument/2006/relationships/hyperlink" Target="http://webcache.googleusercontent.com/wiki/Intestino" TargetMode="External"/><Relationship Id="rId5" Type="http://schemas.openxmlformats.org/officeDocument/2006/relationships/hyperlink" Target="http://webcache.googleusercontent.com/wiki/Intestino_grosso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315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UIDADOS DE ENFERMAGEM NAS ALTERAÇÕES DA SAÚDE DAS CRIANÇ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4724280"/>
            <a:ext cx="5867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ub-modulo 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tomas;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variam de acordo com a causa a dor causada por uma doença física geralmente não desaparece podendo ocorrer em ciclos, sendo frequentemente desencadeada por determinadas atividades ou ali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dor tende a ocorrer em um local específico do abdômen, habitualmente  em torno do umbigo, e pode irradiar para as cost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pendendo da causa física  a criança pode apresentar ainda os  seguintes sintomas; perda de peso, febre recorrente ou persistente, icterícia, alterações do aspecto e da cor das evacuações, constipação ou diarreia, sangue nas fezes, vómito alimentar ou com sangue, distensão abdominal, dor ou edema articul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s sintomas da dor abdominal recorrente causados pelo funcionamento anormal de algum órgão variam de acordo com a causa subjac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túrbios Gastrointestinais mais comu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arreia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nição (OMS): ocorrência de três ou mais evacuações líquidas ou semi-líquidas em quantidade moderada  no intervalo de 24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causas da diarreia são múltiplas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usão rápida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dicamentos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oalbunemia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nutriçã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astroenterocolite, etc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so as evacuações líquidas persistam, caracterizando uma diarreia, o médico deverá solicitar exame de fez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bstipação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a dificuldade de evacuação, com fezes ressequidas ou muito duras, sensação de evacuação incompleta, sensação de obstrução ano-rectal, sendo tolerado, que o paciente evacue de três em três dias aproximad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obstipação pode ser relacionada a uma dieta pobre em fibras, à desidratação, à diminuição da prensa abdom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túrbios Gastrointestinais mais comu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tensão abdominal, refluxo esofágico, regurgitação, vómitos,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fluxo esofágic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passagem de conteúdo gástrico para o esófag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urgitação: passagem, sem ocorrência de esforço, de conteúdo estomacal do esófago par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ómito: passagem de conteúdo gástrico para a boca, associada a peristaltismo retrógrado e contracções da musculatura abdom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túrbios Gastrointestinais mais comu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istúrbios Gastrointestinais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26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iarre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valiar e monitorar as características da diarr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urante um episódio de diarreia aguda, deve-se encorajar o repouso no leito e a ingesta de líquidos e alimentos pobres em resídu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 enfermeiro reporta imediatamente a evidencia de disritmias ou uma alteração no nível de consciência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stipação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ducação do paciente e a promoção da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belecer metas especificas, incluem, restauração do padrão de eliminação, garantia da ingestão de líquidos e alimentos ricos em fibras, ensinar métodos para evitar a constip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sa controlar a dor e reduzir os sintomas, repor líquidos e nutrientes perdid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indivíduo deve evitar o consumo de frutas e vegetais crus para reduzir a lesão física do revestimento inflamado do intestino grosso. Uma dieta sem lacticínios pode reduzir os sintom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suplementação de ferro pode controlar a anemia causada pela perda contínua de sangue nas fezes. Os medicamentos anticolinérgicos ou pequenas doses de loperamida ou de difenoxilato são administrados nos casos de diarreia relativamente le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 caso de uma diarreia intensa, é necessária a administração de doses mais altas de difenoxilato, Nos casos graves, o médico controla rigorosamente o paciente que está fazendo uso desses medicamentos antidiarréic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Desnutrição proteica caló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rodução: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 estado nutricional refere a proteínas e calorias,  pode ser considerado como uma gradação contínua de situações que se iniciam por estados considerados normais, se prolongam por estados leves e moderados de desnutrição até síndromes avançadas das quais as mais importantes são o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Kwashiorkor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e o marasmo nutricional</a:t>
            </a:r>
            <a:r>
              <a:rPr b="0" lang="pt-BR" sz="2400" spc="-1" strike="noStrike" baseline="30000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denominação "desnutrição proteico-calórica" comporta quadros clínicos bastante diversos que, no entanto, possuem uma mesma etiologia básica: a carência de proteínas e calori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ingestão de  quantidades insuficientes de alimentos ricos em proteínas e/ou energéticos que não chegam a satisfazer as necessidades do organism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Desnutrição proteica caló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túrbios Cardio-respirató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túrbios- Cardio-respiratóri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é comprometimento das funções cardíaca e respiratór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60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rdio-respiratória aguda e gra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função do sistema cardíaco-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spiratório, resulta da falência de ambos os sistemas, se não for rapidamente corrigi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 tóxica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numerosos agentes tóxicos podem causar distúrbios Cardio-respiratória. Esta complicação ocorre nas intoxicações de crianças com doença Cardio-respiratória prévia. </a:t>
            </a:r>
            <a:br>
              <a:rPr sz="2400"/>
            </a:b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ódigos Diagnóst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es códigos pertencem ao sistema internacional da classificação das doenças, e usada  para a classificação das doenças a  nível hospit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á oportuno salientar que teremos  obrigatoriamente enquadrar as avaliações do estado nutricional  dos  do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desnutrição classifica-se  nos seguintes códig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nutrição energética (marasm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) É desnutrição crónica provocada por falta ou perda prolongada  de energia e de nutrientes. Inicia-se com uma diminuição de peso acompanhada de perda de tecido adipo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cundaria ou desnutrição proteica ( Kwashiorkor)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esnutrição aguda que surge  quando há diminuição proteico ou quando ocorre o aumento das necessidades  no organismo devido as infec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ista ou desnutrição energética-proteica (marasmo e Kwashiorko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) reúne  as características dos dois quadros anteriores, onde ocorre a diminuição da massa magra da gordura e das proteínas viscer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ódigos Diagnóst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predisponen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predisponentes desnutrição proteica caló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eta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Vegetarianos rígidos, crianças alimentados somente ao seio; criança alimentada com leite de vaca, anorexia, ma absorção ou ingestão de aliment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edicament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sulfamidas, fenotoina, Fenobarbital, antibióticos, antiáci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ecanismos específicos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de outras enzimas digestivas, síndrome de cabelos encarapinh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Cardio-respiratóri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não tóxic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nafilax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rritmias cardíac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Tamponamento cardía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istúrbios eletrolít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Hipoterm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Hipovolem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nfarto do miocárd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mbolia pulmon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épsis</a:t>
            </a:r>
            <a:br>
              <a:rPr sz="2400"/>
            </a:br>
            <a:br>
              <a:rPr sz="1600"/>
            </a:b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valiação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specção e auscultação pulmonar criterios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entificar sons anormais e color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r o nível da consciência e capacidade de tolerar o  aumento do trabalho respirató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r  sinais de hipoxemia e hipercapn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terminar o estado hemodinamico e comparar com valores prévi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r a gasometria  e comparar com os valores prév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tificar  ao med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lhorar  a troca gasos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trolar o balanço hídr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expansão torácica, realizar gasometria arterial e comparar com os valores prévi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via aérea previa com vasodilatadores, hidratação e aspirar e entubar  em S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ducação para manutenção da saúd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xigenoterapia, para corrigir a hipóx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isioterapia respiratória e hidrat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roncodilatadores  corticosteróid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uréticos para congestão pulmon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ntilação não invasiva com pressão positiva ou ventilação mecânica-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ceito;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astrointestinais, são as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p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atologia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que ocorrem nos órgãos do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istema digestiv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tais como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ntestin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,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gross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delgado; estômago, esófago, pâncreas, cólon e fíg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sas doenças, podem ser acompanhadas de fortes dores, resultantes da inflamação ou até mesmo deterioração de alguns dos órgãos do sistema digestiv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diagnóstico só pode ser emitido através de cuidadosa análise dos antecedentes do paciente, visto que através de uma simples consulta, não se pode diagnosticar com  precisão a enferm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lgumas causas físicas de distúrbios Intestinais  sã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epatite (inflamação do fígad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ecistite (inflamação da vesícula bilia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ncreatite (inflamação do pâncre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Úlcera pép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estação por parasitas (p.ex., giardías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berculose do intestin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maioria dos distúrbios gastro-intestinais em crianças causa dores e  a intolerância à lactose, causa diarreia e desnu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dor pode iniciar subitamente ser intensa, ou menos intensa e intermit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s distúrbios gastro-intestinais nos quais a dor geralmente é intermitente incluem a  dor abdominal recorrente, a úlcera péptic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endoza</cp:lastModifiedBy>
  <cp:lastPrinted>2012-02-15T09:53:10Z</cp:lastPrinted>
  <dcterms:modified xsi:type="dcterms:W3CDTF">2012-02-15T16:23:21Z</dcterms:modified>
  <cp:revision>725</cp:revision>
  <dc:subject/>
  <dc:title>ANATOMIA E FISIOLOGIA HUMANA</dc:title>
</cp:coreProperties>
</file>