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B4AE-298A-41BD-9D61-5C30E87DE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C717-A27A-4A97-BA31-70E17D332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F7A3-9A20-4325-8374-6A3F0C404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216D-F58C-4E59-AAA8-24013F0C7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D9F0-DAF9-4178-BFB5-BD7D57364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80AF-03C0-45BA-A8AA-928801D92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5B69-B20F-4F17-A26D-4B2010C15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0867-6736-4527-A5B6-B109F8143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4DBA-F8AA-4FA0-BEC8-991A036BE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2649-26E8-421C-89AE-7E7454D99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E056-DCCD-4056-843E-69AA2469D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FE83-0391-434F-9C9B-D80019ABA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E7AB-DA29-4AC6-A5D5-A5D401781CB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uidados de Enfermagem nas Urgências e Emergências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Pediátr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76520" y="4724280"/>
            <a:ext cx="5867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ub-modulo 9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rganizar o sistema de coleta de dados, que possibilite a visibilidade dos casos de abuso sexual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olaborar para o diagnóstico do abuso sexual para a formulação de estratégias de prevenção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dentificar  os sinais de violência do abuso sex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EA9F-3FD5-4E9C-AB92-D026DA45545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gis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Identificação;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Identifica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Data de nascimento, sexo, estado civil, raça, ocupação, escolaridade,  bairro, município e activ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Dados da Ocorrência: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ata e hora da violência, local de residência, abusador sexual conhecido, múltiplos parentes, tipos de relação, intimidação (tipo de arma, força física, ameaça, vítima utilizou álcool ou outra substância psicoactiva (sim/não/tipo), agressor utilizou álcool ou outra substâ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Atendimento após a violência sexual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Houve prescrição de anticoncepção de emergência, profilaxia, colecta de exames para pesquisa de espermatozóides, fosfatase ácida prostática, antígeno prostátic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50C6-888D-468C-9F55-71735BAA055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1A06-D7C0-40C6-887D-1FA60F0C6EC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USO  SEXUAL DE MENO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990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rresponde a qualquer  acto sexual abusivo praticado contra uma criança ou adolesc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forma de abuso infanti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usador  Sexual e pessoa adulta, ou um adolescente para um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BUSO  SEXUAL DE MEN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usador  não tem um perfil identificado, pode ser membro da família, parceiro, amigo ou desconhecido mas, na maioria dos casos, o abusador de menores conhece a vítim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de ser instruído ou não, religioso ou não mas, quase sempre, exerce algum poder sobre a vítim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istem duas formas de abuso sexual praticado pelos adultos ou adolescentes a menores, nos dois casos o adulto ou adolescente, abusam o menor para conseguir algum tipo de prazer ou satisfação interior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E14C-D87E-442E-8E0D-9376F9515A2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ormas de Abuso Sexu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buso sexual por contacto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usador  forca o menor a realizar relações sexuais, usando  forca ou fazendo ameaças verb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buso sexual sem contact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; É assédio, falar sobre o sexo de forma exageradamente vulgar, exibicionismo, despir a roupa em frente do meno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E6D9-2068-4399-B573-8A227C7C8D7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9907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extragenitais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genitais, trauma do períneo, hímen, vulva, cérvix ou ânu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rasões ou lacerações agudas dos lábios vagin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enda do hímen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cerações ou cicatriz na comissura labial posteri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latação anal ou cicatriz de fissuras an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ABF3-6B4C-4254-8E08-F4E08CFBAF6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sequências de abuso sex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A61C-F109-434F-B66E-19C50CB0B5F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m 8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filaxia nas vitimas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 abuso sex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2093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nicilina Benzatinica: 50 000 UI/kg IM, dose ún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zitromicina: 20mg/kg, dose única o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eftriaxona: 80 mg/kg, dose única I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tronidazol: 15mg/kg/de 8/8h, 7 dias o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iciar logo que possível, nas primeiras 6 horas após a exposição ao HIV ou, o mais tardar, em até 72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F4BA-1EB9-4913-8FD3-1A7BDFB9BFE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rientação das mães sobre prevenção de emergência ped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5235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mães devem ser orientadas para algumas intervenções no caso de situações de emergências, tais com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e sinais de infec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écnicas de higiene e explicar a sua importânc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de violência sex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E47C-DD75-423E-AF2F-286D0619B0B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/ EPI necessa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unidade de atendimento a menores abusados sexualmente, deverá dispor de equipamentos e materiais permanentes, em perfeitas condições de uso, que satisfaçam as necessidades do atendimento, material e equipamento necessários, constituído po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sa e cadeiras para consult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sa ginecológica estofada e banquet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Jogo de espéculo vaginal tipo Colli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Jogo de pinç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cido acético a 2%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aselin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oalha de pape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2496-A399-4578-9766-EB7337C94F8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costa</cp:lastModifiedBy>
  <dcterms:modified xsi:type="dcterms:W3CDTF">2012-11-19T19:02:10Z</dcterms:modified>
  <cp:revision>702</cp:revision>
  <dc:subject/>
  <dc:title>ANATOMIA E FISIOLOGIA HUMANA</dc:title>
</cp:coreProperties>
</file>