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651-B454-4B3B-8053-8DE623FD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ABF0-A900-4824-9C8A-7A32ECAD730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C09E-84CE-43DE-9D40-57C9F63A4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0F99-2403-4196-8444-5E33C4BF2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761F-8EF0-4B3C-8299-4EB793E0C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10BD-50B1-4188-A706-2AE6F87A6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4978-3530-49FD-B783-011DB158E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2243-436D-4ED0-93A7-ECFD7F89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6082-074E-462A-B0AB-CC0EFD2F8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670B-B870-4D55-B7F1-E6E9C0F42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F411-02FF-429F-81E6-DAA0CFF69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00B4-E609-4400-9208-61EA0C267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3D2B-D6B0-4189-853A-169B51BAF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D30A-AC7A-4413-8CA7-B4B26B6FF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29A2-91A5-41E2-8807-F54846D3CE4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ipos de Punções Venos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local de escolha para a punção venosa visa atender as necessidade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sob oxitenda, evita-se punções cefálicas uma vez que a humidade impede a boa fixação do adesivo. Em bebés que estão amamentados, evita-se punções em membro superiores, para facilitar o alei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preciso observar hábitos como o de chupar o dedo, dormir de bruços, esfregar os pezinhos, para a escolha do local adequado da pun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referências da mãe só devem ser atendidas se estiverem de acordo com as condições da criança, lembrando que o melhor local para punção venosa em bebés é a rede venosa cefálica, local que nem sempre agrada a mã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unção em jugular deve ser reservada para situações de urgência e feita por um profissional experiente, pelos graves riscos que a mesma oferec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Intramuscul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 massa muscular da criança para a escolha do comprimento da agulha (30x8, 30x7, 12x6).Pode ocorrer de uma agulha curta não introduzida por intei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quantidade máxima de líquido injectado não deve ser maior que 3 ml, somente em crianças acima de 10 anos com boa massa muscular, pode-se chegar ao limite de 5 m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 fundamental importância a maneira de segurar a criança. A movimentação dela poderá quebrar a agulha durante a injec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mbros inferiores, quadril e tórax devem estar mobilizados. Nem sempre o acompanhante é capaz de colaborar, sendo nesse caso, dispens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que a criança veja a serin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região do deltóide não é usada para medicação, tendo seu uso restrito algumas vacin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recém-nascidos usa-se a região da face lateral externa da coxa (músculo vasto lateral) por não se saber exactamente a localização do nervo ciático na região glút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nádega usa-se o quadrante superior ex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injecções dolorosas, deve-se recomendar ao acompanhante a aplicação de compressas quentes no loc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e EPI necessár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11 Administração de Medicament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03 Registo de Enfermagem aspectos de registos gerais e na administração de medic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ADMINISTRACAO DE MEDICAMENTOS EM PEDIAT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ras básicas de Medicação na Pediat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89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or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excesso de líquidos, para que não haja perda de parte da dose, ou até da dose total, pois a criança costuma cusp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menores, ou muito rebeldes, colocar a medicação líquida em uma seringa, para facilitar a introdução directamente dentro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ntar obter apoio do acompanhante, na tarefa de fazer com que a criança entenda a importância daquele remé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mente usar copinho em crianças maiores, de fácil entend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deglutiu a dose total e fazer a reposição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não aspira a med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vómitos logo após a ingestão de medica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uso de colheres a fim de não machuca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Endovenos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soros de manutenção, usar sempre equipo de microgotas para que se tenha um controle real do gotej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empre escala de gotejamento, lembrando que o risco de híper hidratação em pediatria é mai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sempre a pinça do equipo de soro longe do alcance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o acompanhante para que não altere o gotejamento do so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o excesso de mobilização da criança torna o gotejamento irregular e descontrol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uir as medicações em bure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realizar medicação directamente na veia, somente em situações de emergência na presença do méd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o equipo da bureta, lembrando que, sendo as dosagens pediátricas muito pequenas, facilmente pose-se perder grande parte delas dentro do equi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3T08:25:17Z</dcterms:modified>
  <cp:revision>428</cp:revision>
  <dc:subject/>
  <dc:title>JHPIEGO PowerPoint Presentation template</dc:title>
</cp:coreProperties>
</file>