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584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A5CE-55A6-4F60-85B2-5E87F1B7B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2462-6122-4BCE-BCDC-E1EAD4B95FCC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31CB2-11BF-4164-8CCB-2646A0599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2647C-BE9E-4629-BA7B-4D8BB9097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EDB8D-4232-4964-B33A-41A6303D3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76B93-30C6-4B7B-8BB1-BDBCB6DC6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4055-E60A-4476-9130-0BC416591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F4E49-F38C-4002-8C87-925B8E9A9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44E93-FA63-4F3F-BFD9-0B5114461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A326-5205-4342-81F6-292054B4B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A2354-E39D-4A08-8647-3D6CAFF19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C447A-61CC-4033-A07E-573A1243B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F4E61-497A-4C90-A3C5-192660E5A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26160-AEB8-4CAC-BB6D-DC477881A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13A6-9C02-43C9-BF0F-D1C97EB96AA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4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5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3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saude.mg.gov.br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867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Componente Enfermagem Pediatrica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45720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10 – Praticas de Enfermagem III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nfermagem Obstétrica e Enfermagem Pediát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2514600" y="640080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Peça à mãe que dê a primeira dose de seu filh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Explique em detalhes como dar o medicament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Explique que todos os medicamentos devem ser dados até completar o tratamento, mesmo que a criança melhor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Verifique se a mãe compreendeu as explicações antes de deixar a unidade de saú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eparação para hospitaliza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observação da evolução do estado do paciente constitui uma das funções mais importantes da enfermagem. É importante, portanto que ela saiba fazer observações pertinentes, por estar em contínuo contacto com o paciente, ela tem maior oportunidade que outros para observar qualquer alteração do paciente. Infelizmente, o médico, com frequência, ignora ou até rejeita suas observações, ao invés de encorajar e desenvolver seu senso de observ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9144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 a enfermagem anota suas observações, é indispensável que o corpo clínico as leve em consideração; sem isso a enfermeiro (a) deixará de usar o seu senso de observação. Nos países em desenvolvimento a enfermeiro (a) precisa estar apta a perceber os sinais que distinguem a criança doente da criança sadia e devemos incentivá-la a melhorar esta habilidade. Entre uma e outra visita do médico, as alterações que ocorrem no estado da criança precisam ser observadas pela enfermagem e pela mã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ospitalização da Crianç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necessidade de hospitalização da criança implica em uma situação especial, em que ela poderá sentir-se desprotegida, por ter sido colocada abruptamente em um ambiente tão diferente. A adaptação da criança dependerá de vários factores tais com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agnóst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xperiência de internamentos anterior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ituação domést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turi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ratamento e atenção recebidos neste contac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acção familiar é internamen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hospitalização afectará alguns aspectos da vida da criança e seus familiares, a saber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pecto emocional da criança (medo de injecção, de ficar sem a mãe, do médic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pecto emocional da mãe, quanto á sua recuperação e quanto ao tratamento dispensado á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pecto económico (gastos com a internamento, transporte, remédios) e ainda o medo de perder o emprego por estar com o filho no hospit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ospitalização da Crianç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pecto familiar (alternância dos familiares no hospital, preocupação com os outros filhos, que podem estar sozinhos em casa e a separação da família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pecto legal (crianças vítimas de agressões, maus tratos, estupros, atropelamentos, abandono) e ainda falta de documentos que comprovem sua 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equipe de enfermagem deverá estar atenta a todos estes aspectos, para que possa, dentro dos limites estabelecidos, ter compreensão, cooperando com a criança e seus acompanhantes durante todo o período de internamen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ospitalização da Crianç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 admissão da crianç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as condições de higiene das roupas e do corp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pir a criança, entregando as roupas e sapatos ao responsável, identificando-as se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ar banh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presença de lesões, hematomas, escoriações e dermatites, mostrando ao responsável para esclarecer as origens das les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coloração da pele (palidez, cianose e icterícia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 e anotar os sinais vit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sagem da criança (fundamental no momento da internamento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respiração (irregular, superficial, desconforto, retracções, presença de secreções nas V.A.S. e de corpos estranho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 admissão da crianç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 se a criança esta hidratada ou n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as eliminações e colectar informações com o acompanhante sobre micções e evacua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desenvolvimento físico e psicológico (desnutrição, emagrecimento, obesidade, agressividade, agitação e timidez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tirar as chupetas que estão amarradas em volta do pescoç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 admissão da crianç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ectar o maior número possível de informações junto ao acompanhante, pois todos os dados serão importantes para um maior conhecimento da criança e suas condições, fazendo anotação dos mesm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presentar a enfermagem, área física e outros pacientes á criança e acompanhantes recém chegados. A falta de conhecimentos das normas e rotinas poderá trazer problemas para to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1. Assegura um tratamento humanizado de qualidades na prestação de Cuidados de Enfermagem às Crianças de 0 a 14 ano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2. Aplica os conhecimentos sobre o desenvolvimento físico e psicossocial das crianças de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0 a 14 anos para elaborar, implementar, monitorizar e avaliar o Plano de Cuidado de Enfermagem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3. Realiza orientações às mães sobre a promoção e recuperação da saúde e reabilitação das crianças de 0 a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durante o banh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 banho da criança deverá ser dado visando os seguintes objectiv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mover a higien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as condições físic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mover uma queda de temperatura corporal em caso de febr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mover o relaxamento d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 banho poderá ser dado várias vezes ao dia, sempre que necessário, observando sempre os seguintes cuidad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parar todo o material antes de despir 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unca deixar a criança sozinha no banho, independente da sua idade ou matur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 a temperatura da água com a região anterior do punha, que é um local de grande sensibilidade térmi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encher demais a banheir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teger os ouvidos e os olhos d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a cabeça da criança elevad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Usar sabonete neutr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er especial cuidado na higiene das genitais, observando fimose e acúmulo de secre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tirar crostas do couro cabeludo, previamente amolecidas com óleo (amêndoa ou mineral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a criança com segurança na água (lembrar que ela facilmente poderá escorregar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car correctam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molhar talas e gess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stir criança apropriadamente, sem excess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vitar correntes de 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notar o procedimento e suas ocorrênci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durante a aliment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alimentação e a hidratação oral são introduzidas seguindo a prescrição médica, quanto ao tipo, quantidade e intervalos, faz parte portanto, do tratamento médico, devendo ser cumprida correctamente.</a:t>
            </a:r>
            <a:br>
              <a:rPr sz="2400"/>
            </a:b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Geralmente, as rotinas hospitalares não permite que os familiares tragam alimentos de sua casa, para não entrar em discordância com o tratamento que esta sendo feit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se pode permitir a entrada de doces, chocolates e chicletes, lembrando dos riscos que os mesmos acarretam á criança, que poderá aspira-los.  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ão regras básicas para os cuidados de enfermagem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unca alimentar uma criança deitada, pois o risco de ocorrer uma bronco aspiração é muito grand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ve-se sentar a criança ou pegar o bebé no colo, ou ainda elevar a cabeceira da cama ou fazer uso do "bebé-conforto", Mesmo mães acostumadas a alimentar de maneira errada, deverão durante a permanência no hospital, seguir os procedimentos correc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durante a aliment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speitar o apetite natural da criança, não forçar a aceitação alimentar, salvo em casos específicos de desnutr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mover a eruct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a criança em decúbito lateral com apoio, sempre lembrando dos perigos de uma bronco aspir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durante a aliment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 casos de dispneia intensa deve-se evitar a alimentação ou fazê-la pausadamente e com muito cuid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mitir, se possível, que crianças maiores alimentem-se sozinhas, sob vigilância rigoros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notar aceitação e ocorrênci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durante a aliment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 pes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pesagem é fundamental na pediatria, uma vez que as doses de medicamentos e de soros são todas calculadas, tendo por base o peso da criança. Deverão ser respeitados os seguintes cuidad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sar diariamente em jeju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rianças até 2 anos, despidas totalmente, em balança de bandej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2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rianças com mais de 2 anos, manter a calcinha ou cueca e usar a balança de pedest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2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arar a balança antes de pes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2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ravar após tar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ó destravar depois de colocar a criança e travar novamente antes de retira-l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tocar na criança durante a pesag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notar correctamente o peso, especificando kg e gr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colocar objectos sobre e balança, quando em desus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orrar a bandeja com lençol descartável ou papel toalha, trocando após a pes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 pes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s restri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strição mecânica é a limitação dos movimentos através da contenção de um ou mais segmentos do corpo, a realização de exames ou tratamentos, garantindo assim a segurança da criança. Normalmente ela é indicada na realização de exames, manutenção da via de hidratação parenteral, protecção da criança inconsciente e ainda para evitar que a criança remova sonda ou drenos. Existem dois tipos de restrições a saber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4. Aplica os princípios técnicos científicos na realização de intervenções em situações de emergência ou urgência para socorrer e assegurar a recuperação das criança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5. Aplica os conhecimentos de farmacologia na administração e controlo dos medicamentos de foro pediátrico prescrit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umificaçã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siste na imobilização total da criança, para a realização de exames, onde a equipe de enfermagem deverá obedecer aos seguintes procediment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var as mã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r a criança, se houver compreensão, e ou a mãe ou acompanhante sobre o motivo da restr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itar a criança sobre um lençol dobrado em triângul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s restri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brar a extremidade direita do triângulo sobre o braço direito, posicionando-o ao longo do corpo. O tronco deve ser envolvido por estar extremidade observando-se que não fique solto ou muito apert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o braço esquerdo da criança paralelo ao corpo, mantendo a mão sob os glúte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volver a criança com a outra extremidade do lençol, imobilizando assim o membro superior esquer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s restri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brar a extremidade restante sob os pés da criança imobilizando seus membros inferior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com frequência se a criança tem condições de respirar satisfatoriam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fazer a restrição tão logo seja possíve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s restri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tenção das extremidade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o tipo de restrição usada principalmente para manter-se a via endovenosa ou evitar traumatismos em crianças que sejam agitadas. Na contenção de extremidades existem também procedimentos que deverão se seguidos rigorosament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var as mã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r a criança, se houver compreensão, e ou a mãe ou acompanhante sobe o motivo da restr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s restri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volver o punho ou tornozelo da criança com a faixa de restrição, entrelaçando os cadarços com voltas duplas, observando para que não fique muito apert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tar o cadarço da faixa de restrição somente nas estruturas fixas do lei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fixação nas grades móveis pode provocar graves lesões no membro restrito, ao serem abaixa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s restri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, com frequência, a posição da criança e acomoda-la confortavelm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xaminar, com frequência, a perfusão sanguínea das extremidades restrit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udar, com frequência, o decúbito da criança para evitar a formação de zonas de isquem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mover a restrição periodicamente, principalmente durante o banho e a aliment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s restri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94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rmas de Atendimento à Criança Sadia e à Criança em Risc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(MISAU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oteiro para acelerar a redução da Mortalidade materna e neonatal em Moçambiq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MISAU 14 de Maio 2008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jecto de Profissionalização dos Trabalhadores da Área de Enfermagem (SAÚDE DA MULHER, DA CRIANÇA E DO ADOLESCENTE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Brasília – DF 2003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ite: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saude.mg.gov.b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ite: www.unicef.or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6. Regista oportunamente e de forma clara as informações e procedimentos de enfermagem pediátrica no diário de enfermagem, livro de ocorrência, folha de registo dos sinais vitais e cardex, para assegurar a continuidade e eficácia da prestação de cuidados humanizados e de qualidade à criança dos 0-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Down Arrow 4"/>
          <p:cNvSpPr/>
          <p:nvPr/>
        </p:nvSpPr>
        <p:spPr>
          <a:xfrm>
            <a:off x="3962520" y="22096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PARA SATISFAZER AS NECESSIDADES DA CRIANÇA HOSPITALIZ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BILIDADES DE COMUNIC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ÉCNICAS PARA COMUNICAR-SE B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êxito do tratamento em casa depende da forma como você se comunica com a mãe da criança. Ela precisa saber como dar o tratamento. Também precisa compreender a importância do mesm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ça-lhe perguntas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obre o tratamento da criança em cas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logie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mãe pelo que tem feit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comende-lhe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mo tratar a criança em cas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erifique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 a mãe comp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e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deu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COMENDAÇÕES À MÃE SOBRE COMO TRAT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RIANÇA EM CA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Quando ensinar à mãe como dar o tratamento em casa, siga três passos básicos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e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formaçã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monstre um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xempl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ixe-a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aticar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QUANDO ENSINAR À MÃE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Use palavras que ela consiga compreende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Use materiais auxiliares com os quais ela esteja familiarizad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Quando ela estiver praticando, elogie o que ela fizer bem feito e corrija os err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Incentive à mãe a fazer perguntas. Responda-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VERIFICAÇÃO SE A MÃE COMPREEND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pois de ensinar à mãe é importante certificar-se que ela entendeu como administrar correctamente o tratamento. É importante para uma boa comunicação fazer boas perguntas de verific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COMO VERIFICAR QUE A MÃE COMPREENDEU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Faça perguntas que obrigue à mãe explicar o quê, como, quando, quanto ou porquê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ê tempo à mãe para pensar e a seguir responde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Elogie à mãe quando ela responder corretament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Caso ela necessite, dê-lhe mais informação, exemplos e oportunidade de pratica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NSINAR COMO DAR MEDICAMENTO POR VIA ORAL EM CA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0663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Caso a mãe aprenda corretamente a administrar o medicamento, a criança receberá o tratamento apropriado. Para isso, siga estas instruções para cada medicamento que dê à mãe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ecida quais são os medicamentos apropriados e as doses para o peso ou idade da criança. Justifique à mãe porque dar o medicamento à crianç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escreva as etapas do tratament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emonstre como medir as doses sempre que possível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Observe à mãe enquanto ela mesma pratica como medir uma dos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3:34:32Z</dcterms:created>
  <dc:creator>ajfuray</dc:creator>
  <dc:description/>
  <dc:language>en-US</dc:language>
  <cp:lastModifiedBy>NYAKA</cp:lastModifiedBy>
  <dcterms:modified xsi:type="dcterms:W3CDTF">2012-02-14T08:59:54Z</dcterms:modified>
  <cp:revision>426</cp:revision>
  <dc:subject/>
  <dc:title>JHPIEGO PowerPoint Presentation template</dc:title>
</cp:coreProperties>
</file>