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13CD-F398-4492-8F1A-70694964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FC36-1D45-4C29-8F2A-F8FA891A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75E-3841-4707-A0F9-5C46093E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B6D0-DF72-40B1-AFA0-38196ACD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B378-FDFB-4A94-B8CA-64F514EF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7159-B8AE-469B-A899-52815BF2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BB29-8B6C-447E-BD00-78A6B68C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3966-05A9-4E5D-BF5F-17347690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4D56-CADB-4A51-8271-C88E06AA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D9A6-D72B-40BF-9F63-49170083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43BF-0A87-42FD-A8DA-A4EECDEF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237D-B3C4-47EC-B07C-3DE6FE10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7892-E34D-408E-88C6-D96DE6D1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2660-1C7B-4AFD-8A3E-4B390492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84AC-DC4A-4C22-A5AB-EF34B446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C38C-5878-42F9-8D93-4B9526E8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5328-347D-45A5-AFEA-40AA4359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5EE80-5BDA-404A-AC05-E00D6BBA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DC900-A15A-451E-9638-BFADA352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BC76A-586D-4C27-83D6-CAF3C2F6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22615-528D-4301-B105-DE3EF03F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AC169-FA5D-44A0-AED6-CCF0B936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CD8D-3512-4E5B-9A6F-5133B09D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462DC-33D4-422F-8344-527B6A8B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9C0F0-24A5-4F98-97C5-573641AB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010BE-86FD-4E0E-AA7C-FDC36599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F4701-1BA3-430A-8E3D-FF3D49FA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49AF7-141C-4E68-8F11-090D9134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7AB15-0FE6-403A-84D9-4698C7BC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8D77D-348D-48C1-9414-0290B08F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24BEB-06EF-479D-906D-BF27FB5D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B4B16-28F6-4EBE-A754-4C01D905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67E67-6674-44CB-B7C5-ECCFE47E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6C09-53FA-4324-96E9-DD482837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DEEA2-869B-47F1-8D2F-C456BB7E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6E3C7-6ACD-4114-BF16-35504B2C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FC0C2-8C8A-45ED-8875-7CE4158F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67968-58B3-444C-B004-FF582F6F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7FF9A-B969-4342-8813-4EBEF5F0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6C34C-9685-4895-84D0-AEC6D05B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618FE-AE34-4307-9FB6-70C1881E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7A43D-C754-4270-8EF6-320FC1CD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2371A-78DA-446E-97C3-F0EB95FC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AB54D-29BE-4AC9-B98E-783EF518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08C0-A158-416E-8CBB-DE56CCEA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52A73-6ACF-4EF3-B15B-DFBF20C3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C0763-FEF4-4F7D-8BFA-351B9A20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D5712-D326-4C22-B89A-973E08A9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B9285-0B9B-4A21-B91C-6DEC72B5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FB554-14F8-4C23-B95D-DFD023DD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6A8B7-1028-4636-87D5-DA188210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880CF-2854-497C-906A-0E1B7B5A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45252-1A82-4AF2-9DED-F10A7E0C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D26F3-FE71-42B1-806C-47AF7493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24C35-8BD4-474D-9777-4CCA7AC9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53CE-53A8-4DFC-AFD8-1DBB4D29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85ABA-4130-4018-8816-1D29C072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ECC1-446A-4B3B-B0C5-D1387CCA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35F2-BDE7-42CD-AD48-C3F62C26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3C3B-AE7F-4A9D-BFE8-CB0B4DB4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ângulo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ângulo arredondado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442F-C781-4D78-9DFA-2FCD4B6EE545}" type="slidenum">
              <a:rPr b="0" lang="pt-P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ângulo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ângulo arredondado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ângulo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ângulo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ângulo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FE1F-E919-432D-98E5-B00A776A506D}" type="slidenum">
              <a:rPr b="0" lang="pt-P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ângulo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ângulo arredondado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ângulo arredondado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ângulo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ângulo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ângulo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E18B-A8D7-44F6-AACB-BC2F511D5AA9}" type="slidenum">
              <a:rPr b="0" lang="pt-P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ângulo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ângulo arredondado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ângulo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ângulo arredondado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B305-E944-4C0D-9EC2-B4D18EEAE556}" type="slidenum">
              <a:rPr b="0" lang="pt-P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ângulo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ângulo arredondado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ângulo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ângulo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ângulo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6AD7-083F-4482-8199-3173ED6E506F}" type="slidenum">
              <a:rPr b="0" lang="pt-P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696464"/>
                </a:solidFill>
                <a:latin typeface="Perpetua"/>
              </a:rPr>
              <a:t>Desnutrição e Anemia 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ffff"/>
                </a:solidFill>
                <a:latin typeface="Franklin Gothic Book"/>
              </a:rPr>
              <a:t>AID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ff0000"/>
                </a:solidFill>
                <a:latin typeface="Franklin Gothic Book"/>
              </a:rPr>
              <a:t>Observe se há emagrecimento acentuado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Uma criança com emagrecimento acentuado tem marasmo, uma forma de desnutrição grave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A criança tem este sinal se estiver muito magra, sem gordura e parecendo só pele e ossos. Algumas crianças são magras, porém não têm emagrecimento acentuado visível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Este passo da avaliação lhe ajudará a conhecer as crianças com emagrecimento grave visível que necessitam de tratamento urgente e de serem referidas a um hospit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96464"/>
                </a:solidFill>
                <a:latin typeface="Franklin Gothic Book"/>
              </a:rPr>
              <a:t>Cont.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56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Para observar o emagrecimento acentuado visível, dispa a crianç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Observe se existe atrofia muscular nos ombros, braços, nádegas e perna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Observe se é possível ver facilmente o contorno das costela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Observe o quadril da criança. Pode parecer pequeno se comparado ao tórax e ao abdom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96464"/>
                </a:solidFill>
                <a:latin typeface="Franklin Gothic Book"/>
              </a:rPr>
              <a:t>Cont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33520" y="1825560"/>
            <a:ext cx="798192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Observe a criança de perfil para ver se há escassez de gordura nas nádega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Quando a atrofia é extrema, há numerosas pregas na pele das nádegas e da coxa. A criança fica com a aparência de estar usando calças muito larga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O rosto de uma criança com emagrecimento acentuado visível ainda pode parecer normal ou então apresentar o aspecto de face de uma pessoa idosa. O abdome talvez esteja grande e distendid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3" name="Marcador de Posição de Conteúdo 3" descr="mrsmo.jpg"/>
          <p:cNvPicPr/>
          <p:nvPr/>
        </p:nvPicPr>
        <p:blipFill>
          <a:blip r:embed="rId1"/>
          <a:stretch/>
        </p:blipFill>
        <p:spPr>
          <a:xfrm>
            <a:off x="914400" y="533520"/>
            <a:ext cx="7601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96464"/>
                </a:solidFill>
                <a:latin typeface="Franklin Gothic Book"/>
              </a:rPr>
              <a:t>OBSERVAR E PALP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Uma criança com edema nos dois pés pode ter kwashiorkor, outra forma de desnutrição grav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O edema se produz quando há o acúmulo de uma quantidade acentuada de líquido nos tecidos da criança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Os tecidos se enchem de líquido e parecem inchados ou tumefeito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96464"/>
                </a:solidFill>
                <a:latin typeface="Franklin Gothic Book"/>
              </a:rPr>
              <a:t>cont.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3160" y="83772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Observe e palpe para determinar se a criança tem edema em ambos os pés. Use seu dedo polegar para pressionar suavemente por alguns segundos no lado superior de cada pé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A criança tem edema se ficar uma marca no pé quando você levantar o seu dedo polega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9" name="Marcador de Posição de Conteúdo 3" descr="kw 2.jpg"/>
          <p:cNvPicPr/>
          <p:nvPr/>
        </p:nvPicPr>
        <p:blipFill>
          <a:blip r:embed="rId1"/>
          <a:stretch/>
        </p:blipFill>
        <p:spPr>
          <a:xfrm>
            <a:off x="1219320" y="701640"/>
            <a:ext cx="6324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96464"/>
                </a:solidFill>
                <a:latin typeface="Franklin Gothic Book"/>
              </a:rPr>
              <a:t>Cont.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Muitas das crianças com edema de ambos os pés apresentam também emagrecimento acentuado. São as formas mistas de kwashiorkor-marasmátic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96464"/>
                </a:solidFill>
                <a:latin typeface="Franklin Gothic Book"/>
              </a:rPr>
              <a:t>Resumo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Perpetua"/>
              </a:rPr>
              <a:t>Kwashiorkor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: desnutrição predominante proteic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Perpetua"/>
              </a:rPr>
              <a:t>Marasmo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: desnutrição energético-proteica equilibrad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Perpetua"/>
              </a:rPr>
              <a:t>Kwashiorkor-marasmático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: forma mista, em que existe a desnutrição energética e a proteica, porém desequilibrad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96464"/>
                </a:solidFill>
                <a:latin typeface="Franklin Gothic Book"/>
              </a:rPr>
              <a:t>DETERMINAR o peso para a idade.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Na avaliação do peso para a idade se compara o peso da criança com o peso de outras crianças da mesma idad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O índice nutricional peso para a idade expressa a massa corporal para a idade cronológic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O resultado desta avaliação deve ser comparado a um padrão para ser dado o diagnóstico nutricional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O padrão adotado é o recomendado pela OMS, o National Health Statistics (NCHS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96464"/>
                </a:solidFill>
                <a:latin typeface="Franklin Gothic Book"/>
              </a:rPr>
              <a:t>Introdução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Verifique em todas as crianças doentes se há sinais indicadores de desnutrição e anemi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Uma mãe pode levar seu filho ao serviço de saúde porque a criança tem uma doença aguda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A criança talvez não tenha queixas que indiquem desnutrição ou anemia. Porém uma criança doente pode estar desnutrida e o profissional de saúde ou a família da criança talvez não notem o problem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t-BR" sz="3600" spc="-1" strike="noStrike">
                <a:solidFill>
                  <a:srgbClr val="ff0000"/>
                </a:solidFill>
                <a:latin typeface="Franklin Gothic Book"/>
              </a:rPr>
              <a:t>Passos para avaliação nutricional da criança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0520" y="990360"/>
            <a:ext cx="85345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0000"/>
                </a:solidFill>
                <a:latin typeface="Perpetua"/>
              </a:rPr>
              <a:t>1.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Calcule a idade da criança em mes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0000"/>
                </a:solidFill>
                <a:latin typeface="Perpetua"/>
              </a:rPr>
              <a:t>2.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Pese a criança em balança calibrada. A criança deve estar despida, de preferência (para os menores de 2 anos), e com roupa íntima para os demai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0000"/>
                </a:solidFill>
                <a:latin typeface="Perpetua"/>
              </a:rPr>
              <a:t>3.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Para avaliação do estado nutricional, utilize o gráfico de crescimento do cartão da criança que contempla o índice peso por idade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0000"/>
                </a:solidFill>
                <a:latin typeface="Perpetua"/>
              </a:rPr>
              <a:t>4.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Marque o ponto de encontro entre o peso e a idade correspondente para se ter o diagnóstico nutricion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0000"/>
                </a:solidFill>
                <a:latin typeface="Perpetua"/>
              </a:rPr>
              <a:t>5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. Observe: o ponto está acima, no meio ou abaixo da curva inferio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96464"/>
                </a:solidFill>
                <a:latin typeface="Franklin Gothic Book"/>
              </a:rPr>
              <a:t>Cont.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➢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Caso o ponto esteja abaixo da curva inferior (&lt; -3 DP ou P 0,1), a criança tem </a:t>
            </a:r>
            <a:r>
              <a:rPr b="0" lang="pt-BR" sz="2600" spc="-1" strike="noStrike">
                <a:solidFill>
                  <a:srgbClr val="ff0000"/>
                </a:solidFill>
                <a:latin typeface="Perpetua"/>
              </a:rPr>
              <a:t>PESO MUITO BAIXO PARA SUA IDADE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➢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Caso o ponto esteja entre a curva inferior e a do meio (≥ -3 DP ou P 0,1 e &lt; -2 DP ou P 3), a criança tem </a:t>
            </a:r>
            <a:r>
              <a:rPr b="0" lang="pt-BR" sz="2600" spc="-1" strike="noStrike">
                <a:solidFill>
                  <a:srgbClr val="ff0000"/>
                </a:solidFill>
                <a:latin typeface="Perpetua"/>
              </a:rPr>
              <a:t>PESO BAIXO PARA SUA IDAD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➢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Caso o ponto esteja na linha ou acima da curva do meio (≥-2 DP ou P 3), </a:t>
            </a:r>
            <a:r>
              <a:rPr b="0" lang="pt-BR" sz="2600" spc="-1" strike="noStrike">
                <a:solidFill>
                  <a:srgbClr val="ff0000"/>
                </a:solidFill>
                <a:latin typeface="Perpetua"/>
              </a:rPr>
              <a:t>PESO NÃO É BAIX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pt-PT" sz="3600" spc="-1" strike="noStrike">
                <a:solidFill>
                  <a:srgbClr val="ff0000"/>
                </a:solidFill>
                <a:latin typeface="Franklin Gothic Book"/>
              </a:rPr>
              <a:t>CLASSIFICAR O ESTADO NUTRICIONAL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Existem quatro classificações para o estado nutricional da criança. São ela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➢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DESNUTRIÇÃO GRAVE com complic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çõ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➢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DESNUTRIÇÃO GRAVE sem complic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ções/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PESO MUITO BAIX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➢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DESNUTRIÇÃO Agud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oderada/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PESO BAIXO OU GANHO INSUFICIEN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➢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Sem b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xo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pes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96464"/>
                </a:solidFill>
                <a:latin typeface="Franklin Gothic Book"/>
              </a:rPr>
              <a:t>Avaliar e Classificar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57200" y="1066680"/>
          <a:ext cx="8229600" cy="6276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Emagrecimento acentuado visível ou Edema em ambos os pés o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eso /Idade(&lt;-3Dp ou Pb&lt; 11,5 ou peso muito baixo &lt;60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DESNUTRIÇÃO GRAVE  COM COMPLICACO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92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eso muito baixo para a idade (abaixo da linha inferior do 60% do peso esperado, Pb&lt; 11,5 e P/A &lt;-3d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DESNUTRIÇÃO GRAVE  SEM COMPLICACO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2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eso baixo para a idade (entre a linha inferior e a linha média do espelho do cartão) ou • Ganho de peso insufici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ESO BAIXO OU GANHO INSUFICIENT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eso para a idade não é baixo e nenhum outro sinal de desnutri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O PESO NÃO É BAIX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65040"/>
            <a:ext cx="83822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0000"/>
                </a:solidFill>
                <a:latin typeface="Franklin Gothic Book"/>
              </a:rPr>
              <a:t>CLASSIFICAR A PALIDEZ PALMAR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Segundo o grau de palidez palmar, classifica-se a criança como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➢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ANEMIA GRAV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ANEM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Perpetua"/>
              </a:rPr>
              <a:t>Sem 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m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96464"/>
                </a:solidFill>
                <a:latin typeface="Franklin Gothic Book"/>
              </a:rPr>
              <a:t>OBSERVAR se há palidez palmar.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A palidez fora do comum na pele é um sinal de anemia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Para ver se a criança tem palidez palmar, observe a pele da palma da mão da criança e a mantenha aberta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Caso ela esteja pálida, a criança tem palidez palmar lev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96464"/>
                </a:solidFill>
                <a:latin typeface="Franklin Gothic Book"/>
              </a:rPr>
              <a:t>Cont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Caso esteja muito pálida ou tão pálida que pareça branca, a criança tem palidez palmar grave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Compare a cor da palma da mão da criança com a da mãe ou com as palmas de pessoa da mesma raça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Nos casos de dúvida entre uma palidez palmar grave e leve, desde que o serviço de saúde disponha de dosagem de hemoglobina (Hb), determinar o valor da hemoglobina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96464"/>
                </a:solidFill>
                <a:latin typeface="Franklin Gothic Book"/>
              </a:rPr>
              <a:t>Cont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Se estiver abaixo de 5 g/dl referir para tratamento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Se não for possível dosar Hb, considerar como palidez palmar grave e referir a crianç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83" name="Marcador de Posição de Conteúdo 3" descr="nemi.jpg"/>
          <p:cNvPicPr/>
          <p:nvPr/>
        </p:nvPicPr>
        <p:blipFill>
          <a:blip r:embed="rId1"/>
          <a:stretch/>
        </p:blipFill>
        <p:spPr>
          <a:xfrm>
            <a:off x="914400" y="609480"/>
            <a:ext cx="70866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96464"/>
                </a:solidFill>
                <a:latin typeface="Franklin Gothic Book"/>
              </a:rPr>
              <a:t>Avaliação e Classificação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914400" y="1447920"/>
          <a:ext cx="7772400" cy="46479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54944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0000"/>
                          </a:solidFill>
                          <a:latin typeface="Perpetua"/>
                        </a:rPr>
                        <a:t>Palidez palmar gra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3200" spc="-1" strike="noStrike">
                          <a:solidFill>
                            <a:srgbClr val="ff0000"/>
                          </a:solidFill>
                          <a:latin typeface="Perpetua"/>
                        </a:rPr>
                        <a:t>Anemia gra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00"/>
                          </a:solidFill>
                          <a:latin typeface="Perpetua"/>
                        </a:rPr>
                        <a:t>Palidez palmar le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00"/>
                          </a:solidFill>
                          <a:latin typeface="Perpetua"/>
                        </a:rPr>
                        <a:t>ANEMI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3200" spc="-1" strike="noStrike">
                          <a:solidFill>
                            <a:srgbClr val="00b050"/>
                          </a:solidFill>
                          <a:latin typeface="Perpetua"/>
                        </a:rPr>
                        <a:t>Sem palidez palm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3200" spc="-1" strike="noStrike">
                          <a:solidFill>
                            <a:srgbClr val="00b050"/>
                          </a:solidFill>
                          <a:latin typeface="Perpetua"/>
                        </a:rPr>
                        <a:t>Sem anemi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96464"/>
                </a:solidFill>
                <a:latin typeface="Franklin Gothic Book"/>
              </a:rPr>
              <a:t>Cont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Uma criança com desnutrição está mais exposta a vários tipos de doenças, tem infecções mais graves e maior risco de morrer. Mesmo crianças com desnutrição leve e moderada têm um crescente risco de mort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A identificação e o tratamento de crianças com desnutrição pode ajudar a prevenir numerosas doenças graves e a morte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t-PT" sz="3600" spc="-1" strike="noStrike">
                <a:solidFill>
                  <a:srgbClr val="696464"/>
                </a:solidFill>
                <a:latin typeface="Franklin Gothic Book"/>
              </a:rPr>
              <a:t>Caso 1 Nádia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2824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Nádia tem 18 meses. Pesa 7 kg. Tem uma temperatura de 39ºC. A mãe levou a criança ao serviço de saúde pela primeira vez porque a menina estava quente. O profissional de saúde viu que Nádia estava muito emagrecid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Ele verificou se haviam sinais gerais de perigo. Nádia pode beber, não vomita, não tem convulsões e não está letárgica nem inconscient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Nádia não tem tosse nem dificuldade para respirar. Não tem diarréi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96464"/>
                </a:solidFill>
                <a:latin typeface="Franklin Gothic Book"/>
              </a:rPr>
              <a:t>Cont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Como a mãe de Nádia disse que ela estava quente e como apresenta temperatura de 39ºC, o profissional de saúde avaliou a febre. Nádia vive em uma região com baixo risco de malária. Tem febre há cinco dias. Não tem rigidez de nuca, petéquias ou abaulamento de fontanela. Não tem coriz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Nádia não tem problema de ouvid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96464"/>
                </a:solidFill>
                <a:latin typeface="Franklin Gothic Book"/>
              </a:rPr>
              <a:t>Cont.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O profissional de saúde verificou a seguir se a menina sofria de desnutrição ou anemia. Nádia tem emagrecimento acentuado visível. Não há palidez palmar. Não tem edema em ambos os pé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O profissional de saúde determinou o peso para sua idade (olhe o quadro de peso por idade em seu Manual de Quadros de Conduta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Determine se o peso desta menina é muito baixo para sua idade e anote esta observação no Formulário de Registro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t-BR" sz="3600" spc="-1" strike="noStrike">
                <a:solidFill>
                  <a:srgbClr val="696464"/>
                </a:solidFill>
                <a:latin typeface="Franklin Gothic Book"/>
              </a:rPr>
              <a:t>Caso 2: Felipe 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052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Felipe tem 11 meses. Pesa 8 kg. Tem uma temperatura de 37ºC. A mãe disse que nas últimas três semanas o menino vem tendo uma tosse seca. É a primeira consult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Felipe não apresenta sinais gerais de perigo. O profissional de saúde avaliou a tosse. Ele vem tendo tosse há 21 dias. Não tem história de sibilância ocasional ou freqüente. Contou 41 respirações por minuto e não viu tiragem subcostal. Não há estridor nem sibilância quando o menino está tranqüil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96464"/>
                </a:solidFill>
                <a:latin typeface="Franklin Gothic Book"/>
              </a:rPr>
              <a:t>Cont.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0520" y="76212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Perpetua"/>
              </a:rPr>
              <a:t>Felipe não tem diarréia. Não tem tido febre durante a doença. Não tem problema de ouvido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Perpetua"/>
              </a:rPr>
              <a:t>O profissional de saúde verificou se Felipe tem desnutrição e anemia. Felipe não apresenta emagrecimento acentuado visível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Perpetua"/>
              </a:rPr>
              <a:t>As palmas das mãos estão muito pálidas e parecem quase brancas. Não há edema nos pés. O profissional de saúde determinou o peso de Felipe para sua idade (olhe a curva de peso por idade no manual de quadros de conduta e determine o peso de Felipe para sua idade)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Perpetua"/>
              </a:rPr>
              <a:t>Anote os sinais de Felipe e suas classificações no Formulário de Registro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696464"/>
                </a:solidFill>
                <a:latin typeface="Franklin Gothic Book"/>
              </a:rPr>
              <a:t>Perguntas 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97" name="Content Placeholder 3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114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96464"/>
                </a:solidFill>
                <a:latin typeface="Franklin Gothic Book"/>
              </a:rPr>
              <a:t>Cont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Alguns casos de desnutrição podem ser tratados em cas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Os casos graves devem ser referidos ao hospital para tratar as complicações mais freqüentes, receber alimentação especial, transfusões de sangue ou um tratamento particular para a doença que contribui para a desnutriçã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96464"/>
                </a:solidFill>
                <a:latin typeface="Franklin Gothic Book"/>
              </a:rPr>
              <a:t>Causas de desnutriçã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Um tipo de desnutrição é a desnutrição </a:t>
            </a:r>
            <a:r>
              <a:rPr b="0" i="1" lang="pt-BR" sz="2600" spc="-1" strike="noStrike">
                <a:solidFill>
                  <a:srgbClr val="ff0000"/>
                </a:solidFill>
                <a:latin typeface="Perpetua"/>
              </a:rPr>
              <a:t>protéica-calórica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. Essa se desenvolve quando a criança não obtém de seus alimentos suficiente energia ou proteínas para satisfazer suas necessidades nutricionai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Uma criança que tenha tido doenças agudas com freqüência também pode desenvolver desnutrição </a:t>
            </a:r>
            <a:r>
              <a:rPr b="0" i="1" lang="pt-BR" sz="2600" spc="-1" strike="noStrike">
                <a:solidFill>
                  <a:srgbClr val="ff0000"/>
                </a:solidFill>
                <a:latin typeface="Perpetua"/>
              </a:rPr>
              <a:t>protéica-energética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O apetite da criança diminui e o alimento que consome não é utilizado eficazmente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9" name="Marcador de Posição de Conteúdo 3" descr="desnutrico.jpg"/>
          <p:cNvPicPr/>
          <p:nvPr/>
        </p:nvPicPr>
        <p:blipFill>
          <a:blip r:embed="rId1"/>
          <a:stretch/>
        </p:blipFill>
        <p:spPr>
          <a:xfrm>
            <a:off x="914400" y="365040"/>
            <a:ext cx="73152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96464"/>
                </a:solidFill>
                <a:latin typeface="Franklin Gothic Book"/>
              </a:rPr>
              <a:t>Tipo de desnutriçã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➢ 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criança pode sofrer emagrecimento acentuado    (</a:t>
            </a:r>
            <a:r>
              <a:rPr b="1" lang="pt-BR" sz="2600" spc="-1" strike="noStrike">
                <a:solidFill>
                  <a:srgbClr val="000000"/>
                </a:solidFill>
                <a:latin typeface="Perpetua"/>
              </a:rPr>
              <a:t>marasmo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);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➢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a criança pode desenvolver edema (</a:t>
            </a:r>
            <a:r>
              <a:rPr b="1" lang="pt-BR" sz="2600" spc="-1" strike="noStrike">
                <a:solidFill>
                  <a:srgbClr val="000000"/>
                </a:solidFill>
                <a:latin typeface="Perpetua"/>
              </a:rPr>
              <a:t>kwashiorkor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);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➢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a criança pode associar o edema com o emagrecimento acentuado (</a:t>
            </a:r>
            <a:r>
              <a:rPr b="1" lang="pt-BR" sz="2600" spc="-1" strike="noStrike">
                <a:solidFill>
                  <a:srgbClr val="000000"/>
                </a:solidFill>
                <a:latin typeface="Perpetua"/>
              </a:rPr>
              <a:t>kwashiorkor-marasmático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65040"/>
            <a:ext cx="8286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96464"/>
                </a:solidFill>
                <a:latin typeface="Franklin Gothic Book"/>
              </a:rPr>
              <a:t>Cont.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Uma criança cuja dieta não fornece as quantidades recomendadas de vitaminas e minerais essenciais pode desenvolver carência nutricional específica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A criança talvez não receba quantidades suficientes recomendadas de certas vitaminas (como vitamina A) ou minerais (como o ferro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pt-PT" sz="4000" spc="-1" strike="noStrike">
                <a:solidFill>
                  <a:srgbClr val="696464"/>
                </a:solidFill>
                <a:latin typeface="Franklin Gothic Book"/>
              </a:rPr>
              <a:t>AVALIAR A DESNUTRIÇÃO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Perpetua"/>
              </a:rPr>
              <a:t>Pergunte ou verifi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no cartão de saúde d crianca se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criança perdeu peso no ultimo mê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criança aumentou o seu pes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curva de peso esta estacionar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7T22:04:23Z</dcterms:created>
  <dc:creator>Santos Mathe</dc:creator>
  <dc:description/>
  <dc:language>en-US</dc:language>
  <cp:lastModifiedBy>Windows User</cp:lastModifiedBy>
  <dcterms:modified xsi:type="dcterms:W3CDTF">2019-07-16T20:15:29Z</dcterms:modified>
  <cp:revision>37</cp:revision>
  <dc:subject/>
  <dc:title>AIDI</dc:title>
</cp:coreProperties>
</file>