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939338" cy="6804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A2758-E697-402C-9118-069AFA5978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30A66-BBCC-4B33-858A-353BD54482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03D9E-246E-4230-8990-A042713C92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4BEBD-CEBF-40F8-B98F-1E992868FC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9CC07-D6DF-4F49-8DE0-E82D6FB89D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B9142-9F9E-4BEA-AF70-79353F669A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A74F7-9A47-4178-850E-0D43E065C5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AF197-37C4-459B-A4B6-FFC80706FC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D4D0E-7D0B-4FD6-8D6F-7E5921919E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B414B-24A3-4825-B0E4-8DE195227A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E846C-5B66-41D2-80E4-A6CAB768F8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0069D-EF7D-4189-9DB7-FF0FD292EB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8" descr="Jhpiego_logo"/>
          <p:cNvPicPr/>
          <p:nvPr/>
        </p:nvPicPr>
        <p:blipFill>
          <a:blip r:embed="rId3"/>
          <a:stretch/>
        </p:blipFill>
        <p:spPr>
          <a:xfrm>
            <a:off x="7543800" y="6297480"/>
            <a:ext cx="1143000" cy="484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2A56-B176-4979-919B-172028220B9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19051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8" descr="Jhpiego_logo"/>
          <p:cNvPicPr/>
          <p:nvPr/>
        </p:nvPicPr>
        <p:blipFill>
          <a:blip r:embed="rId2"/>
          <a:stretch/>
        </p:blipFill>
        <p:spPr>
          <a:xfrm>
            <a:off x="7772400" y="228600"/>
            <a:ext cx="1143000" cy="484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676520" y="4572000"/>
            <a:ext cx="5867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Módulo 3 – Introdução à Informátic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1981080"/>
            <a:ext cx="5486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Introdução à Informá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ompetênc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27432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369000" indent="-36900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Identificar a importância da aplicação da Informática na formação do Enfermeiro Geral como fonte de aprendizagem e de recursos para o ensino do utente e do estagiário, bem como um meio para facilitar a comunicação e os registos nos serviços de saúd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69000" indent="-36900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Utilizar os programas Word, Excel e Power Point nas tarefas básicas da formação (digitação de um trabalho, preparação de uma apresentação, arquivar, enviar e receber arquivos, busca de informações científicas, de enfermagem e notícias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106668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Após a discussão desse tema os alunos deverão ser capazes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2133720"/>
            <a:ext cx="18288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mação de Conselheiros/as em ATS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85975-4AFD-483E-B164-30940629F1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huva de Ide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057400" y="2819520"/>
            <a:ext cx="5867280" cy="1295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Quais os Benefícios da Informática para o Desempenho do Enfermeiro Geral?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mação de Conselheiros/as em ATS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52DDE-F6A6-4ABE-88D3-353B103E26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Importância da Informátic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Manter actualizados e organizados os registo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Facilitar a organização das actividades (elaboração das escalas, normas, protocolos, etc.)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Facilitar a organização e realização de actividades de ensin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Apoiar a pesquisa e actualização técnic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Facilitar a comunicação entre equipas e instituições de saúd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mação de Conselheiros/as em ATS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E18A8-3013-4F15-BA86-E252BB9B5B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onhecendo o Computado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828440" y="1143000"/>
            <a:ext cx="5638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Hardwar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Softwar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icrosoft Word 2007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icrosoft Power Point 2007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icrosoft Excel 2007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mação de Conselheiros/as em ATS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8155C-CA77-496C-8502-1A1055E49F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Hardware: CP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5639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mação de Conselheiros/as em ATS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63C61-F5CD-4120-9751-0688B73254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ispositivos de Entr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PT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8001000" cy="251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mação de Conselheiros/as em ATS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AD834-14C2-4F99-AFC9-B0B8D581C7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ispositivos de Saí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772400" cy="227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mação de Conselheiros/as em ATS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D9171-B521-49C1-8DFD-EBD20E731A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99840" y="2743200"/>
            <a:ext cx="6553080" cy="1371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CTIVIDADES TEÓRICO PRÁTICAS COM SUPERVISÃO DIRECTA DO INSTRUTOR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mação de Conselheiros/as em ATS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F0BD4-0D9A-4668-A97B-2EFCC76169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7T13:02:48Z</dcterms:created>
  <dc:creator>Ricky Lu</dc:creator>
  <dc:description/>
  <dc:language>en-US</dc:language>
  <cp:lastModifiedBy>Mendoza</cp:lastModifiedBy>
  <cp:lastPrinted>1999-03-19T19:46:22Z</cp:lastPrinted>
  <dcterms:modified xsi:type="dcterms:W3CDTF">2011-03-03T07:26:39Z</dcterms:modified>
  <cp:revision>133</cp:revision>
  <dc:subject/>
  <dc:title>Chapter 1 - An Approach to Clinical Trai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../../2cts1pg.htm</vt:lpwstr>
  </property>
  <property fmtid="{D5CDD505-2E9C-101B-9397-08002B2CF9AE}" pid="9" name="LinkColor">
    <vt:r8>16711782</vt:r8>
  </property>
  <property fmtid="{D5CDD505-2E9C-101B-9397-08002B2CF9AE}" pid="10" name="MailAddress">
    <vt:lpwstr>repro@jhpiego.org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L:\english\2tools\2presgrp\ctschpt1\html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