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9.jpeg" ContentType="image/jpeg"/>
  <Override PartName="/ppt/media/image2.gif" ContentType="image/gif"/>
  <Override PartName="/ppt/media/image7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jpeg" ContentType="image/jpeg"/>
  <Override PartName="/ppt/media/image1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89736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690F4-EAEB-48B7-B510-0EABF5ED203C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2"/>
          <p:cNvSpPr/>
          <p:nvPr/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3"/>
          <p:cNvSpPr/>
          <p:nvPr/>
        </p:nvSpPr>
        <p:spPr>
          <a:xfrm>
            <a:off x="3897360" y="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6"/>
          <p:cNvSpPr/>
          <p:nvPr/>
        </p:nvSpPr>
        <p:spPr>
          <a:xfrm>
            <a:off x="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10E4F-F54B-494C-9DC9-0D610B2A72F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86BC49-3993-4A87-9E19-F34391C3432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972817-F9D7-4C8E-BE49-9843565589B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60F33E-0FF4-4D6E-8684-E2F0449064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076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2468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076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2468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776A09-2532-43C3-89D6-33DA4CDD357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7467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E4BFCE-8191-4035-B77B-90967CBB3FD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9076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12468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684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9076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12468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1FD22D-537A-4C15-961E-9CB0E41A52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914C8A-EF06-4C7E-81C6-18D118926C0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5EECE2-DCCD-4223-917E-B998F788034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7467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8DCDC3-D553-4BBF-A2B5-87B9912D4BA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180B97-32B1-4389-8D72-59A3D100AA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606354-657D-4E09-9AE9-D1D25CF6148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779E0C-C50F-4F4B-96A1-7F24DFDBE9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048120" y="640044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pt-BR" sz="1200" spc="-1" strike="noStrike">
                <a:solidFill>
                  <a:srgbClr val="9999ff"/>
                </a:solidFill>
                <a:latin typeface="Verdana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f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ff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3" name="Picture 1" descr=""/>
          <p:cNvPicPr/>
          <p:nvPr/>
        </p:nvPicPr>
        <p:blipFill>
          <a:blip r:embed="rId2"/>
          <a:stretch/>
        </p:blipFill>
        <p:spPr>
          <a:xfrm>
            <a:off x="380880" y="228600"/>
            <a:ext cx="628920" cy="622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380520" y="632412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9999ff"/>
                </a:solidFill>
                <a:latin typeface="Verdana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69498-3BE6-4FC5-ADFE-6BF6C266411D}" type="slidenum">
              <a:rPr b="0" lang="pt-PT" sz="1200" spc="-1" strike="noStrike">
                <a:solidFill>
                  <a:srgbClr val="9999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3"/>
          <p:cNvSpPr/>
          <p:nvPr/>
        </p:nvSpPr>
        <p:spPr>
          <a:xfrm>
            <a:off x="826920" y="1844640"/>
            <a:ext cx="7772400" cy="25146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33"/>
          <p:cNvSpPr/>
          <p:nvPr/>
        </p:nvSpPr>
        <p:spPr>
          <a:xfrm>
            <a:off x="2971800" y="1447920"/>
            <a:ext cx="54864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628560" cy="622440"/>
          </a:xfrm>
          <a:prstGeom prst="rect">
            <a:avLst/>
          </a:prstGeom>
          <a:ln w="0">
            <a:noFill/>
          </a:ln>
        </p:spPr>
      </p:pic>
      <p:sp>
        <p:nvSpPr>
          <p:cNvPr id="44" name="Text Box 37"/>
          <p:cNvSpPr/>
          <p:nvPr/>
        </p:nvSpPr>
        <p:spPr>
          <a:xfrm>
            <a:off x="2971800" y="1676520"/>
            <a:ext cx="5029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38"/>
          <p:cNvSpPr/>
          <p:nvPr/>
        </p:nvSpPr>
        <p:spPr>
          <a:xfrm>
            <a:off x="2971800" y="1600200"/>
            <a:ext cx="54864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f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ff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3"/>
          </p:nvPr>
        </p:nvSpPr>
        <p:spPr>
          <a:xfrm>
            <a:off x="3048120" y="640044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pt-BR" sz="1200" spc="-1" strike="noStrike">
                <a:solidFill>
                  <a:srgbClr val="9999ff"/>
                </a:solidFill>
                <a:latin typeface="Verdana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ufpa.br/dicas/treina.htm" TargetMode="Externa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1258920" y="4508280"/>
            <a:ext cx="6934320" cy="1584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66"/>
                </a:solidFill>
                <a:latin typeface="Verdana"/>
              </a:rPr>
              <a:t>Módulo 8: Prática de Enfermagem I – Promoção da Saúde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3" name="Rectangle 2067"/>
          <p:cNvSpPr/>
          <p:nvPr/>
        </p:nvSpPr>
        <p:spPr>
          <a:xfrm>
            <a:off x="2771640" y="1773360"/>
            <a:ext cx="6372360" cy="20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15000"/>
              </a:lnSpc>
              <a:tabLst>
                <a:tab algn="l" pos="0"/>
                <a:tab algn="l" pos="216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068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"/>
          <p:cNvSpPr/>
          <p:nvPr/>
        </p:nvSpPr>
        <p:spPr>
          <a:xfrm>
            <a:off x="1619280" y="2139840"/>
            <a:ext cx="619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Verdana"/>
              </a:rPr>
              <a:t>Conceito, formas e ciclo da violência e mitos que a legitimam; impacto na saúde de mulheres e criança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Espaço Reservado para Rodapé 6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Violência psicológica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250920" y="981000"/>
            <a:ext cx="85881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Formas de violência psicológica: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Mobilização emocional da vítima para satisfazer a necessidade de atenção, carinho e de importância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gressão dissimulada, em que o agressor tenta fazer com que a vítima se sinta inferior, dependente e culpada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titude de oposição e aversão também é um caso de violência psicológica, em que o agressor toma certas atitudes com o intuito de provocar ou menosprezar a vítima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meaça de morte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37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C3771-8D25-46A4-BA76-B223220A9B50}" type="slidenum">
              <a:rPr b="0" lang="pt-PT" sz="1200" spc="-1" strike="noStrike">
                <a:solidFill>
                  <a:srgbClr val="9999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2" descr="http://t3.gstatic.com/images?q=tbn:ANd9GcRzEL0-LU_yjULIaVRzfeyjLDFmBQMmoIxXZYDNq4hKqmlRu_vq"/>
          <p:cNvPicPr/>
          <p:nvPr/>
        </p:nvPicPr>
        <p:blipFill>
          <a:blip r:embed="rId1"/>
          <a:stretch/>
        </p:blipFill>
        <p:spPr>
          <a:xfrm>
            <a:off x="5148360" y="4941720"/>
            <a:ext cx="1965240" cy="15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Violência psicológica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Em Moçambique a violência psicológica é tida como a que mais ocorre no país, uma vez que antes da ocorrência da violência física e sexual, ocorre antes a violência psicológica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2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00D07-9CCB-4007-8833-13C254B1A147}" type="slidenum">
              <a:rPr b="0" lang="pt-PT" sz="1200" spc="-1" strike="noStrike">
                <a:solidFill>
                  <a:srgbClr val="9999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2" descr="http://t3.gstatic.com/images?q=tbn:ANd9GcTu_XPlftMS4is-lt4kGJYCUam8NOLinzdMHLJuTylbtJ6p0vjL"/>
          <p:cNvPicPr/>
          <p:nvPr/>
        </p:nvPicPr>
        <p:blipFill>
          <a:blip r:embed="rId1"/>
          <a:stretch/>
        </p:blipFill>
        <p:spPr>
          <a:xfrm rot="1729200">
            <a:off x="2512800" y="2957400"/>
            <a:ext cx="18810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Violência verbal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6840" y="114300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 violência verbal não é uma forma de violência psicológica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Normalmente é utilizada para incomodar a vida das outras pessoas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Pode ser feita por meio do silêncio, que muitas vezes é muito mais violento que os métodos utilizados habitualmente, como as ofensas morais (insultos), depreciações e os questionários infindáveis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7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23616-04EB-4C04-8DE7-4EF356C7E78D}" type="slidenum">
              <a:rPr b="0" lang="pt-PT" sz="1200" spc="-1" strike="noStrike">
                <a:solidFill>
                  <a:srgbClr val="9999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2" descr="http://t3.gstatic.com/images?q=tbn:ANd9GcQAqgN-R1EjEHwA9kenZL7kpDKexzPaG_Gd1WtDlgP6Gh8Ngf4Y7w"/>
          <p:cNvPicPr/>
          <p:nvPr/>
        </p:nvPicPr>
        <p:blipFill>
          <a:blip r:embed="rId1"/>
          <a:stretch/>
        </p:blipFill>
        <p:spPr>
          <a:xfrm>
            <a:off x="5364000" y="4343400"/>
            <a:ext cx="1944720" cy="21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Violência sexual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24000" y="1143000"/>
            <a:ext cx="8640720" cy="523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Violência na qual o agressor abusa do poder que tem sobre a vítima para obter gratificação sexual, sendo esta induzida ou obrigada a práticas sexuais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 violência sexual engloba o medo, a vergonha e a culpa sentidos pela vítima, mesmo naquelas que denunciam o agressor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 principal forma de violência sexual em Moçambique é o estupro, assedio sexual, sucessor do falecido. </a:t>
            </a:r>
            <a:br>
              <a:rPr sz="2400"/>
            </a:b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2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C84B0-F669-4FE7-817B-8933315BD17D}" type="slidenum">
              <a:rPr b="0" lang="pt-PT" sz="1200" spc="-1" strike="noStrike">
                <a:solidFill>
                  <a:srgbClr val="9999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2" descr="http://t2.gstatic.com/images?q=tbn:ANd9GcSZlNbaseZNbhUywf4iSnXSsBSP7FhfOYUtpLxcQ-OWt9b9YQz8"/>
          <p:cNvPicPr/>
          <p:nvPr/>
        </p:nvPicPr>
        <p:blipFill>
          <a:blip r:embed="rId1"/>
          <a:stretch/>
        </p:blipFill>
        <p:spPr>
          <a:xfrm>
            <a:off x="4572000" y="4292640"/>
            <a:ext cx="193356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Negligência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68000" y="1844280"/>
            <a:ext cx="8381880" cy="336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 negligência é o acto de omissão do responsável pela criança, idoso ou pessoa dependente, em proporcionar as necessidades básicas necessárias para a sua sobrevivência e desenvolvimento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Os danos causados pela negligência podem ser permanentes e graves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7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DDCF7-1B65-420D-9429-085AA38CBFFC}" type="slidenum">
              <a:rPr b="0" lang="pt-PT" sz="1200" spc="-1" strike="noStrike">
                <a:solidFill>
                  <a:srgbClr val="9999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2" descr="http://t2.gstatic.com/images?q=tbn:ANd9GcSAdzTRXpfjYfJbRweBMv88exw6R3bM5k3I2CfhYmEAMyu5sGqWFg"/>
          <p:cNvPicPr/>
          <p:nvPr/>
        </p:nvPicPr>
        <p:blipFill>
          <a:blip r:embed="rId1"/>
          <a:stretch/>
        </p:blipFill>
        <p:spPr>
          <a:xfrm>
            <a:off x="4788000" y="3933720"/>
            <a:ext cx="225576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Ciclo da violência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 violência funciona como um sistema circular – o chamado ciclo da violência, que apresenta, em geral, três fases: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2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456EC-D19E-41B3-AA56-1F2634DDDF74}" type="slidenum">
              <a:rPr b="0" lang="pt-PT" sz="1200" spc="-1" strike="noStrike">
                <a:solidFill>
                  <a:srgbClr val="9999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2" descr="http://cnho.files.wordpress.com/2010/12/ciclo.gif"/>
          <p:cNvPicPr/>
          <p:nvPr/>
        </p:nvPicPr>
        <p:blipFill>
          <a:blip r:embed="rId1"/>
          <a:stretch/>
        </p:blipFill>
        <p:spPr>
          <a:xfrm>
            <a:off x="2771640" y="2133720"/>
            <a:ext cx="3238560" cy="3381120"/>
          </a:xfrm>
          <a:prstGeom prst="rect">
            <a:avLst/>
          </a:prstGeom>
          <a:ln w="0">
            <a:noFill/>
          </a:ln>
        </p:spPr>
      </p:pic>
      <p:sp>
        <p:nvSpPr>
          <p:cNvPr id="165" name="Retângulo de cantos arredondados 15"/>
          <p:cNvSpPr/>
          <p:nvPr/>
        </p:nvSpPr>
        <p:spPr>
          <a:xfrm>
            <a:off x="755640" y="3284640"/>
            <a:ext cx="2498760" cy="914400"/>
          </a:xfrm>
          <a:prstGeom prst="roundRect">
            <a:avLst>
              <a:gd name="adj" fmla="val 16667"/>
            </a:avLst>
          </a:prstGeom>
          <a:solidFill>
            <a:srgbClr val="007e3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  <a:ea typeface="Arial"/>
              </a:rPr>
              <a:t>2. Fase do ataque viol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tângulo de cantos arredondados 16"/>
          <p:cNvSpPr/>
          <p:nvPr/>
        </p:nvSpPr>
        <p:spPr>
          <a:xfrm>
            <a:off x="5219640" y="2637000"/>
            <a:ext cx="2808360" cy="79200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1. 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  <a:ea typeface="Arial"/>
              </a:rPr>
              <a:t>Fase de aumento da tens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tângulo de cantos arredondados 17"/>
          <p:cNvSpPr/>
          <p:nvPr/>
        </p:nvSpPr>
        <p:spPr>
          <a:xfrm>
            <a:off x="4716360" y="5013360"/>
            <a:ext cx="3672000" cy="792000"/>
          </a:xfrm>
          <a:prstGeom prst="roundRect">
            <a:avLst>
              <a:gd name="adj" fmla="val 16667"/>
            </a:avLst>
          </a:prstGeom>
          <a:solidFill>
            <a:srgbClr val="1818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  <a:ea typeface="Arial"/>
              </a:rPr>
              <a:t>3. Fase do apaziguamento ou da lua-de-m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Ciclo da violência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1)Fase de aumento da tensão: as tensões quotidianas acumuladas pelo agressor criam um ambiente de perigo iminente para a vítima, que é, muitas vezes, culpabilizada por tais tensões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66"/>
                </a:solidFill>
                <a:latin typeface="Verdana"/>
              </a:rPr>
              <a:t>Sob qualquer pretexto o agressor direcciona todas as suas tensões sobre a vítima: são usualmente situações do quotidiano, como acusar a vítima de não ter cozinhado ou cozinhado com sal a mais, de ter chegado tarde em casa ou de ter amantes.</a:t>
            </a:r>
            <a:endParaRPr b="1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70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540E4-6EE5-4D68-ABEF-978EF743EEBF}" type="slidenum">
              <a:rPr b="0" lang="pt-PT" sz="1200" spc="-1" strike="noStrike">
                <a:solidFill>
                  <a:srgbClr val="9999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2" descr="http://cnho.files.wordpress.com/2010/12/ciclo.gif"/>
          <p:cNvPicPr/>
          <p:nvPr/>
        </p:nvPicPr>
        <p:blipFill>
          <a:blip r:embed="rId1"/>
          <a:stretch/>
        </p:blipFill>
        <p:spPr>
          <a:xfrm>
            <a:off x="4500720" y="4076640"/>
            <a:ext cx="2230200" cy="2328840"/>
          </a:xfrm>
          <a:prstGeom prst="rect">
            <a:avLst/>
          </a:prstGeom>
          <a:ln w="0">
            <a:noFill/>
          </a:ln>
        </p:spPr>
      </p:pic>
      <p:sp>
        <p:nvSpPr>
          <p:cNvPr id="173" name="Retângulo de cantos arredondados 8"/>
          <p:cNvSpPr/>
          <p:nvPr/>
        </p:nvSpPr>
        <p:spPr>
          <a:xfrm>
            <a:off x="6156360" y="4149720"/>
            <a:ext cx="2808360" cy="79200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1. 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  <a:ea typeface="Arial"/>
              </a:rPr>
              <a:t>Fase de aumento da tens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Ciclo da violência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2</a:t>
            </a:r>
            <a:r>
              <a:rPr b="0" i="1" lang="pt-BR" sz="2400" spc="-1" strike="noStrike">
                <a:solidFill>
                  <a:srgbClr val="000066"/>
                </a:solidFill>
                <a:latin typeface="Verdana"/>
              </a:rPr>
              <a:t>.</a:t>
            </a: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 Fase do ataque violento: o agressor maltrata, física e psicologicamente a vítima, que procura defender-se, esperando que o agressor pare e não avance com mais violência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66"/>
                </a:solidFill>
                <a:latin typeface="Verdana"/>
              </a:rPr>
              <a:t>Este ataque pode ser de grande intensidade, podendo a vítima, por vezes, ficar em estado grave, necessitando de atendimento ao qual o agressor nem sempre lhe dá acesso imediato.</a:t>
            </a:r>
            <a:endParaRPr b="1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76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65014-B445-4150-841B-5032AEDDF01C}" type="slidenum">
              <a:rPr b="0" lang="pt-PT" sz="1200" spc="-1" strike="noStrike">
                <a:solidFill>
                  <a:srgbClr val="9999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2" descr="http://cnho.files.wordpress.com/2010/12/ciclo.gif"/>
          <p:cNvPicPr/>
          <p:nvPr/>
        </p:nvPicPr>
        <p:blipFill>
          <a:blip r:embed="rId1"/>
          <a:stretch/>
        </p:blipFill>
        <p:spPr>
          <a:xfrm>
            <a:off x="4494240" y="3645000"/>
            <a:ext cx="2523960" cy="2635200"/>
          </a:xfrm>
          <a:prstGeom prst="rect">
            <a:avLst/>
          </a:prstGeom>
          <a:ln w="0">
            <a:noFill/>
          </a:ln>
        </p:spPr>
      </p:pic>
      <p:sp>
        <p:nvSpPr>
          <p:cNvPr id="179" name="Retângulo de cantos arredondados 6"/>
          <p:cNvSpPr/>
          <p:nvPr/>
        </p:nvSpPr>
        <p:spPr>
          <a:xfrm>
            <a:off x="2484360" y="4437000"/>
            <a:ext cx="2497320" cy="914400"/>
          </a:xfrm>
          <a:prstGeom prst="roundRect">
            <a:avLst>
              <a:gd name="adj" fmla="val 16667"/>
            </a:avLst>
          </a:prstGeom>
          <a:solidFill>
            <a:srgbClr val="007e3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  <a:ea typeface="Arial"/>
              </a:rPr>
              <a:t>2. Fase do ataque viol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Ciclo da violência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324000" y="981000"/>
            <a:ext cx="86407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3</a:t>
            </a:r>
            <a:r>
              <a:rPr b="0" i="1" lang="pt-BR" sz="2400" spc="-1" strike="noStrike">
                <a:solidFill>
                  <a:srgbClr val="000066"/>
                </a:solidFill>
                <a:latin typeface="Verdana"/>
              </a:rPr>
              <a:t>.</a:t>
            </a: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 Fase do apaziguamento ou da lua-de-mel: o agressor, depois da tensão ter sido direccionada sobre a vítima, manifesta-lhe arrependimento e promete que não vai voltar a ser violento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66"/>
                </a:solidFill>
                <a:latin typeface="Verdana"/>
              </a:rPr>
              <a:t>Apresenta motivos para que a vítima desculpe a violência, como: ter corrido mal o dia, ter consumido álcool ou outras drogas e até relatar algum comportamento da vítima como motivo para seu descontrolo. </a:t>
            </a:r>
            <a:endParaRPr b="1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66"/>
                </a:solidFill>
                <a:latin typeface="Verdana"/>
              </a:rPr>
              <a:t>Para reforçar o pedido de desculpas pode tratar a vítima com delicadeza e tentar seduzi-la, fazendo-a acreditar que, de facto, foi essa a última vez que se descontrolou.</a:t>
            </a:r>
            <a:endParaRPr b="1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82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058A8-8057-44CF-AD2F-A38FDABDC971}" type="slidenum">
              <a:rPr b="0" lang="pt-PT" sz="1200" spc="-1" strike="noStrike">
                <a:solidFill>
                  <a:srgbClr val="9999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2" descr="http://cnho.files.wordpress.com/2010/12/ciclo.gif"/>
          <p:cNvPicPr/>
          <p:nvPr/>
        </p:nvPicPr>
        <p:blipFill>
          <a:blip r:embed="rId1"/>
          <a:stretch/>
        </p:blipFill>
        <p:spPr>
          <a:xfrm rot="17994000">
            <a:off x="3761280" y="4667760"/>
            <a:ext cx="1673280" cy="1747800"/>
          </a:xfrm>
          <a:prstGeom prst="rect">
            <a:avLst/>
          </a:prstGeom>
          <a:ln w="0">
            <a:noFill/>
          </a:ln>
        </p:spPr>
      </p:pic>
      <p:sp>
        <p:nvSpPr>
          <p:cNvPr id="185" name="Retângulo de cantos arredondados 6"/>
          <p:cNvSpPr/>
          <p:nvPr/>
        </p:nvSpPr>
        <p:spPr>
          <a:xfrm>
            <a:off x="5292720" y="5445000"/>
            <a:ext cx="3672000" cy="792360"/>
          </a:xfrm>
          <a:prstGeom prst="roundRect">
            <a:avLst>
              <a:gd name="adj" fmla="val 16667"/>
            </a:avLst>
          </a:prstGeom>
          <a:solidFill>
            <a:srgbClr val="1818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  <a:ea typeface="Arial"/>
              </a:rPr>
              <a:t>3. Fase do apaziguamento ou da lua-de-m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Ciclo de violência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23640" y="907920"/>
            <a:ext cx="8597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Este ciclo é vivido pela vítima numa constante de medo, esperança e amor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05600" indent="-271440">
              <a:spcBef>
                <a:spcPts val="499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66"/>
                </a:solidFill>
                <a:latin typeface="Verdana"/>
              </a:rPr>
              <a:t>Medo, em virtude da violência de que é alvo; </a:t>
            </a:r>
            <a:endParaRPr b="1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1" marL="705600" indent="-271440">
              <a:spcBef>
                <a:spcPts val="499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66"/>
                </a:solidFill>
                <a:latin typeface="Verdana"/>
              </a:rPr>
              <a:t>Esperança, porque acredita no arrependimento e nos pedidos de desculpa que têm lugar depois da violência; </a:t>
            </a:r>
            <a:endParaRPr b="1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1" marL="705600" indent="-271440">
              <a:spcBef>
                <a:spcPts val="499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66"/>
                </a:solidFill>
                <a:latin typeface="Verdana"/>
              </a:rPr>
              <a:t>Amor, porque apesar da violência, podem existir momentos positivos no relacionamento.</a:t>
            </a:r>
            <a:endParaRPr b="1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25800" indent="-32580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O ciclo da violência caracteriza-se pela continuidade no tempo, isto é, pela repetição sucessiva ao longo de meses ou anos, podendo ser cada vez menores as fases da tensão e de apaziguamento e cada vez maior e mais intensa a fase do ataque violento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25800" indent="-32580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Em situações limite, o culminar destes episódios poderá ser o homicídio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25800" indent="-32580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88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2E18B-F5C9-4903-AF74-9D50128EB19D}" type="slidenum">
              <a:rPr b="0" lang="pt-PT" sz="1200" spc="-1" strike="noStrike">
                <a:solidFill>
                  <a:srgbClr val="9999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Introdução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Viver em um mundo no qual as pessoas são vistas como detentoras de direitos é uma grande conquista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Durante séculos, milhões de seres humanos, nos mais diversos lugares do mundo, foram reduzidos à condição de escravos e submetidos aos tratamentos mais cruéis e degradantes que podemos imaginar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té bem pouco tempo, a violência contra a mulher e o abuso sexual de crianças despertavam apenas indignação moral. Hoje acarretam punições jurídicas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9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C7092-F738-4524-8314-E08DA06EF565}" type="slidenum">
              <a:rPr b="0" lang="pt-PT" sz="1200" spc="-1" strike="noStrike">
                <a:solidFill>
                  <a:srgbClr val="9999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Mitos que legitimam a violência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539640" y="1484280"/>
            <a:ext cx="8382240" cy="37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São muitos os mitos acerca da violência, podendo, assim, constituirem-se em um verdadeiro obstáculo a qualquer tipo de intervenção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Desta forma, o profissional de saúde tem um papel fundamental na desmistificação de alguns mitos e preconceitos junto dos seus utentes, contribuindo de forma activa para reduzir a violência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92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F7BF2-3101-423C-AD1F-B18BD3E4DA8E}" type="slidenum">
              <a:rPr b="0" lang="pt-PT" sz="1200" spc="-1" strike="noStrike">
                <a:solidFill>
                  <a:srgbClr val="9999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Violência: mitos e realidad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11A82-ACCA-4D26-A990-9CD5CED0E493}" type="slidenum">
              <a:rPr b="0" lang="pt-PT" sz="1200" spc="-1" strike="noStrike">
                <a:solidFill>
                  <a:srgbClr val="9999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395280" y="1125360"/>
          <a:ext cx="8569440" cy="4937400"/>
        </p:xfrm>
        <a:graphic>
          <a:graphicData uri="http://schemas.openxmlformats.org/drawingml/2006/table">
            <a:tbl>
              <a:tblPr/>
              <a:tblGrid>
                <a:gridCol w="3397320"/>
                <a:gridCol w="5172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it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ealidad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</a:tr>
              <a:tr h="130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 álcool e outras drogas fazem com que as pessoas se tornem violenta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s substâncias químicas não são a causa da violência, mas podem potenciá-la porque têm efeito desinibidor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</a:tr>
              <a:tr h="191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s homens que batem nas mulheres são doentes mentai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s agressores são pessoas “normais”. No entanto, a forma como se comportam nas relações interpessoais pode revelar uma estrutura de personalidade que predispõe à violência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f"/>
                    </a:solidFill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 violência doméstica é um problema que n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fecta muitas mulhere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s estatísticas internacionais indicam que existem entre 30% e 40% de mulheres vítimas dos seus companheiros ou marido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Violência: mitos e realidad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81B84-B406-4B13-B93F-A1D7BCA4316E}" type="slidenum">
              <a:rPr b="0" lang="pt-PT" sz="1200" spc="-1" strike="noStrike">
                <a:solidFill>
                  <a:srgbClr val="9999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468360" y="1197000"/>
          <a:ext cx="8496360" cy="4937040"/>
        </p:xfrm>
        <a:graphic>
          <a:graphicData uri="http://schemas.openxmlformats.org/drawingml/2006/table">
            <a:tbl>
              <a:tblPr/>
              <a:tblGrid>
                <a:gridCol w="3456000"/>
                <a:gridCol w="50403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it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ealidad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 violência apenas existe em famílias de baix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ível socioeconômico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s vítimas provêm de todos os estratos sociais, de todas as idades, raças e credos religiosos, sendo u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enómeno de carácter universal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</a:tr>
              <a:tr h="192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gressão é apenas uma perda momentânea d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azão por parte da pessoa que agride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Qualquer tipo de violência, de uma pessoa sobre outra, é crime, independente da sua frequênc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u intensidade. O agressor age com o objectivo de manter o controlo sobre a vítima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f"/>
                    </a:solidFill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 mulher não pode sair de casa porque perd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ireitos e pode ficar sem os filho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 mulher tem o direito e a responsabilidade de proteger-se a si e aos seus filhos, devendo no entant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formar as autoridades judiciai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Violência: mitos e realidad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B0C0D-F841-40B7-8551-2217EDF09083}" type="slidenum">
              <a:rPr b="0" lang="pt-PT" sz="1200" spc="-1" strike="noStrike">
                <a:solidFill>
                  <a:srgbClr val="9999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5" name=""/>
          <p:cNvGraphicFramePr/>
          <p:nvPr/>
        </p:nvGraphicFramePr>
        <p:xfrm>
          <a:off x="395280" y="1413000"/>
          <a:ext cx="8569440" cy="4449600"/>
        </p:xfrm>
        <a:graphic>
          <a:graphicData uri="http://schemas.openxmlformats.org/drawingml/2006/table">
            <a:tbl>
              <a:tblPr/>
              <a:tblGrid>
                <a:gridCol w="2376360"/>
                <a:gridCol w="619308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it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ealidad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</a:tr>
              <a:tr h="405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 vítima é responsável pela violência porque a provoca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inguém pede para ser agredido e ninguém merece sofrer agressão, independente, daquilo que diga ou faça. Ninguém deseja que o cônjuge seja abusivo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s mulheres cujo segundo ou terceiro parceiro são agressores, muitas vezes são tidas pelo outros como culpadas pela violência – “deve ser algo com ela”. Na verdade, o agressor usa a táctica do charme no início do relacionamento a fim de descobrir que ela já foi vítima de abuso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ntão usa essa informação para culpá-la pela violência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Violência: mitos e realidad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F27F8-E037-4771-A8E6-8EC2EC9B1AA3}" type="slidenum">
              <a:rPr b="0" lang="pt-PT" sz="1200" spc="-1" strike="noStrike">
                <a:solidFill>
                  <a:srgbClr val="9999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395280" y="1052640"/>
          <a:ext cx="8496360" cy="5059080"/>
        </p:xfrm>
        <a:graphic>
          <a:graphicData uri="http://schemas.openxmlformats.org/drawingml/2006/table">
            <a:tbl>
              <a:tblPr/>
              <a:tblGrid>
                <a:gridCol w="2592360"/>
                <a:gridCol w="59040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it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ealidad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</a:tr>
              <a:tr h="466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s mulheres vítimas de violência doméstica só 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ão porque não saem de casa e até devem gost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 apanhar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ulheres sobreviventes de violência canalizam as energias, diariamente, a tentar sobreviver e a evitar serem morta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ão vários os factores que as impedem de desenvolverem estratégias para acabar com a violência, nomeadamente a dependência emocional (muitas vezes associadas a técnicas de controlo do agressor) e financeira, poucas opções viáveis de acomodação e apoio, resposta inadequada do sistema judiciário criminal ou de outros serviços, isolamento social, impedimentos culturais ou religiosos, o medo de sofrer ainda mais violência e o facto de terem filhos em comum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Violência: mitos e realidad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02E91-C5B8-45A7-B189-EF18C8DAE1E9}" type="slidenum">
              <a:rPr b="0" lang="pt-PT" sz="1200" spc="-1" strike="noStrike">
                <a:solidFill>
                  <a:srgbClr val="9999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539640" y="1268280"/>
          <a:ext cx="8353440" cy="3230640"/>
        </p:xfrm>
        <a:graphic>
          <a:graphicData uri="http://schemas.openxmlformats.org/drawingml/2006/table">
            <a:tbl>
              <a:tblPr/>
              <a:tblGrid>
                <a:gridCol w="2303640"/>
                <a:gridCol w="60498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it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ealidad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</a:tr>
              <a:tr h="283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m homem pode ser agressor e um bom pai ao mesmo tempo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 qualidade da interacção do pai com o filho deve ser avaliada numa situação de violência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Há evidência científica que só pelo facto de as crianças estarem expostas a situações de violência é possível observar o impacto dessas vivências através de alterações comportamentais, emocionais e psicológicas das crianças (vitimação indirecta)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8967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Impacto da violência sobre a mulher e a criança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6840" y="1413000"/>
            <a:ext cx="8381880" cy="475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A vivência num ambiente de violência, onde os protagonistas são as figuras de apego (pais, por exemplo), desenvolve nas crianças a concepção de um mundo imprevisível, inseguro e assustador, podendo promover a manifestação de sintomas de ansiedade, de evitamento e/ou agressividade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A gravidade deste impacto depende do nível de desenvolvimento da criança, severidade da violência presenciada, proximidade quer ao ambiente físico quer à vítima e características individuais de cada criança (SANI, 1999)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16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D80D0-AF70-4A15-BDDB-4022770584A2}" type="slidenum">
              <a:rPr b="0" lang="pt-PT" sz="1200" spc="-1" strike="noStrike">
                <a:solidFill>
                  <a:srgbClr val="9999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8967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Impacto da violência sobre a mulher e a criança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68000" y="1628640"/>
            <a:ext cx="838188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Os estudos revelam que os homens que agridem a companheira fisicamente também abusam fisicamente dos filhos em 40 a 75% dos casos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Os agressores, muitas vezes demonstram acentuado interesse pelos filhos quando da separação como um meio de manter o contacto, e assim controlar o cônjuge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20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F713F-06D3-4F91-B3D8-2F2B960C99A9}" type="slidenum">
              <a:rPr b="0" lang="pt-PT" sz="1200" spc="-1" strike="noStrike">
                <a:solidFill>
                  <a:srgbClr val="9999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8967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Impacto da violência sobre a mulher e a criança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68000" y="1699920"/>
            <a:ext cx="8381880" cy="387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“</a:t>
            </a: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 experiência das mulheres violentadas implica um conjunto de sentimentos relacionados com a violência, que vão desde a confusão sobre o que provoca a violência, até sentimentos de desespero sobre a possibilidade de parar com a mesma, sentimentos de isolamento e depressão por estarem sob o controle violento dos seus maridos. Por vezes, algumas mulheres consideram o suicídio como uma opção para fugirem da violência” (Voices of the Poor, World Bank, 2000)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24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F835E-7213-4F13-8DA8-B9386E03E3C1}" type="slidenum">
              <a:rPr b="0" lang="pt-PT" sz="1200" spc="-1" strike="noStrike">
                <a:solidFill>
                  <a:srgbClr val="9999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467480" cy="9684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Impacto da violência sobre a mulher e a criança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68000" y="1844280"/>
            <a:ext cx="8381880" cy="394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Mulheres e crianças com reacções de Stress Pós-violência exibem grande variedade de sintomas físicos, psicológicos e emocionais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Podem queixar-se do trauma físico propriamente dito (dor, mutilação)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Podem desenvolver disfunções sexuais, doenças de transmissão sexual, dores crónicas e distúrbios funcionais, desordens gastro-intestinais, gravidezes não desejadas, aborto natural ou induzido, bem como o risco de contrair o HIV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28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B91C2-A378-47CC-B49A-E69E954998AA}" type="slidenum">
              <a:rPr b="0" lang="pt-PT" sz="1200" spc="-1" strike="noStrike">
                <a:solidFill>
                  <a:srgbClr val="9999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Introdução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539640" y="1557000"/>
            <a:ext cx="8382240" cy="394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É bem verdade que o mundo continua sendo injusto, sobretudo com os mais vulneráveis, pois parte significativa da população sofre a falta de emprego, saúde, alimentação, água potável. Porém, pelo menos diante destes absurdos, hoje podemos dizer: isso não está direito!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E mais importante, podemos nos dirigir ao Estado como cidadãos e exigir que nossas demandas sejam atendidas, não como favor, mas como direito!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03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A03F9-9245-4C99-9A9D-605BB2FD6CA1}" type="slidenum">
              <a:rPr b="0" lang="pt-PT" sz="1200" spc="-1" strike="noStrike">
                <a:solidFill>
                  <a:srgbClr val="9999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8967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Impacto da violência sobre a mulher e a criança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68000" y="1773360"/>
            <a:ext cx="8381880" cy="33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Desordens mentais depressivas, pânico, ansiedade generalizada, fobia, comportamento anti-social e outras desordens de personalidade, adesão ao uso de álcool e outras drogas, distúrbio do sono, anorexia, bulimia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32640" indent="-33264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 criança, em particular, poderá ter perdas importantes no seu desenvolvimento psicomotor, afetivo e cognitivo, com prejuízos na escola e no relacionamento com outras crianças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32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704C2-8C48-4F04-8F10-9CD78FC32301}" type="slidenum">
              <a:rPr b="0" lang="pt-PT" sz="1200" spc="-1" strike="noStrike">
                <a:solidFill>
                  <a:srgbClr val="9999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Conceito de violência 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 Organização Mundial da Saúde (OMS) define violência como: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 “</a:t>
            </a: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 imposição de um grau significativo de dor e sofrimento evitáveis”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ff0000"/>
              </a:buClr>
              <a:buSzPct val="110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Porém, especialistas afirmam que o conceito é muito mais amplo e ambíguo do que essa mera constatação de que a violência é a imposição de dor, a agressão cometida por uma pessoa contra outra; mesmo porque a dor é um conceito muito difícil de ser definido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07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A09A1-674E-4D76-855C-1153CAED725F}" type="slidenum">
              <a:rPr b="0" lang="pt-PT" sz="1200" spc="-1" strike="noStrike">
                <a:solidFill>
                  <a:srgbClr val="9999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Conceito de violência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39640" y="1412640"/>
            <a:ext cx="8382240" cy="444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Violência é a “ação ou efeito de violentar, de empregar força física (contra alguém ou algo) ou intimidação moral contra (alguém); ato violento, crueldade, força”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No aspecto jurídico, o termo é definido como o “constrangimento físico ou moral exercido sobre alguém, para obrigá-lo a submeter-se à vontade de outrem; coação”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66"/>
                </a:solidFill>
                <a:latin typeface="Verdana"/>
              </a:rPr>
              <a:t>(Dicionário Houaiss)</a:t>
            </a:r>
            <a:endParaRPr b="1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11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B7955-02BF-4C3C-8C3A-9DA0B0BDBC55}" type="slidenum">
              <a:rPr b="0" lang="pt-PT" sz="1200" spc="-1" strike="noStrike">
                <a:solidFill>
                  <a:srgbClr val="9999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9" descr="fichario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127400" y="3860640"/>
            <a:ext cx="1279800" cy="12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Conceito de violência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10920" y="981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De acordo com a comunidade internacional de direitos humanos, a violência é compreendida como todas as violações dos direitos: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Civis (vida, propriedade, liberdade de ir e vir, de consciência e de culto);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Políticos (direito a votar e a ser votado, ter participação política);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Sociais (habitação, saúde, educação, segurança);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Econômicos (emprego e salário); e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Culturais (direito de manter e manifestar sua própria cultura)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16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082FF-9101-4628-8BEE-697B674A953A}" type="slidenum">
              <a:rPr b="0" lang="pt-PT" sz="1200" spc="-1" strike="noStrike">
                <a:solidFill>
                  <a:srgbClr val="9999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Formas de violência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C3572-D6D4-4A85-AA04-0F833700EBFA}" type="slidenum">
              <a:rPr b="0" lang="pt-PT" sz="1200" spc="-1" strike="noStrike">
                <a:solidFill>
                  <a:srgbClr val="9999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Elipse 5"/>
          <p:cNvSpPr/>
          <p:nvPr/>
        </p:nvSpPr>
        <p:spPr>
          <a:xfrm>
            <a:off x="1187280" y="1628640"/>
            <a:ext cx="3529080" cy="1440000"/>
          </a:xfrm>
          <a:prstGeom prst="ellipse">
            <a:avLst/>
          </a:prstGeom>
          <a:solidFill>
            <a:srgbClr val="99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Fís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Elipse 6"/>
          <p:cNvSpPr/>
          <p:nvPr/>
        </p:nvSpPr>
        <p:spPr>
          <a:xfrm>
            <a:off x="1258920" y="3789360"/>
            <a:ext cx="3529080" cy="1440000"/>
          </a:xfrm>
          <a:prstGeom prst="ellipse">
            <a:avLst/>
          </a:prstGeom>
          <a:solidFill>
            <a:srgbClr val="99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Psicológ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Elipse 7"/>
          <p:cNvSpPr/>
          <p:nvPr/>
        </p:nvSpPr>
        <p:spPr>
          <a:xfrm>
            <a:off x="5003640" y="3716280"/>
            <a:ext cx="3529080" cy="1441440"/>
          </a:xfrm>
          <a:prstGeom prst="ellipse">
            <a:avLst/>
          </a:prstGeom>
          <a:solidFill>
            <a:srgbClr val="99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Negligência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Elipse 8"/>
          <p:cNvSpPr/>
          <p:nvPr/>
        </p:nvSpPr>
        <p:spPr>
          <a:xfrm>
            <a:off x="4932360" y="1700280"/>
            <a:ext cx="3527280" cy="1441440"/>
          </a:xfrm>
          <a:prstGeom prst="ellipse">
            <a:avLst/>
          </a:prstGeom>
          <a:solidFill>
            <a:srgbClr val="99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Verb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Violência física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 violência física é o uso da força com o objectivo de ferir, deixando ou não marcas evidentes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São comuns, murros, socos, mordidas e agressões com objectos diversos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Em Moçambique, as mais comuns são: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s ofensas corporais voluntárias simples (esbofetear, pontapear, morder ou esmurrar), outras ofensas qualificadas (espancamentos que resulte em sangramento)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27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BFC26-6693-4A2F-94EE-474744A22F9D}" type="slidenum">
              <a:rPr b="0" lang="pt-PT" sz="1200" spc="-1" strike="noStrike">
                <a:solidFill>
                  <a:srgbClr val="9999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2" descr="http://t3.gstatic.com/images?q=tbn:ANd9GcQGOHPjYgRHpToatDuIFgOHK6O5vKylrSLTY3OE-qQz-OIgLIYe"/>
          <p:cNvPicPr/>
          <p:nvPr/>
        </p:nvPicPr>
        <p:blipFill>
          <a:blip r:embed="rId1"/>
          <a:stretch/>
        </p:blipFill>
        <p:spPr>
          <a:xfrm>
            <a:off x="5724360" y="4508640"/>
            <a:ext cx="240048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Violência psicológica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142640"/>
            <a:ext cx="8381880" cy="336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Violência psicológica ou agressão emocional, tão ou mais prejudicial que a física, é caracterizada pela rejeição, depreciação, discriminação, humilhação, desrespeito e punições exageradas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20720" indent="-27720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É uma violência que não deixa marcas corporais visíveis, mas emocionalmente provoca cicatrizes para toda a vida.</a:t>
            </a:r>
            <a:br>
              <a:rPr sz="2400"/>
            </a:br>
            <a:r>
              <a:rPr b="1" lang="pt-BR" sz="2400" spc="-1" strike="noStrike">
                <a:solidFill>
                  <a:srgbClr val="000066"/>
                </a:solidFill>
                <a:latin typeface="Verdana"/>
              </a:rPr>
              <a:t>                   </a:t>
            </a:r>
            <a:br>
              <a:rPr sz="2400"/>
            </a:br>
            <a:r>
              <a:rPr b="1" lang="pt-BR" sz="2400" spc="-1" strike="noStrike">
                <a:solidFill>
                  <a:srgbClr val="000066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32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23ED4-2AA9-4A2F-BCDA-8153E1ABF6E6}" type="slidenum">
              <a:rPr b="0" lang="pt-PT" sz="1200" spc="-1" strike="noStrike">
                <a:solidFill>
                  <a:srgbClr val="9999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2" descr="http://t3.gstatic.com/images?q=tbn:ANd9GcTA5h1GQIGZhkrwxK-yvhJq-A5m-Mu-bVlb-Tt-Wa8SgPxVXbfy"/>
          <p:cNvPicPr/>
          <p:nvPr/>
        </p:nvPicPr>
        <p:blipFill>
          <a:blip r:embed="rId1"/>
          <a:stretch/>
        </p:blipFill>
        <p:spPr>
          <a:xfrm>
            <a:off x="4067280" y="3645000"/>
            <a:ext cx="2592360" cy="25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6T17:55:07Z</dcterms:created>
  <dc:creator>Escolastica</dc:creator>
  <dc:description/>
  <dc:language>en-US</dc:language>
  <cp:lastModifiedBy>PC-6</cp:lastModifiedBy>
  <dcterms:modified xsi:type="dcterms:W3CDTF">2014-04-21T05:47:27Z</dcterms:modified>
  <cp:revision>82</cp:revision>
  <dc:subject/>
  <dc:title>Slide 1</dc:title>
</cp:coreProperties>
</file>