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3C1A-E1CC-4A25-90FA-855945DF477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DB9A-FA2D-4A9A-876C-EA28CC424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55FF-E716-4097-9652-46A42DA6D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56DB4-61F6-41F2-B0A4-7DBDC7AF9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43D6-4F6C-464B-89C9-354DE2A4D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7355-8D06-41B2-8FCE-66F473760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C616-3444-4686-82BD-132556E82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BD9B-FBF0-4354-8DE5-77754AE10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DD75B-84B8-4D1E-AE56-9214294DB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49D7F-A873-4FE7-ADF6-7B41A7810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7CAB-0A30-4F12-ABD6-49D1C3208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6DB1-DDB7-4418-BF29-D6E156EA2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5347-5F05-4C61-9647-4F35D3B38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7804-853E-4429-9BA2-ADABB589A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0C94-92BB-47F7-B626-0ACFE5C5FF2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844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1.bp.blogspot.com/-TxxVqjmP82Y/TXoaxhnumuI/AAAAAAAAAt8/76jf5NTPbps/s1600/justica+-+bla&#231;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b23-cmdt-conceicao-silva.rcts.pt/janela_solucao1.htm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31640" y="4436640"/>
            <a:ext cx="69339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187280" y="213984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ntrodução: relação entre direitos humanos, género e cultura; direitos humanos em saúde; violência e violação dos direitos humanos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1341000"/>
            <a:ext cx="568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 igualdade de seres humanos não quer dizer igualdade física nem intelectual ou psicológ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Cada pessoa humana tem sua individualidade, personalidade, modo próprio de ver e senti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ssim, também, os grupos sociais têm sua </a:t>
            </a: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cultura própria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, que é resultado de condições naturais e soci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Pessoas com Valor Igual, mas Indivíduos e Culturas Difer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23ED-ED3A-42D1-BCE5-3FF86F0F5DB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t0.gstatic.com/images?q=tbn:ANd9GcQzb2Tz2dzCBf_mSINR2BpOwf95ObfQVMrr8ZPh3dP1eF8jlSKx"/>
          <p:cNvPicPr/>
          <p:nvPr/>
        </p:nvPicPr>
        <p:blipFill>
          <a:blip r:embed="rId1"/>
          <a:stretch/>
        </p:blipFill>
        <p:spPr>
          <a:xfrm>
            <a:off x="6227640" y="3716280"/>
            <a:ext cx="2225880" cy="2522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t3.gstatic.com/images?q=tbn:ANd9GcS4CZA0Vcyb8fqVj4gvPC0YIdT6tZsCTKDSL_YOpWP2PlavZOs6"/>
          <p:cNvPicPr/>
          <p:nvPr/>
        </p:nvPicPr>
        <p:blipFill>
          <a:blip r:embed="rId2"/>
          <a:stretch/>
        </p:blipFill>
        <p:spPr>
          <a:xfrm>
            <a:off x="5651640" y="1360440"/>
            <a:ext cx="33382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que é cultu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9640" y="980640"/>
            <a:ext cx="838224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É o conjunto de fenômenos materiais e ideológicos que caracterizam um grupo étnico ou uma nação (língua, costumes, rituais, culinária, vestuário, religião), estando em permanente processo de mudanç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E44F-FD0C-4345-A631-015E77D265E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http://t3.gstatic.com/images?q=tbn:ANd9GcS4CZA0Vcyb8fqVj4gvPC0YIdT6tZsCTKDSL_YOpWP2PlavZOs6"/>
          <p:cNvPicPr/>
          <p:nvPr/>
        </p:nvPicPr>
        <p:blipFill>
          <a:blip r:embed="rId1"/>
          <a:stretch/>
        </p:blipFill>
        <p:spPr>
          <a:xfrm>
            <a:off x="3419640" y="3429000"/>
            <a:ext cx="43210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3640" y="1341000"/>
            <a:ext cx="4895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m vários países existem inúmeros agentes sociais de saúde, que ainda não tem status enquanto tal. São raizeiros, rezadeiras, parteiras e out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s tradições, identidade, língua, religiosidade e patrimônio dos povos são bens culturais que afetam sua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5556-E0E0-4ACA-8620-4F877EC4785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Users\Escolastica\Documents\Mocambique GERAL\Fotos mocambique social jan 2008\P1030007.JPG"/>
          <p:cNvPicPr/>
          <p:nvPr/>
        </p:nvPicPr>
        <p:blipFill>
          <a:blip r:embed="rId1"/>
          <a:stretch/>
        </p:blipFill>
        <p:spPr>
          <a:xfrm>
            <a:off x="5364000" y="1341360"/>
            <a:ext cx="3614760" cy="4819680"/>
          </a:xfrm>
          <a:prstGeom prst="rect">
            <a:avLst/>
          </a:prstGeom>
          <a:ln w="0">
            <a:noFill/>
          </a:ln>
        </p:spPr>
      </p:pic>
      <p:sp>
        <p:nvSpPr>
          <p:cNvPr id="154" name="Retângulo de cantos arredondados 7"/>
          <p:cNvSpPr/>
          <p:nvPr/>
        </p:nvSpPr>
        <p:spPr>
          <a:xfrm>
            <a:off x="324000" y="5589720"/>
            <a:ext cx="4535280" cy="792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aizeiro ensinando o tratamento de verminoses – Mercado de Map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Conector angulado 9"/>
          <p:cNvCxnSpPr/>
          <p:nvPr/>
        </p:nvCxnSpPr>
        <p:spPr>
          <a:xfrm flipV="1">
            <a:off x="4284360" y="5084280"/>
            <a:ext cx="935640" cy="4327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413000"/>
            <a:ext cx="85150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O movimento negro tem levantado a importância da cultura das religiões de matriz africana na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presenta que os terreiros de Candomblé, além das atividades religiosas funcionam como centros de saúde, que trata doenças físicas e mentais e fornecem suporte social para as comunidad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s ações terapêuticas são muitas, baseadas em procedimentos naturais com o objetivo de eliminar a origem dos transtorn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EE54-D4AE-4468-A07B-61D0B08C2D4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142640"/>
            <a:ext cx="838188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O terreiro é o lugar do Axé, da tradição, da cosmovisão Africana e o lugar que mantém viva esta cosmovis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 doença é provocada pelo enfraquecimento do Axé (cosmos) que está incorporado no home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b98"/>
                </a:solidFill>
                <a:latin typeface="Verdana"/>
              </a:rPr>
              <a:t>Essa cosmovisão inclui a relação com a ancestralidade e com o Axé, como forma de entender a saúde e as manifestações das doenças e que considera a saúde não apenas como um estado de ausência de doenças, mas resultado de trocas interativas com as diversas dimensões da existência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O movimento reivindica que se reconheça a diferença étnica e a inclusão dos terreiros na rota da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1E11-9ABC-4A7A-9767-1E96BECF7DE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que é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000" y="112536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O termo gênero começou a ser utilizado por teóricos e estudiosos de mulheres e do feminismo, no final da década de 70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Naquele momento, o movimento feminista ressurgia com força em todo o mundo, provavelmente por influência da onda revolucionária que percorrera a Europa, a China, a América Latina e EUA, no final da década de 60, com os grandes movimentos estudantis e a contestação dos papéis e comportamentos sexuai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789F-610D-4EAE-A93C-F68D709E687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Sexo versus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Espaço Reservado para Conteúdo 11"/>
          <p:cNvSpPr/>
          <p:nvPr/>
        </p:nvSpPr>
        <p:spPr>
          <a:xfrm>
            <a:off x="46836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Sexo: Diferenças anátomo-fisiológicas existentes entre os homens e as mulhe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É um conceito bio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Gênero:É o conjunto de características sociais, culturais, políticas, psicológicas, jurídicas e econômicas atribuídas às pessoas de forma diferenciada de acordo com o sex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As características de gênero são construções sócio-culturais que variam através da história e se referem aos papéis psicológicos e culturais que a sociedade atribui a cada um do que considera “masculino” ou “feminin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É um conceito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género 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11280" y="1483920"/>
            <a:ext cx="4897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Trabalhar a questão de Direitos Humanos e Saúde implica em incorporar em nossas análises as diferenças biológicas e desigualdades sociais oriundas da opressão de género, racial/étnica e de inserção das classes sociai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772A-FC65-4B29-A183-E6EBAC2F660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http://t0.gstatic.com/images?q=tbn:ANd9GcQzb2Tz2dzCBf_mSINR2BpOwf95ObfQVMrr8ZPh3dP1eF8jlSKx"/>
          <p:cNvPicPr/>
          <p:nvPr/>
        </p:nvPicPr>
        <p:blipFill>
          <a:blip r:embed="rId1"/>
          <a:stretch/>
        </p:blipFill>
        <p:spPr>
          <a:xfrm>
            <a:off x="5508720" y="1989000"/>
            <a:ext cx="3051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 em saúd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000" y="1773360"/>
            <a:ext cx="83818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Mais recentemente foi incluída no conceito de saúde, a noção de “Saúde como um Direito”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E que direito é esse?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	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Um Direito Humano Universal, que hoje é compreendido como DESCA (Direitos econômicos, sociais, culturais e ambientai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B534-7FB2-4CEC-ADFB-A3B1359CCD7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ssa concepção foi reforçada na Carta dos Povos sobre a Saúde, escrita com a participação de 92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países, em 2000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" Saúde é uma questão social, econômica, política e acima de tudo, um direito humano fundamental. Desigualdades, pobreza, exploração, violência e injustiça encontram-se entre as causas das doenças e morte dos pobres e marginalizados. Proporcionar condições de saúde para todos implica desafiar interesses poderosos, resistir à globlalização e mudar drasticamente as prioridades políticas e econômicas "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AAD4-52B7-47D5-A549-5B2A03EA388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000" y="1773000"/>
            <a:ext cx="8381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Com a criação da Organização das Nações Unidas (ONU), em 1945, o conceito de direitos humanos tem se universalizado, alcançando uma grande importância na cultura jurídica interna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m 10/12/1948 a Declaração Universal dos Direitos Humanos foi proclamada pela Assembléia Geral da ONU em sua Resolução 217 A (III), como resposta aos horrores da 2ª. Guerra Mundial e como intento de sentar as bases da nova ordem interna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4C63-BEF6-4396-9240-EAEC05A5426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4920" y="1989000"/>
            <a:ext cx="8381880" cy="30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Esse conceito implica perceber que os Direitos Humanos em relação á saúde, não devem ser restritos a públicos alvos distintos, ou a áreas específicas em saúde e que a luta pelos Direitos Humanos é a mesma luta dos Direitos a saú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5C28-196E-4AC9-82CF-B89B74C6EE1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utar por direitos humanos em saúde também significa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640" y="2060280"/>
            <a:ext cx="83822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ela inversão de prioridades no orçamento público, onde o ser humano seja o centro das priorida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elo aumento da renda média dos cidadãos e políticas de empreg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or educ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or equilíbrio ambi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or diminuir as diferenças soci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32A5-1A1B-47BF-A18A-C837028BDB1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4000" y="1052640"/>
            <a:ext cx="852624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Objectivos da ONU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Manter a paz, a segurança internacional, desenvolver relações amigáveis entre as nações, realizar a cooperação internacional resolvendo problemas internacionais de ordem econômica, social, intelectual e humanitária, desenvolver e encorajar o respeito pelos direitos humanos e pelas liberdades fundamentais sem qualquer tipo de distin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D8D5-76CE-4B12-9A2A-A75455E512F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liam_heartbubbles"/>
          <p:cNvPicPr/>
          <p:nvPr/>
        </p:nvPicPr>
        <p:blipFill>
          <a:blip r:embed="rId1"/>
          <a:stretch/>
        </p:blipFill>
        <p:spPr>
          <a:xfrm>
            <a:off x="5170320" y="4226040"/>
            <a:ext cx="199404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1557000"/>
            <a:ext cx="8381880" cy="27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Viver em um mundo no qual as pessoas são vistas como detentoras de direitos é uma grande conquist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A palavra direito significa exatamente aquilo que é reto, correto ou just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8E6F-C2F2-4B16-BD2F-757E3DB5EB9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1.bp.blogspot.com/-TxxVqjmP82Y/TXoaxhnumuI/AAAAAAAAAt8/76jf5NTPbps/s200/justica%2B-%2Bbla%25C3%25A7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933720"/>
            <a:ext cx="3465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que são os direitos human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1125360"/>
            <a:ext cx="8381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São um conjunto de leis, vantagens e prerrogativas que devem ser reconhecidas como essenciais pelo indivíduo para que este possa ter uma vida digna, ou seja, que não seja inferior ou superior aos outros porque é de um sexo diferente, porque pertencem a uma etnia diferente, ou religião, ou cultura, ou grupo 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São também definidos como um conjunto de regras que o Estado e todos os cidadãos devem seguir e respeit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São importantes para que se tenha uma convivência em paz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14F8-BFEB-49A4-943E-4F53EF0D1C4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que são os direitos human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000" y="980640"/>
            <a:ext cx="83818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São direitos fundamentais da pessoa humana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O direito à satisfação das necessidades vitais (alimentação, habitação, assistência na doença e na educação); o direito a usufruir de liberdades políticas e civis (liberdade de pensamento, religião e associação); respeito pela integridade do indivíduo como um só; a igualdade perante a lei; o direito ao afeto e à livre expressão da sexualidade, entr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ADE2-AB55-4554-ACAC-674944D6011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ixaDeTexto 5"/>
          <p:cNvSpPr/>
          <p:nvPr/>
        </p:nvSpPr>
        <p:spPr>
          <a:xfrm>
            <a:off x="1332000" y="4941720"/>
            <a:ext cx="691200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cordando a leitura da “Declaração dos Direitos Humanos”, quem gostaria de acrescentar outro dir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9" descr="http://www.eb23-cmdt-conceicao-silva.rcts.pt/J028887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5805360"/>
            <a:ext cx="4669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000" y="134136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Não existe um direito mais importante que o outr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Para o pleno exercício da cidadania, é preciso a garantia do conjunto dos Direitos Human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Cada cidadão deve ter garantido todos os Direitos Humanos, nenhum deve ser esquecido ou viola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A violação dos direitos humanos constitui violênc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F876-4A91-4320-8959-AC43F6E4066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unção dos direitos human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143000"/>
            <a:ext cx="842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Proteger os indivíduos das arbitrariedades, do autoritarismo, da prepotência e dos abusos de pode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Representam a liberdade dos seres humanos; sua construção está ligada ao individualismo crescente das sociedades ao longo dos tempos, que levou à necessidade de limitar o poder do Estado sobre os indivíduos, fazendo com que o respeitassem e aos seus interess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stão associados a uma idéia de civilização, de democracia, que em conjunto reflecte uma idéia de igualdade e de dignidade para to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5137-BECF-49BC-8DE1-3310D4712AF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3640" y="1268280"/>
            <a:ext cx="583236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Respeitar os Direitos Humanos é promover a vida em sociedade, sem discriminação de classe social, </a:t>
            </a: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cultura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, religião, raça, etnia, </a:t>
            </a: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género 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 opção sexu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Para que exista igualdade de direitos é preciso respeito às diferenç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 igualdade racial e entre </a:t>
            </a: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homens e mulheres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 são fundamentais ao desenvolvimento da humanidade e para tornar real os Direitos Human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F8ED-5685-48E5-8B20-84562A62E18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t0.gstatic.com/images?q=tbn:ANd9GcQzb2Tz2dzCBf_mSINR2BpOwf95ObfQVMrr8ZPh3dP1eF8jlSKx"/>
          <p:cNvPicPr/>
          <p:nvPr/>
        </p:nvPicPr>
        <p:blipFill>
          <a:blip r:embed="rId1"/>
          <a:stretch/>
        </p:blipFill>
        <p:spPr>
          <a:xfrm>
            <a:off x="6370560" y="3716280"/>
            <a:ext cx="2162160" cy="24494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4"/>
          <p:cNvSpPr/>
          <p:nvPr/>
        </p:nvSpPr>
        <p:spPr>
          <a:xfrm>
            <a:off x="63360" y="-82872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63360" y="-82872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3360" y="-82872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t3.gstatic.com/images?q=tbn:ANd9GcS4CZA0Vcyb8fqVj4gvPC0YIdT6tZsCTKDSL_YOpWP2PlavZOs6"/>
          <p:cNvPicPr/>
          <p:nvPr/>
        </p:nvPicPr>
        <p:blipFill>
          <a:blip r:embed="rId2"/>
          <a:stretch/>
        </p:blipFill>
        <p:spPr>
          <a:xfrm>
            <a:off x="5867280" y="1484280"/>
            <a:ext cx="30895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23:14:09Z</dcterms:created>
  <dc:creator>Escolastica</dc:creator>
  <dc:description/>
  <dc:language>en-US</dc:language>
  <cp:lastModifiedBy>PC-6</cp:lastModifiedBy>
  <dcterms:modified xsi:type="dcterms:W3CDTF">2014-04-21T05:46:24Z</dcterms:modified>
  <cp:revision>44</cp:revision>
  <dc:subject/>
  <dc:title>Slide 1</dc:title>
</cp:coreProperties>
</file>