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AB84-9116-4D34-8201-83F9830B4F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73F8-64FC-4135-9F8C-E1261AFFE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7EB9-A9FA-4E17-8533-A01B83176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875D-80D1-4CF2-803D-78B8E0A7B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1DDB-A925-4EFE-8165-94408F8DF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7F58-EB92-45C4-B967-6D290D1D6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AAC4-E7C5-4B1E-AD4C-AC7D33E35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FE45-CE35-4388-9412-DDA58B789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3676-87F3-45DE-9FAA-FEC4300A9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173E-1989-41BB-A35A-B76EF66D3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ABE8-167C-4BC6-B5B8-A2EA10EAA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E8B3-5E6D-4894-9730-15B77C641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8C4F-ACA5-45DE-92DB-4E05F7DDC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5DCF-AAA9-4913-BE61-7CA9C9F9E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AB86-CED1-4B64-B431-022B8F8E300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img.photobucket.com/albums/v739/martiuks/PENSANDO.jpg&amp;imgrefurl=http://elespaciodemartha.blogspot.com/&amp;h=280&amp;w=200&amp;sz=50&amp;tbnid=ZFCnHigb6AcAUM:&amp;tbnh=109&amp;tbnw=77&amp;hl=pt-BR&amp;start=14&amp;prev=/images?q=pensando&amp;svnum=10&amp;hl=pt-BR&amp;lr=&amp;sa=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4436640"/>
            <a:ext cx="693396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835280" y="234864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o identificar factores de risco a saú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identificar os fatores de risco à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57428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Informando as pessoas para exercerem o controle sobre sua própria saúde e a saúde da comunidade – estas poderão identificar por si próprias os fatores de risco à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antendo planos de educação em saúde contínuos, individual, grupal e coletivo, que levem a adoção de estilos de vida saudáveis, ao desenvolvimento de aptidões e capacidades individuais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FFB2-355F-4015-8679-3AFC991FE2A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controlar os fatores de risco à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8560" y="1267920"/>
            <a:ext cx="8785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trole de fatores de risco está estreitamente vinculado à eficácia da sociedade em cobrar a implantação de políticas públicas voltadas à QV e ao desenvolvimento da capacidade de analisar criticamente a realidade e promover a transformação posit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37C2-8512-46D4-92B5-2E6EF360555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lipse 5"/>
          <p:cNvSpPr/>
          <p:nvPr/>
        </p:nvSpPr>
        <p:spPr>
          <a:xfrm>
            <a:off x="1332000" y="3645000"/>
            <a:ext cx="3671640" cy="14396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pulação orientada e consc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lipse 6"/>
          <p:cNvSpPr/>
          <p:nvPr/>
        </p:nvSpPr>
        <p:spPr>
          <a:xfrm>
            <a:off x="4716360" y="3284640"/>
            <a:ext cx="4176720" cy="180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itos humanos básicos garantidos (moradia, alimentação, saúde e educa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lipse 7"/>
          <p:cNvSpPr/>
          <p:nvPr/>
        </p:nvSpPr>
        <p:spPr>
          <a:xfrm>
            <a:off x="2484360" y="4797360"/>
            <a:ext cx="4824360" cy="158436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aúde com enfoque na atenção primária à saúde e profissionais compete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controle dos fatores de risco à saú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ntre as ações de controle dos fatores de risco a saúde, encontram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 medidas de vigilância epidemiológica (identificação, registro e controle da ocorrência de doenç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acin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aneamento bás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igilância sanitária de alimentos, do meio ambiente e de medica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dequação do ambiente de trabalh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rientações  específicas para determinados fatores de ris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6C82-1BB0-4AE0-97CC-9A57B126D6C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000" y="1483920"/>
            <a:ext cx="838188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cendo os fatores de risco para determinados agravos à saúde é possível programar medidas dirigidas à prevenção e ao controle destes, com maiores chances de estabelecer planos de intervenções de suces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822D-501C-4B0E-9016-A3389BA6707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tângulo de cantos arredondados 5"/>
          <p:cNvSpPr/>
          <p:nvPr/>
        </p:nvSpPr>
        <p:spPr>
          <a:xfrm>
            <a:off x="4572000" y="3573360"/>
            <a:ext cx="32400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jamos exemplos a segu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5" descr="j0296847"/>
          <p:cNvPicPr/>
          <p:nvPr/>
        </p:nvPicPr>
        <p:blipFill>
          <a:blip r:embed="rId1"/>
          <a:stretch/>
        </p:blipFill>
        <p:spPr>
          <a:xfrm>
            <a:off x="2268360" y="3573360"/>
            <a:ext cx="17622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267920"/>
            <a:ext cx="85993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controlar os fatores de risco para o HIV/Sida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reendendo estes factores e a partir disso adotando de forma consciente os hábitos saudáve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de risco para o HIV/Si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5C56-D928-4C44-B903-0C325BEBAAF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3357720"/>
          <a:ext cx="8640720" cy="30160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Ter prática sexual desprotegida (oral, vaginal ou an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Multiplicidade de parcei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Compartilhar seringas contaminadas (prática presente entre usuários de drogas injetáve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Receber transfusão de sangue sem con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Contato com sangue e fluidos corporais sem o uso dos equipamentos de proteção individual (EP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0E73-39B7-45A0-B0A1-5D43A599061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3640" y="1341000"/>
            <a:ext cx="8515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Usar preservativo sempre e durante toda a relação sexual (oral, vaginal e anal)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sexo anal pode produzir pequenas fendas na pele que forma o ânus. Estas permitem acesso direto de agentes infecciosos à corrente sanguínea, aumentando o risco de transmissão do HIV e do vírus da hepatite B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9" name="Picture 5" descr="j0296847"/>
          <p:cNvPicPr/>
          <p:nvPr/>
        </p:nvPicPr>
        <p:blipFill>
          <a:blip r:embed="rId1"/>
          <a:stretch/>
        </p:blipFill>
        <p:spPr>
          <a:xfrm>
            <a:off x="611280" y="981000"/>
            <a:ext cx="1512720" cy="2359080"/>
          </a:xfrm>
          <a:prstGeom prst="rect">
            <a:avLst/>
          </a:prstGeom>
          <a:ln w="0">
            <a:noFill/>
          </a:ln>
        </p:spPr>
      </p:pic>
      <p:sp>
        <p:nvSpPr>
          <p:cNvPr id="160" name="CaixaDeTexto 7"/>
          <p:cNvSpPr/>
          <p:nvPr/>
        </p:nvSpPr>
        <p:spPr>
          <a:xfrm>
            <a:off x="2268360" y="1268280"/>
            <a:ext cx="619128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hecendo os fatores de risco torna-se fácil perceber as medidas de controle mais eficaz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ejam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Para controlar os fatores de riscos para HIV/Sida, orient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duzir o número de parceiros sexuai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trição no número de contatos casuais. Um estranho pode ter tido contato com diferentes indivíduos e não há como saber se entrou em contato com do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relacionamento com quem pareça estar doente, com erupções na pele ou outros sintomas de DST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6F9A-6B90-4CCE-BB01-C186990FFF5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640" y="1699920"/>
            <a:ext cx="838224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Para controlar os fatores de riscos para HIV/Sida, orient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compartilhar seringas e outros instrumentos inva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gir a testagem do sangue em casos de transfus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balhadores de saúde usarem os EPI necessários nas situações exigi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CADC-21C9-4635-9E48-B85BE099B10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ercício em pequenos grup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7E3B-86A0-43E3-812A-A9F23A3F6F9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2" descr="http://lh6.ggpht.com/-LnOhHPv-fwM/ThR-l2gaITI/AAAAAAAAAfw/uk2G0XH-JaU/grupo001%25255B3%25255D.png"/>
          <p:cNvPicPr/>
          <p:nvPr/>
        </p:nvPicPr>
        <p:blipFill>
          <a:blip r:embed="rId1"/>
          <a:stretch/>
        </p:blipFill>
        <p:spPr>
          <a:xfrm>
            <a:off x="1835280" y="1197000"/>
            <a:ext cx="6298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 que é um factor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4920" y="1483920"/>
            <a:ext cx="8497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um termo estatístico utilizado para designar uma condição ambiental, característica ou comportamento que aumenta a probabilidade da ocorrência de determinada doe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r exemplo: tabagismo, idade, história familiar de determinados cânceres, hábito alimentar, obesidade, falta de exercício são fatores de risco para o desenvolvimento do câncer. Ou seja, indivíduos sadios, quando expostos a estes fatores de risco têm mais chances de desenvolver o câncer.</a:t>
            </a: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AE32-E8E8-4F0B-AFC5-B0BA5F0A58B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tores biológicos (idade, sexo, características pessoais determinadas pela herança genétic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ulheres com mais de 45 anos têm maior risco para câncer de colo do úte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homens tem uma carga de hipertensão arterial 20% mais que as mulhe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homens tem mais tuberculose que as mulhe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ilhos de pais diabéticos têm mais risco para desenvolver diabe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43B8-43F9-47B7-8E83-70C106B5506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0792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io ambiente, que abrange condições geográficas, características da ocupação humana, fontes de água para consumo, disponibilidade e qualidade dos alimentos e condições de habit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gião de clima seco é fator de risco para as doenças respiratór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ocal de trabalho com excesso de barulho é fator de risco à acuidade auditiva e a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Água poluída, alimentos contaminados são fatores de risco para parasitoses e infecções do trato digestó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abitação precária (pouca ventilação e iluminação) é fator de risco para tuberculo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AAFD-26CF-4223-BA12-805FEA85A16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io socioeconômico e cultural, que expressa ocupação e renda, acesso à educação formal e ao lazer, os graus de liberdade, hábitos e formas de relacionamento interpessoal, a possibilidade de acesso aos serviços voltados para a promoção e recuperação da saúde e a qualidade da atenção por eles prestada podem representar fatores de risco a saúde. 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Crianças filhas de mães de baixa escolaridade têm mais chance de morrer no 1º. ano de vid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 dificuldade de acesso aos serviços de saúde aumentam a mortalidade por câncer e outras doenças crônicas não transmissíveis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Baixa renda está associada a mortalidade infantil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9B21-CE20-47D5-BC3D-C1339B815E3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o exposto, pode-se perceber que os fatores de risco podem ser 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odificáveis e não modificáve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a opinião de vocês, sobre quais fatores de risco o enfermeiro geral poderá intervir?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14B8-1FB1-4762-A9EF-FB61C692CEF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6" descr="PENSAN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3411360"/>
            <a:ext cx="1944720" cy="27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ados os fatores de risco, vamos classificá-los em modificáveis ou não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dentar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besi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reditarie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abag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x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aç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abitação precári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alta de saneament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2428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ress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sumo de alimentos e água impróprio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levado consumo de gordura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lcool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Sexo desprotegid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ificuldade de acesso ao serviço de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19C1-147A-49D7-9F11-4C27FD85D31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nalisando os fatores de risco pode-se concluir que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492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te dos fatores de risco é modificáve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te é não modificáve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ntre os fatores modificáveis, alguns são mais difíceis e exigem mais esforços para serem ultrapassados; outros men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fatores de risco modificáveis serão ultrapassados com esforços conjunto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indivídu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fissionais de saú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líticas públicas de saúde e de outros setores sociai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0728-292A-4666-BE98-367226E38C2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identificar os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3640" y="1773360"/>
            <a:ext cx="8515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alizando consultas médicas, odontológicas e de enfermagem, periódic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ornando os serviços de saúde acessíveis a todo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alizando levantamento do perfil de saúde de comunidades ou grupo de trabalhador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FB8C-AF4A-41E6-98E6-63134FF7E74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52:33Z</dcterms:created>
  <dc:creator>Escolastica</dc:creator>
  <dc:description/>
  <dc:language>en-US</dc:language>
  <cp:lastModifiedBy>Mendoza</cp:lastModifiedBy>
  <dcterms:modified xsi:type="dcterms:W3CDTF">2011-09-18T18:34:18Z</dcterms:modified>
  <cp:revision>38</cp:revision>
  <dc:subject/>
  <dc:title>Slide 1</dc:title>
</cp:coreProperties>
</file>