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EA41-BBFA-4224-9197-76254A842EA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2B03-1F1F-4741-B953-D369E79A41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35C8C-F0BD-4BD8-A923-3F3F3DD2FF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A2AD3-EB1A-4019-B2F4-F2EBD48E0B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FC5C2-8FFE-45AB-8924-220E3C97D4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B814C-029C-46B2-AE4C-26365D952C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6306C-FB09-4332-AB4F-274537BD68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3C3EF-ACDA-447D-B408-9053939205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95024-7632-4DAB-883C-3119BE2F40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A9133-0DAB-43A2-8E8F-6C73862AEC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E0127-CC97-4875-8125-94C8F74D45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13007-0513-4178-A714-A71772A9C4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B13C6-06A0-4361-AF17-F7B501FB8D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525B6-8D6E-45A4-860E-41A6C5B553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087D-A66B-47FA-8156-837B7DF0F7F3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900000" y="162864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31640" y="4292280"/>
            <a:ext cx="693396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Módulo 8: Prática de Enfermagem I – Promoção da Saúd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1" name="Rectangle 2067"/>
          <p:cNvSpPr/>
          <p:nvPr/>
        </p:nvSpPr>
        <p:spPr>
          <a:xfrm>
            <a:off x="2771640" y="1773360"/>
            <a:ext cx="637236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2068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1"/>
          <p:cNvSpPr/>
          <p:nvPr/>
        </p:nvSpPr>
        <p:spPr>
          <a:xfrm>
            <a:off x="1763640" y="1988280"/>
            <a:ext cx="61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sigualdades de género e a natureza estrutural da violênc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Espaço Reservado para Rodapé 6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Violências auto-infligid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000" y="1773360"/>
            <a:ext cx="8381880" cy="25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rresponde aos comportamentos suicidas e os auto-abus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o primeiro caso, a tipologia contempla suicídio, ideação suicida e tentativas de suicídi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conceito de auto-abuso nomeia as agressões a si próprio e as automutilaçõ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0F02-5266-4E61-B502-B5FD24F4C2BD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Violências interpessoai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violências interpessoais são classificadas em dois âmbitos: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trafamiliar: ocorre entre os parceiros íntimos e entre membros da família, principalmente no domícilio. Inclui as várias formas de agressão contra crianças, mulheres,  homens, idosos. 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munitária: é definida como aquela que ocorre no ambiente social em geral, entre conhecidos e desconhecidos. Consideram-se suas várias expressões como violência juvenil, agressões físicas, estupros, ataques sexuais e, inclusive, a violência institucional que ocorre, por exemplo, em escolas, locais de trabalho, prisões e asil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F1EC-3A94-4854-8508-F0E4BE40673E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Violências coletiv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23640" y="1143000"/>
            <a:ext cx="8515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m violências coletivas se classificam os atos que causam danos, lesões e mortes, e que acontecem nos âmbitos macrossociais, políticos e econômicos, caracterizando a dominação de grupos e do Estad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cluem-se os crimes cometidos por grupos organizados, atos terroristas e de multidõ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o campo político, são consideradas as guerras e os processos de aniquilamento de determinados povos e nações por outr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classificação de violência coletiva abrange ainda ataques econômicos entre grupos e nações, geralmente motivados por interesses de dominaç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B659-E552-4921-B5AE-65F88303B9CC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sigualdade de género e a natureza da viol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39640" y="1844280"/>
            <a:ext cx="83822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e acordo com os dados oficiais do Ministério do Interior, a violência contra a Mulher tem atingido níveis muito elevados no país entre 2004-2007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Neste período mais de 29.000 mulheres apresentaram queixa nos Gabinetes de Atendimento à mulher, como tendo sido vítimas de violência, com uma média de mais de 7.000 mulheres por an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6A00-DEC9-4968-AEDC-D50C3ACAA4C6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sigualdade de género e a natureza da viol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141300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s números reais das vítimas de violência são muito mais elevados que estes, uma vez que muitas mulheres não apresentam queixa quando são vítimas de violência, por razões culturais, sociais e económicas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3537-9FA2-45A6-BA6F-2A7F2C176574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CaixaDeTexto 5"/>
          <p:cNvSpPr/>
          <p:nvPr/>
        </p:nvSpPr>
        <p:spPr>
          <a:xfrm>
            <a:off x="1187280" y="3573360"/>
            <a:ext cx="7272360" cy="82548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Quem gostaria de citar exemplos dessas razões culturais, sociais e econômic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6" descr="PENSANDO"/>
          <p:cNvPicPr/>
          <p:nvPr/>
        </p:nvPicPr>
        <p:blipFill>
          <a:blip r:embed="rId1"/>
          <a:stretch/>
        </p:blipFill>
        <p:spPr>
          <a:xfrm>
            <a:off x="4140360" y="4581360"/>
            <a:ext cx="129528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sigualdade de género e a natureza da viol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6840" y="1412640"/>
            <a:ext cx="838188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s tipos principais de violência contra a mulher em Moçambique são a física, sexual e psicológic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m termos conceptuais existe uma diversidade de percepções sobre este fenómeno, mas todas elas possuem pontos comuns no que se refere ao essencial, que consiste no reconhecimento de que toda e qualquer violência é um mal social que deve ser eliminado da socieda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5045-0670-4204-99D9-9B897498934D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15640" y="228240"/>
            <a:ext cx="77230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studo piloto WLSA Moçambiqu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24000" y="1143000"/>
            <a:ext cx="8640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  <a:ea typeface="Arial"/>
              </a:rPr>
              <a:t>WLSA Moçambique concluiu estudo piloto do projecto de pesquisa sobre violência contra as mulheres, que desenvolveu nos Gabinetes de Atendimento da Mulher e da Criança, na cidade de Maputo e nas províncias de Maputo e Sofal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  <a:ea typeface="Arial"/>
              </a:rPr>
              <a:t>O objectivo da pesquisa foi conhecer a realidade da violência de género, denunciada no espaço policial das esquadras onde foram criados os Gabinetes de Atendimento da Mulher e da Crianç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  <a:ea typeface="Arial"/>
              </a:rPr>
              <a:t>Os resultados estão publicados no livro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Mejia, Margarita; Osório, Conceição; Arthur, Maria José (2004). Não sofrer caladas. Violência Contra Mulheres e Crianças: denúncia e gestão de conflitos. Maputo: WLSA Moçambique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A5CD-6A53-4B6F-987F-2A0B33866975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Picture 9" descr="fichario"/>
          <p:cNvPicPr/>
          <p:nvPr/>
        </p:nvPicPr>
        <p:blipFill>
          <a:blip r:embed="rId1"/>
          <a:stretch/>
        </p:blipFill>
        <p:spPr>
          <a:xfrm>
            <a:off x="6804000" y="4149720"/>
            <a:ext cx="9064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792180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abela 1: Número total de ocorrências e relação vítima-agressor, segundo o sexo, Cidade de Maputo, Províncias de Maputo e Sofala, 2000-2003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63C7-26AA-4D4F-A599-870CC8C097CB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4539600" y="-13716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24000" y="1270080"/>
          <a:ext cx="8640720" cy="4937040"/>
        </p:xfrm>
        <a:graphic>
          <a:graphicData uri="http://schemas.openxmlformats.org/drawingml/2006/table">
            <a:tbl>
              <a:tblPr/>
              <a:tblGrid>
                <a:gridCol w="1726920"/>
                <a:gridCol w="1152720"/>
                <a:gridCol w="936720"/>
                <a:gridCol w="647640"/>
                <a:gridCol w="1152360"/>
                <a:gridCol w="647640"/>
                <a:gridCol w="648000"/>
                <a:gridCol w="1728720"/>
              </a:tblGrid>
              <a:tr h="295200">
                <a:tc rowSpan="2"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bine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º d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orrê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º de vítimas/sex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40" marR="68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º agressores/sex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40" marR="684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40" marR="68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40" marR="68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or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s/ sex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40" marR="68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40" marR="68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40" marR="68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ão apresentou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 sex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40" marR="684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50920">
                <a:tc>
                  <a:txBody>
                    <a:bodyPr lIns="3600" rIns="3600" tIns="3600" bIns="3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ª Esq. Mapu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3600" rIns="3600" tIns="3600" bIns="3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ª Esq. Mapu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3600" rIns="3600" tIns="3600" bIns="3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ª Esq. Mapu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3600" rIns="3600" tIns="3600" bIns="3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ª Esq. Mapu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3600" rIns="3600" tIns="3600" bIns="3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ª Esq. Mapu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3600" rIns="3600" tIns="3600" bIns="3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ª Esq. Mapu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3600" rIns="3600" tIns="3600" bIns="3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ª Esq. Mato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3600" rIns="3600" tIns="3600" bIns="3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. D. Boa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3600" rIns="3600" tIns="3600" bIns="3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ª Esq. Bei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9(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3600" rIns="3600" tIns="3600" bIns="3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. D. Don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3600" rIns="3600" tIns="3600" bIns="3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. D. Nhamata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3600" rIns="3600" tIns="3600" bIns="3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. D. Gorongo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3600" rIns="3600" tIns="3600" bIns="3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83040">
                <a:tc>
                  <a:txBody>
                    <a:bodyPr lIns="3600" rIns="3600" tIns="3600" bIns="3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4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42560" y="228600"/>
            <a:ext cx="792180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abela 2: Perfil geral da relação vítima-agressor, vítimas do sexo feminino, Cidade de Maputo, Províncias de Maputo e Sofala, 2000-2003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11280" y="1376280"/>
          <a:ext cx="8035920" cy="4645080"/>
        </p:xfrm>
        <a:graphic>
          <a:graphicData uri="http://schemas.openxmlformats.org/drawingml/2006/table">
            <a:tbl>
              <a:tblPr/>
              <a:tblGrid>
                <a:gridCol w="3720960"/>
                <a:gridCol w="1463760"/>
                <a:gridCol w="1233360"/>
                <a:gridCol w="1617840"/>
              </a:tblGrid>
              <a:tr h="496080">
                <a:tc>
                  <a:txBody>
                    <a:bodyPr lIns="16200" rIns="16200" tIns="16200" bIns="16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u de parentesco do agress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16200" marR="162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6200" rIns="16200" tIns="16200" bIns="16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º de vítimas (F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16200" marR="16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6200" rIns="16200" tIns="16200" bIns="16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xo do agress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16200" marR="16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6200" rIns="16200" tIns="16200" bIns="16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 segundo o parentes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16200" marR="162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,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-mar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,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or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-namor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mante (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val (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,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utros (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,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utros (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ão aparece o parentesco (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,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ão aparece o parentesco (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112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ão aparece o parentesco (sem sex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/ sex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vítimas sexo femini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5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agressores (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2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7,0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agressores (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,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agressores (sem sex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/ sex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9192-81B8-404B-A617-323E622289CD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2560" y="228600"/>
            <a:ext cx="792180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abela 3: Tipo de violência doméstica, sendo o agressor o marido, Cidade de Maputo, Províncias de Maputo e Sofala, 2000-2003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68360" y="1268280"/>
          <a:ext cx="8381880" cy="4206960"/>
        </p:xfrm>
        <a:graphic>
          <a:graphicData uri="http://schemas.openxmlformats.org/drawingml/2006/table">
            <a:tbl>
              <a:tblPr/>
              <a:tblGrid>
                <a:gridCol w="4075200"/>
                <a:gridCol w="1434960"/>
                <a:gridCol w="1434960"/>
                <a:gridCol w="1436760"/>
              </a:tblGrid>
              <a:tr h="277560">
                <a:tc rowSpan="2">
                  <a:txBody>
                    <a:bodyPr lIns="16920" rIns="16920" tIns="16920" bIns="169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po de cr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6920" rIns="16920" tIns="16920" bIns="169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r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16920" marR="16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6920" rIns="16920" tIns="16920" bIns="169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16920" marR="1692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6920" rIns="16920" tIns="16920" bIns="169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16920" bIns="169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i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16920" marR="16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6920" rIns="16920" tIns="16920" bIns="169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8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16920" marR="1692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6920" rIns="16920" tIns="16920" bIns="169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1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6100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V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26100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VS/viola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00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V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26100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micíd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00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meaça de mor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00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rupção de men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00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ulté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00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ensas morais/violência psicológ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00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olência económ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00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andono do 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00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vórcio/separa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00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so social/violência domést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00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m classifica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00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mari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DCC6-D34A-43C5-B77C-0BC60665157F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tângulo 6"/>
          <p:cNvSpPr/>
          <p:nvPr/>
        </p:nvSpPr>
        <p:spPr>
          <a:xfrm>
            <a:off x="250920" y="551664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O limite entre Ofensas Corporais Voluntárias Simples (OCVS) e Ofensas Corporais Voluntárias Qualificadas (OCVQ) está definido na lei e a sua classificação é de apreciação da Medicina Lega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trodu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0" y="981000"/>
            <a:ext cx="4392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violência contra a mulher são todos os actos perpetrados contra a mulher e que sejam capazes de causar danos físicos, sexuais, psicológicos e outros, incluindo a ameaça de tais actos, a imposição de restrições ou a privação arbitrária das liberdades fundamentais na vida privada e pública (Fórum Mulher, 2007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A40D-50EC-4904-916C-041DF46ED145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2" descr="A Poligamia é um atentado aos direitos das mulheres"/>
          <p:cNvPicPr/>
          <p:nvPr/>
        </p:nvPicPr>
        <p:blipFill>
          <a:blip r:embed="rId1"/>
          <a:stretch/>
        </p:blipFill>
        <p:spPr>
          <a:xfrm>
            <a:off x="684360" y="1090440"/>
            <a:ext cx="3816360" cy="5351760"/>
          </a:xfrm>
          <a:prstGeom prst="rect">
            <a:avLst/>
          </a:prstGeom>
          <a:ln w="0">
            <a:noFill/>
          </a:ln>
        </p:spPr>
      </p:pic>
      <p:sp>
        <p:nvSpPr>
          <p:cNvPr id="100" name="CaixaDeTexto 9"/>
          <p:cNvSpPr/>
          <p:nvPr/>
        </p:nvSpPr>
        <p:spPr>
          <a:xfrm rot="16200000">
            <a:off x="-2337120" y="364068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Women and Law Southern África (WLS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79616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abela 4: Tipo de violência doméstica, sendo o agressor a esposa, Cidade de Maputo, Províncias de Maputo e Sofala, 2000-2003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39640" y="1413000"/>
          <a:ext cx="8293320" cy="4754520"/>
        </p:xfrm>
        <a:graphic>
          <a:graphicData uri="http://schemas.openxmlformats.org/drawingml/2006/table">
            <a:tbl>
              <a:tblPr/>
              <a:tblGrid>
                <a:gridCol w="4003920"/>
                <a:gridCol w="1430280"/>
                <a:gridCol w="1428840"/>
                <a:gridCol w="1430280"/>
              </a:tblGrid>
              <a:tr h="324360">
                <a:tc>
                  <a:txBody>
                    <a:bodyPr lIns="16920" rIns="16920" tIns="16920" bIns="16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o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6920" rIns="16920" tIns="16920" bIns="16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1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16920" marR="16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6920" rIns="16920" tIns="16920" bIns="16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16920" marR="1692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80280" rIns="80280" tIns="40320" bIns="40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0280" marR="80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V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064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V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micídio frustr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meaça de mor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64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and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ulté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para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andono do 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andono de men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ensas morais/violência psicológ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olência económ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uso de confianç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64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so so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itiça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m classifica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espo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ge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B7CB-141C-415E-8CC5-1A1E1A44BC02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sigualdade de géner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1640" y="114300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mulher é a principal vítima de violência perpetrada pelos homens, ocorrendo, sobretudo, entre os 25 e 34 anos e em todas as idades e extractos sociai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homens são os principais perpetradores de violência contra a mulher, normalmente os parceiros íntim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5F2F-79E6-45E5-B26D-2D0D04C7B13C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2" descr="O casamento prematuro é uma violação dos direitos humanos"/>
          <p:cNvPicPr/>
          <p:nvPr/>
        </p:nvPicPr>
        <p:blipFill>
          <a:blip r:embed="rId1"/>
          <a:stretch/>
        </p:blipFill>
        <p:spPr>
          <a:xfrm>
            <a:off x="611280" y="988920"/>
            <a:ext cx="3816360" cy="5351400"/>
          </a:xfrm>
          <a:prstGeom prst="rect">
            <a:avLst/>
          </a:prstGeom>
          <a:ln w="0">
            <a:noFill/>
          </a:ln>
        </p:spPr>
      </p:pic>
      <p:sp>
        <p:nvSpPr>
          <p:cNvPr id="106" name="CaixaDeTexto 7"/>
          <p:cNvSpPr/>
          <p:nvPr/>
        </p:nvSpPr>
        <p:spPr>
          <a:xfrm rot="16200000">
            <a:off x="-2337120" y="342468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Women and Law Southern África (WLS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79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sigualdade de géner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140000" y="2204640"/>
            <a:ext cx="482436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m Moçambique a violência contra a mulher é um dos problemas mais graves do país e séria barreira ao desenvolviment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9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Espaço Reservado para Número de Slide 5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2C0A-90F0-40D4-96E4-93B6B09A509E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2" descr="Este corpo é meu"/>
          <p:cNvPicPr/>
          <p:nvPr/>
        </p:nvPicPr>
        <p:blipFill>
          <a:blip r:embed="rId1"/>
          <a:stretch/>
        </p:blipFill>
        <p:spPr>
          <a:xfrm>
            <a:off x="539640" y="1268280"/>
            <a:ext cx="3535560" cy="4996080"/>
          </a:xfrm>
          <a:prstGeom prst="rect">
            <a:avLst/>
          </a:prstGeom>
          <a:ln w="0">
            <a:noFill/>
          </a:ln>
        </p:spPr>
      </p:pic>
      <p:sp>
        <p:nvSpPr>
          <p:cNvPr id="112" name="CaixaDeTexto 9"/>
          <p:cNvSpPr/>
          <p:nvPr/>
        </p:nvSpPr>
        <p:spPr>
          <a:xfrm rot="16200000">
            <a:off x="-2409120" y="3496320"/>
            <a:ext cx="55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Women and Law Southern África (WLS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9616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sigualdade de género e a natureza da viol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9DA9-B396-46D1-BF55-0B21DCFB2502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4" descr="Não à violência contra as mulheres"/>
          <p:cNvPicPr/>
          <p:nvPr/>
        </p:nvPicPr>
        <p:blipFill>
          <a:blip r:embed="rId1"/>
          <a:stretch/>
        </p:blipFill>
        <p:spPr>
          <a:xfrm>
            <a:off x="971640" y="1314360"/>
            <a:ext cx="3525840" cy="5139000"/>
          </a:xfrm>
          <a:prstGeom prst="rect">
            <a:avLst/>
          </a:prstGeom>
          <a:ln w="0">
            <a:noFill/>
          </a:ln>
        </p:spPr>
      </p:pic>
      <p:sp>
        <p:nvSpPr>
          <p:cNvPr id="117" name="CaixaDeTexto 6"/>
          <p:cNvSpPr/>
          <p:nvPr/>
        </p:nvSpPr>
        <p:spPr>
          <a:xfrm rot="16200000">
            <a:off x="-2337120" y="364068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Women and Law Southern África (WLS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716360" y="1268280"/>
            <a:ext cx="4114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s vítimas mostram-se relutantes em apresentar queixas nos órgãos competentes por vergonha, receio e pelo sentimento de lealdade familiar (PNUD, 2003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impunidade do agressor gera insegurança com relação a recidivas da violênc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sigualdade de género e a natureza da viol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000" y="1773360"/>
            <a:ext cx="8381880" cy="20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natureza da violência contra a mulher resulta da desigualdade de poder com relação aos homens, nas diferentes faixas etárias, nas relações familiares, comunitárias e social, económica, cultural, religiosa e polític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1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Espaço Reservado para Número de Slide 5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5C80-98DE-465F-85BC-33D33E7127FB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sigualdade de género e a natureza da viol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8000" y="1773000"/>
            <a:ext cx="838188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ra além da violência de género, a mulher é também vítima de muitos outros males sócio-culturais e económicos, como a pobreza absoluta e o analfabetism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a população adulta, a mulher é majoritariamente analfabeta. A taxa de analfabetismo das mulheres está acima de 68%, comparado a dos homens, que está abaixo dos 36,7%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E9E3-A10E-40BE-B4FC-13F8F6D882B4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sigualdade de género e a natureza da viol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000" y="1989000"/>
            <a:ext cx="8381880" cy="25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mulher é a mais infectada pelo HIV, com uma taxa de seroprevalência de 57%, associado, em parte, com atitudes de violência sexu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mo consequência esta encontra-se em posição vulnerável e de desvantagem, em relação ao homem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085D-2DAE-42FB-A050-2D7CE7C3D92B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sigualdade de género e a natureza da viol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1916280"/>
            <a:ext cx="8381880" cy="42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OMS propõe uma classificação estrutural para a violência, que categoriza o fenômeno a partir de suas manifestações empíricas, com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Violência dirigida pela pessoa contra si mesma: auto-infligida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Violência nas relações: interpesso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Violência no âmbito da sociedade: coletiv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5DFA-206B-422E-9869-9C45B58C1031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0:37:57Z</dcterms:created>
  <dc:creator>Escolastica</dc:creator>
  <dc:description/>
  <dc:language>en-US</dc:language>
  <cp:lastModifiedBy>Mendoza</cp:lastModifiedBy>
  <dcterms:modified xsi:type="dcterms:W3CDTF">2011-09-22T10:10:07Z</dcterms:modified>
  <cp:revision>52</cp:revision>
  <dc:subject/>
  <dc:title>Slide 1</dc:title>
</cp:coreProperties>
</file>