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wmf" ContentType="image/x-wmf"/>
  <Override PartName="/ppt/media/image10.jpeg" ContentType="image/jpeg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56B9-F2DE-488C-8577-75AE59772C4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8C59-865C-4C1A-BEA7-DADD531957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EFE4-9640-417C-B9AC-C67BDDA473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09FE-0E6C-471C-A673-0C157ED20A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8557-38CF-4BF9-8F22-634E3480133E}" type="slidenum"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1C6D-5641-4054-84CB-3128C5B4C7EC}" type="slidenum"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A663-9C0A-45D5-80A1-C2928C8F72EE}" type="slidenum"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1258-D6AF-44F0-A68D-41FFF46143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5D73-0B77-4454-8107-24DCA4CAF0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1B34-7458-4015-81F6-A44EBB127F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4A80-D400-4FFE-9C08-47A8216312C7}" type="slidenum"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568E-7DCD-4450-8316-DBF7808D83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45F7-EDF7-43A2-94FC-066EA71087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06A8-2209-4B85-84C0-686E517D23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CB57-CFA5-4C41-8D33-3831A008A9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2F63-A888-44CE-9ACF-CF34BBBD41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407F-CC91-4635-8DF8-DE1A50D2F6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C67E-BA36-4DCF-9493-49AB44944F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0700A-7A2D-4ECD-B94C-4898849D8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58C9D-F8CC-488E-BE48-273FCD8F57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9416A-EF7C-4E72-99A7-3A6986D642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C16D2-0010-4D01-B853-BDE2D2EB42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C2553-D84D-4DD2-ACA8-DCA4BDEBAF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94210-D3A0-4039-807B-5C28B0563A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9685A-DBDB-4D58-93D9-00E6CAD480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7BE17-B135-4DA3-9E5A-992039A4AA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52F10-A536-4B5C-ACEB-C5AC051195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8ED37-5687-4635-95A6-CD83569C4E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72092-C7A5-489E-92DD-A8D9D507E3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789D8-121B-4BFF-B964-097B21AA89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E770-CF31-469F-B685-3F6AEC026942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900000" y="17002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populo.weblog.com.pt/arquivo/cuidados.jpg&amp;imgrefurl=http://populo.weblog.com.pt/arquivo/2006/09/index0&amp;h=262&amp;w=256&amp;sz=6&amp;hl=pt-BR&amp;start=17&amp;tbnid=f-CHjGQ-K7G24M:&amp;tbnh=112&amp;tbnw=109&amp;prev=/images?q=cuidados&amp;gbv=2&amp;hl=pt-BR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331640" y="4292280"/>
            <a:ext cx="6933960" cy="165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Módulo 8: Prática de Enfermagem I – Promoção da Saúd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Rectangle 2067"/>
          <p:cNvSpPr/>
          <p:nvPr/>
        </p:nvSpPr>
        <p:spPr>
          <a:xfrm>
            <a:off x="2771640" y="1773360"/>
            <a:ext cx="637236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68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2195640" y="256464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rientação para a saúde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ço Reservado para Rodapé 6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ço Reservado para Rodapé 4"/>
          <p:cNvSpPr/>
          <p:nvPr/>
        </p:nvSpPr>
        <p:spPr>
          <a:xfrm>
            <a:off x="4067280" y="6308640"/>
            <a:ext cx="273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ontos essenciais para quem realiza orientação em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O papel do profissional não é resolver o problema do utente, mas informar e fazê-lo  refletir sobre sua situação de risco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Não apresente soluções ou conselhos ao utente;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Não faça conclusões precipitadas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Não pergunte demais – aconselhar ou orientar não é um processo de pergunta-resposta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3" name="Espaço Reservado para Número de Slide 5"/>
          <p:cNvSpPr/>
          <p:nvPr/>
        </p:nvSpPr>
        <p:spPr>
          <a:xfrm>
            <a:off x="46836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929C-08E2-41BF-A4A8-E349D3951B25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467480" cy="928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ndividuali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218960"/>
            <a:ext cx="6186600" cy="53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3c3c77"/>
                </a:solidFill>
                <a:latin typeface="Arial"/>
                <a:ea typeface="Arial"/>
              </a:rPr>
              <a:t>A individualidade é constituida por nossas vivências, isto é, pela maneira como sentimos e compreendemos o que se passa conosco e com o mundo que nos rodeia. </a:t>
            </a: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3c3c77"/>
                </a:solidFill>
                <a:latin typeface="Arial"/>
                <a:ea typeface="Arial"/>
              </a:rPr>
              <a:t>“</a:t>
            </a:r>
            <a:r>
              <a:rPr b="0" lang="pt-PT" sz="2600" spc="-1" strike="noStrike">
                <a:solidFill>
                  <a:srgbClr val="3c3c77"/>
                </a:solidFill>
                <a:latin typeface="Arial"/>
                <a:ea typeface="Arial"/>
              </a:rPr>
              <a:t>É a maneira própria com que cada um de nós percebe, imagina, lembra, opina, deseja, age, ama e odeia, sente e dá prazer, toma posição diante das coisas e dos outros, decide, sente-se feliz ou infeliz” (Marilena Chauí).</a:t>
            </a: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3c3c77"/>
                </a:solidFill>
                <a:latin typeface="Arial"/>
                <a:ea typeface="Arial"/>
              </a:rPr>
              <a:t>Portanto, cada indivíduo tem sua própria forma de perceber aquilo que lhe é transmitido.</a:t>
            </a: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23EA-2C88-4479-9ABE-5F1A48F56C27}" type="slidenum">
              <a:rPr b="0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ço Reservado para Rodapé 2"/>
          <p:cNvSpPr/>
          <p:nvPr/>
        </p:nvSpPr>
        <p:spPr>
          <a:xfrm>
            <a:off x="2843280" y="6308640"/>
            <a:ext cx="381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9c9cff"/>
                </a:solidFill>
                <a:latin typeface="Verdana"/>
                <a:ea typeface="Arial"/>
              </a:rPr>
              <a:t>Curso de Enfermagem G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http://t1.gstatic.com/images?q=tbn:Odc5zrnss8MLNM:http://blog.actbr.org.br/up/a/ac/blog.actbr.org.br/img/Pensando.png"/>
          <p:cNvPicPr/>
          <p:nvPr/>
        </p:nvPicPr>
        <p:blipFill>
          <a:blip r:embed="rId1"/>
          <a:stretch/>
        </p:blipFill>
        <p:spPr>
          <a:xfrm>
            <a:off x="6875640" y="1557360"/>
            <a:ext cx="18288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ço Reservado para Rodapé 4"/>
          <p:cNvSpPr/>
          <p:nvPr/>
        </p:nvSpPr>
        <p:spPr>
          <a:xfrm>
            <a:off x="3851280" y="6237360"/>
            <a:ext cx="295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1112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Habilidades favoráveis a quem realiza orienta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Ser calmo, confiante, disciplinado e respeitador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Ter tacto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Ser bom observador;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Ser capaz de criar empatia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Apresentar-se bem, com postura adequada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Utilizar linguagem compreensível de acordo com as características dos participantes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Saber escutar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Espaço Reservado para Número de Slide 5"/>
          <p:cNvSpPr/>
          <p:nvPr/>
        </p:nvSpPr>
        <p:spPr>
          <a:xfrm>
            <a:off x="53964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E793-59F6-4F2E-A0F2-8B217A4C84CD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ostura ao aconselhar ou orient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B5BA-BD0C-4F28-8093-1D516C13C66E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http://izefiliz.zip.net/images/Sorria.jpg"/>
          <p:cNvPicPr/>
          <p:nvPr/>
        </p:nvPicPr>
        <p:blipFill>
          <a:blip r:embed="rId1"/>
          <a:stretch/>
        </p:blipFill>
        <p:spPr>
          <a:xfrm>
            <a:off x="2987640" y="1197000"/>
            <a:ext cx="4336920" cy="5111640"/>
          </a:xfrm>
          <a:prstGeom prst="rect">
            <a:avLst/>
          </a:prstGeom>
          <a:ln w="0">
            <a:noFill/>
          </a:ln>
        </p:spPr>
      </p:pic>
      <p:pic>
        <p:nvPicPr>
          <p:cNvPr id="147" name="Retângulo 7" descr=""/>
          <p:cNvPicPr/>
          <p:nvPr/>
        </p:nvPicPr>
        <p:blipFill>
          <a:blip r:embed="rId2"/>
          <a:stretch/>
        </p:blipFill>
        <p:spPr>
          <a:xfrm>
            <a:off x="19080" y="1682640"/>
            <a:ext cx="413208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467480" cy="654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ostura ao dar orienta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4920" y="1197000"/>
            <a:ext cx="84646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Evite mãos e braços nos bolsos (passa insegurança e impede o fluxo natural da energia)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Não dê as costas para o grupo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Gestos e maneirismos podem ajudá-lo a ganhar apoio e confiança do utente, mas de forma exagerada atrapalha; evite f</a:t>
            </a: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azer barulho com as chaves ou moedas nos bolsos, brincar com a caneta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Caminhe pela sala, estebeleça contato visual com TODOS os participantes – Evite olhar para o mesmo lado ou para os mesmos participante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A1C3-E19C-4FAA-A0E2-82A4AD6ECE71}" type="slidenum">
              <a:rPr b="0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ço Reservado para Rodapé 6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6"/>
          <p:cNvSpPr/>
          <p:nvPr/>
        </p:nvSpPr>
        <p:spPr>
          <a:xfrm>
            <a:off x="1828800" y="3271680"/>
            <a:ext cx="6248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3640" y="1052640"/>
            <a:ext cx="4716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  <a:ea typeface="Arial"/>
              </a:rPr>
              <a:t>A sociedade é muito visual; as pessoas fazem julgamentos no momento em que o vêem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50920" indent="-2509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  <a:ea typeface="Arial"/>
              </a:rPr>
              <a:t>A maneira de se vestir é mais importante do que se imagina. 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50920" indent="-2509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  <a:ea typeface="Arial"/>
              </a:rPr>
              <a:t>Os trabalhadores de saúde devem ser modelo de higiene e apresentação pessoal, zelando seus fardamento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50920" indent="-2509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Espaço Reservado para Número de Slide 8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30A3-421E-448E-A17B-D2A798CFAD85}" type="slidenum">
              <a:rPr b="0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" descr="C:\Documents and Settings\Administrador\Meus documentos\Moçambique GERAL\enfermaria modelo\fotos enf modelo depois\DSC00785.JPG"/>
          <p:cNvPicPr/>
          <p:nvPr/>
        </p:nvPicPr>
        <p:blipFill>
          <a:blip r:embed="rId1"/>
          <a:stretch/>
        </p:blipFill>
        <p:spPr>
          <a:xfrm>
            <a:off x="5148360" y="1052640"/>
            <a:ext cx="3714480" cy="49528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467480" cy="654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ostura ao dar orienta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Espaço Reservado para Rodapé 9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ostura ao dar orienta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Use roupas adequadas (sem decotes, que não marque o corpo) para não desviar a atenção dos participantes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Evite calçados que façam barulho, para não tirar a concentração dos  participantes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Ao usar um recurso audiovisual, evite ficar presa ao mesmo, pois seu foco deve ser sempre o grup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 transparente, cavalete, ecrã... É apenas um apoi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E37B-EAAA-49F6-9A47-D235ECF3DB6F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467480" cy="714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Lingu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8360" y="980640"/>
            <a:ext cx="824688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Não utilize palavras que enfraquecem o que você tem a dizer, como: “talvez”, “acho”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Vá directo ao assunto, não faça rodeios</a:t>
            </a: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Seja simples, directo e clar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D578-F1ED-485A-87F8-60F38A99409A}" type="slidenum">
              <a:rPr b="0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http://www.geocities.com/HotSprings/Bath/3909/image12.gif"/>
          <p:cNvPicPr/>
          <p:nvPr/>
        </p:nvPicPr>
        <p:blipFill>
          <a:blip r:embed="rId1"/>
          <a:stretch/>
        </p:blipFill>
        <p:spPr>
          <a:xfrm>
            <a:off x="353880" y="2857680"/>
            <a:ext cx="3403800" cy="3346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http://www.geocities.com/HotSprings/Bath/3909/image14.gif"/>
          <p:cNvPicPr/>
          <p:nvPr/>
        </p:nvPicPr>
        <p:blipFill>
          <a:blip r:embed="rId2"/>
          <a:stretch/>
        </p:blipFill>
        <p:spPr>
          <a:xfrm>
            <a:off x="4286160" y="2786040"/>
            <a:ext cx="3813120" cy="3071880"/>
          </a:xfrm>
          <a:prstGeom prst="rect">
            <a:avLst/>
          </a:prstGeom>
          <a:ln w="0">
            <a:noFill/>
          </a:ln>
        </p:spPr>
      </p:pic>
      <p:sp>
        <p:nvSpPr>
          <p:cNvPr id="167" name="CaixaDeTexto 8"/>
          <p:cNvSpPr/>
          <p:nvPr/>
        </p:nvSpPr>
        <p:spPr>
          <a:xfrm>
            <a:off x="755640" y="6093000"/>
            <a:ext cx="32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Linguagem téc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aixaDeTexto 9"/>
          <p:cNvSpPr/>
          <p:nvPr/>
        </p:nvSpPr>
        <p:spPr>
          <a:xfrm>
            <a:off x="4140360" y="5732640"/>
            <a:ext cx="44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Linguagem compreensí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Espaço Reservado para Rodapé 10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065"/>
          <p:cNvGrpSpPr/>
          <p:nvPr/>
        </p:nvGrpSpPr>
        <p:grpSpPr>
          <a:xfrm>
            <a:off x="6875640" y="333360"/>
            <a:ext cx="1998000" cy="1366920"/>
            <a:chOff x="6875640" y="333360"/>
            <a:chExt cx="1998000" cy="1366920"/>
          </a:xfrm>
        </p:grpSpPr>
        <p:pic>
          <p:nvPicPr>
            <p:cNvPr id="171" name="Object 2" descr=""/>
            <p:cNvPicPr/>
            <p:nvPr/>
          </p:nvPicPr>
          <p:blipFill>
            <a:blip r:embed="rId1"/>
            <a:stretch/>
          </p:blipFill>
          <p:spPr>
            <a:xfrm>
              <a:off x="6875640" y="333360"/>
              <a:ext cx="971280" cy="1366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2" name="Group 1067"/>
            <p:cNvGrpSpPr/>
            <p:nvPr/>
          </p:nvGrpSpPr>
          <p:grpSpPr>
            <a:xfrm>
              <a:off x="8002800" y="712440"/>
              <a:ext cx="870840" cy="986760"/>
              <a:chOff x="8002800" y="712440"/>
              <a:chExt cx="870840" cy="986760"/>
            </a:xfrm>
          </p:grpSpPr>
          <p:grpSp>
            <p:nvGrpSpPr>
              <p:cNvPr id="173" name="Group 1068"/>
              <p:cNvGrpSpPr/>
              <p:nvPr/>
            </p:nvGrpSpPr>
            <p:grpSpPr>
              <a:xfrm>
                <a:off x="8002800" y="712440"/>
                <a:ext cx="870840" cy="986760"/>
                <a:chOff x="8002800" y="712440"/>
                <a:chExt cx="870840" cy="986760"/>
              </a:xfrm>
            </p:grpSpPr>
            <p:sp>
              <p:nvSpPr>
                <p:cNvPr id="174" name="Freeform 1069"/>
                <p:cNvSpPr/>
                <p:nvPr/>
              </p:nvSpPr>
              <p:spPr>
                <a:xfrm>
                  <a:off x="8324640" y="843480"/>
                  <a:ext cx="297000" cy="16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1070"/>
                <p:cNvSpPr/>
                <p:nvPr/>
              </p:nvSpPr>
              <p:spPr>
                <a:xfrm>
                  <a:off x="8520480" y="1069560"/>
                  <a:ext cx="353160" cy="325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1071"/>
                <p:cNvSpPr/>
                <p:nvPr/>
              </p:nvSpPr>
              <p:spPr>
                <a:xfrm>
                  <a:off x="8002800" y="712440"/>
                  <a:ext cx="410400" cy="369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1072"/>
                <p:cNvSpPr/>
                <p:nvPr/>
              </p:nvSpPr>
              <p:spPr>
                <a:xfrm>
                  <a:off x="8313480" y="1027440"/>
                  <a:ext cx="251640" cy="336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1073"/>
                <p:cNvSpPr/>
                <p:nvPr/>
              </p:nvSpPr>
              <p:spPr>
                <a:xfrm>
                  <a:off x="8408520" y="1314720"/>
                  <a:ext cx="213120" cy="35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1074"/>
                <p:cNvSpPr/>
                <p:nvPr/>
              </p:nvSpPr>
              <p:spPr>
                <a:xfrm>
                  <a:off x="8278920" y="1317240"/>
                  <a:ext cx="174600" cy="381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1075"/>
              <p:cNvGrpSpPr/>
              <p:nvPr/>
            </p:nvGrpSpPr>
            <p:grpSpPr>
              <a:xfrm>
                <a:off x="8190360" y="915840"/>
                <a:ext cx="559800" cy="474840"/>
                <a:chOff x="8190360" y="915840"/>
                <a:chExt cx="559800" cy="474840"/>
              </a:xfrm>
            </p:grpSpPr>
            <p:sp>
              <p:nvSpPr>
                <p:cNvPr id="181" name="Freeform 1076"/>
                <p:cNvSpPr/>
                <p:nvPr/>
              </p:nvSpPr>
              <p:spPr>
                <a:xfrm>
                  <a:off x="8190360" y="915840"/>
                  <a:ext cx="559800" cy="474840"/>
                </a:xfrm>
                <a:prstGeom prst="pie">
                  <a:avLst/>
                </a:prstGeom>
                <a:solidFill>
                  <a:srgbClr val="f8f8f8"/>
                </a:solidFill>
                <a:ln w="176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2" name="Group 1077"/>
                <p:cNvGrpSpPr/>
                <p:nvPr/>
              </p:nvGrpSpPr>
              <p:grpSpPr>
                <a:xfrm>
                  <a:off x="8222040" y="944640"/>
                  <a:ext cx="498240" cy="431280"/>
                  <a:chOff x="8222040" y="944640"/>
                  <a:chExt cx="498240" cy="431280"/>
                </a:xfrm>
              </p:grpSpPr>
              <p:sp>
                <p:nvSpPr>
                  <p:cNvPr id="183" name="Freeform 1078"/>
                  <p:cNvSpPr/>
                  <p:nvPr/>
                </p:nvSpPr>
                <p:spPr>
                  <a:xfrm>
                    <a:off x="8222040" y="944640"/>
                    <a:ext cx="92880" cy="1429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1079"/>
                  <p:cNvSpPr/>
                  <p:nvPr/>
                </p:nvSpPr>
                <p:spPr>
                  <a:xfrm>
                    <a:off x="8265240" y="994320"/>
                    <a:ext cx="86040" cy="1216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1080"/>
                  <p:cNvSpPr/>
                  <p:nvPr/>
                </p:nvSpPr>
                <p:spPr>
                  <a:xfrm>
                    <a:off x="8301600" y="1023840"/>
                    <a:ext cx="90000" cy="3477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Freeform 1081"/>
                  <p:cNvSpPr/>
                  <p:nvPr/>
                </p:nvSpPr>
                <p:spPr>
                  <a:xfrm>
                    <a:off x="8382600" y="1054440"/>
                    <a:ext cx="68400" cy="3099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Freeform 1082"/>
                  <p:cNvSpPr/>
                  <p:nvPr/>
                </p:nvSpPr>
                <p:spPr>
                  <a:xfrm>
                    <a:off x="8463960" y="1050120"/>
                    <a:ext cx="67680" cy="32580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Freeform 1083"/>
                  <p:cNvSpPr/>
                  <p:nvPr/>
                </p:nvSpPr>
                <p:spPr>
                  <a:xfrm>
                    <a:off x="8532720" y="1058760"/>
                    <a:ext cx="45720" cy="1033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Freeform 1084"/>
                  <p:cNvSpPr/>
                  <p:nvPr/>
                </p:nvSpPr>
                <p:spPr>
                  <a:xfrm>
                    <a:off x="8606880" y="1074960"/>
                    <a:ext cx="46800" cy="7920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1085"/>
                  <p:cNvSpPr/>
                  <p:nvPr/>
                </p:nvSpPr>
                <p:spPr>
                  <a:xfrm>
                    <a:off x="8683920" y="1100880"/>
                    <a:ext cx="36360" cy="7020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2560" y="428400"/>
            <a:ext cx="5761080" cy="703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ffffff"/>
                </a:solidFill>
                <a:latin typeface="Verdana"/>
              </a:rPr>
              <a:t>Perguntas e respost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7120" y="164304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3c3c77"/>
                </a:solidFill>
                <a:latin typeface="Arial"/>
                <a:ea typeface="Arial"/>
              </a:rPr>
              <a:t>Nunca inicie uma explicação sem estar certo de que compreendeu a pergunta. </a:t>
            </a: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3c3c77"/>
                </a:solidFill>
                <a:latin typeface="Arial"/>
                <a:ea typeface="Arial"/>
              </a:rPr>
              <a:t>Repetir a pergunta e ouvi-la de sua própria voz o acalmará e você estará respondendo de modo que todos o compreendam.</a:t>
            </a: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3c3c77"/>
                </a:solidFill>
                <a:latin typeface="Arial"/>
                <a:ea typeface="Arial"/>
              </a:rPr>
              <a:t>Satisfaça a pessoa que pergunta. Nunca termine uma resposta com “Isso responde à sua pergunta?”</a:t>
            </a: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3c3c77"/>
                </a:solidFill>
                <a:latin typeface="Arial"/>
                <a:ea typeface="Arial"/>
              </a:rPr>
              <a:t>Uma vez ou outra, uma pergunta hostil será lançada no seu caminho. Seja cortês. </a:t>
            </a: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3c3c77"/>
                </a:solidFill>
                <a:latin typeface="Arial"/>
                <a:ea typeface="Arial"/>
              </a:rPr>
              <a:t>Nunca, sob qualquer circunstância, se torne agressivo, nervoso ou impositivo. As pessoas apreciam as boas maneiras. </a:t>
            </a: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3" name="Espaço Reservado para Número de Slide 4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6D98-B9CA-4C99-AFA6-D33D3898F724}" type="slidenum">
              <a:rPr b="0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ço Reservado para Rodapé 26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3"/>
          <p:cNvSpPr/>
          <p:nvPr/>
        </p:nvSpPr>
        <p:spPr>
          <a:xfrm>
            <a:off x="1116000" y="333360"/>
            <a:ext cx="7745400" cy="581400"/>
          </a:xfrm>
          <a:prstGeom prst="rect">
            <a:avLst/>
          </a:prstGeom>
          <a:solidFill>
            <a:srgbClr val="5b5b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ffffff"/>
                </a:solidFill>
                <a:latin typeface="Verdana"/>
              </a:rPr>
              <a:t>Como perguntar eficaz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9"/>
          <p:cNvSpPr/>
          <p:nvPr/>
        </p:nvSpPr>
        <p:spPr>
          <a:xfrm>
            <a:off x="1828800" y="2924280"/>
            <a:ext cx="6248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1"/>
          <p:cNvSpPr/>
          <p:nvPr/>
        </p:nvSpPr>
        <p:spPr>
          <a:xfrm>
            <a:off x="2819520" y="2278080"/>
            <a:ext cx="5943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 2" charset="2"/>
              <a:buChar char="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2"/>
          <p:cNvSpPr/>
          <p:nvPr/>
        </p:nvSpPr>
        <p:spPr>
          <a:xfrm>
            <a:off x="1143000" y="2467080"/>
            <a:ext cx="7010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3"/>
          <p:cNvSpPr/>
          <p:nvPr/>
        </p:nvSpPr>
        <p:spPr>
          <a:xfrm>
            <a:off x="428760" y="1714680"/>
            <a:ext cx="8353440" cy="39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Use um tom de voz que demonst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   </a:t>
            </a: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interesse e atençã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Faça uma pergunta de cada vez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Use - então? - E? - Ah 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Faça a mesma pergunta de diferentes maneira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Evite o mesmo tipo de pergunta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Procure envolver diferentes participantes com as pergu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1050"/>
          <p:cNvGrpSpPr/>
          <p:nvPr/>
        </p:nvGrpSpPr>
        <p:grpSpPr>
          <a:xfrm>
            <a:off x="7308720" y="1197000"/>
            <a:ext cx="1580400" cy="1595520"/>
            <a:chOff x="7308720" y="1197000"/>
            <a:chExt cx="1580400" cy="1595520"/>
          </a:xfrm>
        </p:grpSpPr>
        <p:grpSp>
          <p:nvGrpSpPr>
            <p:cNvPr id="201" name="Group 1051"/>
            <p:cNvGrpSpPr/>
            <p:nvPr/>
          </p:nvGrpSpPr>
          <p:grpSpPr>
            <a:xfrm>
              <a:off x="8147520" y="1251720"/>
              <a:ext cx="741600" cy="1518120"/>
              <a:chOff x="8147520" y="1251720"/>
              <a:chExt cx="741600" cy="1518120"/>
            </a:xfrm>
          </p:grpSpPr>
          <p:sp>
            <p:nvSpPr>
              <p:cNvPr id="202" name="Freeform 1052"/>
              <p:cNvSpPr/>
              <p:nvPr/>
            </p:nvSpPr>
            <p:spPr>
              <a:xfrm>
                <a:off x="8147520" y="1716480"/>
                <a:ext cx="290520" cy="516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053"/>
              <p:cNvSpPr/>
              <p:nvPr/>
            </p:nvSpPr>
            <p:spPr>
              <a:xfrm>
                <a:off x="8406360" y="1693800"/>
                <a:ext cx="201600" cy="494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054"/>
              <p:cNvSpPr/>
              <p:nvPr/>
            </p:nvSpPr>
            <p:spPr>
              <a:xfrm>
                <a:off x="8462160" y="2124000"/>
                <a:ext cx="117720" cy="64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055"/>
              <p:cNvSpPr/>
              <p:nvPr/>
            </p:nvSpPr>
            <p:spPr>
              <a:xfrm>
                <a:off x="8296200" y="2125080"/>
                <a:ext cx="183960" cy="643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056"/>
              <p:cNvSpPr/>
              <p:nvPr/>
            </p:nvSpPr>
            <p:spPr>
              <a:xfrm>
                <a:off x="8331480" y="1322640"/>
                <a:ext cx="236880" cy="336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057"/>
              <p:cNvSpPr/>
              <p:nvPr/>
            </p:nvSpPr>
            <p:spPr>
              <a:xfrm>
                <a:off x="8418240" y="1251720"/>
                <a:ext cx="470880" cy="56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1058"/>
            <p:cNvGrpSpPr/>
            <p:nvPr/>
          </p:nvGrpSpPr>
          <p:grpSpPr>
            <a:xfrm>
              <a:off x="7308720" y="1197000"/>
              <a:ext cx="759600" cy="1595520"/>
              <a:chOff x="7308720" y="1197000"/>
              <a:chExt cx="759600" cy="1595520"/>
            </a:xfrm>
          </p:grpSpPr>
          <p:sp>
            <p:nvSpPr>
              <p:cNvPr id="209" name="Freeform 1059"/>
              <p:cNvSpPr/>
              <p:nvPr/>
            </p:nvSpPr>
            <p:spPr>
              <a:xfrm>
                <a:off x="7550640" y="1286280"/>
                <a:ext cx="297360" cy="348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060"/>
              <p:cNvSpPr/>
              <p:nvPr/>
            </p:nvSpPr>
            <p:spPr>
              <a:xfrm>
                <a:off x="7308720" y="1197000"/>
                <a:ext cx="342360" cy="558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061"/>
              <p:cNvSpPr/>
              <p:nvPr/>
            </p:nvSpPr>
            <p:spPr>
              <a:xfrm>
                <a:off x="7631280" y="1659960"/>
                <a:ext cx="178920" cy="524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062"/>
              <p:cNvSpPr/>
              <p:nvPr/>
            </p:nvSpPr>
            <p:spPr>
              <a:xfrm>
                <a:off x="7714080" y="1674360"/>
                <a:ext cx="273240" cy="402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063"/>
              <p:cNvSpPr/>
              <p:nvPr/>
            </p:nvSpPr>
            <p:spPr>
              <a:xfrm>
                <a:off x="7735680" y="2130840"/>
                <a:ext cx="332640" cy="65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064"/>
              <p:cNvSpPr/>
              <p:nvPr/>
            </p:nvSpPr>
            <p:spPr>
              <a:xfrm>
                <a:off x="7526520" y="2129400"/>
                <a:ext cx="223920" cy="66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5" name="Espaço Reservado para Número de Slide 2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C826-08D9-468A-85F4-F080742209F2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ço Reservado para Rodapé 2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O termo orientação para a saúde está mais voltado para o dar informação, ensinar, tornar o conhecimento accessível as pessoas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O termo educação para a saúde é mais amplo, pois se compromete com a aprendizagem em si, com a mudança de comportamento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Há quem considere informação, orientação e educação para a saúde a mesma cois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F4A4-C28E-45FC-8302-FE3D279EC807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BCE3-C8B0-4A36-BA45-193FE302CBEC}" type="slidenum">
              <a:rPr b="0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1328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As 3 maneiras de fazer perguntas para um grupo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4582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Faça pergunta ao grupo como um todo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Chame o nome de um participante antes de fazer a pergunta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Ponha a questão e em seguida dirija a pergunta ao participante específico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Evite usar um só maneira de fazer perguntas – UTILIZE SEMPRE AS 3 TÉCNIC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Isso ajudará a manter a atenção do grupo e promover uma participação diversificad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0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F968-8DCF-4236-B326-95143E338DF7}" type="slidenum">
              <a:rPr b="0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mo responder eficazm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382240" cy="33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Responda à pergunta com objetividade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Responda com outra pergunta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  <a:ea typeface="Arial"/>
              </a:rPr>
              <a:t>Quando não for capaz de responder a uma pergunta, reconheça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Procure a resposta e comunique-a na sessão seguinte, quando houve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Estimule o grupo e o participante que fez a pergunta a buscar  a respost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4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Espaço Reservado para Rodapé 5"/>
          <p:cNvSpPr/>
          <p:nvPr/>
        </p:nvSpPr>
        <p:spPr>
          <a:xfrm>
            <a:off x="3635280" y="6237360"/>
            <a:ext cx="259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Verdana"/>
              </a:rPr>
              <a:t>Como  escutar com eficácia</a:t>
            </a: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4033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Ter atenção para com o ut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Estabelecer contacto visu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Postura corporal relaxad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Usar palavras e sinais corporais de estímul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Evitar distracçõ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Não fazer outras acções simultaneam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Compreender os sentimentos do ut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Confirmar o que o utente ouviu, solicitando para o mesmo parafrasea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Detectar preocupaçõ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Evitar interromper o utente muitas vez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Fazer uma pergunta de cada vez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Usar perguntas abert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Não falar da sua própria histór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9" name="Espaço Reservado para Número de Slide 6"/>
          <p:cNvSpPr/>
          <p:nvPr/>
        </p:nvSpPr>
        <p:spPr>
          <a:xfrm>
            <a:off x="324000" y="6237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2C32-E5CC-4CD0-B6FC-8384FDFB932D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21840" y="189000"/>
            <a:ext cx="7921800" cy="806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ffffff"/>
                </a:solidFill>
                <a:latin typeface="Verdana"/>
              </a:rPr>
              <a:t>Barreiras à escuta eficaz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214960" y="1356840"/>
            <a:ext cx="36432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  <a:ea typeface="Arial"/>
              </a:rPr>
              <a:t>Ruíd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  <a:ea typeface="Arial"/>
              </a:rPr>
              <a:t>Falta de clarez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  <a:ea typeface="Arial"/>
              </a:rPr>
              <a:t>Bloqueio emociona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  <a:ea typeface="Arial"/>
              </a:rPr>
              <a:t>Preconceitos e estereótipo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  <a:ea typeface="Arial"/>
              </a:rPr>
              <a:t>Preocupação com a respost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  <a:ea typeface="Arial"/>
              </a:rPr>
              <a:t>Resistência às mudança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  <a:ea typeface="Arial"/>
              </a:rPr>
              <a:t>Pudor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  <a:ea typeface="Arial"/>
              </a:rPr>
              <a:t>Med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  <a:ea typeface="Arial"/>
              </a:rPr>
              <a:t>Tempo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  <a:ea typeface="Arial"/>
              </a:rPr>
              <a:t>Falta de atençã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2" name="CaixaDeTexto 4"/>
          <p:cNvSpPr/>
          <p:nvPr/>
        </p:nvSpPr>
        <p:spPr>
          <a:xfrm>
            <a:off x="324000" y="1125360"/>
            <a:ext cx="4714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São todos os factores que interferem no processo de comunic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spaço Reservado para Número de Slide 5"/>
          <p:cNvSpPr/>
          <p:nvPr/>
        </p:nvSpPr>
        <p:spPr>
          <a:xfrm>
            <a:off x="684360" y="6237360"/>
            <a:ext cx="5029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E8F1-5DEB-46D7-8537-E1CE8884F4C5}" type="slidenum">
              <a:rPr b="0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http://t1.gstatic.com/images?q=tbn:M37ZptRx_lLB-M:http://www.massote.pro.br/wp-content/uploads/2009/01/barulho.JPG"/>
          <p:cNvPicPr/>
          <p:nvPr/>
        </p:nvPicPr>
        <p:blipFill>
          <a:blip r:embed="rId1"/>
          <a:stretch/>
        </p:blipFill>
        <p:spPr>
          <a:xfrm>
            <a:off x="326880" y="2781360"/>
            <a:ext cx="4641840" cy="3505320"/>
          </a:xfrm>
          <a:prstGeom prst="rect">
            <a:avLst/>
          </a:prstGeom>
          <a:ln w="0">
            <a:noFill/>
          </a:ln>
        </p:spPr>
      </p:pic>
      <p:sp>
        <p:nvSpPr>
          <p:cNvPr id="235" name="Espaço Reservado para Rodapé 5"/>
          <p:cNvSpPr/>
          <p:nvPr/>
        </p:nvSpPr>
        <p:spPr>
          <a:xfrm>
            <a:off x="3635280" y="6237360"/>
            <a:ext cx="259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467840" cy="797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rocesso de comunica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85480" y="1125360"/>
            <a:ext cx="48625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Voluntária ou involuntariamente estamos constantemente nos comunicando, mesmo sem fazer uso da palavr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Um simples gesto pode revelar algo para um observador atent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Nossa expressão corporal e gestual diz muito para um bom observado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Estamos a emitir e receber mensagens em todos os contactos que estabelecemos, formais ou n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8" name="Espaço Reservado para Número de Slide 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E4D5-D5B8-4A68-A6F3-D4E671F87D26}" type="slidenum">
              <a:rPr b="0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http://fotojornalismojf.files.wordpress.com/2007/09/42-16264702.jpg"/>
          <p:cNvPicPr/>
          <p:nvPr/>
        </p:nvPicPr>
        <p:blipFill>
          <a:blip r:embed="rId1"/>
          <a:stretch/>
        </p:blipFill>
        <p:spPr>
          <a:xfrm>
            <a:off x="5148360" y="1368360"/>
            <a:ext cx="3527280" cy="3589560"/>
          </a:xfrm>
          <a:prstGeom prst="rect">
            <a:avLst/>
          </a:prstGeom>
          <a:ln w="0">
            <a:noFill/>
          </a:ln>
        </p:spPr>
      </p:pic>
      <p:sp>
        <p:nvSpPr>
          <p:cNvPr id="240" name="CaixaDeTexto 7"/>
          <p:cNvSpPr/>
          <p:nvPr/>
        </p:nvSpPr>
        <p:spPr>
          <a:xfrm>
            <a:off x="5364000" y="4941720"/>
            <a:ext cx="292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  <a:ea typeface="Arial"/>
              </a:rPr>
              <a:t>O que este gesto poderá estar  comunican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Espaço Reservado para Rodapé 5"/>
          <p:cNvSpPr/>
          <p:nvPr/>
        </p:nvSpPr>
        <p:spPr>
          <a:xfrm>
            <a:off x="3635280" y="6237360"/>
            <a:ext cx="259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Espaço Reservado para Rodapé 5"/>
          <p:cNvSpPr/>
          <p:nvPr/>
        </p:nvSpPr>
        <p:spPr>
          <a:xfrm>
            <a:off x="3203640" y="6237360"/>
            <a:ext cx="2808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Orientação individual e grup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403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Individua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Confidenci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Para uma pessoa ou cas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Suscita emoções fortes no utente e profission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Informação com enfoque para mudanças de atitudes e de comportament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6000" y="981000"/>
            <a:ext cx="403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Grupal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Não é confidenci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Pequenos ou grandes grup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Emocionalmente neutr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Generalizad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Informação usada para aumentar conhecimento, baseada nas necessidades gerais dos participa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6" name="Espaço Reservado para Número de Slide 6"/>
          <p:cNvSpPr/>
          <p:nvPr/>
        </p:nvSpPr>
        <p:spPr>
          <a:xfrm>
            <a:off x="611280" y="6237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C13B-D21D-4070-9C81-9040D9857E6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tângulo de cantos arredondados 7"/>
          <p:cNvSpPr/>
          <p:nvPr/>
        </p:nvSpPr>
        <p:spPr>
          <a:xfrm>
            <a:off x="1547640" y="5229360"/>
            <a:ext cx="6264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Vocês acham que uma substitui a ou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9" descr="http://www.eb23-cmdt-conceicao-silva.rcts.pt/J0288870.gif"/>
          <p:cNvPicPr/>
          <p:nvPr/>
        </p:nvPicPr>
        <p:blipFill>
          <a:blip r:embed="rId1"/>
          <a:stretch/>
        </p:blipFill>
        <p:spPr>
          <a:xfrm>
            <a:off x="7380360" y="5229360"/>
            <a:ext cx="466560" cy="61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Quando orient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8000" y="1773360"/>
            <a:ext cx="8381880" cy="33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  <a:ea typeface="Arial"/>
              </a:rPr>
              <a:t>O enfermeiro geral deve evitar oportunidades perdidas de dar orientação, ou seja, este orientará ao longo de suas atividades, continuamente em cada contato com o utente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  <a:ea typeface="Arial"/>
              </a:rPr>
              <a:t>Além disso poderá estabelecer planos de orientação para a saúde para grupos específicos ou para temas necessário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1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ço Reservado para Número de Slide 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8BA9-8345-4800-97CD-40E507A52790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Espaço Reservado para Rodapé 4"/>
          <p:cNvSpPr/>
          <p:nvPr/>
        </p:nvSpPr>
        <p:spPr>
          <a:xfrm>
            <a:off x="3995640" y="6308640"/>
            <a:ext cx="302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42560" y="277920"/>
            <a:ext cx="7643880" cy="774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mbiente para dar orienta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Deve ser confortável  e privativo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Iluminado, arejado, isento de barulho, limpo, disposição de cadeiras para todos os participantes (em círculo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Que não seja interrompido por telefone ou pela entrada de pessoas fora da atividade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6" name="Espaço Reservado para Número de Slide 5"/>
          <p:cNvSpPr/>
          <p:nvPr/>
        </p:nvSpPr>
        <p:spPr>
          <a:xfrm>
            <a:off x="75564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242D-490A-4E7A-97E0-5DC758853019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balho de grup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39640" y="2133720"/>
            <a:ext cx="8382240" cy="142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Vamos para a actividade de Desenvolvimento de habilidades e atitudes para dar orientação em saúde, individual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4138-8677-4D24-ADE1-DAC646350F8A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Laboratório Humaníst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68000" y="2276640"/>
            <a:ext cx="8381880" cy="23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Vamos para a actividade de Desenvolvimento de habilidades e atitudes para aconselhar ou orientar para a saúde (atividade grupal)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EB1B-3AEE-4010-851B-EDF0D9898E58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94920" y="1988640"/>
            <a:ext cx="8497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A Educação para a Saúde é definida como fator de promoção e proteção à saúde e estratégia para a conquista dos direitos de cidadani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ssim, neste capítulo, teremos a intenção de discutir “Orientação para a saúde” nesse contexto mais amplo, participativo, crítico, capaz de gerar autonomia nos sujeit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0303-08D8-49A8-9936-55CBCA53617F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ntrodução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3640" y="1052280"/>
            <a:ext cx="859788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 educação para a saúde não é tarefa fácil, devendo ser realizada por pessoas minimamente capacitadas, de modo a não ferir a integridade e a ética dos participa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sta pode ser desenvolvid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Para uma só pesso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08440" indent="-22140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enominado aconselhamento; orientação individu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m pequenos e grandes grupo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08440" indent="-22140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enominado palestra, porém esse termo está em desuso por trazer um caráter unidirecion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m massa, por meio da mídia (rádio, jornal, revistas, televisão, internet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5265-7D80-414C-BF05-845517F70742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ço Reservado para Rodapé 4"/>
          <p:cNvSpPr/>
          <p:nvPr/>
        </p:nvSpPr>
        <p:spPr>
          <a:xfrm>
            <a:off x="3635280" y="6237360"/>
            <a:ext cx="2808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7581960" cy="865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O  que é o aconselhamento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681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É um diálogo confidencial  entre o profissional e o utente; É mais usado em caráter individual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Visa proporcionar à pessoa condições para avaliar os  seus próprios riscos, tomar decisões e encontrar maneiras realísticas de enfrentar os problemas relacionados à sua saúde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Verdana"/>
              </a:rPr>
              <a:t>                                                 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7d"/>
                </a:solidFill>
                <a:latin typeface="Verdana"/>
              </a:rPr>
              <a:t>                                      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2" name="Espaço Reservado para Número de Slide 5"/>
          <p:cNvSpPr/>
          <p:nvPr/>
        </p:nvSpPr>
        <p:spPr>
          <a:xfrm>
            <a:off x="539640" y="61657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CF6B-84BC-402E-9608-46A516E97DB7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0" descr="cuidado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1550880"/>
            <a:ext cx="3865680" cy="39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Espaço Reservado para Rodapé 4"/>
          <p:cNvSpPr/>
          <p:nvPr/>
        </p:nvSpPr>
        <p:spPr>
          <a:xfrm>
            <a:off x="3348000" y="6237360"/>
            <a:ext cx="3240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conselhar não significa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240" y="2163600"/>
            <a:ext cx="723276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Dar conselhos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Dizer para alguém o que fazer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Apresentar solução para os problemas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Fazer sermão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Interrogatório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Confissão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7" name="Espaço Reservado para Número de Slide 5"/>
          <p:cNvSpPr/>
          <p:nvPr/>
        </p:nvSpPr>
        <p:spPr>
          <a:xfrm>
            <a:off x="46836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16E7-AAC5-4814-B600-3BD6C5C61676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Espaço Reservado para Rodapé 4"/>
          <p:cNvSpPr/>
          <p:nvPr/>
        </p:nvSpPr>
        <p:spPr>
          <a:xfrm>
            <a:off x="3708360" y="623736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885080" cy="863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conselhamento signific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Dar apoio emocional e orientar mediante demanda por informação para a saúde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Identificar e corrigir crenças ou mitos relacionados a percepção do problema de saúde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Ajudar na tomada de decisão em direcção a hábitos saudávei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Apoiar na elaboração de um plano de vida saudável e de redução de fatores de risc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1" name="Espaço Reservado para Número de Slide 5"/>
          <p:cNvSpPr/>
          <p:nvPr/>
        </p:nvSpPr>
        <p:spPr>
          <a:xfrm>
            <a:off x="46836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5524-9F4C-4CFE-BEE2-0EC1D310B427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Espaço Reservado para Rodapé 4"/>
          <p:cNvSpPr/>
          <p:nvPr/>
        </p:nvSpPr>
        <p:spPr>
          <a:xfrm>
            <a:off x="3635280" y="6237360"/>
            <a:ext cx="2665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559640" cy="1135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Conceitos chave em aconselhament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740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Aceitação incondicional: capacidade que o profissional deve ter para aceitar o utente </a:t>
            </a:r>
            <a:r>
              <a:rPr b="1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sem julgar, criticar ou moralizar o comportamento deste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Empatia: processo por meio do qual o profissional é capaz de compreender sentimentos, experiências de uma pessoa e colocar-se no lugar del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Confidencialidade: sigilo ou garantia a não divulgação de informação sem o consentimento do utente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5" name="Espaço Reservado para Número de Slide 5"/>
          <p:cNvSpPr/>
          <p:nvPr/>
        </p:nvSpPr>
        <p:spPr>
          <a:xfrm>
            <a:off x="53964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7377-F7F1-445E-BD69-3FDAEF629D39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ço Reservado para Rodapé 4"/>
          <p:cNvSpPr/>
          <p:nvPr/>
        </p:nvSpPr>
        <p:spPr>
          <a:xfrm>
            <a:off x="3348000" y="6237360"/>
            <a:ext cx="2808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ontos essenciais para quem realiza orientação em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  <a:ea typeface="Arial"/>
              </a:rPr>
              <a:t>Respeitar o utente como ser humano, mesmo não aprovando as suas acções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  <a:ea typeface="Arial"/>
              </a:rPr>
              <a:t>Compreender que cada indivíduo é único e diferente (Individualidade)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  <a:ea typeface="Arial"/>
              </a:rPr>
              <a:t>Não julgar ou criticar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  <a:ea typeface="Arial"/>
              </a:rPr>
              <a:t>Não dar simples garantias ao utente, pois este compreenderá que seus problemas foram minimizados e se tornará dependente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  <a:ea typeface="Arial"/>
              </a:rPr>
              <a:t>Não interromper o utente em demasia pois este poderá se sentir diminuíd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  <a:ea typeface="Arial"/>
              </a:rPr>
              <a:t>Não assumir que sabe o que o utente pensa (o profissional não pode querer ler a mente do utente).  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Garamond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Espaço Reservado para Número de Slide 5"/>
          <p:cNvSpPr/>
          <p:nvPr/>
        </p:nvSpPr>
        <p:spPr>
          <a:xfrm>
            <a:off x="8269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2212-4CEF-4141-A630-36D7C46433F6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0:44:40Z</dcterms:created>
  <dc:creator>Escolastica</dc:creator>
  <dc:description/>
  <dc:language>en-US</dc:language>
  <cp:lastModifiedBy>PC-6</cp:lastModifiedBy>
  <dcterms:modified xsi:type="dcterms:W3CDTF">2014-04-15T13:52:19Z</dcterms:modified>
  <cp:revision>91</cp:revision>
  <dc:subject/>
  <dc:title>Slide 1</dc:title>
</cp:coreProperties>
</file>