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84BE-C3BB-4E1B-8A6E-82F8719F5BE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6012-CB63-4B46-BBE5-0AADBF572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E045A-EC2C-4A16-B60F-B8A43ADD5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932B-319C-4139-9E6F-EA6582834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92823-187A-4D39-8A58-6EFCE5284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250A-5621-4E5B-88B7-E4E0ECBE0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F13C0-BE7D-4471-83DB-2E4F66A12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545E8-2982-4E3E-9647-3AC2885AC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7B261-4DBA-4709-B33F-9A48034CC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2E3E5-94FC-48E4-A61A-1CA49AFB3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AF580-4B63-4B17-B97E-7F4F774C0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9F2B2-3C20-4D20-8446-2FAB37D7F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A315-2881-4B7A-A152-0E873BA38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7BF76-C111-4E6E-8598-81106E6EF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05FD-96D2-49C5-83AC-D5A6DE5FD63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77336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58920" y="4436640"/>
            <a:ext cx="6934320" cy="15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Módulo 8: Prática de Enfermagem I – Promoção da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Rectangle 2067"/>
          <p:cNvSpPr/>
          <p:nvPr/>
        </p:nvSpPr>
        <p:spPr>
          <a:xfrm>
            <a:off x="2771640" y="1773360"/>
            <a:ext cx="6372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6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1763640" y="1915200"/>
            <a:ext cx="615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laboração de plano de  orientações em saúde;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ordenação com outros integrantes da equipa.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3357360"/>
            <a:ext cx="4392360" cy="2879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NÃO NECESSARIAMENTE O PLANO DEVERÁ TER TODOS OS ELEMENTOS. ISSO IRÁ DEPENDER DA ABRANGÊNCIA DO PLANO.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1374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nstrução será dirigida pelo professor, de modo que todos caminharão juntos, passando por cada um dos elementos do plan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da dupla escolherá seu tema ou área de atuação para o plan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6F35-BDB2-433C-A9CA-F83428ADCC8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http://2.bp.blogspot.com/_W-4qil_rSm0/TEv1Wt9i_wI/AAAAAAAAAfI/1-AVdzmdd6o/s1600/inset+day.gif"/>
          <p:cNvPicPr/>
          <p:nvPr/>
        </p:nvPicPr>
        <p:blipFill>
          <a:blip r:embed="rId1"/>
          <a:stretch/>
        </p:blipFill>
        <p:spPr>
          <a:xfrm>
            <a:off x="5292720" y="3860640"/>
            <a:ext cx="331164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Vamos elaborar um plano de  orientações em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1267920"/>
            <a:ext cx="837072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Elementos de um plano de orientaçã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que abordar (o tema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mo abordar (metodologia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em participa (público-alvo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Recursos disponíveis (materiais de apoio audiovisual, folhetos, cartilhas, meios de divulgação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em irá realizar e ond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uração da atividade em si e por quanto temp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arceria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brangência (individual, grupal, coletiva – uma comunidade, um distrito, um país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4B7F-5775-44F3-B624-A52868F9898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laboração de plano de  orientações em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196640"/>
            <a:ext cx="837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Elementos de um plano de orientaçã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que abordar (o tema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mo abordar (metodologia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em participa (público-alvo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Recursos disponíveis (materiais de apoio audiovisual, folhetos, cartilhas, meios de divulgação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em irá realizar e ond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uração da atividade em si e por quanto temp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arceria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brangência (individual, grupal, coletiva – uma comunidade, um distrito, um país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2455-E1E0-4FD7-A5B0-9EA8787983C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18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ordenação com os integrantes da equipa de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844280"/>
            <a:ext cx="83818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Um plano de orientação em saúde deve ser coordenado com os integrantes da equipe de saúde, para proporcionar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nvolvimento de to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a equipe multiprofissional terá diferentes olhares sobre um mesmo tem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alorização por toda equipe terá maior impacto n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A42E-4CE3-4C5F-A38F-7E7CC8EE8C0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articipação de outros setores da soc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41000"/>
            <a:ext cx="40435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plano de orientação podem ser inseridos sujeitos da comunidade que já exercem algum trabalho dessa natureza ou representem um canal de comunicação com a população (líderes comunitários, rádios locais, por exempl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A138-36E3-4205-A52E-915DA9AD819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cpadnews.com.br/uploads/20101209/266x220-20101209111553-biblia-audio.jpg"/>
          <p:cNvPicPr/>
          <p:nvPr/>
        </p:nvPicPr>
        <p:blipFill>
          <a:blip r:embed="rId1"/>
          <a:stretch/>
        </p:blipFill>
        <p:spPr>
          <a:xfrm>
            <a:off x="4643280" y="1606680"/>
            <a:ext cx="4292640" cy="3566880"/>
          </a:xfrm>
          <a:prstGeom prst="rect">
            <a:avLst/>
          </a:prstGeom>
          <a:ln w="0">
            <a:noFill/>
          </a:ln>
        </p:spPr>
      </p:pic>
      <p:sp>
        <p:nvSpPr>
          <p:cNvPr id="110" name="CaixaDeTexto 6"/>
          <p:cNvSpPr/>
          <p:nvPr/>
        </p:nvSpPr>
        <p:spPr>
          <a:xfrm>
            <a:off x="622764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ádi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articipação de outros setores da soc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etodologia também pode contar com o apoio de pessoas da comunidade com algum dom artístico, como música, teatro de rua 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roveitar as forças locais é muito positiv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9436-AB08-4CDA-BB61-2EC1ACA69B7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oglobo.globo.com/fotos/2009/06/29/29_MHG_rshow_teatro3.jpg"/>
          <p:cNvPicPr/>
          <p:nvPr/>
        </p:nvPicPr>
        <p:blipFill>
          <a:blip r:embed="rId1"/>
          <a:stretch/>
        </p:blipFill>
        <p:spPr>
          <a:xfrm>
            <a:off x="468360" y="2781360"/>
            <a:ext cx="5591160" cy="357516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6"/>
          <p:cNvSpPr/>
          <p:nvPr/>
        </p:nvSpPr>
        <p:spPr>
          <a:xfrm>
            <a:off x="6300720" y="3716280"/>
            <a:ext cx="25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teatro tem elevado impacto no processo de educação em saú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articipação de outros setores da soc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341360"/>
            <a:ext cx="8381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mbientes comunitários podem ser utilizad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60DF-E52D-4A10-9F5F-54C050EC7C8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aixaDeTexto 5"/>
          <p:cNvSpPr/>
          <p:nvPr/>
        </p:nvSpPr>
        <p:spPr>
          <a:xfrm>
            <a:off x="1258920" y="4581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gre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ixaDeTexto 6"/>
          <p:cNvSpPr/>
          <p:nvPr/>
        </p:nvSpPr>
        <p:spPr>
          <a:xfrm>
            <a:off x="6156360" y="5516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aç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117360" y="-676440"/>
            <a:ext cx="18385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117360" y="-676440"/>
            <a:ext cx="18385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117360" y="-676440"/>
            <a:ext cx="18385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http://homedanoiva.com/images/stories/igreja.jpg"/>
          <p:cNvPicPr/>
          <p:nvPr/>
        </p:nvPicPr>
        <p:blipFill>
          <a:blip r:embed="rId1"/>
          <a:stretch/>
        </p:blipFill>
        <p:spPr>
          <a:xfrm>
            <a:off x="539640" y="1916280"/>
            <a:ext cx="3521160" cy="2638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http://blogs.estadao.com.br/marcos-guterman/files/2009/08/africa.jpg"/>
          <p:cNvPicPr/>
          <p:nvPr/>
        </p:nvPicPr>
        <p:blipFill>
          <a:blip r:embed="rId2"/>
          <a:stretch/>
        </p:blipFill>
        <p:spPr>
          <a:xfrm>
            <a:off x="4356000" y="2133720"/>
            <a:ext cx="44481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articipação de outros setores da soc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1034-6401-43C4-BD69-8A3D9980726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000" y="1341360"/>
            <a:ext cx="83818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mbientes comunitários podem ser utilizad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CaixaDeTexto 8"/>
          <p:cNvSpPr/>
          <p:nvPr/>
        </p:nvSpPr>
        <p:spPr>
          <a:xfrm>
            <a:off x="1258920" y="5661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co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9"/>
          <p:cNvSpPr/>
          <p:nvPr/>
        </p:nvSpPr>
        <p:spPr>
          <a:xfrm>
            <a:off x="5076720" y="5589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entros comunit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http://cpadnews.com.br/uploads/20101108/266x220-20101108162835-1.jpg"/>
          <p:cNvPicPr/>
          <p:nvPr/>
        </p:nvPicPr>
        <p:blipFill>
          <a:blip r:embed="rId1"/>
          <a:stretch/>
        </p:blipFill>
        <p:spPr>
          <a:xfrm>
            <a:off x="395280" y="2349360"/>
            <a:ext cx="4073400" cy="3383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4.bp.blogspot.com/_JgaNMaFgYAY/TOLMGyPgy4I/AAAAAAAAEnw/8U42miH2IoU/s1600/Caravana%2Bda%2BCidadania.jpg"/>
          <p:cNvPicPr/>
          <p:nvPr/>
        </p:nvPicPr>
        <p:blipFill>
          <a:blip r:embed="rId2"/>
          <a:stretch/>
        </p:blipFill>
        <p:spPr>
          <a:xfrm>
            <a:off x="4572000" y="2421000"/>
            <a:ext cx="429588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articipação de outros setores da soc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000" y="1557360"/>
            <a:ext cx="83818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Grupos pré-existentes devem ser convidados como apoi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Grupos de mães que amamentam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Grupos de pessoas vivendo com HIV/si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Grupos de pessoas em tratamento para tuberculo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Grupos de jovens de diferentes igrej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nvolver os setores de educação, trabalho e ação social como parceir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B3AD-5454-480E-A8F4-7334B79772B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3280" y="476280"/>
            <a:ext cx="7467840" cy="1257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os pares vamos elaborar um plano de orientação em saúde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3EAA-F165-4CDD-9C4F-374D9EDBA37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2.bp.blogspot.com/_W-4qil_rSm0/TEv1Wt9i_wI/AAAAAAAAAfI/1-AVdzmdd6o/s1600/inset+day.gif"/>
          <p:cNvPicPr/>
          <p:nvPr/>
        </p:nvPicPr>
        <p:blipFill>
          <a:blip r:embed="rId1"/>
          <a:stretch/>
        </p:blipFill>
        <p:spPr>
          <a:xfrm>
            <a:off x="2340000" y="2421000"/>
            <a:ext cx="51116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5:19:08Z</dcterms:created>
  <dc:creator>Escolastica</dc:creator>
  <dc:description/>
  <dc:language>en-US</dc:language>
  <cp:lastModifiedBy>PC-6</cp:lastModifiedBy>
  <dcterms:modified xsi:type="dcterms:W3CDTF">2014-04-17T21:33:41Z</dcterms:modified>
  <cp:revision>16</cp:revision>
  <dc:subject/>
  <dc:title>Slide 1</dc:title>
</cp:coreProperties>
</file>