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70A8-093C-4498-B16A-CB619BB17B5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4C3B-F3FF-4A6E-A713-C9D4E2F21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6100-F4E1-4CE0-AB57-6ECBA8FF7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A3B4-E000-4411-9250-E7C873304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0649-93C9-40B7-817A-FC9C8AF97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6B62-DD9A-4FD5-A749-9F28A664D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2F3E-0628-4C30-B23B-DD2F8A447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245F-B170-445C-99DC-94525C4AC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499B-44B4-4D56-89C4-4A993022B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52D0-D9C0-4A60-A86C-CF1EFEC34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7612-A482-4D88-8B1C-B634A1B13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9E13-C040-46CD-B03A-C116AA841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8C0B-9991-4264-8C12-1EFB879DB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70B5-5317-4A70-A7A8-6A55944B1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F2FA-9F8C-411D-9462-A93B40007C6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628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835280" y="199620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criança: um assunto de Saúde Públ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 violência contra crianças e adoles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267920"/>
            <a:ext cx="8586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São devastadora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Pesquisadores documentam conseqüências físicas (variando de pequenas cicatrizes até danos cerebrais permanentes e mort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Psicológicas (desde baixa auto-estima até desordens psíquicas sever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Cognitivas (desde deficiência de atenção e distúrbios de aprendizado até distúrbios orgânicos cerebrais sever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Comportamentais (variando da dificuldade de relacionamento com colegas até comportamentos suicidas e criminosos) decorrentes de abusos físicos, psicológicos, sexuais e de negli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1E0-C66C-41F5-A56D-503389668BB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000" y="1341000"/>
            <a:ext cx="8381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omando essas conseqüências da violência contra crianças/adolescentes, isso significa que todos os níveis de atenção à saúde precisam estar atentos a essa situação e implantar programas de prevenção e atenção, principalmente para famílias que vivem em contextos de risco social e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BB56-CCC1-4509-B17C-0571B5499E1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 violência contra crianças e adoles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2" descr="http://t3.gstatic.com/images?q=tbn:ANd9GcQUPJyy5XRAtzvW9LyzGa6tbop6jbx7U4tsrTpNzDTMZlb-SP56"/>
          <p:cNvPicPr/>
          <p:nvPr/>
        </p:nvPicPr>
        <p:blipFill>
          <a:blip r:embed="rId1"/>
          <a:stretch/>
        </p:blipFill>
        <p:spPr>
          <a:xfrm>
            <a:off x="3132000" y="3860640"/>
            <a:ext cx="36943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atar imediatamente 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o relato e a atitude dos pais durante a consulta – que podem ser de aparente preocupação e de extensiva colaboração com a equipe de saúde, mas percebe-se uma ausência de angústia quanto à gravidade das lesões, o que não ocorre habitualmente com os pais de crianças acident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ormar, em linguagem apropriada, as graves conseqüências de maus-tratos e abuso sexual para o desenvolvimento d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179-3175-4F8D-863E-E329F5A4F97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plicar que a família poderá beneficiar-se de ajuda mútu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ompanhar os desdobramentos da notificação; se o agressor é alguém da família, não é conveniente informá-lo imediatam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nça poderá sofrer riscos ainda maior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caso, deve-se entrar em contato, de modo estratégico, com membros não agressores, de preferência com indicação da cri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sobre a importância do tratamento para o agressor, se ele for d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B08-1A37-42D2-97CD-B42423D6F59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tir estratégias protetoras, pois a família se situa, face ao sofrimento, também como víti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a família para evitar comentários sobre o ocorrido com vizinhos e/ou amigos, pois a exposição gera nova violência à víti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D99-9D0D-4F8B-81B8-EAFAFD915BB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2" descr="http://t3.gstatic.com/images?q=tbn:ANd9GcTMAYwsPwQAg_G3uNN2JSqM93zp6NN17A8p5AWmsFIWDYXJTmrt8A"/>
          <p:cNvPicPr/>
          <p:nvPr/>
        </p:nvPicPr>
        <p:blipFill>
          <a:blip r:embed="rId1"/>
          <a:stretch/>
        </p:blipFill>
        <p:spPr>
          <a:xfrm>
            <a:off x="3492360" y="3429000"/>
            <a:ext cx="32655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teger a identidade da criança e do adolescente abusados (compromisso éticoprofissional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ituação deverá ser relatada somente às pessoas que irão tratar da criança/adolesc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sulta com a criança/adolescente deve ser privativa, a fim de favorecer a expressão de sentimentos; da situação de violência; sua relação com a família, amigos, escola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dolescente tem direito ao sigilo e à confidencialidade das informações. Isso pode ser rompido nas situações previstas por lei, como nos casos de violência ou de risco à vida, sendo, necessária a notificação ao Conselho Tute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0D48-0708-43C9-8D59-C11EFB2EC28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3640" y="1196640"/>
            <a:ext cx="4895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relevante que o profissional deixe claro para a vítima a sua disponibilidade para escutá-lo, sem julgamentos, favorecendo o vínculo de confia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amília deve ser envolvida no atendimento, para que possa contribuir com o tratamento da vítima, além de possibilitar uma melhor relação entre seus memb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414-90FE-4501-97C7-03CB3941156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2" descr="http://t0.gstatic.com/images?q=tbn:ANd9GcTvCSLE3VvL4xybZZrf1Fj5MFaEilEGT8Xj2TjPlTVjdxBRCUR8Fg"/>
          <p:cNvPicPr/>
          <p:nvPr/>
        </p:nvPicPr>
        <p:blipFill>
          <a:blip r:embed="rId1"/>
          <a:stretch/>
        </p:blipFill>
        <p:spPr>
          <a:xfrm>
            <a:off x="5180040" y="1484280"/>
            <a:ext cx="383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1143000"/>
            <a:ext cx="8381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asos de violência contra a criança/adolescente necessitam de intervenção ampliada, de equipe interdisciplinar: assistente social , enfermeiro, médico, psicólogo, pois é necessária discutir os desfechos que a equipe de saúde pretende alcançar, evitando medidas precipitadas, que podem acabar afastando a famíl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issional de saúde deve priorizar a assistência à criança e a sua família e encaminhar o caso aos órgãos de proteção, responsabilização e atendimento/acompanh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C8C5-9607-413C-996E-614F163BEEB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CaixaDeTexto 5"/>
          <p:cNvSpPr/>
          <p:nvPr/>
        </p:nvSpPr>
        <p:spPr>
          <a:xfrm>
            <a:off x="900000" y="5589720"/>
            <a:ext cx="6624720" cy="4597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são esses órgãos em Moçamb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445000"/>
            <a:ext cx="466920" cy="619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stas para identificação de violênci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ísica contra crianças/adolescen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B0A8-243D-4487-A3BC-0D549A07F17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6068880" cy="532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t3.gstatic.com/images?q=tbn:ANd9GcSPuE4T58sQG3geZVK78Oc7QBOzvUU8L8BEn4Bi2Ka6axHM-NqIlA"/>
          <p:cNvPicPr/>
          <p:nvPr/>
        </p:nvPicPr>
        <p:blipFill>
          <a:blip r:embed="rId2"/>
          <a:stretch/>
        </p:blipFill>
        <p:spPr>
          <a:xfrm>
            <a:off x="250920" y="2133720"/>
            <a:ext cx="291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não revitimização, é importante evit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onsiderar o sentimento d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lar frases como: “isso não foi nada”, “vai passar”, “não precisa chorar”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esso de ze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t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ulpar 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onstrar surpresa, choro, horror (sinais de censura ou desaprov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ases de humor neg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105F-D305-493B-8517-EBB836339FA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2205000"/>
            <a:ext cx="8382240" cy="2718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violência é crime! Nenhuma vítima é capaz de se esquecer disso. Mas um atendimento acolhedor, receptivo e, acima de tudo, humano pode ajudá-la a superar.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85F-46F4-48DF-BB11-8E84D32473A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urante séculos, a mulher suportou indefesa e em silêncio os abusos do homem. Portanto, em grande parte da história da humanidade a mulher ficou sempre à sombra dos interesses des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655-3931-4E97-8E83-BF2D420BABF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2" descr="http://www.jm1.com.br/wp-content/uploads/2011/07/violencia-domestica_trabalho-de-margarida-espinho1.jpg"/>
          <p:cNvPicPr/>
          <p:nvPr/>
        </p:nvPicPr>
        <p:blipFill>
          <a:blip r:embed="rId1"/>
          <a:stretch/>
        </p:blipFill>
        <p:spPr>
          <a:xfrm>
            <a:off x="2484360" y="2852640"/>
            <a:ext cx="4780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ousseau, que tanto contribuiu para a compreensão do Estado Moderno, defendia que a mulher deveria ser colocada a serviço do homem desde a infância até a idade adulta, isto é, que nunca deveria ter participação em construções sociais e políticas (PERRUSO, 2005, p.3 ; apud CDH, 2005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04C-2BE3-4B26-A364-9CCA9E55EAA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" descr="http://t2.gstatic.com/images?q=tbn:ANd9GcTAYpI5HtaLJzJkgm8V_DxPCd-YeO4CVvNbhoOMgDGgaOckfyC9lw"/>
          <p:cNvPicPr/>
          <p:nvPr/>
        </p:nvPicPr>
        <p:blipFill>
          <a:blip r:embed="rId1"/>
          <a:stretch/>
        </p:blipFill>
        <p:spPr>
          <a:xfrm>
            <a:off x="3419640" y="3573360"/>
            <a:ext cx="2844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50920" y="907560"/>
            <a:ext cx="518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ão, a mulher, historicamente, vem sofrendo vários tipos de violência: familiar, pelo marido/companheiro; social, na violação de seus direitos, dupla carga de trabalho e na falta de respostas das políticas públicas de saúde de qualidade para acompanhar a gestação, puerpério, climatério e situações de viol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do isso contribui para a perpetuação d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E4D0-89F8-4AD0-85C3-48412696E19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2" descr="http://t2.gstatic.com/images?q=tbn:ANd9GcSxx9YJACcpVMq9XvlSm8SXQcmAIvf7Vf430-HC2hpKHCMyIryolg"/>
          <p:cNvPicPr/>
          <p:nvPr/>
        </p:nvPicPr>
        <p:blipFill>
          <a:blip r:embed="rId1"/>
          <a:stretch/>
        </p:blipFill>
        <p:spPr>
          <a:xfrm>
            <a:off x="5435640" y="1773360"/>
            <a:ext cx="35607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4920" y="1052640"/>
            <a:ext cx="8381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qualquer conduta – ação ou omissão – de discriminação, agressão ou coerção, ocasionada pelo fato de a vítima ser mulher, e que cause dano, morte, constrangimento, limitação, sofrimento físico, sexual, moral, psicológico, social, político ou econômico ou perda patrimonial. Pode acontecer tanto em espaços públicos como pri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BF0-A045-47F3-BB93-6785067885C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tângulo de cantos arredondados 5"/>
          <p:cNvSpPr/>
          <p:nvPr/>
        </p:nvSpPr>
        <p:spPr>
          <a:xfrm>
            <a:off x="971640" y="4076640"/>
            <a:ext cx="7561080" cy="2089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violência de gênero é toda violência sofrida pelo fato de ser mulher, sem distinção de raça, classe social, religião, idade ou qualquer outra condição; produto de um sistema social que subordina o sexo femini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e os tipos de violência existentes contra a mulher no mundo, aquele praticado no ambiente familiar é um dos mais cruéis e perversos. O lar, identificado como local acolhedor e de proteção, passa a ser, nesses casos, um ambiente de perigo contínuo, de medo e ansiedade perman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amiliar "recobre o universo das pessoas relacionadas por laços consangüíneos ou afins. A violência doméstica é mais ampla, abrangendo pessoas que vivem sob o mesmo teto, mas não necessariamente vinculadas pelo parentesco"(Saffioti, 1997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83D2-D8C8-4CDA-8561-09E90FB43FA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feito da violência doméstica contra a mulher, decorrente de maus-tratos, humilhações, agressões físicas, sexuais, morais, patrimoniais e psicológicas, é devastador para sua auto-esti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o medo vivenciado cotidianamente e o temor aterrorizante causador de insegurança e instabilidade, agravados pelo fato de as vítimas nunca saberem a razão capaz de desencadear nova fúria dos agressores; e a vergonha que passam diante de familiares, vizinhos, amigos e conhecidos, que provoca ansiedade, depressão, dores crônicas, entre outras enferm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805-E997-410A-8A5F-E9C6DD229FF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violência doméstica é qualquer ação ou conduta cometida por familiares ou pessoas que vivem na mesma casa, que cause morte, dano ou sofrimento físico, sexual ou psicológico à mulher e à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das formas mais comuns de manifestação da violência contra a mulher e, no entanto, uma das mais invisíveis, sendo uma das violações dos direitos humanos mais praticadas e menos reconhecidas do mun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ta-se de um fenômeno mundial que não respeita fronteiras de classe social, raça/etnia, religião, idade e grau de escolar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D738-4E7F-4014-9CA7-B58E0F20352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Saúde Públ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267920"/>
            <a:ext cx="52560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MS reconhece a violência doméstica como um problema de Saúde Pública, pois afeta a integridade física e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feitos da violência doméstica contra a mulher e a criança sobre a saúde física e mental são evidentes para quem trabalha na áre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lheres em situação de violência freqüentam com assiduidade os serviços de saúde e em geral com "queixas vagas"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932F-3126-4778-9088-8E934FF4FB8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t3.gstatic.com/images?q=tbn:ANd9GcSDWjZ6SgEP3MNd_211TKlgW9tNfioXyWzEFcuQIK17A_27O8WL"/>
          <p:cNvPicPr/>
          <p:nvPr/>
        </p:nvPicPr>
        <p:blipFill>
          <a:blip r:embed="rId1"/>
          <a:stretch/>
        </p:blipFill>
        <p:spPr>
          <a:xfrm>
            <a:off x="5549760" y="1392120"/>
            <a:ext cx="33814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Saúde Públ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"A rota das vítimas de violência doméstica passa regularmente pelos pronto socorros, ambulatórios e hospitais da rede de saúde" (Rufino, 1997), que em geral não conseguem fazer o diagnóstico de violência doméstica, assim como não compreendem a magnitude do problema como uma questão de Saúde Pública e nem conseguem assumir a responsabilidade social que lhes cab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é fundamental que o setor saúde invista na capacitação dos profissionais de saúde para o atendimento adequado às mulheres em situação de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637E-C1BE-4ED3-A359-305235F1D58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Saúde Públ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268280"/>
            <a:ext cx="878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entendermos porque a violência contra a mulher é uma questão de Saúde Pública, é preciso compreendê-l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specto numérico (grande número de vítima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repercussões deletérias na sanidade física e mental, gerando demandas para os serviços de saúde em diversas áreas do cuidado (controle de DST/HIV/aids, assistência psicológica, psiquiátrica, clínica, cirúrgica, dentre outr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decorrências econômicas para o país: redução da produtividade devido ao absenteísmo ao trabalho ou baixo desempenho; e do período que ficam às expensas da seguridade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A01B-E14C-4443-AE11-3EEB6462750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violência contra a mulher e a criança pode ser evitada e, suas conseqüências, reduzidas, da mesma forma que a Saúde Pública conseguiu prevenir e reduzir, em todo o mundo, as complicações relacionadas à gravidez, aos acidentes de trabalho, às doenças contagiosas e enfermidades causadas por alimentos e água contamin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fatores responsáveis por reações violentas contra mulheres e crianças, quer sejam derivados de atitudes e comportamentos ou de condições sociais, econômicas, políticas e culturais mais amplas, podem ser modificados por ações de Saúde Púb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FAED-5630-4F8C-8C48-6EE1289CED7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doecimentos decorrentes da violência são evidenciados pelo aumento da busca pelos serviços de saúde após a vivência da violência, tanto para o tratamento dos ferimentos atuais quanto para o tratamento das doenças posteriores à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FD7-45EC-4068-AA9F-F660B3FB015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2.gstatic.com/images?q=tbn:ANd9GcQjmcw3Y9fNEg0WznpUU0-1WhX4-qNfRz9zl3Qx4-nGwEk25lGP"/>
          <p:cNvPicPr/>
          <p:nvPr/>
        </p:nvPicPr>
        <p:blipFill>
          <a:blip r:embed="rId1"/>
          <a:stretch/>
        </p:blipFill>
        <p:spPr>
          <a:xfrm>
            <a:off x="3267000" y="3124080"/>
            <a:ext cx="3033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dicadores de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tornos crônicos, vagos e repeti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ada tardia no pré-na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anheiro muito controlador; reage quando separado da mulh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ecção urinária de repetição (sem causa secundári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pélvica crôn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índrome do intestino irrit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tornos na sexua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licações em gestações anteriores, abortos de repeti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E61-955A-4816-B836-26FCD063E81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s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crônica em qualquer parte do corpo ou mesmo sem localização preci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que não tem nome ou lug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stória de tentativa de su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sões físicas que não se explicam de forma adequ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bromial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CB2-9F99-4410-9331-3DE55051E11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dicadores de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r que o profissional de saúde não investiga 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uitos profissionais acreditam que a violência doméstica é um problema pessoal e privado e , por isso, eles não têm o direito de intrometer-se, já que é um problema social ou legal, mas não um problema de Saúde Púb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nsam, também, que as mulheres gostam de apanhar, pois ficam com o agress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percepções descritas acima são todas equivocadas, o que contribui para a perpetuação da violência contra a mulher, uma vez que o profissional perde a oportunidade de realizar uma intervenção qualific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7786-902D-4A6D-B887-EA11A1BCC0D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uação do profissional de saúde n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issional deve atuar no sentido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julgar a mulh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cutar calmamente a história da mulher e suas expectativas em relação à assist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uscar entender seu problema, a origem de seu sofrimento e as dificuldades que ela tem para sair da dinâmica abu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pear a rede de suporte social que ela já tem ou pode acionar, como seu trabalho, amigos, família, recursos mater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ontar as possibilidades e reforçar pontos posit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28D-2111-4957-BE13-89ADC320911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pear potenciais riscos que a mulher pode correr (presença de armas e ameaças) e avaliar junto com a mulher sobre tais riscos, tentativas anteriores e formas de prev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tindo das questões trazidas pelas mulheres em atendimento, informar que a violência é uma situação de alta ocorrência, tem caráter social e está associada às desigualdades de direitos entre o homem e a mulh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cutir os planos da mulher para a vida dela, buscando encontrar alternativas à situação atu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A86-D6FB-40B9-ADFE-453D257A8CD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uação do profissional de saúde n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segurança para a vítim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052280"/>
            <a:ext cx="5041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que um ou mais vizinhos para o(s) qual(is) você pode contar sobre a violência, e peça para eles ajudarem se ouvirem brigas em sua ca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briga for inevitável, certifique-se de estar em um lugar do qual possa fugir e no qual não haja arm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laneje como fugir de casa em segurança, e o lugar para onde você poderá ir, caso necessár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3DE5-191D-40C2-844C-F0AD2DCEB35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http://t0.gstatic.com/images?q=tbn:ANd9GcQERJUSI4gRoaXmV0iBNaAPrJfZ-KP13nRFIPhHemTlTKYNvG0J"/>
          <p:cNvPicPr/>
          <p:nvPr/>
        </p:nvPicPr>
        <p:blipFill>
          <a:blip r:embed="rId1"/>
          <a:stretch/>
        </p:blipFill>
        <p:spPr>
          <a:xfrm>
            <a:off x="5219640" y="1916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ixe em um lugar seguro um pacote com cópias de seus documentos e dos documentos de seus filhos, dinheiro, roupas e cópia da chave de casa, para o caso de ter de fugir rapid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ça um acordo com alguma vizinha(o) em quem possa confiar, e combine um código de comunicação para situações de emergência, como: “Quando eu colocar o pano de prato para fora da janela, chame ajuda” ou “Quando ouvir briga, chame os vizinhos para bater em panelas na frente da cas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unca brigue na cozinha ou em local em que haja armas ou fa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D248-4A3D-4336-9728-9C98CC3072C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segurança para a vítim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ctores protetores da violência contra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4920" y="1341360"/>
            <a:ext cx="8381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ença de uma rede social, incluindo uma família nuclear ou exten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ença de grupos de auto-ajuda e de empoderamento e troca de experiên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emprego ou a possibilidade de gerar rendi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acesso a organizações de direitos human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0134-9510-4AD2-8C6A-475826D3E26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http://t1.gstatic.com/images?q=tbn:ANd9GcSprk-xCa5dK229BIkiTrjbQrBHVLwjrWeKqr_m7bvi_-LWauer0Q"/>
          <p:cNvPicPr/>
          <p:nvPr/>
        </p:nvPicPr>
        <p:blipFill>
          <a:blip r:embed="rId1"/>
          <a:stretch/>
        </p:blipFill>
        <p:spPr>
          <a:xfrm>
            <a:off x="3276720" y="4221000"/>
            <a:ext cx="29700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ctores protetores da violência contra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r acesso a serviços públicos que forneçam cuidados de saúde, protecção policial e justi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possibilidade de realizar rituais culturais e cerimón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r na inspiração política ou religiosa uma fonte de conforto, de sentido e de perspectiva para o futu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252-7AD5-40BA-846F-66372BFD674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http://t0.gstatic.com/images?q=tbn:ANd9GcTd6W6MHyjx7yYYDtWUy2HL5F9IHuHj_UUlZI4tEMoe4ZA_h3dw"/>
          <p:cNvPicPr/>
          <p:nvPr/>
        </p:nvPicPr>
        <p:blipFill>
          <a:blip r:embed="rId1"/>
          <a:stretch/>
        </p:blipFill>
        <p:spPr>
          <a:xfrm>
            <a:off x="2484360" y="386064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907920"/>
            <a:ext cx="864072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possível prevenir a violência contra mulheres e crianç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a afirmação não é um artigo de fé, mas baseada em evidências constatadas em exemplos de sucesso em todo o mundo, desde ações individuais e comunitárias de pequena escala, com suporte na Saúde Pública, até políticas nacionais e iniciativas do legisla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BD6-9F56-4816-AA53-E3DB0E62524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10" descr="http://4.bp.blogspot.com/-n4GXFryTRDc/TiJNoa4S00I/AAAAAAAACJ4/Y5SL6uv6YjM/s250/PROTEJA%2BNOSSAS%2BCRIAN%25C3%2587AS%2BNEGRAS.jpg"/>
          <p:cNvPicPr/>
          <p:nvPr/>
        </p:nvPicPr>
        <p:blipFill>
          <a:blip r:embed="rId1"/>
          <a:stretch/>
        </p:blipFill>
        <p:spPr>
          <a:xfrm>
            <a:off x="2916360" y="3987720"/>
            <a:ext cx="29509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qualquer conduta – ação ou omissão, agressão ou coerção – ocasionada pelo fato de a vítima ser criança ou adolescente, e que cause dano, constrangimento, limitação, sofrimento físico, sexual, moral, psicológico ou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8CD1-3DEA-4DF0-BFED-3B25779A9CB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" descr="http://t2.gstatic.com/images?q=tbn:ANd9GcRKPm1l_LseokYmleLmd5lP8Omo0n3RjhIPx1rCzWuOaKgdm_SO"/>
          <p:cNvPicPr/>
          <p:nvPr/>
        </p:nvPicPr>
        <p:blipFill>
          <a:blip r:embed="rId1"/>
          <a:stretch/>
        </p:blipFill>
        <p:spPr>
          <a:xfrm>
            <a:off x="2484360" y="3645000"/>
            <a:ext cx="5008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contra crianças e adolescentes é um fenômeno complexo que envolve causas socioeconômicas e histórico-culturais, aliado a pouca visibilidade, à ilegalidade e à impun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rimeira causa se destaca a má distribuição de renda, migração, pobreza, acelerado processo de urbanização e ineficácia das políticas sociais e de saúde púb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que tange aos aspectos histórico-culturais, identifica-se a concepção, ainda vigente, da criança e do adolescente como objeto de dominação dos adultos, merecedores de amor desvalorizado, contaminado pela idéia de fraqueza e inferior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3536-41F9-4390-9AE0-0BA6227598A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114300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tes de 1870, as crianças eram vistas como adultos e a infância não existia; trabalho infantil não era visto como exploração, mas como dever à sociedade e a Deus; além disso, eram julgadas como adultos nos crimes que cometi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infanticídio, até o século IX, não era crime, já que as crianças ilegítimas ou portadoras de alguma deficiência eram jogadas de precipíci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26D-5A91-48F1-BCAB-D2B2C881400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2" descr="http://t2.gstatic.com/images?q=tbn:ANd9GcRpB-NXzfmgITb2_wjKAce6WAQQG_WVDzQStCUuJrEwF-lbpFXVmg"/>
          <p:cNvPicPr/>
          <p:nvPr/>
        </p:nvPicPr>
        <p:blipFill>
          <a:blip r:embed="rId1"/>
          <a:stretch/>
        </p:blipFill>
        <p:spPr>
          <a:xfrm>
            <a:off x="3024360" y="4365720"/>
            <a:ext cx="3263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século XIX, a criança começa a ter direito à educação e, somente em 1924, foi realizada a 1ª Declaração dos Direitos da Cria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esar de algumas conquistas, as crianças e adolescentes ainda são as maiores vítimas da violência, seja intra ou extra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905-CFE0-45C1-B9D3-331B4544CE6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2" descr="http://t3.gstatic.com/images?q=tbn:ANd9GcQ46jFeb9qlXqeDh4ztrQStDLdbeuRxkGbNY__uqWSb9L6WqbCpUQ"/>
          <p:cNvPicPr/>
          <p:nvPr/>
        </p:nvPicPr>
        <p:blipFill>
          <a:blip r:embed="rId1"/>
          <a:stretch/>
        </p:blipFill>
        <p:spPr>
          <a:xfrm>
            <a:off x="2843280" y="3645000"/>
            <a:ext cx="3960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usas de violência contra crianças e adoles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gligência fruto do despreparo para maternagem e patern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ísica muitas vezes utilizada como instrumento pedagóg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buso sexual trata-se de uma falta de fronteira entre as gerações, onde predomina o abuso de poder do mais forte e a cultura de coisificação da criança e do adolesc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psicológica refere-se à depreciação, a ameaças e à rejeição do adulto sobre a criança, desenvolvendo nesta um comportamento destrutivo ou autodestrutivo devido à desvalorização que sofr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22F2-89E6-4523-8F2D-BE95F9F2E80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3:49:16Z</dcterms:created>
  <dc:creator>Escolastica</dc:creator>
  <dc:description/>
  <dc:language>en-US</dc:language>
  <cp:lastModifiedBy>Mendoza</cp:lastModifiedBy>
  <dcterms:modified xsi:type="dcterms:W3CDTF">2011-09-22T10:12:05Z</dcterms:modified>
  <cp:revision>48</cp:revision>
  <dc:subject/>
  <dc:title>Slide 1</dc:title>
</cp:coreProperties>
</file>