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744-E82B-44FF-936F-FA652605673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9AF4-6DD7-46DB-94F2-E1DE71B7381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E3B4-3EE6-4861-B046-D1C5C792E0F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2BF-8C66-4B2C-93E8-35CFFACA039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6607-646E-4B02-BDC8-791511457BF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E65-641C-4C7E-8B5D-08F32DFB617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8177-1362-4F3C-BDBA-E0D6F463052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620D-C343-406C-8720-695FE68F213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895B-40E3-4C5A-BCCC-D633A9D9AE2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420-4929-401B-BCB4-C0B27126A44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AB6D-E920-4515-AAC4-E684EBF05B3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98AD-7A16-4C62-AAAC-752D5CEB665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DDF4-AFA1-44CC-A76D-3AE3A2D3864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BB1-CAAF-4C87-AFA8-78F4BAB4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E9A-B1FF-46D4-9654-F498C6D7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24C-03E4-4E84-9BA3-DE12D510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05D-15E4-4030-9694-4E35E472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BA0-6178-4B9F-A4D3-247D7D62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515-A77C-478F-879D-4F755D4A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608-22C5-4424-8A57-7176DFF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622-1A54-44C2-B1B5-D54E2EA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79E-1F53-44C3-863A-AAD37D7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EF2-17E4-4522-8E0C-5A99F65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8AB-8737-4005-A806-F123E00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54C-B1D5-437E-9A06-2B051972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3D6B-16A0-4853-9F55-9FF873947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3048120"/>
          </a:xfrm>
          <a:prstGeom prst="rect">
            <a:avLst/>
          </a:prstGeom>
          <a:noFill/>
          <a:ln w="66600">
            <a:solidFill>
              <a:srgbClr val="00ff00"/>
            </a:solidFill>
            <a:miter/>
          </a:ln>
          <a:effectLst>
            <a:outerShdw dist="153009" dir="2493982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cc00cc"/>
                </a:solidFill>
                <a:latin typeface="Arial Black"/>
              </a:rPr>
              <a:t>Qualidade dos Dados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9516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IS</a:t>
            </a:r>
            <a:br>
              <a:rPr sz="2400"/>
            </a:br>
            <a:r>
              <a:rPr b="1" lang="pt-PT" sz="3200" spc="-1" strike="noStrike">
                <a:solidFill>
                  <a:srgbClr val="ff0000"/>
                </a:solidFill>
                <a:latin typeface="Times New Roman"/>
              </a:rPr>
              <a:t>Sistema de Informação para a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7443-0F2F-437A-A137-C29B1C952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9. O que se deve fazer quando se detectam erros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Identifique a causa do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rrija o erro (se possível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revina que o erro volte a ocorrer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9133-DD2D-45DB-A1DE-D02B9C15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10. Procedimentos Prático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Verifique a completeza dos dados nos formul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ça valores mínimos e máxi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 os dados impressos para detectar erros usando medidas de controle gerais e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uma sessão de feedback sobre erro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A80A-8B19-4CF2-9B4F-8D768781B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828800" y="2057400"/>
            <a:ext cx="5267160" cy="21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brigado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8E3-0DE2-4773-A894-298E11593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1. Objectivos Did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Valorizar a importância da Quid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mpreender porque ocorrem os er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Adquirir habilidades necessárias par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Detecta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rrigi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Prevenir futuros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Logística do Controle de Qua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F615-00A7-4CE6-9A22-1BB57B200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2. Porque Razão dos Dados Estão Cheios de Erros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COLHI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PROCESSA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rros nos dados não detectados e corrigidos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B7D8-B5FB-45A2-BCDB-75A6A838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3. Porque os Dados Devem ser Cor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Uso de Dados Fidedignos é Perig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ção de dados é 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incorrectos são dados inú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zir dados incorrectos é desperdício de tempo e dinh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Melhor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ter dados do que ter dados incor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469B-5D5C-4872-971E-CA06BF207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4. Em que medida os dados devem ser correct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2640" y="297144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 Dados devem ser o mais correctos possíveis de acordo com o propósito para que são proces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3FCE-0521-4A94-B291-F7CA4933A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5. Princípios que enfatizam a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ormação/Capacit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de recolha/processamento amig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Erros dos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Informação Analis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Uso da Inform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AEBC-EFD0-4254-81C5-BDF39C07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6. Como se Podem Detectar os Err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gerai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específica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3CED-93D7-495B-8483-638652279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7. Medidas Gerai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Locais apropr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amigáve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Aritmé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EB39-1DF6-477F-A454-A2B45F34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8. Medidas Específica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nsistência de Tendência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Tendência Tempo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ini/Max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Realis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ar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artes vs T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ígitos Preferenci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B01E-D46F-43AE-8BD7-0D6BB8FF8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14:06Z</dcterms:created>
  <dc:creator>António Sitói</dc:creator>
  <dc:description/>
  <dc:language>en-US</dc:language>
  <cp:lastModifiedBy>cfsm-m</cp:lastModifiedBy>
  <dcterms:modified xsi:type="dcterms:W3CDTF">2015-07-23T08:40:03Z</dcterms:modified>
  <cp:revision>31</cp:revision>
  <dc:subject/>
  <dc:title>Qualidade</dc:title>
</cp:coreProperties>
</file>