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User" initials="U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<Relationship Id="rId19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2-02-16T09:40:43.256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D8D0-0CC1-4D4F-8222-A6FEF834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39DA-807B-450C-A8F0-E6DE7BE4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FCF2-CFED-48BD-A873-7FDCD62C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F0EE-5C3E-49FD-85C0-08E8EF3E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AB18-84A5-46B0-93C4-DEACD019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7F00-13F0-4692-8A69-09832E26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1431-F744-43F3-88BB-52531137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FD32-DE91-4136-A976-5906CE90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A433-0F9D-44A0-92DB-01AB79DC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9F6A-F62C-4950-8203-7544A27C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C407-A71D-4A4B-9F73-B94EF8DC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7186-921D-4AFF-96B5-C203FB99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5A08-2077-4D30-B2C0-83FA65DE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5EC7-B86E-4873-BDEA-B89F341F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FACA-BBC8-498E-8B10-242192B1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ADE9-CB9F-4325-A201-E1B6A2F7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F255-F343-4738-9A6A-E89CF013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6B669-7B66-4D9F-80DA-FCF4B42D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B5047-915A-4951-9039-A9E5A81C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524AA-8602-44B8-BEE9-7A041340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6CC3C-59C2-4AAB-B98E-D1757159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B8564-BD40-465C-9465-6723D49A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F996-D1D5-4477-AF62-476BB63D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3DAAA-A2A9-4115-B550-AFACAC79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90FDD-A904-4D4D-915C-C36238A0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869BE-E6C7-46DA-A7B0-6D47BFBE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F1DAB-4656-49AD-BE03-CDEA07D5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C81B8-2A90-4374-8434-DE065CE8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98210-1B3A-4400-8823-F73705E6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430E4-DBA7-461A-BA5D-94453FDC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CD3DF-3973-42B3-826C-2CDDDBCA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AC4B6-CE1B-41AF-A9C9-9C3792F1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F635A-7C7B-4BD0-8EC4-EC625A28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B322-2E1F-4561-8AA2-23605B1F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9389F-510F-4753-85CE-69DC79C1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6B520-8A33-4BBC-A435-AB7AB952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D48ED-3570-420C-A452-1C127241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4732A-02E9-4418-867C-95FA527F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0D27C-6361-46B2-94F6-93BEC38B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6FB75-118B-4A3C-BF5F-EAB61144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D5B75-2798-4A69-B617-CF51CA73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41680-03D8-4159-A29C-D7C815C9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21FA4-4717-4EF0-A1B4-F80531F1C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2A482-A1DD-418D-AFB8-C7E82965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64EB-3FFA-40A2-9272-7240F0A9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0CB74-0FC2-4EE9-A19B-2152B334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8D122-8327-4EDE-A334-0EC258D4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45093-2A14-4B49-90D8-11DEA8E8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60446-B94C-4C34-941D-F21D9F0A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B4CFA-4ADB-4E75-AD09-4B0B54F2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7C31C-BC6A-4648-8436-E57B04E6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F7634-C9E3-4FB7-8E5B-3C5CFBA0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0F794-4581-4E48-AEFB-FB15751A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18C5F-FDE6-4F9E-B4C3-4C60CD50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128B3-92B4-4454-A8AC-473DB0AA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B020-C413-4F32-9784-584F37DB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A6C80-D89E-43A5-B68E-35E279B3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8EC5-4208-4502-9887-C79AB504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CD96-B2FC-4B52-8476-22C2F1DC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D050-0EB6-4F5F-8459-424DC835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2D0C-40D4-49D5-A330-0AF502255046}" type="datetime3"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F961-93B5-40F5-8B89-BDB99A152713}" type="slidenum"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B253-7A18-4975-B14C-B151C656EA24}" type="datetime3"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5B63-EF12-41E3-B479-564FE85E6AD8}" type="slidenum"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BDC4-C605-4C91-A3AA-175C08E93467}" type="datetime3"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99E7-F295-4EE3-A266-DCE3049F5DCD}" type="slidenum"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09B0-EAD8-4E4A-8AFD-FA672A733855}" type="datetime3"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5506-1377-491E-87C4-83B7F1342F9B}" type="slidenum"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D8F5-7904-42C2-BA5A-0C3EA2971FA3}" type="datetime3"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2831-5930-4A3B-8397-625D71F1A290}" type="slidenum"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isau.gov.mz/pt/content/downloa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666666"/>
                </a:solidFill>
                <a:latin typeface="Times New Roman"/>
              </a:rPr>
              <a:t>INDICADORES DE UTILIZAÇÃO DE CUIDADOS DE SAÚDE - TAXAS DE COBERTUR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ffff"/>
                </a:solidFill>
                <a:latin typeface="Arial"/>
              </a:rPr>
              <a:t>TEMA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4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FAC6-8E4A-476A-8431-1E0B6A7FCA57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30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0C14-8331-4258-9715-C35449BAAA11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666666"/>
                </a:solidFill>
                <a:latin typeface="Arial"/>
              </a:rPr>
              <a:t>BIBLOGRAFIA</a:t>
            </a:r>
            <a:br>
              <a:rPr sz="3600"/>
            </a:b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8" name="Footer Placeholder 5"/>
          <p:cNvSpPr/>
          <p:nvPr/>
        </p:nvSpPr>
        <p:spPr>
          <a:xfrm>
            <a:off x="2484360" y="62373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C431-15A2-4A46-AE8B-40A1918BF9A2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14200" y="1213920"/>
            <a:ext cx="871560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BARRETO, Avertino Teotónio, TABARD, Philipe. </a:t>
            </a:r>
            <a:r>
              <a:rPr b="0" i="1" lang="pt-PT" sz="2600" spc="-1" strike="noStrike">
                <a:solidFill>
                  <a:srgbClr val="000000"/>
                </a:solidFill>
                <a:latin typeface="Times New Roman"/>
              </a:rPr>
              <a:t>Manual de vigilância epidemiológica.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1ªedicao, Ministério de saúde, Maputo, 1996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en-ZA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ZA" sz="2600" spc="-1" strike="noStrike" u="sng">
                <a:solidFill>
                  <a:srgbClr val="17bbfd"/>
                </a:solidFill>
                <a:uFillTx/>
                <a:latin typeface="Times New Roman"/>
                <a:hlinkClick r:id="rId1"/>
              </a:rPr>
              <a:t>WWW.misau.gov.mz/pt/content/downloa</a:t>
            </a:r>
            <a:r>
              <a:rPr b="0" lang="en-ZA" sz="2600" spc="-1" strike="noStrike">
                <a:solidFill>
                  <a:srgbClr val="000000"/>
                </a:solidFill>
                <a:latin typeface="Times New Roman"/>
              </a:rPr>
              <a:t>. Manual de procedimento Para o sistema d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e informação de saúde. Captado em 17/02/2012.</a:t>
            </a:r>
            <a:r>
              <a:rPr b="0" lang="en-Z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Z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3BC4-5A19-4F29-BDDA-E4226D8A1A04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30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66666"/>
                </a:solidFill>
                <a:latin typeface="Arial"/>
              </a:rPr>
              <a:t>FIM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3" name="Footer Placeholder 5"/>
          <p:cNvSpPr/>
          <p:nvPr/>
        </p:nvSpPr>
        <p:spPr>
          <a:xfrm>
            <a:off x="2484360" y="61657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642B-8477-4DCD-B40B-42E8CD09FB24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Times New Roman"/>
              </a:rPr>
              <a:t>MUITO OBRIG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17AD-404C-4C21-87C0-9826FE306FA0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30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786880" cy="1500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666666"/>
                </a:solidFill>
                <a:latin typeface="Arial"/>
              </a:rPr>
              <a:t>Cobertura do grupo etário 0-11 meses</a:t>
            </a:r>
            <a:br>
              <a:rPr sz="3600"/>
            </a:b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8" name="Footer Placeholder 5"/>
          <p:cNvSpPr/>
          <p:nvPr/>
        </p:nvSpPr>
        <p:spPr>
          <a:xfrm>
            <a:off x="2484360" y="61657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9567-64D1-4CBA-8DA0-B99F939C1B30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42920" y="571680"/>
            <a:ext cx="8858160" cy="54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O grupo etário 0-11 meses representa 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4%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da população total, a fonte destes dados é o impresso SIS-AO3A e este indicador calcula-se da seguinte for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C.C. 0-11 meses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__  </a:t>
            </a:r>
            <a:r>
              <a:rPr b="0" lang="pt-PT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ses administradas (</a:t>
            </a:r>
            <a:r>
              <a:rPr b="1" lang="pt-PT" sz="2800" spc="-1" strike="noStrike" u="sng">
                <a:solidFill>
                  <a:srgbClr val="000000"/>
                </a:solidFill>
                <a:uFillTx/>
                <a:latin typeface="Times New Roman"/>
              </a:rPr>
              <a:t>1ª</a:t>
            </a:r>
            <a:r>
              <a:rPr b="0" lang="pt-PT" sz="2800" spc="-1" strike="noStrike" u="sng">
                <a:solidFill>
                  <a:srgbClr val="000000"/>
                </a:solidFill>
                <a:uFillTx/>
                <a:latin typeface="Times New Roman"/>
              </a:rPr>
              <a:t>s doses) 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X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__           Grupo alvo prev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Quanto maior for a cobertura na população-alvo, menor será o número de casos previstos da doença-alvo respec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662B-47C3-4E16-ACB8-A2C4FC4FF2AE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30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715600" cy="14288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66666"/>
                </a:solidFill>
                <a:latin typeface="Arial"/>
              </a:rPr>
              <a:t>CONT.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3" name="Footer Placeholder 5"/>
          <p:cNvSpPr/>
          <p:nvPr/>
        </p:nvSpPr>
        <p:spPr>
          <a:xfrm>
            <a:off x="2556000" y="61657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04FB-0726-4E99-9B30-A4EB90438AAD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85840" y="691920"/>
            <a:ext cx="8858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Acima de um certo nível de cobertura, para além da protecção individual, a vacina consegue também bloquear a transmissão da doença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Não é necessário pois alcançar </a:t>
            </a: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100%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de cobertura para que isso aconteça: por exemplo, para sarampo, a transmissão cessa entre </a:t>
            </a: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80-85%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de cobertura em zonas rurais (baixa densidade populacional) e </a:t>
            </a: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90-95%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em zonas urbanas (alta densidade populacional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C515-3D3D-4645-B09A-D9EAB174627E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30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000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66666"/>
                </a:solidFill>
                <a:latin typeface="Arial"/>
              </a:rPr>
              <a:t>COBERTURA REAL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8" name="Footer Placeholder 5"/>
          <p:cNvSpPr/>
          <p:nvPr/>
        </p:nvSpPr>
        <p:spPr>
          <a:xfrm>
            <a:off x="2411280" y="62373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C5E5-9451-4479-A7E6-41093C758451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42920" y="642960"/>
            <a:ext cx="885816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mes New Roman"/>
              </a:rPr>
              <a:t>Ao longo de monitorização do andamento do PAV, é importante diferenciar uma cobertura “cumulativa” duma “real”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mes New Roman"/>
              </a:rPr>
              <a:t>Na cobertura “real” ao longo do ano, o denominador (grupo alvo) deve sempre reflectir o período do ano a que o cálculo se refere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mes New Roman"/>
              </a:rPr>
              <a:t>É normal que as coberturas sejam mais altas nas áreas urbanas que áreas rurai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6617-D944-45C7-ABBE-B266B0882B0F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30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1571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66666"/>
                </a:solidFill>
                <a:latin typeface="Arial"/>
              </a:rPr>
              <a:t>CONT.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3" name="Footer Placeholder 5"/>
          <p:cNvSpPr/>
          <p:nvPr/>
        </p:nvSpPr>
        <p:spPr>
          <a:xfrm>
            <a:off x="2484360" y="61657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5E24-7FDB-4696-9B77-2A83311C807A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14200" y="857160"/>
            <a:ext cx="87156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Altas coberturas deveriam também ser alcançadas à volta (raio de 5-10 km) de postos fixos de vacinação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As coberturas são importantes se a qualidade da vacina estiver assegura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D92D-64E7-4701-BEFF-9E56183DAAE9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30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71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66666"/>
                </a:solidFill>
                <a:latin typeface="Arial"/>
              </a:rPr>
              <a:t>CONT.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8" name="Footer Placeholder 5"/>
          <p:cNvSpPr/>
          <p:nvPr/>
        </p:nvSpPr>
        <p:spPr>
          <a:xfrm>
            <a:off x="2484360" y="62373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EDE3-618E-453E-BF17-3DECC373AD06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42920" y="714240"/>
            <a:ext cx="8858160" cy="55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A cobertura num Distrito não pode ser uniforme, devido a influência de vários factores (densidade populacional, presença ou não de postos fixos, distância da sede, se a área é servida por brigada móvel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O nível provincial atribui as metas distritais no seu todo, mas cabe ao responsável do PAV – em conjunto com o resto da equipe de saúde – redistribuir as metas (coberturas a alcançar) pelas diferentes subáreas do distrito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5985-B427-4652-B7FD-AE09B3A924CD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30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786880" cy="500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66666"/>
                </a:solidFill>
                <a:latin typeface="Arial"/>
              </a:rPr>
              <a:t>CONT.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3" name="Footer Placeholder 5"/>
          <p:cNvSpPr/>
          <p:nvPr/>
        </p:nvSpPr>
        <p:spPr>
          <a:xfrm>
            <a:off x="2411280" y="62373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C771-7B26-4AFB-BC66-453F8C2870CF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14200" y="642960"/>
            <a:ext cx="871560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As coberturas às quais nos referimos são habitualmente administrativas, isto é, resultam dos registos de actividades. Como tal, estão sujeitas a alguns problemas tais com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Dependem de dados demográficos fidedignos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Dependem da qualidade de registo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Infelizmente podem ser falsificad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3505-6255-4306-883E-F64237C84413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30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14288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666666"/>
                </a:solidFill>
                <a:latin typeface="Arial"/>
              </a:rPr>
              <a:t>Cobertura de consultas pré-natais</a:t>
            </a:r>
            <a:br>
              <a:rPr sz="4000"/>
            </a:b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8" name="Footer Placeholder 5"/>
          <p:cNvSpPr/>
          <p:nvPr/>
        </p:nvSpPr>
        <p:spPr>
          <a:xfrm>
            <a:off x="2484360" y="62373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C9A5-904D-49B6-9260-3EE4C7EF088F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57120" y="764640"/>
            <a:ext cx="87868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Indica o número de grávidas captadas pelo controle pré-natal. As grávidas esperadas são 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5%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da população tot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A fonte deste indicador é o impresso SIS-BO8 e calcula-se da seguinte for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C. C.Pré-natais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---   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Nº de primeiras consultas pré-natais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 X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---              Nº de grávidas espe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A cobertura de consultas pré-natais tem de ser a mais alta possí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A568-55C7-4677-8035-FC7F9A3A4358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30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858160" cy="15825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666666"/>
                </a:solidFill>
                <a:latin typeface="Arial"/>
              </a:rPr>
              <a:t>Frequência de atendimento na consulta pré-natal.</a:t>
            </a:r>
            <a:br>
              <a:rPr sz="3600"/>
            </a:b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3" name="Footer Placeholder 5"/>
          <p:cNvSpPr/>
          <p:nvPr/>
        </p:nvSpPr>
        <p:spPr>
          <a:xfrm>
            <a:off x="2340000" y="61657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A8E1-CA69-4216-87F1-8EB7A5542D5E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42920" y="1213920"/>
            <a:ext cx="88581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É uma razão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. Mede quantas vezes em média uma grávida é vista ao longo do controle pré-natal, antes de chegar ao parto. A fonte deste indicador é o impresso SIS-BO8, e a fórmula é a seguin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FCPN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    ----  </a:t>
            </a:r>
            <a:r>
              <a:rPr b="0" lang="pt-PT" sz="2600" spc="-1" strike="noStrike" u="sng">
                <a:solidFill>
                  <a:srgbClr val="000000"/>
                </a:solidFill>
                <a:uFillTx/>
                <a:latin typeface="Times New Roman"/>
              </a:rPr>
              <a:t>Nº total de consultas pré-na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----   Nº de primeiras consult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É um indicador de qualidade da consulta pré-natal, ou melhor, da sua eficácia potencial. Para ser eficaz um controle pré-natal tem que ocorrer no mínimo </a:t>
            </a: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três vezes/gravidez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BC1F-6EF5-44B9-91BE-A9E234221615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30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8:59:41Z</dcterms:created>
  <dc:creator>User</dc:creator>
  <dc:description/>
  <dc:language>en-US</dc:language>
  <cp:lastModifiedBy>User</cp:lastModifiedBy>
  <dcterms:modified xsi:type="dcterms:W3CDTF">2012-02-28T05:33:29Z</dcterms:modified>
  <cp:revision>31</cp:revision>
  <dc:subject/>
  <dc:title>TEMA</dc:title>
</cp:coreProperties>
</file>