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F53C-58F0-433F-A1CF-203A2C00D4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FEE4-EE43-4F5B-9B80-53144B3FA7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BF10-546A-4515-A209-4C138228522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48C2-15A5-42C6-B673-015FFBCE3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5296-CD10-4A99-BCE4-80D1A5D71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FB68-2500-423D-8390-F9952E907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A894-A5B3-4AE9-8DB7-070E62279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510E-8459-46BF-BF82-00E003D11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B023-9023-4A34-82AD-C9DDD7657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30EF-416C-4731-9051-3D5383C89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03AF-0F8A-456E-B0FD-DA9F52F9D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FB7B-094E-4193-8DAF-89839E979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BCF5-AE71-4563-96FF-109C8D2A7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B83F-1BAA-48A8-82FD-A101F1528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A35A-7861-4F74-A0BE-9BCF6B905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DB80-66C5-48EB-B4DE-53B5BF30DD7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413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1557360"/>
            <a:ext cx="62661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4005360"/>
            <a:ext cx="770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s Fob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FD30-3294-40F4-BB8A-A38ACD75079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2" descr="http://t1.gstatic.com/images?q=tbn:ANd9GcTPhETCWyW1QdBD01fgBn-b2wkawOd0ksEQHhMGlUqPnGN1zX2KLw"/>
          <p:cNvPicPr/>
          <p:nvPr/>
        </p:nvPicPr>
        <p:blipFill>
          <a:blip r:embed="rId1"/>
          <a:stretch/>
        </p:blipFill>
        <p:spPr>
          <a:xfrm>
            <a:off x="2484360" y="1268280"/>
            <a:ext cx="48783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Fobia Soci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1143000"/>
            <a:ext cx="801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é realizado com medicação e psicoterapia cognitivo-comportamental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dicação ajudará na diminuição da ansie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icoterapia capacita o paciente a desenvolver habilidades sociais e como enfrentar as situações sociais, levando a modificação da avaliação das mesmas, tornando-as menos ameaçadoras e, portanto, diminuindo a ansiedade em situações semelhantes no futur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CB35-D69B-4F2F-9C69-8DB42E0EBCE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Fobia Específ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360" y="1143000"/>
            <a:ext cx="815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é realizado com medicação e psicoterapia cognitivo-comportamental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dicação ajudará na diminuição da ansie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erapia comportamental é o tipo de intervenção psicológica que tem demonstrado maior eficácia no tratamento de todos os tipos de fobias, capacitando o paciente a enfrentar e diminuir o medo principalmente através de técnicas baseadas na exposição gradual e sistemática ao objeto temid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08ED-BAB7-4207-95A6-EF6811AB3E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360" y="907920"/>
            <a:ext cx="815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que haja mudança do comportamento de esquiva é necessário que o terapeuta elabore um plano de tratamento a partir da análise funcional do comportament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erapeuta baseado numa entrevista detalhada deverá identificar os estímulos que antecedem e, portanto, desencadeiam o comportamento patológico e as prováveis conseqüências que o mantê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lquer estímulo pode desencadear uma avaliação inicial de perigo, principalmente, as sensações corporais e suas conseqüências, normalmente estão relacionadas à diminuição da ansiedade e seus sintomas fís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E6E6-B09E-4FA4-9DD8-D18C6255B44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5640" y="1413000"/>
            <a:ext cx="80834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écnica comportamental mais utilizada no tratamento do pânico é a exposição. Esta técnica consiste em ensinar o paciente a enfrentar as situações temidas, lidar com os sintomas físicos causados pela ansiedade durante um ataque de pânico e comportar-se diferentemente diante destas situações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pera-se uma redução da resposta de ansiedade quando o indivíduo entra em contato várias vezes com o estímulo que lhe causa o medo e os respectivos sintomas desagradáveis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DAB4-137D-48D7-95E7-E5CEA28DC71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26920" y="1268280"/>
            <a:ext cx="80949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fronto sistemático do paciente com o estímulo do pânico faz com que este desconfirme a idéia de uma conseqüência negativa, promovendo a redução do seu desconforto e a segurança para parar de evitar as situa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erapeuta deve orientar o paciente a se expor progressivamente aos estímul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necessário que o paciente esteja em estado de relaxamento durante os exercícios de exposição. Neste caso, o terapeuta deverá ensinar o paciente a relax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8267-2FF8-416E-9344-048271B3EA5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5640" y="1143000"/>
            <a:ext cx="808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o paciente aprenda a respiração abdominal, que contribui no relaxamento e, consequentemente, na diminuição da ansiedade e seus sintomas fís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tratamentos de exposição funcionam por permitirem aos pacientes experimentarem a situação temida e, desse modo, perceber que seus temores são infund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iniciado o tratamento, é importante que se faça uma monitoração contínua dos exercícios de exposição para verificar os progressos obti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EEE2-83DF-4959-8593-1EB23F185E5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640" y="1143000"/>
            <a:ext cx="808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 o acompanhamento o terapeuta deverá identificar as variáveis que estão interferindo no sucesso do tratamento e que podem estar relacionadas com as dificuldades ou resistências do pacient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procedimento mais comum de monitoração é o diário, onde o paciente registra as situações de exposição, as sensações experimentadas e atribui uma nota para sua ansieda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D62B-049E-404A-BDFB-EC69996F8E0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Obsessivo Compulsivo (TOC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55640" y="1773000"/>
            <a:ext cx="80834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comportamental tem como ingredientes fundamentais a exposição às obsessões e a prevenção dos ritua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ão é indicado o uso de ansiolíticos, álcool e barbitúricos concomitante ao tratamento comportamental, pois estes interferem com o processo de habituação, objetivo principal da terap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230D-F621-4B79-8B97-8E34F985B7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 Transtorno de Estresse Pós-Traumático (TEPT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360" y="1341000"/>
            <a:ext cx="8154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do TEPT com melhores resultados é a associação entre medicação e psicoterapia cognitivo-comporta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dicação vai ajudar a diminuir a ansiedade e a psicoterapia vai ensinar o paciente a lidar com os sintomas decorrentes do quadro, como por exemplo: pesadelos, flashbacks, esquiva, além de capacitá-lo a como se expor às situações ou lembranças traumáticas porventura evit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a ocorrência dos sintomas apresentados acima, perdurarem por duas a quatro semanas o diagnóstico é de Transtorno de Estresse Agudo e, portanto, desaparecendo após certo períod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E77D-74EE-40C7-8272-2B323367F8D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para os 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os quadros de demência mais frequent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206C-C882-4658-80FC-394B6F64172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transtornos de ansie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624-A424-42B2-8894-B77A1D4696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s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BF36-64F0-4EFB-81F5-9C64C5E83E8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http://loucosporciencia.com.br/blog/imagens/fobiab.jpg"/>
          <p:cNvPicPr/>
          <p:nvPr/>
        </p:nvPicPr>
        <p:blipFill>
          <a:blip r:embed="rId1"/>
          <a:stretch/>
        </p:blipFill>
        <p:spPr>
          <a:xfrm>
            <a:off x="2484360" y="1268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s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1125000"/>
            <a:ext cx="82803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No tratamento medicamentoso, geralmente são prescritos antidepressivos e benzodiazepíncos (calmantes/ansiolíticos), quando o psiquiatra ou o clínico julga necessário usá-l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depressivos são as drogas de escolha para o tratamento dos transtornos ansiosos. Inibidores Seletivos da Recaptação da Serotonina (ISRS) e os tricíclicos são os mais utiliz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siolíticos como os benzodiazepínicos devem ser prescritos com cautela, pois medicamentos dessa classe podem causar distúrbios da memória e levar à dependência fís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404E-71F1-45CC-979F-C13761E8CD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ixaDeTexto 6"/>
          <p:cNvSpPr/>
          <p:nvPr/>
        </p:nvSpPr>
        <p:spPr>
          <a:xfrm>
            <a:off x="900000" y="5732640"/>
            <a:ext cx="7848720" cy="6426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ses aspectos do tratamento medicamentoso são válidos para todos os transtornos de ansieda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s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AB6C-0E1F-4930-960C-60F89F70456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2" descr="http://t1.gstatic.com/images?q=tbn:ANd9GcS4WmqySRZnrWWu9uNiR7XURIhWYasayqdQACZ776H0S7N2rkcd8A"/>
          <p:cNvPicPr/>
          <p:nvPr/>
        </p:nvPicPr>
        <p:blipFill>
          <a:blip r:embed="rId1"/>
          <a:stretch/>
        </p:blipFill>
        <p:spPr>
          <a:xfrm>
            <a:off x="2195640" y="1197000"/>
            <a:ext cx="4824360" cy="2421000"/>
          </a:xfrm>
          <a:prstGeom prst="rect">
            <a:avLst/>
          </a:prstGeom>
          <a:ln w="0">
            <a:noFill/>
          </a:ln>
        </p:spPr>
      </p:pic>
      <p:sp>
        <p:nvSpPr>
          <p:cNvPr id="120" name="CaixaDeTexto 6"/>
          <p:cNvSpPr/>
          <p:nvPr/>
        </p:nvSpPr>
        <p:spPr>
          <a:xfrm>
            <a:off x="324000" y="3429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esar do forte controle na venda de calmantes, sabe-se que boa parte das mulheres faz uso por conta própria, problema que ocorre no mundo inteir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mulher está mais vulnerável aos transtornos de ansiedade devido a sobrecargas, como: cuidado dos filhos, do esposo, do lar, trabalho fora de casa e as graves; a violência e a desigualdade de gêne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Tratamento do</a:t>
            </a: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Transtorno de Ansiedade Generalizado (TAG)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5640" y="1125360"/>
            <a:ext cx="808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Há várias formas de tratamentos para o TAG, algumas com evidência científica definida e outras n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ra a ansiedade leve usam-se técnicas de relaxamento, yoga, acupuntura, caminhada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ra a ansiedade patológica pode ser necessário o uso de medic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59BA-B49E-4404-8FB5-D3D70E9C15F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http://t1.gstatic.com/images?q=tbn:ANd9GcQUPbX2jUpUO2B_x2WQpwLaOotWCzZx0cClhbkLHDjN2mfj9lHELA"/>
          <p:cNvPicPr/>
          <p:nvPr/>
        </p:nvPicPr>
        <p:blipFill>
          <a:blip r:embed="rId1"/>
          <a:stretch/>
        </p:blipFill>
        <p:spPr>
          <a:xfrm>
            <a:off x="3780000" y="3844800"/>
            <a:ext cx="2520720" cy="250992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7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 de Ansiedade Generalizado (TAG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1052640"/>
            <a:ext cx="808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Na psicoterapia é fundamental saber a origem da ansiedade e como lidar com a mesma; a associação medicação + psicoterapia tem ótimos result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aioria dos utentes experimenta uma acentuada redução da ansiedade quando lhes é oferecida a oportunidade de discutir suas dificuldades com um profissional experien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udança de hábitos de vida: exercícios físicos, acupuntura, yoga, otimização dos horários de trabalho, higiene do sono, criação de "áreas de lazer" no cronograma semanal são fundamentais para auxiliar o indivíduo a ficar menos ansioso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E3AE-F393-4023-961E-94E29A21703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 de Ansiedade Generalizado (TAG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1484280"/>
            <a:ext cx="8083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medicação ajudará na diminuição da ansieda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psicoterapia ajudará a pessoa a identificar os sintomas de ansiedade associados à preocupação excessiva, praticar técnicas para controlá-los e auxiliar no desenvolvimento de habilidades e capacidades para enfrentar e lidar melhor com os estressores da vid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A430-9DA5-4AC7-8336-D4AB6BD2E93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8:00:55Z</dcterms:created>
  <dc:creator>Escolastica</dc:creator>
  <dc:description/>
  <dc:language>en-US</dc:language>
  <cp:lastModifiedBy>Mendoza</cp:lastModifiedBy>
  <dcterms:modified xsi:type="dcterms:W3CDTF">2012-02-02T09:34:53Z</dcterms:modified>
  <cp:revision>7</cp:revision>
  <dc:subject/>
  <dc:title>Tratamento dos Transtornos de Ansiedade</dc:title>
</cp:coreProperties>
</file>