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817A-A382-4CAB-86F9-904AA55474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1D14-5873-4243-BE6A-BE7F848153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15E6-1723-4E77-8E30-FBC284FB5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FEC0-5E84-44E4-8E28-3AC0AF93F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03D7-0BC1-4BD1-BF7F-29A2FF532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B86B-404D-465A-AB96-A2264DC61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785C-4565-4248-915E-AB1449297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E8CC-7FBF-4353-8BEA-9FC59AB51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9191-780A-4E67-B2B0-34D1F4A4F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A060-EECB-4F24-B1AF-FE327EC3A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0497-E841-4605-828A-76A684159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0CF32-2DC3-420F-A222-C8E096C2F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3B5E-30CC-4336-B2A3-C66202EB7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9420-CC12-4239-88EE-36B2F1A13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D5C5-6A56-494F-83A9-5437391F267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55736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fobia&amp;um=1&amp;hl=pt-BR&amp;rlz=1R2RNQN_pt-BRBR458&amp;biw=1024&amp;bih=302&amp;tbm=isch&amp;tbnid=B9IPDE9PPnh46M:&amp;imgrefurl=http://fobias-ap.freehostia.com/projecto/tratamentos2.htm&amp;docid=r-1gtNwEgH6SIM&amp;imgurl=http://www.farofananeve.blogger.com.br/grito.gif&amp;w=384&amp;h=343&amp;ei=IBnlTqntIoqWtweQrszrAw&amp;zoo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fobia&amp;um=1&amp;hl=pt-BR&amp;rlz=1R2RNQN_pt-BRBR458&amp;biw=1024&amp;bih=302&amp;tbm=isch&amp;tbnid=WxkZJirYeV4QuM:&amp;imgrefurl=http://www.poderdasmaos.com/site/?p=Fobia_(e_Ansiedade)_Social04142&amp;docid=idD-djcaQFwB4M&amp;imgurl=http://www.poderdasmaos.com/site/pub/bancoimg/bancodeimagens/Depress&#227;o/voltando-a-ter-crises-de-fobia-social-2112762-770[1].jpg&amp;w=570&amp;h=570&amp;ei=IBnlTqntIoqWtweQrszrAw&amp;zoom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8920" y="170028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o humor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ania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4149720"/>
            <a:ext cx="770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 endóge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00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É de origem interna, indefinida. Embora o primeiro episódio possa se dar após alguma perda ou crise, os outros geralmente não apresentam causas observáve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ralmente é uma forma grave de depressão, apresentando grande risco de suicídio (10 a 15% dos casos)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gamente era chamada de depressão psicótic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sponde melhor a tratamento medicamentos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FF71-59EF-4704-94C5-0351525D264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pressão psicogên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em suas causas mais facilmente localizadas na história de vida do indivíduo, que apresenta fatos que o levaram aos sintomas. Tanto que já foi chamada de depressão reativa ou situacion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sintomas são menos graves que na depressão endógena, e o risco de suicídio, embora existente, é menor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esponde melhor à psicoterapia do que ao tratamento medicamentos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3934-DF4A-409B-815D-EBC5F59E42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pressão somatogên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1844280"/>
            <a:ext cx="83822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É aquela causada por algum fator de alteração principalmente orgânico, com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uso de algumas medicações: alguns tipos de anti-hipertensivos, anti-inflamatórios e contraceptivos orai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terrupção do uso de psicoestimul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7AA1-E635-4417-A64A-E7BF7348D87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716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BA68-228C-4DF1-BAE1-4C887B2C5B4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Espaço Reservado para Imagem 7" descr="http://t3.gstatic.com/images?q=tbn:ANd9GcQp74rlMgYnoWwbjL-GcyZ0iE0ydZSqiG-n1VU1P1FPqiNHMoXe">
            <a:hlinkClick r:id="rId1"/>
          </p:cNvPr>
          <p:cNvPicPr/>
          <p:nvPr/>
        </p:nvPicPr>
        <p:blipFill>
          <a:blip r:embed="rId2"/>
          <a:srcRect l="0" t="7898" r="0" b="789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episódios de mania caracterizam-se como o oposto da depress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ndivíduo apresenta ritmo acelerado, fala muito e alto, troca constantemente de assunto (fuga de idéias), movimenta-se amplamente, tem muita energia, tanto que, muitas vezes não consegue dormir (hiperatividade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stra-se eufórico, com auto-estima exagerada (achando que pode tudo), a sexualidade também pode estar exacerbada, gosta de atrair aten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acha que tenha problema algum, o que muitas vezes prejudica a aceitação do trat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C2F-02F4-444E-AAD5-58159683B9E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Às vezes, evolui para um episódio claramente psicótico e a pessoa passa a apresentar delírios, alucinações e comportamento estranh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na depressão, também há uma variedade de graus de gravidade, sendo o mais leve a chamada hipomania, caracterizada por euforia, hiperatividade e desinibição mais leve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FFE0-B5D0-4709-9DA6-B8A39665C8A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07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F0FA-E99F-4F48-BFB6-69816B75813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Espaço Reservado para Imagem 7" descr="http://t3.gstatic.com/images?q=tbn:ANd9GcQp74rlMgYnoWwbjL-GcyZ0iE0ydZSqiG-n1VU1P1FPqiNHMoXe"/>
          <p:cNvPicPr/>
          <p:nvPr/>
        </p:nvPicPr>
        <p:blipFill>
          <a:blip r:embed="rId1"/>
          <a:srcRect l="0" t="7898" r="0" b="7898"/>
          <a:stretch/>
        </p:blipFill>
        <p:spPr>
          <a:xfrm>
            <a:off x="1619280" y="1341360"/>
            <a:ext cx="3902040" cy="3456000"/>
          </a:xfrm>
          <a:prstGeom prst="rect">
            <a:avLst/>
          </a:prstGeom>
          <a:ln w="0">
            <a:noFill/>
          </a:ln>
        </p:spPr>
      </p:pic>
      <p:pic>
        <p:nvPicPr>
          <p:cNvPr id="155" name="Espaço Reservado para Imagem 7" descr="http://t1.gstatic.com/images?q=tbn:ANd9GcTrUDZdlGI5xN2m_SE8yFQP9q3MPAoBb3S8XxEruwq78N3wkgIipA"/>
          <p:cNvPicPr/>
          <p:nvPr/>
        </p:nvPicPr>
        <p:blipFill>
          <a:blip r:embed="rId2"/>
          <a:srcRect l="0" t="12498" r="0" b="12498"/>
          <a:stretch/>
        </p:blipFill>
        <p:spPr>
          <a:xfrm>
            <a:off x="4211640" y="1341360"/>
            <a:ext cx="360036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000" y="1628640"/>
            <a:ext cx="838188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essoa com transtorno bipolar geralmente apresenta uma variação de estados de humor, ora apresentando mania, ora apresentando depress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ssas variações podem se dar em intervalos de dias, semanas ou meses, e é comum falarmos em “fase de mania” e “fase depressiva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71C3-A644-45F2-B5AF-9BB7B127FA8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a verdade, uma pessoa muito raramente apresenta apenas mania, como descrito no item anterior, o mais comum é que ela intercale episódios maníacos com episódios depressiv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nstorno bipolar também pode se apresentar de forma mais grave ou mais leve, quando é chamado de ciclotim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F81E-CB07-40B5-95B8-386A81CF02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628640"/>
            <a:ext cx="83822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nstorno bipolar afeta homens e mulheres igualment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em início, geralmente, entre os 15 e 25 an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causa exata ainda é desconhecida, mas ocorre com mais frequência em familiares de pessoas com transtorno bipol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3BF5-A01A-4BB7-9E5E-34F7C756FB7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o hum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Depressã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Man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Transtorno bipol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D8F9-2F9A-4774-8AC1-857661CF2C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a a maioria das pessoas com transtorno bipolar, não existe uma causa evidente para os episódios maníacos ou depressivos, contudo fatores podem desencadear um episódio maníaco nas pessoas vulneráveis à doença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danças na vida, como o nascimento de um bebê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dicamentos, como antidepressivos ou esteróide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íodos de insôn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de drogas recreativ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DE23-4273-40B6-B353-7DB8058016F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fase manía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1268280"/>
            <a:ext cx="424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itação ou irrita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to-estima exagerada (ilusões de grandeza, de habilidades especiai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dução do son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umor visivelmente elevad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peratividade, aumento de energia, falta de autocontrole, pensamentos aceler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716000" y="1268280"/>
            <a:ext cx="42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nvolvimento excessivo em activ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uco controle do temper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portamento imprud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pulsão alimentar, por álcool, outras drogas, sexo; incapacidade de tomar decisões consciente; e gastos excess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4A7-7D97-43F5-9488-440C9D889FF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fase depress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ânimo diário, com dificuldade de lembrar, concentrar, e tomar decis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ranstornos alimentares: perda de apetite e de peso; ou comer em excesso e ganho de pe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diga ou apatia, sentir-se inútil, sem esperança e/ou culp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723920" y="1143000"/>
            <a:ext cx="424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auto-estim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isteza constan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nsamentos recorrentes sobre morte e suicídi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onolência excessiva ou insôn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de interesse nas atividades que antes eram prazeros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astamento dos amig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D563-229B-4014-A492-9AFC20D800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risco de tentativas de suicídio em pessoas com transtorno bipolar é muito elevado. Em qualquer uma das fases, os pacientes podem abusar do álcool ou de outras substâncias, piorando os sintoma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m alguns casos, ocorre uma sobreposição entre as duas fases. Os sintomas maníacos e depressivos podem ocorrer juntos ou rapidamente um após o outro. Isso recebe o nome de estado mist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4E15-E49E-4A5E-8619-BCCB68BF2A5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itar os principais transtornos de hum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star os principais sinais e sintomas desses transtorn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em que consiste a depressão, a mania e o transtorno bipo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F558-FC28-4BF8-B87D-F1BC8DC06E0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250920" y="2708280"/>
            <a:ext cx="2160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do hum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98100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eralmente oscilamos entre um estado de ânimo mais elevado (elação) e um mais baix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em nunca acordou indisposto para uma atividade, ou nunca se sentiu “eufórico” com alguma boa notícia? No entanto, isso não costuma prejudicar as atividades diár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o indivíduo se fixa em uma destas polaridades ou varia entre elas intensamente, a prejudicar sua vida habitual, pode-se pensar em transtornos do hum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também chamados de transtornos afetivos, pois se caracterizam por dificuldades na área do afeto, principalmente, que é a capacidade de vivenciar internamente os senti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F2A1-5E68-48AE-9D5A-586FAF4AEFE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716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3855-CB30-430A-88EE-690806F708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Espaço Reservado para Imagem 7" descr="http://t1.gstatic.com/images?q=tbn:ANd9GcTrUDZdlGI5xN2m_SE8yFQP9q3MPAoBb3S8XxEruwq78N3wkgIipA">
            <a:hlinkClick r:id="rId1"/>
          </p:cNvPr>
          <p:cNvPicPr/>
          <p:nvPr/>
        </p:nvPicPr>
        <p:blipFill>
          <a:blip r:embed="rId2"/>
          <a:srcRect l="0" t="12498" r="0" b="1249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possível que a depressão seja devido a variações na responsividade dos circuitos neurais (Berke e Hyman, 2000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epressão não é o mesmo que “baixo astral”, por mais que esteja incluída na gíria como “fulano está na maior “deprê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contrário da tristeza comum, a depressão caracteriza-se por um estágio mais prolongado e grave de abatimento do hum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essoa com depressão apresenta tristeza patológica com perda da auto-estima, normalmente reclama de falta de ânimo, cansaço fácil e de não sentir interesse por n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D819-BDD7-4244-A960-2E067719BC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s sintomas identificados na depressão sã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centração e atenção reduzi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toconfiança reduz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éias de culpa e inut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ões desoladas e pessimistas do futur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éias ou atos autodestrutivos ou lesivos ou suicídio (dependendo da gravidade do episódi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iculdades em relação ao sono e apeti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é um transtorno muito freqüente (em torno de 20% dos pacientes em geral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DD8-E860-4808-A0BC-A7E48638B43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ode apresentar-se em diferentes graus, podendo ser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ve, moderada ou grave, mais incapacitante em alguns casos, menos incapacitante em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lgumas pessoas, embora se sentindo todo o tempo mal e deprimidas, continuam desempenhando suas atividades cotidian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Quando este humor permanece um tempo igual ou superior a dois anos, denomina-se distim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8CAF-91C5-45ED-AE5D-21D2DF85B2A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Quanto à causa, a depressão pode ser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7247-841C-4EA4-A833-F93236DF0B8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lipse 5"/>
          <p:cNvSpPr/>
          <p:nvPr/>
        </p:nvSpPr>
        <p:spPr>
          <a:xfrm>
            <a:off x="900000" y="2492280"/>
            <a:ext cx="3456000" cy="1728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óg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lipse 6"/>
          <p:cNvSpPr/>
          <p:nvPr/>
        </p:nvSpPr>
        <p:spPr>
          <a:xfrm>
            <a:off x="2843280" y="4437000"/>
            <a:ext cx="3457440" cy="1728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omatogên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lipse 7"/>
          <p:cNvSpPr/>
          <p:nvPr/>
        </p:nvSpPr>
        <p:spPr>
          <a:xfrm>
            <a:off x="5003640" y="2492280"/>
            <a:ext cx="3456000" cy="1728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sicogên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9:54:47Z</dcterms:created>
  <dc:creator>Escolastica</dc:creator>
  <dc:description/>
  <dc:language>en-US</dc:language>
  <cp:lastModifiedBy>Mendoza</cp:lastModifiedBy>
  <dcterms:modified xsi:type="dcterms:W3CDTF">2012-02-02T08:17:25Z</dcterms:modified>
  <cp:revision>19</cp:revision>
  <dc:subject/>
  <dc:title>Transtornos do humor: Depressão Mania Transtorno bipolar</dc:title>
</cp:coreProperties>
</file>