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gif" ContentType="image/gif"/>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FBD6-B429-4A1D-A563-891DC74EF865}"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0275-81A6-4EA1-827C-6D564BD1F9B2}"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166DEB-D2F4-4765-8836-ABB5A2FBB9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0A816C-C17C-45DF-AEA2-CA5A1CBF48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72A629-14C2-40F7-93D2-7FC1CD13E5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4A9B28-F70C-4707-9230-7B0DCF22DB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D809CB-5F9E-4477-BB16-AC41366B98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1F406D-D6DD-44EB-893F-4DD891C20D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0A7397-8007-4296-96C1-EC5FBF4ECD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106D68-ADD3-4FDD-A7BC-BDFAA2FAA3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4CC550-F151-416E-9DEC-DCF9CC4212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893428-5776-4CDD-9B48-08D6DBD25F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24B9A7-C79C-4EA4-A42F-50314F29E4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F72015-BC46-4F0C-80F7-E577F1855A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ECC3-E8DA-43E2-8CA6-991A56D152EB}"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826920" y="170028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9528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7640" y="1773360"/>
            <a:ext cx="6266160" cy="23032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Formas de tratamento para os transtornos mentais mais frequentes:</a:t>
            </a:r>
            <a:br>
              <a:rPr sz="3200"/>
            </a:br>
            <a:r>
              <a:rPr b="1" lang="pt-PT" sz="3200" spc="-1" strike="noStrike">
                <a:solidFill>
                  <a:srgbClr val="ffffff"/>
                </a:solidFill>
                <a:latin typeface="Verdana"/>
              </a:rPr>
              <a:t>Medicamentoso e</a:t>
            </a:r>
            <a:br>
              <a:rPr sz="3200"/>
            </a:br>
            <a:r>
              <a:rPr b="1" lang="pt-PT" sz="3200" spc="-1" strike="noStrike">
                <a:solidFill>
                  <a:srgbClr val="ffffff"/>
                </a:solidFill>
                <a:latin typeface="Verdana"/>
              </a:rPr>
              <a:t>Psicossocial.</a:t>
            </a:r>
            <a:endParaRPr b="1" lang="en-US" sz="3200" spc="-1" strike="noStrike">
              <a:solidFill>
                <a:srgbClr val="ffffff"/>
              </a:solidFill>
              <a:latin typeface="Verdana"/>
            </a:endParaRPr>
          </a:p>
        </p:txBody>
      </p:sp>
      <p:sp>
        <p:nvSpPr>
          <p:cNvPr id="91" name="PlaceHolder 2"/>
          <p:cNvSpPr>
            <a:spLocks noGrp="1"/>
          </p:cNvSpPr>
          <p:nvPr>
            <p:ph type="subTitle"/>
          </p:nvPr>
        </p:nvSpPr>
        <p:spPr>
          <a:xfrm>
            <a:off x="826920" y="4292280"/>
            <a:ext cx="7777440" cy="136836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32" name=""/>
          <p:cNvSpPr txBox="1"/>
          <p:nvPr/>
        </p:nvSpPr>
        <p:spPr>
          <a:xfrm>
            <a:off x="755640" y="1197000"/>
            <a:ext cx="8166240" cy="4464000"/>
          </a:xfrm>
          <a:prstGeom prst="rect">
            <a:avLst/>
          </a:prstGeom>
          <a:noFill/>
          <a:ln w="0">
            <a:noFill/>
          </a:ln>
        </p:spPr>
        <p:txBody>
          <a:bodyPr anchor="t">
            <a:normAutofit fontScale="96000"/>
          </a:bodyPr>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gumas vezes a primeira medicação não funciona para determinado paciente. Mas isso não quer dizer que seja um caso grave. Quase sempre basta trocar de medicação.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m essa informação, a família sofre porque não consegue ajudar o paciente, que passa por diferentes especialistas, faz exames de laboratório, toma calmantes, estimulantes e vitaminas sem melhorar.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tão o familiar começa a dizer que é fita, falta de força de vontade, e dar palpites para a pessoa "se ajudar, se animar, reagir“, como se esta não soubesse de tudo isso.</a:t>
            </a:r>
            <a:endParaRPr b="1" lang="en-US" sz="2400" spc="-1" strike="noStrike">
              <a:solidFill>
                <a:srgbClr val="000066"/>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3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93FB-8734-44CB-918C-2AAA837517D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35" name="CaixaDeTexto 5"/>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37" name=""/>
          <p:cNvSpPr txBox="1"/>
          <p:nvPr/>
        </p:nvSpPr>
        <p:spPr>
          <a:xfrm>
            <a:off x="761760" y="2133360"/>
            <a:ext cx="8381880" cy="3220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pressão não é sinal de fraqueza de caráter e nem passa só com "pensamento positiv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udo, é importante a força de vontade do utente de correr atrás dos seus sonhos (objetivos), o auxílio da família, dos amigos e de um grupo de ajud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nto mais amparado o utente, melhor o processo de cur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94A8-D5F1-4A7D-8972-17FD1037B99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0" name="CaixaDeTexto 5"/>
          <p:cNvSpPr/>
          <p:nvPr/>
        </p:nvSpPr>
        <p:spPr>
          <a:xfrm rot="16200000">
            <a:off x="-1455840" y="3337560"/>
            <a:ext cx="3959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42" name=""/>
          <p:cNvSpPr txBox="1"/>
          <p:nvPr/>
        </p:nvSpPr>
        <p:spPr>
          <a:xfrm>
            <a:off x="899640" y="1844640"/>
            <a:ext cx="7877160" cy="3888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smo que a depressão seja curta, o tratamento é longo (dura meses). Quanto mais tempo o utente  tomar o antidepressivo, menor o risco de outra depressã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cisões importantes devem esperar a depressão melhorar. Os pontos de vista do utente estão pessimistas e este pode tomar decisões que não tomaria se não estivesse deprimido. </a:t>
            </a:r>
            <a:endParaRPr b="1" lang="en-US" sz="2400" spc="-1" strike="noStrike">
              <a:solidFill>
                <a:srgbClr val="000066"/>
              </a:solidFill>
              <a:latin typeface="Verdana"/>
            </a:endParaRPr>
          </a:p>
        </p:txBody>
      </p:sp>
      <p:sp>
        <p:nvSpPr>
          <p:cNvPr id="1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1380-9BB9-41CD-86E4-A5EBEFC8AF1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5" name="CaixaDeTexto 5"/>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47" name=""/>
          <p:cNvSpPr txBox="1"/>
          <p:nvPr/>
        </p:nvSpPr>
        <p:spPr>
          <a:xfrm>
            <a:off x="900000" y="1773360"/>
            <a:ext cx="7950240" cy="25732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pressão pode voltar. Existem várias possibilidades de se fazer um tratamento preventivo para evitar recaíd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 o paciente tiver recaída quando parar o antidepressivo, não quer dizer dependência, só quer dizer que ainda não era hora dessa parada. </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B7C6-4C62-4DC6-AD1A-26B1F276ECC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50" name="CaixaDeTexto 5"/>
          <p:cNvSpPr/>
          <p:nvPr/>
        </p:nvSpPr>
        <p:spPr>
          <a:xfrm rot="16200000">
            <a:off x="-145656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52" name=""/>
          <p:cNvSpPr txBox="1"/>
          <p:nvPr/>
        </p:nvSpPr>
        <p:spPr>
          <a:xfrm>
            <a:off x="899640" y="1143000"/>
            <a:ext cx="7939080" cy="5022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Além da medicação indica-se a psicoterapia, pois traços da personalidade assim como problemas actuais ou passados podem ter relação com a depressã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Existem várias técnicas de Psicoterapia e algumas são mais indicadas que outras, mas no tratamento da depressão a medicação tem priorida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A Psicoterapia pode esperar um pouco para começar, mas a medicação nã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Pesquisas revelam que quanto mais rápido começar o tratamento medicamentoso maior é a chance de não se ter recaídas mais tar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05ED-30FD-4EA1-A19E-4C604AA58FF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55" name="CaixaDeTexto 5"/>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57" name=""/>
          <p:cNvSpPr txBox="1"/>
          <p:nvPr/>
        </p:nvSpPr>
        <p:spPr>
          <a:xfrm>
            <a:off x="900000" y="1844280"/>
            <a:ext cx="7950240" cy="2933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ctividade física é importante, pois libera Endorfinas, o intestino funciona melhor, a pressão arterial fica mais estáve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Yoga, meditação, massagem de relaxamento ajudam.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iminuir álcool e cafeína (café, chá preto, chá mate, refrigerantes) aju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7D6F-EC7B-4E0B-BF7F-E03B2A51485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60"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Mania e do Transtorno bipolar</a:t>
            </a:r>
            <a:endParaRPr b="1" lang="en-US" sz="3200" spc="-1" strike="noStrike">
              <a:solidFill>
                <a:srgbClr val="ffffff"/>
              </a:solidFill>
              <a:latin typeface="Verdana"/>
            </a:endParaRPr>
          </a:p>
        </p:txBody>
      </p:sp>
      <p:sp>
        <p:nvSpPr>
          <p:cNvPr id="162" name=""/>
          <p:cNvSpPr txBox="1"/>
          <p:nvPr/>
        </p:nvSpPr>
        <p:spPr>
          <a:xfrm>
            <a:off x="684360" y="1268280"/>
            <a:ext cx="4032000" cy="4832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s mudanças de humor podem ser controladas pelo carbonato de lítio, medicamento mais antigo e ainda em uso, mas atualmente há significativos progressos de novos tratamentos com os estabilizantes do humor. </a:t>
            </a:r>
            <a:endParaRPr b="1" lang="en-US" sz="2400" spc="-1" strike="noStrike">
              <a:solidFill>
                <a:srgbClr val="000066"/>
              </a:solidFill>
              <a:latin typeface="Verdana"/>
            </a:endParaRPr>
          </a:p>
        </p:txBody>
      </p:sp>
      <p:sp>
        <p:nvSpPr>
          <p:cNvPr id="16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001F-AAE6-40C0-955B-3203DDD124A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65"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pic>
        <p:nvPicPr>
          <p:cNvPr id="166" name="Picture 4" descr="http://t0.gstatic.com/images?q=tbn:ANd9GcSNrPjwqsyWjvTRQaRFAipJDRHC89I9YUyd1N9hW9c6IpS3BIdEIg"/>
          <p:cNvPicPr/>
          <p:nvPr/>
        </p:nvPicPr>
        <p:blipFill>
          <a:blip r:embed="rId1"/>
          <a:stretch/>
        </p:blipFill>
        <p:spPr>
          <a:xfrm>
            <a:off x="4614840" y="1773360"/>
            <a:ext cx="4138560" cy="344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Mania e do Transtorno bipolar</a:t>
            </a:r>
            <a:endParaRPr b="1" lang="en-US" sz="3200" spc="-1" strike="noStrike">
              <a:solidFill>
                <a:srgbClr val="ffffff"/>
              </a:solidFill>
              <a:latin typeface="Verdana"/>
            </a:endParaRPr>
          </a:p>
        </p:txBody>
      </p:sp>
      <p:sp>
        <p:nvSpPr>
          <p:cNvPr id="168" name=""/>
          <p:cNvSpPr txBox="1"/>
          <p:nvPr/>
        </p:nvSpPr>
        <p:spPr>
          <a:xfrm>
            <a:off x="826920" y="1413000"/>
            <a:ext cx="801216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O lítio induz a uma série de efeitos secundários e, por isso, precisa ser dosada sua concentração no sangue, periodicament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medicamentos conhecidos como estabilizadores de humor são considerados o tratamento padrão, sendo usados com frequ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rbamazepin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amotrigin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íti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alproato (ácido valpróico).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42DF-733E-4EAB-8A14-DD87F37A1A0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71"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Mania e do Transtorno bipolar</a:t>
            </a:r>
            <a:endParaRPr b="1" lang="en-US" sz="3200" spc="-1" strike="noStrike">
              <a:solidFill>
                <a:srgbClr val="ffffff"/>
              </a:solidFill>
              <a:latin typeface="Verdana"/>
            </a:endParaRPr>
          </a:p>
        </p:txBody>
      </p:sp>
      <p:sp>
        <p:nvSpPr>
          <p:cNvPr id="173" name=""/>
          <p:cNvSpPr txBox="1"/>
          <p:nvPr/>
        </p:nvSpPr>
        <p:spPr>
          <a:xfrm>
            <a:off x="755640" y="1143000"/>
            <a:ext cx="808344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tre outros medicamentos usados para tratar o transtorno bipolar est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ntipsicóticos e antiansiedade (benzodiazepina), que podem ser usados para estabilizar o humor;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ntidepressivos podem ser administrados em conjunto com estabilizadores de humor para tratar a depressão. Mas, pacientes com transtorno bipolar têm mais chance de apresentar episódios maníacos ou hipomaníacos se tomarem antidepressivos. Por essa razão, os antidepressivos só são receitados para os utentes em uso de estabilizador de humor.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773D-08D1-466F-9722-5D77EBEB684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76" name="CaixaDeTexto 5"/>
          <p:cNvSpPr/>
          <p:nvPr/>
        </p:nvSpPr>
        <p:spPr>
          <a:xfrm rot="16200000">
            <a:off x="-1385280" y="326520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Mania e do Transtorno bipolar</a:t>
            </a:r>
            <a:endParaRPr b="1" lang="en-US" sz="3200" spc="-1" strike="noStrike">
              <a:solidFill>
                <a:srgbClr val="ffffff"/>
              </a:solidFill>
              <a:latin typeface="Verdana"/>
            </a:endParaRPr>
          </a:p>
        </p:txBody>
      </p:sp>
      <p:sp>
        <p:nvSpPr>
          <p:cNvPr id="178" name=""/>
          <p:cNvSpPr txBox="1"/>
          <p:nvPr/>
        </p:nvSpPr>
        <p:spPr>
          <a:xfrm>
            <a:off x="826920" y="1341000"/>
            <a:ext cx="801216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fases de depressão e mania voltam a ocorrer na maioria dos pacientes, mesmo sob tratamen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incipais objetivos do tratamento:</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Evitar o ciclo de alternância de fases; </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Evitar a necessidade de hospitalização, a reduzir gravidade e frequência dos episódios;</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Impedir que ocorra comportamento autodestrutivo, incluindo suicídio, incentivando-o à projetos de vida; </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Primeiramente, o médico tenta determinar quais são os possíveis desencadeadores do episódio de alteração de humor e identificar os problemas médicos ou emocionais que podem interferir no tratamento ou até mesmo dificultá-lo.</a:t>
            </a:r>
            <a:endParaRPr b="1" lang="en-US" sz="2000" spc="-1" strike="noStrike">
              <a:solidFill>
                <a:srgbClr val="000066"/>
              </a:solidFill>
              <a:latin typeface="Verdan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17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D51B-4D9D-4EF1-AA0E-9D501D08765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81"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42920" y="228600"/>
            <a:ext cx="779616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tamento dos transtornos de humor</a:t>
            </a:r>
            <a:endParaRPr b="1" lang="en-US" sz="3200" spc="-1" strike="noStrike">
              <a:solidFill>
                <a:srgbClr val="ffffff"/>
              </a:solidFill>
              <a:latin typeface="Verdana"/>
            </a:endParaRPr>
          </a:p>
        </p:txBody>
      </p:sp>
      <p:sp>
        <p:nvSpPr>
          <p:cNvPr id="94"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Formas de tratamento para os transtornos de humor:</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edicamentoso: actuação e efeitos secundári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sicossocial.</a:t>
            </a:r>
            <a:endParaRPr b="1" lang="en-US" sz="24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5C28-8B55-474E-AF02-997B7B5A086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gramas e terapias de apoio</a:t>
            </a:r>
            <a:endParaRPr b="1" lang="en-US" sz="3200" spc="-1" strike="noStrike">
              <a:solidFill>
                <a:srgbClr val="ffffff"/>
              </a:solidFill>
              <a:latin typeface="Verdana"/>
            </a:endParaRPr>
          </a:p>
        </p:txBody>
      </p:sp>
      <p:sp>
        <p:nvSpPr>
          <p:cNvPr id="183" name=""/>
          <p:cNvSpPr txBox="1"/>
          <p:nvPr/>
        </p:nvSpPr>
        <p:spPr>
          <a:xfrm>
            <a:off x="900000" y="1125360"/>
            <a:ext cx="8010720" cy="4902480"/>
          </a:xfrm>
          <a:prstGeom prst="rect">
            <a:avLst/>
          </a:prstGeom>
          <a:noFill/>
          <a:ln w="0">
            <a:noFill/>
          </a:ln>
        </p:spPr>
        <p:txBody>
          <a:bodyPr anchor="t">
            <a:normAutofit fontScale="98000"/>
          </a:bodyPr>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tratamentos familiares que combinam apoio e educação sobre o transtorno bipolar (psicoeducação) parecem ajudar as famílias a lidar com a situação e a reduzir as chances de os sintomas retornarem. </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amiliares e cuidadores são muito importantes no tratamento do transtorno bipolar. Estes podem ajudar os pacientes a buscar serviços de apoio adequados e garantir que os mesmos sigam a terapia medicamentosa.</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programas que destacam os serviços de apoio social para pessoas carentes alcançam melhores resultados.</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65FF-5DB9-44B7-928B-1C279AC21F7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86"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gramas e terapias de apoio</a:t>
            </a:r>
            <a:endParaRPr b="1" lang="en-US" sz="3200" spc="-1" strike="noStrike">
              <a:solidFill>
                <a:srgbClr val="ffffff"/>
              </a:solidFill>
              <a:latin typeface="Verdana"/>
            </a:endParaRPr>
          </a:p>
        </p:txBody>
      </p:sp>
      <p:sp>
        <p:nvSpPr>
          <p:cNvPr id="188" name=""/>
          <p:cNvSpPr txBox="1"/>
          <p:nvPr/>
        </p:nvSpPr>
        <p:spPr>
          <a:xfrm>
            <a:off x="684000" y="1267920"/>
            <a:ext cx="8280360" cy="47595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Habilidades importantes a serem adquiridas pelos utentes e familiare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idar com os sintomas que se manifestam mesmo com o uso de medicament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render a ter um estilo de vida saudável com sono suficiente e a manter distância das drogas recreativa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render a tomar os medicamentos de forma correta e a lidar com os efeitos colaterai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render a reconhecer os sinais iniciais de uma recaída e saber como reagir quando esta ocorre.</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E406-686D-49F2-912E-9133B534AD5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91"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gramas e terapias de apoio</a:t>
            </a:r>
            <a:endParaRPr b="1" lang="en-US" sz="3200" spc="-1" strike="noStrike">
              <a:solidFill>
                <a:srgbClr val="ffffff"/>
              </a:solidFill>
              <a:latin typeface="Verdana"/>
            </a:endParaRPr>
          </a:p>
        </p:txBody>
      </p:sp>
      <p:sp>
        <p:nvSpPr>
          <p:cNvPr id="193" name=""/>
          <p:cNvSpPr txBox="1"/>
          <p:nvPr/>
        </p:nvSpPr>
        <p:spPr>
          <a:xfrm>
            <a:off x="755640" y="1143000"/>
            <a:ext cx="808344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ormir uma quantidade suficiente de horas é extremamente importante no transtorno bipolar porque a falta de sono pode desencadear um episódio de mania.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 psicoterapia pode ser uma opção eficaz durante a fase depressiva.</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2800" spc="-1" strike="noStrike">
                <a:solidFill>
                  <a:srgbClr val="000066"/>
                </a:solidFill>
                <a:latin typeface="Verdana"/>
              </a:rPr>
              <a:t>Participar de um grupo de apoio pode ser de grande ajuda para os pacientes com transtorno bipolar e seus familiares e amigo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3305-D5AF-4D73-9182-D4921724CF6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96"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gramas e terapias de apoio</a:t>
            </a:r>
            <a:endParaRPr b="1" lang="en-US" sz="3200" spc="-1" strike="noStrike">
              <a:solidFill>
                <a:srgbClr val="ffffff"/>
              </a:solidFill>
              <a:latin typeface="Verdana"/>
            </a:endParaRPr>
          </a:p>
        </p:txBody>
      </p:sp>
      <p:sp>
        <p:nvSpPr>
          <p:cNvPr id="198" name=""/>
          <p:cNvSpPr txBox="1"/>
          <p:nvPr/>
        </p:nvSpPr>
        <p:spPr>
          <a:xfrm>
            <a:off x="755640" y="981000"/>
            <a:ext cx="808344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m paciente com transtorno bipolar nem sempre é confiável para descrever o estado da doença para o médico, pois, em geral, têm dificuldade para reconhecer seus próprios sintomas maníaco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variações de humor no transtorno bipolar são imprevisíveis, por isso, algumas vezes, é difícil saber se o paciente está respondendo ao tratamento ou saindo naturalmente de uma fase bipola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estratégias de tratamento para crianças e idosos ainda não foram estudadas em detalhes nem definidas clarament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2559-5357-4EC0-B1C6-F19C938D992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01" name="CaixaDeTexto 5"/>
          <p:cNvSpPr/>
          <p:nvPr/>
        </p:nvSpPr>
        <p:spPr>
          <a:xfrm rot="16200000">
            <a:off x="-1385640" y="3409200"/>
            <a:ext cx="396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2050920" y="1413000"/>
            <a:ext cx="678816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o final desta sessão os estudantes deverão ser capazes 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screver aspectos gerais dos tratamentos indicados para os principais transtornos de humo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xplicar as duas principais formas de trata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D2C1-4E35-4E96-9B99-AADB044F160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468360" y="2708280"/>
            <a:ext cx="1985760" cy="216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os transtornos de humor</a:t>
            </a:r>
            <a:endParaRPr b="1" lang="en-US" sz="3200" spc="-1" strike="noStrike">
              <a:solidFill>
                <a:srgbClr val="ffffff"/>
              </a:solidFill>
              <a:latin typeface="Verdana"/>
            </a:endParaRPr>
          </a:p>
        </p:txBody>
      </p:sp>
      <p:sp>
        <p:nvSpPr>
          <p:cNvPr id="1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0F4B-6217-48AE-BC9E-093875E95A6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5" name="Picture 2" descr="http://www.nominuto.com/_resources/files/_modules/files/files_44299_2010061312281079dc.jpg"/>
          <p:cNvPicPr/>
          <p:nvPr/>
        </p:nvPicPr>
        <p:blipFill>
          <a:blip r:embed="rId1"/>
          <a:stretch/>
        </p:blipFill>
        <p:spPr>
          <a:xfrm>
            <a:off x="1619280" y="1413000"/>
            <a:ext cx="6848280" cy="433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os transtornos de humor</a:t>
            </a:r>
            <a:endParaRPr b="1" lang="en-US" sz="3200" spc="-1" strike="noStrike">
              <a:solidFill>
                <a:srgbClr val="ffffff"/>
              </a:solidFill>
              <a:latin typeface="Verdana"/>
            </a:endParaRPr>
          </a:p>
        </p:txBody>
      </p:sp>
      <p:sp>
        <p:nvSpPr>
          <p:cNvPr id="107" name=""/>
          <p:cNvSpPr txBox="1"/>
          <p:nvPr/>
        </p:nvSpPr>
        <p:spPr>
          <a:xfrm>
            <a:off x="324000" y="1143000"/>
            <a:ext cx="8640720" cy="5029200"/>
          </a:xfrm>
          <a:prstGeom prst="rect">
            <a:avLst/>
          </a:prstGeom>
          <a:noFill/>
          <a:ln w="0">
            <a:noFill/>
          </a:ln>
        </p:spPr>
        <p:txBody>
          <a:bodyPr anchor="t">
            <a:normAutofit fontScale="98000"/>
          </a:bodyPr>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ara controlar as mudanças de humor é necessário regularmente:</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companhamento por médico (psiquiatra) e psicólogo.</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Uso da medicação prescrita conforme recomendação médica.</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É muito comum o paciente de bipolaridade interromper a medicação, que, via de regra, desencadeia novos episódios de depressão mais intensa e maior exaltação na euforia.</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Restrição ao uso de álcool, drogas, cafeína.</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Horas de sono suficientes, em horário regular;</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limentação e atividade física adequadas.</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60FC-FCAE-4B29-BAD5-B23C33E8328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 </a:t>
            </a:r>
            <a:endParaRPr b="1" lang="en-US" sz="3200" spc="-1" strike="noStrike">
              <a:solidFill>
                <a:srgbClr val="ffffff"/>
              </a:solidFill>
              <a:latin typeface="Verdana"/>
            </a:endParaRPr>
          </a:p>
        </p:txBody>
      </p:sp>
      <p:sp>
        <p:nvSpPr>
          <p:cNvPr id="111" name=""/>
          <p:cNvSpPr txBox="1"/>
          <p:nvPr/>
        </p:nvSpPr>
        <p:spPr>
          <a:xfrm>
            <a:off x="3419280" y="1699920"/>
            <a:ext cx="5329080" cy="3529080"/>
          </a:xfrm>
          <a:prstGeom prst="rect">
            <a:avLst/>
          </a:prstGeom>
          <a:noFill/>
          <a:ln w="0">
            <a:noFill/>
          </a:ln>
        </p:spPr>
        <p:txBody>
          <a:bodyPr anchor="t">
            <a:normAutofit fontScale="87000"/>
          </a:bodyPr>
          <a:p>
            <a:pPr marL="298440" indent="-298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o qualquer doença física, o tratamento da depressão deve ser feito após avaliação física e psíquica por médico psiquiatra. </a:t>
            </a:r>
            <a:endParaRPr b="1" lang="en-US" sz="2400" spc="-1" strike="noStrike">
              <a:solidFill>
                <a:srgbClr val="000066"/>
              </a:solidFill>
              <a:latin typeface="Verdana"/>
            </a:endParaRPr>
          </a:p>
          <a:p>
            <a:pPr marL="298440" indent="-298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ratamento inclui o aconselhamento psiquiátrico e os antidepressivos, que regulam a química cerebral.</a:t>
            </a:r>
            <a:endParaRPr b="1" lang="en-US" sz="2400" spc="-1" strike="noStrike">
              <a:solidFill>
                <a:srgbClr val="000066"/>
              </a:solidFill>
              <a:latin typeface="Verdan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0066"/>
              </a:solidFill>
              <a:latin typeface="Verdana"/>
            </a:endParaRPr>
          </a:p>
        </p:txBody>
      </p:sp>
      <p:sp>
        <p:nvSpPr>
          <p:cNvPr id="1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CD58-406B-4EAB-B83A-EA6EC430BAE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14"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pic>
        <p:nvPicPr>
          <p:cNvPr id="115" name="Picture 2" descr="http://t0.gstatic.com/images?q=tbn:ANd9GcRttP9y_BeJoON9LUGu1j3wQEN07sg9sou4iCkMW6yslHtssgJefg"/>
          <p:cNvPicPr/>
          <p:nvPr/>
        </p:nvPicPr>
        <p:blipFill>
          <a:blip r:embed="rId1"/>
          <a:stretch/>
        </p:blipFill>
        <p:spPr>
          <a:xfrm>
            <a:off x="971640" y="2349360"/>
            <a:ext cx="244800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17" name=""/>
          <p:cNvSpPr txBox="1"/>
          <p:nvPr/>
        </p:nvSpPr>
        <p:spPr>
          <a:xfrm>
            <a:off x="755640" y="1125000"/>
            <a:ext cx="8166240" cy="3581640"/>
          </a:xfrm>
          <a:prstGeom prst="rect">
            <a:avLst/>
          </a:prstGeom>
          <a:noFill/>
          <a:ln w="0">
            <a:noFill/>
          </a:ln>
        </p:spPr>
        <p:txBody>
          <a:bodyPr anchor="t">
            <a:normAutofit fontScale="88000"/>
          </a:bodyPr>
          <a:p>
            <a:pPr marL="301680" indent="-3016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Às vezes a medicação precisa de ajustes, ou tem um efeito colateral incômodo. Por isso é importante a visita periódica do utente para a avaliação médica e o ajuste ou troca do medicamento. </a:t>
            </a:r>
            <a:endParaRPr b="1" lang="en-US" sz="2800" spc="-1" strike="noStrike">
              <a:solidFill>
                <a:srgbClr val="000066"/>
              </a:solidFill>
              <a:latin typeface="Verdana"/>
            </a:endParaRPr>
          </a:p>
          <a:p>
            <a:pPr marL="301680" indent="-3016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pessoa com depressão geralmente está indecisa, não aceita que está doente ou tem vergonha de buscar um profissional da área da saúde mental. Muitas vezes, alguém tem que tomar decisões por ela, inclusive para começar o tratamento.</a:t>
            </a:r>
            <a:endParaRPr b="1" lang="en-US" sz="2800" spc="-1" strike="noStrike">
              <a:solidFill>
                <a:srgbClr val="000066"/>
              </a:solidFill>
              <a:latin typeface="Verdana"/>
            </a:endParaRPr>
          </a:p>
        </p:txBody>
      </p:sp>
      <p:sp>
        <p:nvSpPr>
          <p:cNvPr id="11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BCA2-621F-4F4C-BBD7-6F883E2B01C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20"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 </a:t>
            </a:r>
            <a:endParaRPr b="1" lang="en-US" sz="3200" spc="-1" strike="noStrike">
              <a:solidFill>
                <a:srgbClr val="ffffff"/>
              </a:solidFill>
              <a:latin typeface="Verdana"/>
            </a:endParaRPr>
          </a:p>
        </p:txBody>
      </p:sp>
      <p:sp>
        <p:nvSpPr>
          <p:cNvPr id="122" name=""/>
          <p:cNvSpPr txBox="1"/>
          <p:nvPr/>
        </p:nvSpPr>
        <p:spPr>
          <a:xfrm>
            <a:off x="684360" y="981000"/>
            <a:ext cx="8154720" cy="5400720"/>
          </a:xfrm>
          <a:prstGeom prst="rect">
            <a:avLst/>
          </a:prstGeom>
          <a:noFill/>
          <a:ln w="0">
            <a:noFill/>
          </a:ln>
        </p:spPr>
        <p:txBody>
          <a:bodyPr anchor="t">
            <a:normAutofit fontScale="92000"/>
          </a:bodyPr>
          <a:p>
            <a:pPr marL="315360" indent="-3153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antidepressivos demoram de duas a quatro semanas para actuar efetivamente.</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fermeiro tem um papel importante em apoiar o utente e os familiares nessa fase do tratamento, pois estes muitas vezes pensam que a medicação não foi bem indicada, ocorre abandono e até procura por outro profissional. </a:t>
            </a:r>
            <a:endParaRPr b="1" lang="en-US" sz="2400" spc="-1" strike="noStrike">
              <a:solidFill>
                <a:srgbClr val="000066"/>
              </a:solidFill>
              <a:latin typeface="Verdana"/>
            </a:endParaRPr>
          </a:p>
          <a:p>
            <a:pPr marL="315360" indent="-3153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ma vez restaurada a química cerebral, a depressão tende a melhorar e fica mais fácil erguer a cabeça e tomar atitude perante a vida. </a:t>
            </a:r>
            <a:endParaRPr b="1" lang="en-US" sz="2400" spc="-1" strike="noStrike">
              <a:solidFill>
                <a:srgbClr val="000066"/>
              </a:solidFill>
              <a:latin typeface="Verdana"/>
            </a:endParaRPr>
          </a:p>
          <a:p>
            <a:pPr marL="315360" indent="-3153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smo que o utente já esteja bem, não interromper a medicação. O médico decide quando diminuir, interromper ou trocar de medicação. </a:t>
            </a:r>
            <a:br>
              <a:rPr sz="2400"/>
            </a:b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1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D034-194E-4372-86DC-7631030ADA8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25" name="CaixaDeTexto 6"/>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 </a:t>
            </a:r>
            <a:endParaRPr b="1" lang="en-US" sz="3200" spc="-1" strike="noStrike">
              <a:solidFill>
                <a:srgbClr val="ffffff"/>
              </a:solidFill>
              <a:latin typeface="Verdana"/>
            </a:endParaRPr>
          </a:p>
        </p:txBody>
      </p:sp>
      <p:sp>
        <p:nvSpPr>
          <p:cNvPr id="127" name=""/>
          <p:cNvSpPr txBox="1"/>
          <p:nvPr/>
        </p:nvSpPr>
        <p:spPr>
          <a:xfrm>
            <a:off x="900000" y="1484280"/>
            <a:ext cx="7732800" cy="41054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Antidepressivos são remédios que corrigem o metabolismo dos neurotransmissore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Não são calmant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Não são estimulant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Não criam dependência física e nem psíquica. Esse aspecto é muito importante de ser divulgado, pois para a comunidade, em geral, e até para muitos profissionais de saúde os antidepressivos causam dependência.</a:t>
            </a:r>
            <a:endParaRPr b="1" lang="en-US" sz="2400" spc="-1" strike="noStrike">
              <a:solidFill>
                <a:srgbClr val="000066"/>
              </a:solidFill>
              <a:latin typeface="Verdana"/>
            </a:endParaRPr>
          </a:p>
        </p:txBody>
      </p:sp>
      <p:sp>
        <p:nvSpPr>
          <p:cNvPr id="1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4B9E-9268-4DB1-B991-98C03C5FA18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30" name="CaixaDeTexto 5"/>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2T17:59:33Z</dcterms:created>
  <dc:creator>Escolastica</dc:creator>
  <dc:description/>
  <dc:language>en-US</dc:language>
  <cp:lastModifiedBy>Mendoza</cp:lastModifiedBy>
  <dcterms:modified xsi:type="dcterms:W3CDTF">2012-02-02T10:20:37Z</dcterms:modified>
  <cp:revision>5</cp:revision>
  <dc:subject/>
  <dc:title>Tratamento de transtornos de humor</dc:title>
</cp:coreProperties>
</file>