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C56-7852-4141-A204-03018BFA61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4BF6-9018-424E-97D9-95015B2D99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C828-49A2-4801-9386-DD91E3625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B54E-4299-4349-91FD-D771922DA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9954-408A-4AAB-BF4F-606E22ED2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F518-D4C8-4D68-A5D4-1C1F3CD60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035A-629F-4350-9677-7E74475D9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C8D9-3897-4F5D-97ED-20E9F3518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FBBA-862B-4B59-90E6-86EE0C419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AC2A-6BBB-4F2A-A86C-FA765BDE9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5050-9F39-4CD5-AD11-4A8195877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2A7A-FA3D-4FBB-9CD0-05EA36322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6D13-E79A-4DB8-81E4-5F4B69664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F42D-EB14-4FB3-95F6-0755D13C4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0BCB-517A-4A06-BFDA-45A9024FCDB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413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483920"/>
            <a:ext cx="62658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005000"/>
            <a:ext cx="7705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trole nutricional busca a determinação de quais são as alterações metabólicas de cada paciente, e deve suprir todas as suas necessidades a fim de restabelecer 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ravés de um plano alimentar discutido e pactuado entre o profissional e o paciente, se estabelece uma alimentação adequ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paciente se sinta interessado e veja os benefícios que a alimentação adequada irá lhe proporcionar, e também que tenha confiança no profissional para a adesão ao tratamento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eção de possíveis alterações metabólicas e um plano alimentar bem definido são fundamentais para restabelecimento d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A15E-2299-4615-86BD-93A49BBAEC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e transtonos somatoformes /hipocondrí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dos primeiros passos para o tratamento dos pacientes deve ser conscientizá-los sobre a importante participação dos fatores emocionais na sintomatologia de suas queixas, tentar uma mudança no significado cultural de suas doenças e incentivar maior honestidade pessoal sobre sua natureza emo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único fator capaz de atenuar as queixas é a capacidade da pessoa expressar melhor seus sentimentos, verbalm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B1A7-957C-41EC-819D-D3ECC74263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e transtonos somatoformes /hipocondrí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le lembrar que entre os médicos, muitas vezes, ocorre a sensação de que o paciente somatizador tenta enganá-los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ntimamente o médico se aborrece porque as queixas somatoformes não seguem as descrições clínicas clássicas, representando um desafio a mais para seus conhecimentos científicos e fisiopatológ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6849-ACB3-48F9-9827-725BCB571A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dos transtornos alimentares e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transtornos alimentares e somatoformes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D752-8A47-4897-B185-7D056F795C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ranstornos alimentares e somatoform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D5E5-344D-4EEC-A5EF-6924D1A142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19D-A919-417D-9488-777A353721F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0.gstatic.com/images?q=tbn:ANd9GcTKXgYyZqqxphBtq8ivMCe_nBhgafmAPJbm3fCsqHLzRumTtT_X"/>
          <p:cNvPicPr/>
          <p:nvPr/>
        </p:nvPicPr>
        <p:blipFill>
          <a:blip r:embed="rId1"/>
          <a:stretch/>
        </p:blipFill>
        <p:spPr>
          <a:xfrm>
            <a:off x="2195640" y="1197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557000"/>
            <a:ext cx="83822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norexia nervosa, por ser uma doença com raízes psicológicas, é difícil de ser trat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diagnosticada, o anoréxico passa por terapia individual, terapia em grupo e terapia familiar, em casos leves e moder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ta é aumentar gradualmente a quantidade de alimento ingerido, estabelecendo três refeições e dois lanch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olvimento da família é determinante na mudança do quad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AEF-CB69-4A3A-B523-FD6736DB90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a negação do problema é freqüente, médicos, terapeutas, enfermeiros e familiares precisam de tranquilidade e equilíbrio enquanto motivam o anoréxico em sua recuperaç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sos de reincidências (recaídas) são comuns em pessoas anoréxic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casos mais graves, o tratamento hospitalar é indic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322-CACD-4D8E-8349-3C4C18FBFA2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988640"/>
            <a:ext cx="8381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a bulimia exige o acompanhamento de equipe multidisciplinar composta por médicos, psicólogos, enfermeiros e nutricionis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camentos antidepressivos podem ser úteis, especialmente se ocorrerem distúrbios como depressão e ansie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DE2F-386F-40C8-AA0C-389EB1BF96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55700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diagnóstico da bulimia é complexo, porque os sintomas não são evidentes como os da anorex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nfelizmente, não se conhecem métodos eficazes para prevenir patologias como a bulimia e a anorexia. Seria necessário um empenho da sociedade na mudança de certos valores estéticos ligados ao culto do corpo e à magrez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842-1DF8-4A75-BA88-234C49761A5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estes são transtornos que envolvem tanto componentes psicológicos, fisiológicos quanto sociais, o tratamento precisa de uma abordagem multiprofiss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rincipais pontos são o tratamento medicamentoso, a terapia psicológica e a orientação nutri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acontecer recaídas, por isso é importante que seja um acompanhamento por longo período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20CB-3C24-47F8-9152-971AD6F08D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50:41Z</dcterms:created>
  <dc:creator>Escolastica</dc:creator>
  <dc:description/>
  <dc:language>en-US</dc:language>
  <cp:lastModifiedBy>Mendoza</cp:lastModifiedBy>
  <dcterms:modified xsi:type="dcterms:W3CDTF">2012-02-02T09:40:33Z</dcterms:modified>
  <cp:revision>142</cp:revision>
  <dc:subject/>
  <dc:title>Slide 1</dc:title>
</cp:coreProperties>
</file>