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4A39-9802-4FF4-9D00-228C65578B6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235B-2E41-4AEC-97AE-E2FD206C698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7D2F-E33D-4241-8AAB-A25301B504E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5A2C-1929-4F2E-90C3-5317B224F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4DD0-0E6F-4457-A287-31E8528DD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6838-7969-45EF-B726-3C14E6E13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69D5D-8D65-4273-9280-C7CAC196C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587F-DE58-44C8-A35F-9C48ACC22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0427F-3919-4AF6-A13F-72CE9A41D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216F-6D5F-497A-AEA8-7113B31AF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1E55C-4C4F-446A-B201-9194A920F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FC913-6470-4524-8963-5CF1EE905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ABBF5-1E4E-4647-AAE1-515DAD116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AC36-C6FC-4147-ADD3-E1CA826CD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65C6B-1CD2-41B5-BFAA-AE2B744F9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6BE2-85B2-4D33-B17D-1E0919153F86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alcoolismo&amp;um=1&amp;hl=pt-BR&amp;rlz=1R2RNQN_pt-BRBR458&amp;biw=1024&amp;bih=302&amp;tbm=isch&amp;tbnid=71tJtTj0QZHeiM:&amp;imgrefurl=http://www.acessojovem.com.br/alcoolismo.html&amp;docid=Y6h3fU-BiMbSkM&amp;imgurl=http://www.acessojovem.com.br/images/Alcoolismo.jpg&amp;w=964&amp;h=963&amp;ei=QizlTrD8OI2ItwfC-smIBA&amp;zoom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6265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es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squizofrenia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4292280"/>
            <a:ext cx="77043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omportamen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ndivíduo com transtorno esquizofrênico está com suas funções perceptivas alteradas, vê, ouve e sente coisas que não são reais (as chamadas alucinaçõe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leciona estímulos do ambiente que normalmente passam despercebidos, estando frequentemente alheio ao que se passa à sua fr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u pensamento encontra-se invariavelmente esvaziado, sem senti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FBD5-9F26-4EC0-9BA7-A558B2BD9D0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portamen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Ás vezes, sente que alguém lhe “rouba os pensamentos da cabeça”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Seu comportamento é geralmente identificado como estranho e sua aparência também pode causar estranheza, pois, estando imerso em percepções distorcidas do mundo e de si mesmo, acaba deixando de cuidar de si (inclusive dos hábitos de higiene) ou pode vestir-se de acordo com os pensamentos delirantes, que comumente apresent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5546-62AA-4C6A-80DD-E44BBC14437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portamen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43000"/>
            <a:ext cx="8507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indivíduo também apresenta actividade psicomotora anormal, como ficar se balançando, fazendo movimentos estranhos ou permanecer totalmente imóve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comunicação fica prejudicada, seja pelo mutismo, por expressão incoerente de idéias ou por uso inadequado da linguagem como frases incoerentes e neologism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al como outros transtornos, pode apresentar-se em diferentes graus, podendo ser confundida com outros quadr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C619-1931-45A4-9C19-3A11CAAC548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9FDD-7B5C-4E03-8454-7D57098BB63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Espaço Reservado para Imagem 7" descr="http://t1.gstatic.com/images?q=tbn:ANd9GcRH9QINRKH93z89isNsskQ5-1dJ0x6RObQjxT0kvvN0ZKrCeXZk">
            <a:hlinkClick r:id="rId1"/>
          </p:cNvPr>
          <p:cNvPicPr/>
          <p:nvPr/>
        </p:nvPicPr>
        <p:blipFill>
          <a:blip r:embed="rId2"/>
          <a:srcRect l="0" t="12333" r="0" b="12333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tória do álcoo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álcool foi mencionado como medicamento na Mesopotâmia em 2.200 anos a.C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Há registos de uso de vinho no Antigo Testament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800 anos d.C na Arábia deu-se a descoberta do processo de destilação do álcool, gerando enorme incremento ao seu us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destilados foram usados em princípio como medica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D728-BD04-4EEA-AB95-FA7ED9659DE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tória do álcoo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roblemas gerados pelo consumo de álcool e de outras drogas são conhecidos há muitos sécul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Hipócrates descreveu em 385 a.C fatores que predispunham às doenças pelo consumo de álcoo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No Séc. XVIII começa o processo de industrialização  do álcoo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DAF5-7CD5-4526-BE6E-3C9D7EAC823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tória do álcoo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uso de drogas adquire estatuto médico no fim do séc. XIX e início do séc. XX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gnus Huss (alcoolismo), Thomas Trotter (embriaguez – doença da mente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ós a 2ª Guerra Mundial, com a responsabilidade da OMS em organizar definições e conceitos, estes termos são dissemin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percussão das concepções do médico inglês Adams (1920) sobre os conceitos de Tolerância, Dependência, Síndrome de Abstinência e Recaída relacionados ao uso de álcoo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E2DC-6B49-4437-93E1-A6F46328AED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ceit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alcoolismo é o conjunto de problemas relacionados ao consumo excessivo e prolongado do álcool e todas as conseqüências decorrent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alcoolismo existe a tolerância, a dependência, a abstinência, o abuso (uso excessivo, porém não continuado), intoxicação por álcool (embriaguez). Síndromes amnéstica (perdas restritas de memória), demencial, alucinatória, delirante, de humor. Distúrbios de ansiedade, sexuais, do sono e distúrbios inespecíficos. Por fim o 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delirium tremens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, que pode ser fatal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0D00-84A0-4B94-AD94-FE607A696BB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tolerância e a dependência ao álcool são dois eventos distintos e indissociáve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olerância: é a necessidade de doses maiores de álcool para alcançar os mesmos efei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pendência: é simultânea à tolerância e será tanto mais intensa quanto mais intenso for o grau de tolerância ao álcool. Dizemos que a pessoa tornou-se dependente do álcool quando ela não tem mais forças por si própria de interromper ou diminuir o uso do mesmo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B451-3F5C-4EB8-958F-DBD3F398573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índrome de Abstinência: É um conjunto de sinais e sintomas apresentados pelo utente ao parar de beber subitam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álcool é uma droga depressora do Sistema Nervoso Central. Para equilibrar esse efeito, o usuário crônico aumenta a actividade de certos circuitos de neurônios que se opõem à ação depressiva. Quando a droga é suspensa abruptamente, esses circuitos estimulatórios não encontram mais a ação depressora para equilibrá-los e surge, então, a síndrome de hiperexcitabilidade ou de abstin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aída: o usuário volta a bebe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FBB2-7146-4B1F-8080-B523F7797F5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6" name="Conector angulado 6"/>
          <p:cNvCxnSpPr/>
          <p:nvPr/>
        </p:nvCxnSpPr>
        <p:spPr>
          <a:xfrm flipV="1" rot="10800000">
            <a:off x="6658920" y="5516280"/>
            <a:ext cx="1008720" cy="505440"/>
          </a:xfrm>
          <a:prstGeom prst="bentConnector3">
            <a:avLst>
              <a:gd name="adj1" fmla="val 49982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Esquizofreni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Alcoolism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3BAD-C654-4B88-9865-1BDEAF0071A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4920" y="980640"/>
            <a:ext cx="838188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ntoxicação aguda é a alteração do estado mental pelo aumento dos níveis da substância no organismo, como por exemplo a embriaguez, o coma alcóolico, as convulsões pelo uso de substânci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o uso contínuo de alguma substância está causando algum dano à saúde física ou mental do paciente diz-se que a mesma é de uso nocivo como exemplo, o 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Delliriuns tremen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A23C-ED90-4A83-BE9C-3834F47C393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2" descr="http://t2.gstatic.com/images?q=tbn:ANd9GcREo5uGHh1vZqMJnMXOWMeu5xnu3OrR7fHoprIYXK0QIyHgiMzM"/>
          <p:cNvPicPr/>
          <p:nvPr/>
        </p:nvPicPr>
        <p:blipFill>
          <a:blip r:embed="rId1"/>
          <a:stretch/>
        </p:blipFill>
        <p:spPr>
          <a:xfrm>
            <a:off x="5003640" y="4437000"/>
            <a:ext cx="2746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atores relacionados ao 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9640" y="1197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m desprezar a importância do ambiente no alcoolismo, há evidências de que alguns fatores genéticos aumentam o risco de contrair a doenç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alcoolismo tende a ocorrer com mais frequência em certas famílias, entre gêmeos idênticos (univitelinos), e mesmo em filhos biológicos de pais alcoólicos adotados por famílias de pessoas que não beb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udos mostram que adolescentes abstêmios, filhos de pais alcoólicos, têm mais resistência aos efeitos do álcool do que jovens da mesma idade, cujos pais não abusam da drog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5F55-A7DE-4482-AFD7-93EB89A3E3D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atores relacionados ao 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Muitos desses filhos de alcoólicos se recusam a beber para não seguir o exemplo de casa. Quando acompanhados por vários anos, porém, esses adolescentes apresentam maior probabilidade de abandonar a abstinência e tornarem-se dependente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Filhos biológicos de pais alcoólicos criados por famílias adotivas têm mais dificuldade de abandonar a bebida do que alcoólicos que não têm história familiar de abuso da drog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1D8E-7E10-467B-B15C-6F409BBB62E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serv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4920" y="1197000"/>
            <a:ext cx="8381880" cy="17272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esar de a aula ter como foco principal o alcoolismo, vamos tratar de forma abrangente à outros tipos de drogas em diversos tópic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0072-7BD2-481C-8CD8-FB38E3D9E6E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2" descr="http://1.bp.blogspot.com/-FQT-NcaIw3I/TazSNrprGiI/AAAAAAAAAEA/xHZgXcA76zw/s1600/o-que-as-drogas-causam.jpg"/>
          <p:cNvPicPr/>
          <p:nvPr/>
        </p:nvPicPr>
        <p:blipFill>
          <a:blip r:embed="rId1"/>
          <a:stretch/>
        </p:blipFill>
        <p:spPr>
          <a:xfrm>
            <a:off x="2627280" y="3141720"/>
            <a:ext cx="44560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rog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ceit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gundo a Organização Mundial de Saúde, Droga é qualquer substância, que, não sendo produzida pelo organismo, tem a propriedade de atuar sobre um ou mais de seus sistemas, produzindo alterações no funcionamento cerebral, na mente, no corpo e no comportamento das pesso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 ser lícitas ou ilícit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B305-0BAE-4412-9944-1820B25C0C7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rogas 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sideram-se como psicoativas as substâncias que provocam um estado de alteração no funcionamento mental, aumentando, diminuindo ou distorcendo sua atividade, e que causam depend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os citar vários exemplos de substância psicoativa, desde o álcool, o cigarro e as substâncias ilegais (cocaína, maconha, LSD), até aquelas prescritas pelo médico, como os ansiolíticos e hipnótic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552F-C7E9-494B-AEBB-38D429C4837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rog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uso abusivo de substâncias psicoativas envolve complicadas causas e conseqüências em nível físico, social e emocional e uma pessoa pode desenvolver um transtorno mental a partir deste us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enfermeiro geral muitas vezes terá informação de que o transtorno mental de algum paciente é conseqüência do uso de alguma droga ou presenciará reações mais agudas; por isso, é importante que conheça as mais comun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021A-7CDE-45B0-AA8E-5D7FC1E6AE0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rogas mais comu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190F-72F9-4376-94A9-9E0F47925C7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733840" y="2205000"/>
            <a:ext cx="3676320" cy="244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755640" y="887400"/>
            <a:ext cx="79264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assificação das drog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forme as ações das drogas sobre o Sistema Nervoso Central (SNC) e as modificações observáveis na atividade mental, podem ser classificadas com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pressoras da atividade mental: causam diminuição da atividade global ou de certos subsistemas do SNC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imulantes da atividade mental: causam o aumento da atividade de determinados sistemas neuronais, o que traz como conseqüências estado de alerta exagerado, insônia e aceleração dos processos psíquico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56E3-B623-42EB-84E0-F25453AF5B8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empl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CA16-348F-4D01-B3BE-4E9D98DF2B7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26920" y="1268280"/>
          <a:ext cx="8066160" cy="2776680"/>
        </p:xfrm>
        <a:graphic>
          <a:graphicData uri="http://schemas.openxmlformats.org/drawingml/2006/table">
            <a:tbl>
              <a:tblPr/>
              <a:tblGrid>
                <a:gridCol w="2521080"/>
                <a:gridCol w="2855880"/>
                <a:gridCol w="2689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ogas estimulant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ogas depressor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ogas perturbadora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caí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Á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onh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ack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zodiazepi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S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34920" y="1413000"/>
            <a:ext cx="70038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crever sinais e sintomas de um quadro esquizofrêni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latar a etiologia da esquizofren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onhecer o alcoolismo como doe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tar sinais e sintomas de síndrome de abstinên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car prejuízos do alcoolismo para o utente e para a socie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8FD8-D2DE-457A-B9FF-06A5FAB4859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250920" y="2708280"/>
            <a:ext cx="1987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feitos no organ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rogas estimulantes: causam alterações no funcionamento do organismo, como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mento dos batimentos cardíacos, respiração, pressão sanguínea, temperatura corporal, perda de apetite e do son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rogas depressoras: um exemplo é o efeito psíquico do álcool; Distúrbio de personalidade, atitudes impulsivas e desinibição social. Efeitos físicos: Cirrose hepática, perda da consciência (coma alcoólica) e outra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86CC-917F-4CF3-A652-429C72D76D1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feitos no organ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rogas pertubadoras: provocam alterações na percepção, alucinações, dificuldade para concentração, convulsão, síndrome motivacional, prejuízo de memória e atençã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visuais e táteis, despersonalização, assemelhando-se a reações esquizofrênicas aguda, alucinações profun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comuns suicídios involuntários (o individuo pensa que pode voar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86FB-8186-44D4-AFB6-0F6DC113D4D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conh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s efeitos podem ser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emor corporal, vertigem, náuseas, vômitos, taquicardia, excitação psíquica, diarréia, alterações sensoriais, lentidão do raciocínio, oscilação involuntária dos olhos, zumbidos, desorientação, medo de morrer, depressão, alucinações, amnésia temporária, pânico, idéias paranóid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6A06-A672-4D71-9B0A-AB5DE561D40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http://t1.gstatic.com/images?q=tbn:ANd9GcQKYR9l-6zs7IrzvTFALe92ikyJLa_q_ulyqVqkde6O2Nluko__"/>
          <p:cNvPicPr/>
          <p:nvPr/>
        </p:nvPicPr>
        <p:blipFill>
          <a:blip r:embed="rId1"/>
          <a:stretch/>
        </p:blipFill>
        <p:spPr>
          <a:xfrm>
            <a:off x="1042920" y="4365720"/>
            <a:ext cx="3457800" cy="1727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t1.gstatic.com/images?q=tbn:ANd9GcQkWExoojgHOHwym4Z3EcRW8YsryoyC5d76ImqHOwkYLX7wDOSZ9g"/>
          <p:cNvPicPr/>
          <p:nvPr/>
        </p:nvPicPr>
        <p:blipFill>
          <a:blip r:embed="rId2"/>
          <a:stretch/>
        </p:blipFill>
        <p:spPr>
          <a:xfrm>
            <a:off x="4788000" y="4365720"/>
            <a:ext cx="26384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caí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leva a pressão arterial, provoca taquicardia e leva à parada cardíaca, o que em geral acontece nos casos de overdos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uso crônico lesa o septo nasal e causa degeneração dos músculos esquelétic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C18C-1E66-41C8-8466-2FE654D3FCB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http://t3.gstatic.com/images?q=tbn:ANd9GcQBvfR3GshE7eADyPWb0-Ui-QeKh2aPbmWgWDoPYq-tPzwzR-Xf"/>
          <p:cNvPicPr/>
          <p:nvPr/>
        </p:nvPicPr>
        <p:blipFill>
          <a:blip r:embed="rId1"/>
          <a:stretch/>
        </p:blipFill>
        <p:spPr>
          <a:xfrm>
            <a:off x="971640" y="3716280"/>
            <a:ext cx="3538440" cy="2305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t3.gstatic.com/images?q=tbn:ANd9GcQlmf6ajtlXcmao-GYaFcexHvKlq0TZOvDL-jp5szljZMpp5C5p"/>
          <p:cNvPicPr/>
          <p:nvPr/>
        </p:nvPicPr>
        <p:blipFill>
          <a:blip r:embed="rId2"/>
          <a:stretch/>
        </p:blipFill>
        <p:spPr>
          <a:xfrm>
            <a:off x="4788000" y="3716280"/>
            <a:ext cx="3271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rack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ode produzir dilatação das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upilas, taquicardia, degeneração muscular, ansiedade, pânico, pensamentos paranóicos, agressividade, irritabilidade, crises convulsivas, podendo ocorrer morte por overdos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5425-D609-41BD-A981-207AA7F684F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2" descr="http://t1.gstatic.com/images?q=tbn:ANd9GcTBogTrvD7W8mze-r2HHU6EknKsEsbrp3-flFtdwELatypwKF3abg"/>
          <p:cNvPicPr/>
          <p:nvPr/>
        </p:nvPicPr>
        <p:blipFill>
          <a:blip r:embed="rId1"/>
          <a:stretch/>
        </p:blipFill>
        <p:spPr>
          <a:xfrm>
            <a:off x="1042920" y="3860640"/>
            <a:ext cx="4165560" cy="2311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t1.gstatic.com/images?q=tbn:ANd9GcQIyhxGitc1lfUUvJFwyHBhypuAKZ7dxuM4cACatUUaq_h6Haj7"/>
          <p:cNvPicPr/>
          <p:nvPr/>
        </p:nvPicPr>
        <p:blipFill>
          <a:blip r:embed="rId2"/>
          <a:stretch/>
        </p:blipFill>
        <p:spPr>
          <a:xfrm>
            <a:off x="6804000" y="620640"/>
            <a:ext cx="2147760" cy="1198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t3.gstatic.com/images?q=tbn:ANd9GcRu8cELifQFrHPqAZIuvn1_t_HQ6JEkYbFH_OP7rDkMRCMGIUwH"/>
          <p:cNvPicPr/>
          <p:nvPr/>
        </p:nvPicPr>
        <p:blipFill>
          <a:blip r:embed="rId3"/>
          <a:stretch/>
        </p:blipFill>
        <p:spPr>
          <a:xfrm>
            <a:off x="5435640" y="3860640"/>
            <a:ext cx="3076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Êxtase/Ecstasy (MDMA)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 Metileno-Dioxo-Meta-Anfetamina.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000" y="141300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 alucinógeno sintético, que pode provoca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nsa eufor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lírios, alucinações visuais e auditiva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mento dos batimentos cardía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nsa desidrat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metabolismo acelerado eleva a temperatura do corp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E97B-3CD3-405D-B939-9969918A815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http://t0.gstatic.com/images?q=tbn:ANd9GcSbPS4NBjaO5dp_aoCnG3hz0HfRI17q-LDTpDK3vwZz-3rySfDcmg"/>
          <p:cNvPicPr/>
          <p:nvPr/>
        </p:nvPicPr>
        <p:blipFill>
          <a:blip r:embed="rId1"/>
          <a:stretch/>
        </p:blipFill>
        <p:spPr>
          <a:xfrm>
            <a:off x="3132000" y="4076640"/>
            <a:ext cx="28558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nfetamin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981000"/>
            <a:ext cx="83818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as drogas estimulantes do SNC são sintéticas e constituem o elemento básico dos medicamentos chamados "moderadores do apetite“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ém do seu uso pelas pessoas que desejam perder peso, têm sido procuradas por apresentar também efeitos como redução do sono e da fadiga e aumento da capacidade de trabalh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las podem ser consumidas via oral, aspiradas na forma de pó ou injet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24BA-1BD6-4646-9992-15695558EDD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http://t1.gstatic.com/images?q=tbn:ANd9GcQ_tjFMxvOE1ETdIRftsuYVrVPNLmNNCV5Z-MVtw0zaX1XiC1pT"/>
          <p:cNvPicPr/>
          <p:nvPr/>
        </p:nvPicPr>
        <p:blipFill>
          <a:blip r:embed="rId1"/>
          <a:stretch/>
        </p:blipFill>
        <p:spPr>
          <a:xfrm>
            <a:off x="5076720" y="4183200"/>
            <a:ext cx="17989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sequências das droga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DF4A-2711-4CB7-8441-65EFAD7644C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2" descr="http://t2.gstatic.com/images?q=tbn:ANd9GcTt6JDsPLEIAV7cVAB66rz7qvmZCQ_oZqiNWwpexkq19aGjSgTq"/>
          <p:cNvPicPr/>
          <p:nvPr/>
        </p:nvPicPr>
        <p:blipFill>
          <a:blip r:embed="rId1"/>
          <a:stretch/>
        </p:blipFill>
        <p:spPr>
          <a:xfrm>
            <a:off x="468360" y="1052640"/>
            <a:ext cx="3311640" cy="2367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http://t0.gstatic.com/images?q=tbn:ANd9GcQtRyWVdWxYEs1a8PMr-3aDRkRVLMI80FUP_GC1m0gRktTNCJ7efg"/>
          <p:cNvPicPr/>
          <p:nvPr/>
        </p:nvPicPr>
        <p:blipFill>
          <a:blip r:embed="rId2"/>
          <a:stretch/>
        </p:blipFill>
        <p:spPr>
          <a:xfrm>
            <a:off x="468360" y="4149720"/>
            <a:ext cx="3414600" cy="2448000"/>
          </a:xfrm>
          <a:prstGeom prst="rect">
            <a:avLst/>
          </a:prstGeom>
          <a:ln w="0">
            <a:noFill/>
          </a:ln>
        </p:spPr>
      </p:pic>
      <p:sp>
        <p:nvSpPr>
          <p:cNvPr id="252" name="CaixaDeTexto 8"/>
          <p:cNvSpPr/>
          <p:nvPr/>
        </p:nvSpPr>
        <p:spPr>
          <a:xfrm>
            <a:off x="468360" y="3357720"/>
            <a:ext cx="35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osição a violência e risco de vi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CaixaDeTexto 9"/>
          <p:cNvSpPr/>
          <p:nvPr/>
        </p:nvSpPr>
        <p:spPr>
          <a:xfrm>
            <a:off x="4211640" y="4365720"/>
            <a:ext cx="47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agregação familiar, violência doméstica, maus tratos de crianças, perda de empreg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CaixaDeTexto 12"/>
          <p:cNvSpPr/>
          <p:nvPr/>
        </p:nvSpPr>
        <p:spPr>
          <a:xfrm>
            <a:off x="3924360" y="5661000"/>
            <a:ext cx="52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mento de gastos públicos, em particular com saú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2" descr="http://t2.gstatic.com/images?q=tbn:ANd9GcS6wVRhDXsaUzp063KDf6fBcbRo4zuCLrSCuUE4Jhb8QdYsuDvIFQ"/>
          <p:cNvPicPr/>
          <p:nvPr/>
        </p:nvPicPr>
        <p:blipFill>
          <a:blip r:embed="rId3"/>
          <a:stretch/>
        </p:blipFill>
        <p:spPr>
          <a:xfrm>
            <a:off x="4427640" y="1052640"/>
            <a:ext cx="40320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ítimas inocent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C8BE-982F-4937-A67D-EEAE5B26CBA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6" descr="http://t0.gstatic.com/images?q=tbn:ANd9GcTjNOAMW9gCV3EtiuoWfX9AFVYGfmKvZJWvtQeGPwppu52jOGa2"/>
          <p:cNvPicPr/>
          <p:nvPr/>
        </p:nvPicPr>
        <p:blipFill>
          <a:blip r:embed="rId1"/>
          <a:stretch/>
        </p:blipFill>
        <p:spPr>
          <a:xfrm>
            <a:off x="468360" y="1413000"/>
            <a:ext cx="4230720" cy="3033720"/>
          </a:xfrm>
          <a:prstGeom prst="rect">
            <a:avLst/>
          </a:prstGeom>
          <a:ln w="0">
            <a:noFill/>
          </a:ln>
        </p:spPr>
      </p:pic>
      <p:sp>
        <p:nvSpPr>
          <p:cNvPr id="260" name="CaixaDeTexto 7"/>
          <p:cNvSpPr/>
          <p:nvPr/>
        </p:nvSpPr>
        <p:spPr>
          <a:xfrm>
            <a:off x="468360" y="4508640"/>
            <a:ext cx="46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identes de trânsito: vítimas inocentes, aumento de gastos públ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CaixaDeTexto 10"/>
          <p:cNvSpPr/>
          <p:nvPr/>
        </p:nvSpPr>
        <p:spPr>
          <a:xfrm>
            <a:off x="5435640" y="587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inquência - cr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CaixaDeTexto 11"/>
          <p:cNvSpPr/>
          <p:nvPr/>
        </p:nvSpPr>
        <p:spPr>
          <a:xfrm>
            <a:off x="5292720" y="981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tornos menta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http://4.bp.blogspot.com/_S5-c9NvS53E/TPbtTNJbk_I/AAAAAAAAB24/6CbSdtHq8FE/s1600/maconha.jpg"/>
          <p:cNvPicPr/>
          <p:nvPr/>
        </p:nvPicPr>
        <p:blipFill>
          <a:blip r:embed="rId2"/>
          <a:stretch/>
        </p:blipFill>
        <p:spPr>
          <a:xfrm>
            <a:off x="4788000" y="2924280"/>
            <a:ext cx="4140000" cy="3036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http://t3.gstatic.com/images?q=tbn:ANd9GcR_-We1gr6Xz6R6eozjKhwzh_GFbTdOFEislaLbLc004Eu3E-P50g"/>
          <p:cNvPicPr/>
          <p:nvPr/>
        </p:nvPicPr>
        <p:blipFill>
          <a:blip r:embed="rId3"/>
          <a:stretch/>
        </p:blipFill>
        <p:spPr>
          <a:xfrm>
            <a:off x="5148360" y="1341360"/>
            <a:ext cx="31716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81E8-B897-4518-93A0-3A143064F6B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http://1.bp.blogspot.com/_R3nwxscBsCw/TAM-FDuDLhI/AAAAAAAAABo/50HT07nGKE4/s1600/esquizofrenia22.jpg"/>
          <p:cNvPicPr/>
          <p:nvPr/>
        </p:nvPicPr>
        <p:blipFill>
          <a:blip r:embed="rId1"/>
          <a:srcRect l="6188" t="0" r="6188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 dos mais graves transtornos ment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também o que mais freqüentemente as pessoas identificam como loucura, pois escapa mais claramente a idéia de normal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perturbação com duração mínima de 6 meses e inclui, no mínimo, 1 mês da fase ativa, com um ou mais dos seguintes sintomas: delírios, alucinações, discurso desorganizado, comportamento amplamente desorganizado ou catatônico, sintomas negativos (DSM-IV, 2002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pt-BR" sz="1600" spc="-1" strike="noStrike">
                <a:solidFill>
                  <a:srgbClr val="000066"/>
                </a:solidFill>
                <a:latin typeface="Verdana"/>
              </a:rPr>
              <a:t>DSM-IV-TR – Manual diagnóstico de transtornos mentais. DORNELLES, Cláudia (tradução). 4 ed. Porto Alegre: Artmed, 2002. 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CCC5-F8DA-4DE3-959C-12BEBBBEDD5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tiolog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57000"/>
            <a:ext cx="83818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Esquizofrenia é um transtorno crônico e não tem causa única, pois decorre de uma combinação variável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redisposição genétic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isfunção bioquímic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Fatores fisiológico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resse psicossocia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757A-CA0D-4AAA-B98B-C3D19A2C552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pos de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ipo Paranóide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aracterística essencial é a presença de delírios e alucinações auditivas proeminentes no contexto de uma relativa preservação do funcionamento cognitivo e do afe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ipo Desorganizado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racteriza-se por discurso e comportamento desorganizados e afeto embotado ou desorganiza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8648-E335-49A9-9374-5C914C35DD6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pos de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ipo Catatônico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ipo de Esquizofrenia em que se fazem presentes pelo menos dois dos seguintes sintomas: imobilidade motora, atividade motora excessiva, negativismo extremo, peculiaridades de movimentos voluntários, ecolalia, ecoprax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ipo Indiferenciado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não são satisfeitos os critérios para os Tipos Paranóide, Catatônico ou Desorganiza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0BAB-7E4E-4928-994E-F8B3625FDFA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pos de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000" y="1557360"/>
            <a:ext cx="838188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ipo Residual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houve pelo menos um episódio de Esquizofrenia, mas o quadro clínico atual não apresenta sintomas psicóticos positivos proeminentes (delírios, alucinações, discurso ou comportamento desorganizados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istem contínuas evidências da perturbação, indicadas pela presença de sintomas negativ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315D-1B27-4625-98FE-2A34078AD76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0:01:21Z</dcterms:created>
  <dc:creator>Escolastica</dc:creator>
  <dc:description/>
  <dc:language>en-US</dc:language>
  <cp:lastModifiedBy>Mendoza</cp:lastModifiedBy>
  <dcterms:modified xsi:type="dcterms:W3CDTF">2012-02-02T08:24:00Z</dcterms:modified>
  <cp:revision>46</cp:revision>
  <dc:subject/>
  <dc:title>Psicoses: Esquizofrenia Alcoolismo</dc:title>
</cp:coreProperties>
</file>