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4AE9-A64C-4830-BDB6-1C1C540897B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2C77-AC1F-4E71-8E50-1BB097D651B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9B0B3-CF6B-47A9-8042-1B8C56439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B263F-6E53-4B60-AF09-E6116695B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5CBEE-6123-45E0-93D3-B0A8EF948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3E576-8A6A-4E4D-92BE-7CD1F91B1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13C1A-E5BA-424E-B06B-3DEB4DCDB0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5AC3E-200C-4197-888A-75D41387C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7BD57-2EEB-4B5E-94A3-1A61C8110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11B06-1CE0-4FB4-8FBA-CCC007E61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57AEF-CD54-4561-AB1C-F86E9B2229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D1431-38D1-40D7-8D2E-CC7301D6DD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19EBC-C237-4E2F-A42B-3BF4BDC71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C0AA2-D1B2-4D5B-8022-ADB2AC3E8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D706-65B8-4740-91F0-EF77807C74D6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7002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6265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nstornos alimentares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e 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somatoform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26560" y="4292280"/>
            <a:ext cx="77058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nais e sintomas da anorexia nervos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tividade física intensa e exagera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pressão, síndrome do pânico, comportamentos obsessivo-compulsiv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são distorcida do próprio corpo. Apesar de extremamente magras, essas pessoas julgam-se com excesso de pe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le extremamente seca e coberta por lanugo (pelos parecidos com a barba de milho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48E8-4FA4-4D32-8EAA-E0C8353D26C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usas da anorexia nervos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Fatores que favorecem o aparecimento da doença: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edisposição genética; e a existência de alterações neuroquímicas cerebrais, especialmente nas concentrações de serotonina e de noradrenalin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conceito atual de moda que determina a magreza absoluta como símbolo de beleza e elegânc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ressão da família, de conjuge e do grupo soci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7057-4515-4A91-B8E6-CB3C40E5B28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uli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5280" y="981000"/>
            <a:ext cx="446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utro transtorno alimentar comum é a bulimia, que se caracteriza pela ingestão de grande quantidade de alimentos, seguida por uma acção compensatória (a pessoa provoca o vômito após a ingestão de comida) pelo medo de ganhar peso, sendo comum entre as modelos e as atlet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4465-05B4-41C3-9445-FD40569FF2B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4" descr="http://t0.gstatic.com/images?q=tbn:ANd9GcTI-sRM1NuG40C0JbmO7SAZNaLCSv-rpI1eCgUXj47WsNnF26Rs"/>
          <p:cNvPicPr/>
          <p:nvPr/>
        </p:nvPicPr>
        <p:blipFill>
          <a:blip r:embed="rId1"/>
          <a:stretch/>
        </p:blipFill>
        <p:spPr>
          <a:xfrm>
            <a:off x="4932360" y="1484280"/>
            <a:ext cx="397836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uli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essoas com bulimia têm vergonha de seus sintomas, portanto, evitam comer em público e evitam lugares como praias e piscinas onde precisam mostrar o corp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À medida que a doença se desenvolve, essas pessoas só se interessam por assuntos relacionados à comida, peso e forma corporal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0B89-9D3F-4FBB-B593-0CEEB7AB600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usas de buli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sim como na anorexia, a bulimia nervosa é uma síndrome multideterminada por uma mescla de fatores biológicos, psicológicos, familiares e cultur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ênfase cultural na aparência física pode ter um papel super importan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imples desejo de emagrecer e se manter de acordo com os preceitos sociais e da moda – escravatura da belez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oblemas familiar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Baixa auto-estima e conflitos de identidade também são fatores envolvidos no desfecho desses quadr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57C9-1B69-43DC-B8BE-1D518ABEA8D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evenção do transtorno aliment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Uma diminuição na ênfase da aparência física, tanto no aspecto cultural quanto familiar, pode eventualmente reduzir a incidência desses quadro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É importante fornecer informações a respeito dos riscos de regimes rigorosos para obtenção de uma silhueta "ideal", já que os mesmos desempenham papel fundamental no desencadeamento dos transtornos alimentare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22BE-7825-4BEC-AB57-59E8D5D2135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Hiperfag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8000" y="981000"/>
            <a:ext cx="83818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a fome insaciável, fazendo com que a pessoa coma compulsivamente. A única diferença da bulimia é que o indivíduo não pensa em vomit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hiperfagia têm causas múltiplas: predisposições genéticas e constitucionais, influências socioculturais e vulnerabilidades psicológicas pesso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1B92-96C0-45BE-9459-D42F9F74FA1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2" descr="http://t1.gstatic.com/images?q=tbn:ANd9GcQNRBEZl-taE4oLL2oRBcv4Tsx5RA3sZ8L2XYcskiwHpmcDLvDS"/>
          <p:cNvPicPr/>
          <p:nvPr/>
        </p:nvPicPr>
        <p:blipFill>
          <a:blip r:embed="rId1"/>
          <a:stretch/>
        </p:blipFill>
        <p:spPr>
          <a:xfrm>
            <a:off x="2916360" y="3429000"/>
            <a:ext cx="4740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Hiperfag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000" y="1628640"/>
            <a:ext cx="838188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obrança exagerada do controle alimentar por familiares, vigilância insistente sobre a dieta, críticas pretensamente construtivas, comparações maldosas com pessoas “esbeltas e elegantes” acabam, muitas vezes,  causando efeito contrário do que esperavam esses familiares, ou seja, a pessoa vigiada acaba desenvolvendo algum transtorno alimentar e, entre eles, com muita freqüência a hiperfagi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82B6-84B2-44FD-8374-8842770F790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1581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NSTORNOS SOMATOFORMES OU HIPOCONDRIAS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0ABE-F385-4812-B8F0-5ED3CA2EC8A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2" descr="http://t3.gstatic.com/images?q=tbn:ANd9GcQz8eS9hY4I8Zk4EiUONLAYMo6NUm5AMsGq8tUunlvUSO5FkKfI"/>
          <p:cNvPicPr/>
          <p:nvPr/>
        </p:nvPicPr>
        <p:blipFill>
          <a:blip r:embed="rId1"/>
          <a:srcRect l="0" t="3178" r="0" b="3178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nstornos somatoform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pacientes com esse tipo de transtorno são aqueles que vão repetidamente à clínica geral, com queixas de problemas físicos que não são identificados como de causa orgânica, o que não lhes satisfaz, fazendo com que solicitem continuamente novas investigações, mudando de um médico para outr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ó conseguem identificar seu “mal estar” como tendo origem no corpo, o que faz com que, geralmente, resistam a um encaminhamento para o setor de Saúde Mental, ou se sintam, até mesmo, ofendid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3E73-328A-4C3A-A3A3-E633476B82C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nstornos alimentares e somatoform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Transtornos alimentare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Transtornos somatoformes/hipocondrías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D043-0FF7-4A78-8B07-DEC482ED5CE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nstornos somatoform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143000"/>
            <a:ext cx="837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paciente pode apresentar queixas de dores que não passam, problemas gastrintestinais, cardiovasculares, respiratórios, sexuais, menstruais e outr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muitos casos, podem aparecer problemas na pel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esse grupo de transtornos, um dos mais graves é o transtorno hipocondríaco, de difícil tratamento, no qual a pessoa se encontra “convencida” de estar portando grave doença (câncer, Sida), buscando todos os recursos para confirmá-la. Em muitos casos, estes pacientes chegam ao cúmulo de serem submetidos à cirurgia, sem necessi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DB41-4181-4AA8-882C-6356BEBF480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usas de hipocondr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hipocondria pode surgir subitamente sem nenhum desencadeante identificado, e ser estável ao longo do tempo, ou manifestar-se em sequência de um período mais vulneráve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urge muitas vezes em pessoas que sofreram uma doença orgânica durante a infância ou que contactaram durante muito tempo com familiares doentes, sobretudo, se houve um desfecho fat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utros factores são os desapontamentos, as rejeições, as perdas, o stress, a ansiedade, e a própria personalidade do utente, com traços de baixa auto-estima, introversão e obstin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1C20-995F-4EA2-9AC7-DD5F0B97C08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339640" y="1413000"/>
            <a:ext cx="64990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umerar os principais transtornos alimentares e somatoform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itar sinais e sintomas desses transtorn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50EC-7183-4383-8352-D3F44E0EAE5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611280" y="2781360"/>
            <a:ext cx="21193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486400" cy="1149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TORNOS ALIMENT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23AC-C2B0-45EE-9DBC-F53C873B24A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2" descr="http://t3.gstatic.com/images?q=tbn:ANd9GcS1uY0PDT3lTbOkXajKYvTgMZVzoRrZ298kuTaKhfTinbugS7hStQ"/>
          <p:cNvPicPr/>
          <p:nvPr/>
        </p:nvPicPr>
        <p:blipFill>
          <a:blip r:embed="rId1"/>
          <a:srcRect l="0" t="24268" r="0" b="24268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tornos aliment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143000"/>
            <a:ext cx="8381880" cy="32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os transtornos mentais que levam a dificuldades na alimentação, talvez o mais freqüente e grave seja a anorexia nervos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esse transtorno, a pessoa não consegue comer, emagrece exageradamente e entra, muitas vezes, em estado de desnutrição grav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uitos casos necessitam de internação para um tratamento adequad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5A86-4ECE-4793-B365-C3BC07B113F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2" descr="http://www.caltabianoelupopsicologia.com/wp-content/themes/Caltabiano-theme/timthumb.php?src=http://www.caltabianoelupopsicologia.com/wp-content/uploads/2010/09/img-transtornos_alimentares.jpg&amp;h=190&amp;w=595&amp;zc=1"/>
          <p:cNvPicPr/>
          <p:nvPr/>
        </p:nvPicPr>
        <p:blipFill>
          <a:blip r:embed="rId1"/>
          <a:stretch/>
        </p:blipFill>
        <p:spPr>
          <a:xfrm>
            <a:off x="1258920" y="4292640"/>
            <a:ext cx="634536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orexia nervos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143000"/>
            <a:ext cx="425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 pessoa se olha no espelho e, embora extremamente magra, se vê obesa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m medo de engordar, exagera na atividade física, jejua, vomita, toma laxantes e diurético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5DA1-99F6-4E94-B7DF-8D83A67433D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2" descr="http://t2.gstatic.com/images?q=tbn:ANd9GcRv_2AXA7oBYQ3Ut9qM2F7uvWI1fCOKnzuPObWhEqkjigUV7NkSHQ"/>
          <p:cNvPicPr/>
          <p:nvPr/>
        </p:nvPicPr>
        <p:blipFill>
          <a:blip r:embed="rId1"/>
          <a:stretch/>
        </p:blipFill>
        <p:spPr>
          <a:xfrm>
            <a:off x="4551480" y="1916280"/>
            <a:ext cx="43099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orexia nervos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000" y="980640"/>
            <a:ext cx="83818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É um transtorno que se manifesta principalmente em mulheres jovens, embora sua incidência esteja aumentando também em homen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CABE-D67A-46BF-802A-B7C7C38814E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4" descr="http://t0.gstatic.com/images?q=tbn:ANd9GcRJDDk4eNF_B2HXsgrGtqJo_iXmZqgyoewtCJ_fM0HALZCkKnUX"/>
          <p:cNvPicPr/>
          <p:nvPr/>
        </p:nvPicPr>
        <p:blipFill>
          <a:blip r:embed="rId1"/>
          <a:stretch/>
        </p:blipFill>
        <p:spPr>
          <a:xfrm>
            <a:off x="5364000" y="2421000"/>
            <a:ext cx="3645000" cy="3522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t2.gstatic.com/images?q=tbn:ANd9GcRJEK9D69kzQfCFZE6rr-DL7bm-UtO30PbDmm521fHG4cdtrlg"/>
          <p:cNvPicPr/>
          <p:nvPr/>
        </p:nvPicPr>
        <p:blipFill>
          <a:blip r:embed="rId2"/>
          <a:stretch/>
        </p:blipFill>
        <p:spPr>
          <a:xfrm>
            <a:off x="382680" y="2133720"/>
            <a:ext cx="442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orexia nervos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Às vezes, os pacientes anoréxicos chegam rapidamente à caquexia, um grau extremo da desnutrição e o índice de mortalidade chega a atingir 15% a 20% dos caso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72CB-10FA-4D95-956F-A92C2C14122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2" descr="http://t0.gstatic.com/images?q=tbn:ANd9GcRjbc6gMWb07PlwG6xUAxmDVmZrVeFGZ9v7BJIBb617TTXKx7_I"/>
          <p:cNvPicPr/>
          <p:nvPr/>
        </p:nvPicPr>
        <p:blipFill>
          <a:blip r:embed="rId1"/>
          <a:stretch/>
        </p:blipFill>
        <p:spPr>
          <a:xfrm>
            <a:off x="2843280" y="2997360"/>
            <a:ext cx="44164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nais e sintomas da anorexia nervos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rda exagerada de peso em curto espaço de tempo sem nenhuma justificativa. Nos casos mais graves, o Índice de Massa Corpórea (IMC) chega a ser inferior a 17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cusa em participar das refeições familiares. Os anoréxicos alegam que já comeram e que não estão mais com fom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eocupação exagerada com o valor calórico dos alimentos. Esses pacientes chegam a ingerir apenas 200kcal por d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terrupção do ciclo menstrual (amenorréia) e regressão das características feminin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AAD8-5AD9-4F67-A0C7-C76668CFC5B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0:03:12Z</dcterms:created>
  <dc:creator>Escolastica</dc:creator>
  <dc:description/>
  <dc:language>en-US</dc:language>
  <cp:lastModifiedBy>Mendoza</cp:lastModifiedBy>
  <dcterms:modified xsi:type="dcterms:W3CDTF">2012-02-02T08:27:47Z</dcterms:modified>
  <cp:revision>27</cp:revision>
  <dc:subject/>
  <dc:title>Transtornos alimentares Transtornos somatoformes, hipocondriase</dc:title>
</cp:coreProperties>
</file>