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DB30-2596-4588-8DF3-702C458545D6}"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486F-5EFD-43FA-AEF0-0F9DE1C30288}"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E9B8-6ED9-4BD6-B10D-C527CA58B425}"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D3CD0B-8A70-48DF-BA34-7E5F606DC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2B5C59-3BEE-4091-9F63-A80A1E137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530EC9-88E5-47FF-9BAE-87B763F17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9AFCFA-A931-4A1F-B5D6-B05E5461F9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C69400-8BA4-47D0-A3F4-BF2CDF8B4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A3A419-D635-453B-9FE5-A0F95928D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FBB226-40E9-44D6-9023-3B1849DCA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017DA1-AA12-47CC-838D-AB1138CD6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E55B93-0B17-414C-A3E9-F22E3A639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A6148E-2DA3-444D-AD8C-39A0851622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E09DD7-ECC7-43D1-8463-6449BABAB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1B55A4-309A-4638-AAF1-F0A8A3429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D89C-181E-4448-B9F4-7CDEF2187A20}"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844640"/>
            <a:ext cx="626616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br>
              <a:rPr sz="3200"/>
            </a:br>
            <a:r>
              <a:rPr b="1" lang="pt-PT" sz="3200" spc="-1" strike="noStrike">
                <a:solidFill>
                  <a:srgbClr val="ffffff"/>
                </a:solidFill>
                <a:latin typeface="Verdana"/>
              </a:rPr>
              <a:t>Demência, </a:t>
            </a:r>
            <a:br>
              <a:rPr sz="3200"/>
            </a:br>
            <a:r>
              <a:rPr b="1" lang="pt-PT" sz="3200" spc="-1" strike="noStrike">
                <a:solidFill>
                  <a:srgbClr val="ffffff"/>
                </a:solidFill>
                <a:latin typeface="Verdana"/>
              </a:rPr>
              <a:t>Demências vasculares e</a:t>
            </a:r>
            <a:br>
              <a:rPr sz="3200"/>
            </a:br>
            <a:r>
              <a:rPr b="1" lang="pt-BR" sz="3200" spc="-1" strike="noStrike">
                <a:solidFill>
                  <a:srgbClr val="ffffff"/>
                </a:solidFill>
                <a:latin typeface="Verdana"/>
              </a:rPr>
              <a:t>Doença de </a:t>
            </a:r>
            <a:r>
              <a:rPr b="1" lang="pt-PT" sz="3200" spc="-1" strike="noStrike">
                <a:solidFill>
                  <a:srgbClr val="ffffff"/>
                </a:solidFill>
                <a:latin typeface="Verdana"/>
              </a:rPr>
              <a:t>Alzheimer </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560" y="4292280"/>
            <a:ext cx="770580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ipos de demências</a:t>
            </a:r>
            <a:endParaRPr b="1" lang="en-US" sz="3200" spc="-1" strike="noStrike">
              <a:solidFill>
                <a:srgbClr val="ffffff"/>
              </a:solidFill>
              <a:latin typeface="Verdana"/>
            </a:endParaRPr>
          </a:p>
        </p:txBody>
      </p:sp>
      <p:sp>
        <p:nvSpPr>
          <p:cNvPr id="12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ipos de Demênci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das maneiras de classificar as Demências é quanto à caus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Galton (1999) as freqüências relativas das causas de demência diferem com a idade, mas, de qualquer forma, a Doença de Alzheimer é a causa mais comum, tanto em menores quanto em maiores de 65 an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genética das demências, como por exemplo, a Doença de Alzheimer, juntamente com outras causas mais raras, é mais freqüente no grupo etário mais jovem.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2DF-7FAE-4176-B1F5-9275F2C9E1F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tipos de demências</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7C52-2C7A-4B61-91A5-3D8679551A6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aphicFrame>
        <p:nvGraphicFramePr>
          <p:cNvPr id="133" name=""/>
          <p:cNvGraphicFramePr/>
          <p:nvPr/>
        </p:nvGraphicFramePr>
        <p:xfrm>
          <a:off x="826920" y="1197000"/>
          <a:ext cx="7417080" cy="5037120"/>
        </p:xfrm>
        <a:graphic>
          <a:graphicData uri="http://schemas.openxmlformats.org/drawingml/2006/table">
            <a:tbl>
              <a:tblPr/>
              <a:tblGrid>
                <a:gridCol w="3942000"/>
                <a:gridCol w="1622520"/>
                <a:gridCol w="1852560"/>
              </a:tblGrid>
              <a:tr h="56196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Calibri"/>
                        </a:rPr>
                        <a:t>Tabela 1 - Freqüência dos tipos de demência*</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0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eno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ai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oença de Alzheime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3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Demência Vascula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8%</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Fronto-Temporal</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2%</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corpos de Lewy</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7%</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Outr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9%</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 (HENRY BRODATY, 200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3C67-958A-4704-B953-4E7CA7379D5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7" name="Picture 2" descr="papel de parede de paisagem"/>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9" name=""/>
          <p:cNvSpPr txBox="1"/>
          <p:nvPr/>
        </p:nvSpPr>
        <p:spPr>
          <a:xfrm>
            <a:off x="324000" y="981000"/>
            <a:ext cx="5760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o tipo mais comum de demência. As pessoas com algum tipo de prejuízo cognitivo representam 5-10% da população com 65 anos ou mais e, entre essas, mais de 50% dos casos são devidos à DA (JELLINGER, 199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vada incidência, avanços terapêuticos e perspectivas otimistas com relação às novas drogas ativas no SNC tem levado a grande interesse no diagnóstico precoce dessa patolog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7B5-A505-4FA3-8784-6648973DEBC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2" name="Picture 1" descr="http://www.ghente.org/imagens/ciencia/alois_alzheimer.jpg"/>
          <p:cNvPicPr/>
          <p:nvPr/>
        </p:nvPicPr>
        <p:blipFill>
          <a:blip r:embed="rId1"/>
          <a:stretch/>
        </p:blipFill>
        <p:spPr>
          <a:xfrm>
            <a:off x="6227640" y="1268280"/>
            <a:ext cx="2592360" cy="3703680"/>
          </a:xfrm>
          <a:prstGeom prst="rect">
            <a:avLst/>
          </a:prstGeom>
          <a:ln w="0">
            <a:noFill/>
          </a:ln>
        </p:spPr>
      </p:pic>
      <p:sp>
        <p:nvSpPr>
          <p:cNvPr id="143" name="Retângulo 6"/>
          <p:cNvSpPr/>
          <p:nvPr/>
        </p:nvSpPr>
        <p:spPr>
          <a:xfrm>
            <a:off x="6191280" y="5013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lemão, Psiquiatra e Neuropatologista descreveu a DA em 19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45"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Na Doença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B553-66ED-4E8C-AA34-920D104DF16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8"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49"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da DA de maior evidência até o momento diz respeito à mutações nos genes da presenilina I e II e no gene da proteína precursora do amilóide (Amyloid Precursor Protein-APP), confirmando, assim, a hipótese do depósito da substância amilóide para o surgimento da 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quisa sugere que o acúmulo do peptídeo beta-amilóide, por superprodução ou por incapacidade de degradação, levaria ao acúmulo de substância amilóide, causando as chamadas placas amilóides no tecido cerebral, causando a morte celular (PLASS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DF33-8123-43DE-B2F4-186F67B796C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la dificuldade de se obter evidências patológicas diretas da presença da DA procura-se, no afã de ter um diagnóstico precoce, avaliar cuidadosamente o Comprometimento Cognitivo Leve (CCL), que representa um déficit nas tarefas de memória episódica (do dia-a-dia), mas que é ainda insuficiente para preencher os critérios de diagnóstico para dem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ada vez mais evidente que muitas das pessoas com CCL podem se encontrar em um estágio pré-clínico da DA e que essa progressão até a demência plena poderá levar vários anos (PETERSEN, 1999).</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331A-9042-4B01-A7D8-B9580B9E6C9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utro esforço de diagnóstico tem sido feito com as imagens de Ressonância Magnética (RM).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udo leva a crer que pacientes com a DA nos estágios mais precoces e com CCL, podem revelar evidências de atrofia do hipocampo e da região medial do lobo, porém, até o momento, tais anormalidades não são específicas o bastante para terem valor de diagnóstico definitiv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478A-268C-4DEA-BF63-EC432ECDB83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is recentemente, pós Ressonância Magnética, recorre-se à Tomografia Computadorizada de Perfusão por Emissão de Fóton (SPECT) e Ressonância Magnética Funcional (FMR), além da Espectroscopia de Ressonância Magnética (MRE) e Tomografia por Emissão de Pósitron (PE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odos esses exames podem melhorar a exatidão diagnóstica, embora ainda não sejam específicos para DA e nem tenham validade absoluta</a:t>
            </a: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65EA-5153-472E-B2DB-852079E5578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FC23-2413-4ADA-B819-67B43B00FD7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9" name="Picture 2" descr="Imagens de paisagens em papel de parede"/>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oença de Alzheim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s vasculares;</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012E-123C-4829-8616-AD580B809A1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1"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mência Vascular é a segunda causa mais comum de demênci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apresentar início um tanto mais precoce que a Doença de Alzheimer e, ao contrário desta, os homens são mais freqüentemente afetados que as mulheres.</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ício da Demência vascular é tipicamente súbito, seguido por um curso flutuante e gradativo, caracterizado por rápidas alterações no funcionamento, ao invés de uma progressão lent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rso, entretanto, pode ser altamente variável, e um início insidioso com declínio gradual também é encontrado.</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48EC-4B3B-4E6C-B136-16D08DC452B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o diagnóstico de Demência vascular deve haver evidências laboratoriais de doença cerebrovascular consideradas relacionadas com a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inais neurológicos focais na Demência vascular incluem resposta extensora plantar, paralisia pseudobulbar, anormalidades da marcha, exagero dos reflexos tendinosos profundos ou fraqueza de uma das extremidade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ADA0-70BE-4F1A-8CD3-E6657240E73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tomografia computadorizada do crânio e a imagem por ressonância magnética evidenciam, geralmente, múltiplas lesões vasculares do córtex cerebral e estruturas subcorticai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xistem cada vez mais evidências de que a Demência Vascular possa coexistir com a DA, levando a uma confusão diagnóstica. Nesse caso as lesões vasculares contribuiriam para a gravidade da DA (SNOWDON, 1997).</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8FA6-9599-4F6A-953C-843F767460A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a diferenciação entre DA e Demência Vascular costuma ser difícil e muitos tipos de doenças vasculares do cérebro podem levar a um comprometimento da cognição suficiente para originar um quadro demenci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ssas doenças vasculares incluem: Infartos grandes, lacunares e fronteiriços e Doença de pequeno vaso (doença de Binswang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1A64-2E77-4DE3-A519-3545D786CEB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ssonância Magnética ampliou o conhecimento do padrão de lesões na demência vascular, proporcionando ainda indícios para a causa de base da demência vascu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 exemplo, múltiplos infartos grandes sugerem embolia repetida e, portanto, as investigações cardíacas devem ser direcionadas para a detecção de uma fonte de embol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infartos lacunares sugerem hipertensão mal controlada, ao passo que alterações isquêmicas sugerem doença de pequeno vaso, que pode produzir um quadro clínico de declínio gradual semelhante ao da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EE43-F5AA-4986-957C-9FD5531ECDE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rvação</a:t>
            </a:r>
            <a:endParaRPr b="1" lang="en-US" sz="3200" spc="-1" strike="noStrike">
              <a:solidFill>
                <a:srgbClr val="ffffff"/>
              </a:solidFill>
              <a:latin typeface="Verdana"/>
            </a:endParaRPr>
          </a:p>
        </p:txBody>
      </p:sp>
      <p:sp>
        <p:nvSpPr>
          <p:cNvPr id="191" name=""/>
          <p:cNvSpPr txBox="1"/>
          <p:nvPr/>
        </p:nvSpPr>
        <p:spPr>
          <a:xfrm>
            <a:off x="539640" y="1700280"/>
            <a:ext cx="8382240" cy="408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pesar de a Demência Fronto-Temporal e a Demência por corpos de Lewy não fazerem parte do conteúdo deste Módulo, tomou-se a decisão de acrescentá-los no texto de apoio para que a classificação dos tipos de demência fosse apresentada de forma complet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sim, propomos a leitura em pequenos grupos destes dois tipos de demência.</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042D-D96E-4D21-8E03-FFA129F5F24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228600"/>
            <a:ext cx="77724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 em pequenos grupos</a:t>
            </a:r>
            <a:endParaRPr b="1" lang="en-US" sz="3200" spc="-1" strike="noStrike">
              <a:solidFill>
                <a:srgbClr val="ffffff"/>
              </a:solidFill>
              <a:latin typeface="Verdana"/>
            </a:endParaRPr>
          </a:p>
        </p:txBody>
      </p:sp>
      <p:sp>
        <p:nvSpPr>
          <p:cNvPr id="195" name=""/>
          <p:cNvSpPr txBox="1"/>
          <p:nvPr/>
        </p:nvSpPr>
        <p:spPr>
          <a:xfrm>
            <a:off x="3886200" y="1828800"/>
            <a:ext cx="5029200" cy="2463840"/>
          </a:xfrm>
          <a:prstGeom prst="rect">
            <a:avLst/>
          </a:prstGeom>
          <a:noFill/>
          <a:ln w="9360">
            <a:solidFill>
              <a:srgbClr val="0000cc"/>
            </a:solidFill>
            <a:miter/>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Verdana"/>
              </a:rPr>
              <a:t>Leitura do Texto de apoio – Transtornos mentais mais frequentes (p. 11 e 12).</a:t>
            </a:r>
            <a:endParaRPr b="1" lang="en-US" sz="2800" spc="-1" strike="noStrike">
              <a:solidFill>
                <a:srgbClr val="000066"/>
              </a:solidFill>
              <a:latin typeface="Verdana"/>
            </a:endParaRPr>
          </a:p>
        </p:txBody>
      </p:sp>
      <p:sp>
        <p:nvSpPr>
          <p:cNvPr id="19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A8D6-C2B7-4343-A814-5AA3149CDDC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8" name="Picture 2" descr="http://t3.gstatic.com/images?q=tbn:ANd9GcSmVOdWeBqvsftn7Ib3XggusoTYRgRGpp1ANB8sFO6emGYqU1xw"/>
          <p:cNvPicPr/>
          <p:nvPr/>
        </p:nvPicPr>
        <p:blipFill>
          <a:blip r:embed="rId1"/>
          <a:stretch/>
        </p:blipFill>
        <p:spPr>
          <a:xfrm>
            <a:off x="457200" y="2514600"/>
            <a:ext cx="3200400" cy="3625920"/>
          </a:xfrm>
          <a:prstGeom prst="rect">
            <a:avLst/>
          </a:prstGeom>
          <a:ln w="0">
            <a:noFill/>
          </a:ln>
        </p:spPr>
      </p:pic>
      <p:sp>
        <p:nvSpPr>
          <p:cNvPr id="199" name="Retângulo 6"/>
          <p:cNvSpPr/>
          <p:nvPr/>
        </p:nvSpPr>
        <p:spPr>
          <a:xfrm>
            <a:off x="4211640" y="4365720"/>
            <a:ext cx="457200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ída a leitura, dois grupos serão sorteados para explicar, resumidamente, os dois tipos de demênc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em que consiste um quadro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itar os principais tipos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ar sinais e sintomas de demênc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C604-E281-4057-891C-15E8C132B35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2158920" cy="23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4C50-0318-4CD5-8DDB-47CC672CF5F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4" descr="http://www.papeldeparede.etc.br/wallpapers/paisagem-dos-sonhos_2402_1024x768.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mência pode ser caracterizada como um conjunto de sinais e sintomas, isto é, uma síndrome causada por alguma doença cerebral, na qual encontrarem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ões de vários aspectos do funcionamento mental, como memória, pensamento, compreensão, cálculos, capacidade de aprendizagem, orientação, linguagem e julg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há, no entanto, obnubilação (</a:t>
            </a:r>
            <a:r>
              <a:rPr b="0" lang="pt-PT" sz="2400" spc="-1" strike="noStrike">
                <a:solidFill>
                  <a:srgbClr val="000066"/>
                </a:solidFill>
                <a:latin typeface="Verdana"/>
              </a:rPr>
              <a:t>estado de perturbação da consciência, caracterizado por ofuscação da vista e obscurecimento do pensamento)</a:t>
            </a:r>
            <a:r>
              <a:rPr b="0" lang="pt-BR" sz="2400" spc="-1" strike="noStrike">
                <a:solidFill>
                  <a:srgbClr val="000066"/>
                </a:solidFill>
                <a:latin typeface="Verdana"/>
              </a:rPr>
              <a:t>.</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7F44-E920-443B-95A3-94FA352CE5A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1"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quadros de demência pode-se observar, ain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ção progressiva de comportamentos de adaptação, como o controle de esfíncteres, hábitos de higiene e alimentação e do próprio controle emocional, o que leva a maioria das pessoas a dizer que o paciente está “voltando a ser crianç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exemplos de patologias que desenvolvem quadros de demência: a Doença de Alzheimer e as demências vascular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BCB9-BBD8-4AA2-B6DE-7DF444FEE4E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5" name=""/>
          <p:cNvSpPr txBox="1"/>
          <p:nvPr/>
        </p:nvSpPr>
        <p:spPr>
          <a:xfrm>
            <a:off x="394920" y="98100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ês principais características dos quadros de demênci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juízo da memória: Varia de um esquecimento leve até o prejuízo severo a ponto de não se recordar da própria ident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de comportamento: Normalmente se caracteriza por agitação, insônia, choro fácil, comportamentos inadequados, perda da inibição social normal e 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s habilidades: São as habilidades adquiridas durante a vida, como organizar os compromissos, dirigir, vestir a roupa, cuidar da vida financeira, cozinha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03EB-2ECE-4681-86F0-B048D25C479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10 sintomas mais comuns nas demência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éficit de mem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ficuldades de executar tarefas domést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 com o vocabu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orientação no tempo e espaç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apacidade de julgar situaçõ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com o raciocínio abstra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ocar objetos em lugares equivo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humor de compor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 iniciativa – passiv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503E-AB05-4E3B-AE17-87AED122B0C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23" name=""/>
          <p:cNvSpPr txBox="1"/>
          <p:nvPr/>
        </p:nvSpPr>
        <p:spPr>
          <a:xfrm>
            <a:off x="468000" y="981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s sintomas iniciais de demência variam, mas a perda de memória em curto prazo costuma ser a característica principal ou única a ser trazida à atenção do profiss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inda assim, nem todos os problemas cognitivos nos idosos são devidos à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erguntas cuidadosas aos pacientes e aos familiares podem ajudar a determinar a natureza do comprometimento cognitivo e a estreitar o diagnóstic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9296-4B2C-40FF-9BCF-60852E708BC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8:41:34Z</dcterms:created>
  <dc:creator>Escolastica</dc:creator>
  <dc:description/>
  <dc:language>en-US</dc:language>
  <cp:lastModifiedBy>Mendoza</cp:lastModifiedBy>
  <dcterms:modified xsi:type="dcterms:W3CDTF">2012-02-02T08:05:12Z</dcterms:modified>
  <cp:revision>29</cp:revision>
  <dc:subject/>
  <dc:title>Transtornos orgânicos: Demência,  Demências vasculares e Doença de Alzheimer </dc:title>
</cp:coreProperties>
</file>