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10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3BA2-AE01-4107-A79C-EC981418E7A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C512-7D1B-4894-B16F-34093797859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3C06-7E73-42C0-A393-04E5013F86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78E3-BFB2-4E8C-ADB6-00F22C84B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12797-20B0-4280-B7D0-9D6E0E0E0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6BCFB-E517-4602-9B1F-0A18DD916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4C71-9A2A-4F7B-992C-5B29E3082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FFD0-F4A9-4CBC-B564-8EF1F3782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53C3-2CF2-4D29-AA09-2070D0445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7D9F-D528-4564-BAC3-6F4D6BE2F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D1377-7C7B-4C83-9801-16E485234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27F9-F806-480E-87C0-AC9C53CD4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B1C4-DC6B-452C-A71A-359E6339D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66F6-72AF-4F53-B2A0-01576C466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3DDA4-1330-490D-B8D5-91064A569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F3FA-ACC5-42CF-B2C4-DD84076E757A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916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b23-cmdt-conceicao-silva.rcts.pt/janela_solucao1.htm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5530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pidemiologia da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920" y="4581000"/>
            <a:ext cx="777744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primeiro Seminário Nacional de Saúde Mental ocorreu no país, dias 15 e 16 de outubro de1984, já no período pós-independênci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articiparam representantes de instituições da saúde e ONG que operavam no país na área psicossocial, identificando os seguintes problemas na área da saúde mental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entralização das estrutur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ficuldades na planificação de ações de enfrentamento pela ausência de dados sobre prevalência dos transtornos mentais no paí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2EBE-0FBE-442E-B18F-0750D94EED8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000" y="1628280"/>
            <a:ext cx="8381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rência de recursos humanos, materiais e financei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sência de sensibilidade para a saúde mental, por parte do pessoal de saúde e comun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abilidade dos quadros técnicos, na sua maioria, cooperantes estrangei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sência de colaboração multisectori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FCC8-2C23-41C0-98D2-DE5792EDEE9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360" y="105264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aquele seminário foram também feitas recomendações, com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ceder à criação de uma estrutura que organizasse, dinamizasse, coordenasse e supervisionasse as acções em saúde mental em âmbito nacio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apacitar na área da saúde mental, os diferentes quadros a operar na saúde, e/ou ainda em form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mover a investigação epidemiológica em saúde mental; 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dequar a legislação à realidade sócio-cultural de Moçambiqu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C489-6130-480E-975D-90F178C21E9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Programa Nacional de Saúde Mental de Moçambique (PNSM) foi aprovado em 1990, no XVI Conselho Coordenador do MISA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estratégia aprovada no Conselho salientava a necessidade de integração da saúde mental com os cuidados de saúde em geral e enfatizava a importância da promoção e da prevenção, da humanização dos cuidados, do treino formal e contínuo de profissionais de saúde mental, da investigação, da colaboração intersectorial, da implementação de legislação e da supervisão e avaliação dos processos inici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95C3-23C4-44C8-8CB2-7653EC0A78F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560" y="981000"/>
            <a:ext cx="5051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seu lançamento, o PNSM contava com 1 psiquiatra nacional e 4 infra-estruturas, ainda datadas do período colonial e em condições muito precári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sp. Psiq. do Infulene, em Mapu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sp. Psiq. de Nampul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fermaria de Psiquiatria no Hosp. Central da Bei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spital Asilar de Chissuio, em Man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44A6-9E5F-4A44-971B-45967BFC86C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http://noticias.sinfic.pt/pls/notimz2/docs/oficiais/s2/inful1.jpg"/>
          <p:cNvPicPr/>
          <p:nvPr/>
        </p:nvPicPr>
        <p:blipFill>
          <a:blip r:embed="rId1"/>
          <a:stretch/>
        </p:blipFill>
        <p:spPr>
          <a:xfrm>
            <a:off x="5219640" y="2205000"/>
            <a:ext cx="3781440" cy="2519280"/>
          </a:xfrm>
          <a:prstGeom prst="rect">
            <a:avLst/>
          </a:prstGeom>
          <a:ln w="0">
            <a:noFill/>
          </a:ln>
        </p:spPr>
      </p:pic>
      <p:sp>
        <p:nvSpPr>
          <p:cNvPr id="150" name="Espaço Reservado para Conteúdo 2"/>
          <p:cNvSpPr/>
          <p:nvPr/>
        </p:nvSpPr>
        <p:spPr>
          <a:xfrm>
            <a:off x="5435640" y="4653000"/>
            <a:ext cx="3529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Hospital Psiquiátrico do Infulene-Mapu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000" y="1700280"/>
            <a:ext cx="838188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primeira tarefa do PNSM foi promover curso de formação de quadros médios para actuar na saúde mental, cujas competências os habilitavam a fazer diagnóstico psiquiátrico e prescrever psicotrópicos no formulário nacional de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1996, formaram-se 34 técnicos de psiquiatria que, até hoje, assumem a bandeira da saúde mental nas 11 províncias do país, e estão a ser integrados neste momento os 31 técnicos de psiquiatria formados nos últimos 3 an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39C4-2A71-41A3-B9C8-CF8F0D7025D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º de Unidades Sanitárias com Serviço de Saúde Mental, Moçambiqu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CFC8-4577-4D69-A94A-2F7CEB471AC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11280" y="1393920"/>
          <a:ext cx="8281800" cy="4829040"/>
        </p:xfrm>
        <a:graphic>
          <a:graphicData uri="http://schemas.openxmlformats.org/drawingml/2006/table">
            <a:tbl>
              <a:tblPr/>
              <a:tblGrid>
                <a:gridCol w="2592360"/>
                <a:gridCol w="1944720"/>
                <a:gridCol w="1871640"/>
                <a:gridCol w="1873080"/>
              </a:tblGrid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íncias/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48744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puto cida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4863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puto Provínc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z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hambane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fal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ic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te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ambéz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pul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ass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4863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bo Delgad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cursos Humanos em Saúde Mental – Moçambique, 2005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9DBD-142D-4EA7-BE07-0D4DD728DD5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1484280"/>
          <a:ext cx="8609040" cy="3645000"/>
        </p:xfrm>
        <a:graphic>
          <a:graphicData uri="http://schemas.openxmlformats.org/drawingml/2006/table">
            <a:tbl>
              <a:tblPr/>
              <a:tblGrid>
                <a:gridCol w="2376360"/>
                <a:gridCol w="934920"/>
                <a:gridCol w="505080"/>
                <a:gridCol w="576000"/>
                <a:gridCol w="647640"/>
                <a:gridCol w="576360"/>
                <a:gridCol w="576360"/>
                <a:gridCol w="503280"/>
                <a:gridCol w="720720"/>
                <a:gridCol w="760320"/>
                <a:gridCol w="432000"/>
              </a:tblGrid>
              <a:tr h="144684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íncias/No. profission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81000" rIns="81000" tIns="40680" bIns="40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1000" marR="81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64404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quiatr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(3**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**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**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912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cólog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64404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c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quiatr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2*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57096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</a:tbl>
          </a:graphicData>
        </a:graphic>
      </p:graphicFrame>
      <p:sp>
        <p:nvSpPr>
          <p:cNvPr id="163" name="Retângulo 6"/>
          <p:cNvSpPr/>
          <p:nvPr/>
        </p:nvSpPr>
        <p:spPr>
          <a:xfrm rot="16200000">
            <a:off x="2685600" y="1877760"/>
            <a:ext cx="11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uto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ângulo 7"/>
          <p:cNvSpPr/>
          <p:nvPr/>
        </p:nvSpPr>
        <p:spPr>
          <a:xfrm rot="16200000">
            <a:off x="3537000" y="211320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ângulo 8"/>
          <p:cNvSpPr/>
          <p:nvPr/>
        </p:nvSpPr>
        <p:spPr>
          <a:xfrm rot="16200000">
            <a:off x="3684240" y="1979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hamba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tângulo 9"/>
          <p:cNvSpPr/>
          <p:nvPr/>
        </p:nvSpPr>
        <p:spPr>
          <a:xfrm rot="16200000">
            <a:off x="4623840" y="2040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ofa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tângulo 11"/>
          <p:cNvSpPr/>
          <p:nvPr/>
        </p:nvSpPr>
        <p:spPr>
          <a:xfrm rot="16200000">
            <a:off x="5142240" y="2009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an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tângulo 12"/>
          <p:cNvSpPr/>
          <p:nvPr/>
        </p:nvSpPr>
        <p:spPr>
          <a:xfrm rot="16200000">
            <a:off x="5871600" y="20667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e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tângulo 13"/>
          <p:cNvSpPr/>
          <p:nvPr/>
        </p:nvSpPr>
        <p:spPr>
          <a:xfrm rot="16200000">
            <a:off x="6162840" y="20253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ambéz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ângulo 14"/>
          <p:cNvSpPr/>
          <p:nvPr/>
        </p:nvSpPr>
        <p:spPr>
          <a:xfrm rot="16200000">
            <a:off x="6837480" y="20505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mpu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ângulo 15"/>
          <p:cNvSpPr/>
          <p:nvPr/>
        </p:nvSpPr>
        <p:spPr>
          <a:xfrm rot="16200000">
            <a:off x="7590960" y="19440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b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g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tângulo 16"/>
          <p:cNvSpPr/>
          <p:nvPr/>
        </p:nvSpPr>
        <p:spPr>
          <a:xfrm rot="16200000">
            <a:off x="8272080" y="21297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ias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tângulo 17"/>
          <p:cNvSpPr/>
          <p:nvPr/>
        </p:nvSpPr>
        <p:spPr>
          <a:xfrm>
            <a:off x="1258920" y="5516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*) Maputo Província; (**) Quadros Estrangeiro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921800" cy="936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s Mentais em Moçambique, 2008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Object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070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portância da Epidemiologia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8000" y="1484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m havido um aumento dramático na incidência de transtornos mentais, no mundo, fazendo com que a importância deste sector da saúde tenha crescido na agenda dos planeadores e polític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o registo dos casos, da contextualização destes e de seus desdobramentos é fundamental à compreensão técnico-científica dos profissionais e da Ciência, bem como à gestão dos serviços de saúde mental (tomada de decisão, priorização de acçõe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3ECE-86DA-4E6F-86C1-257D8B3C903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pidemiologia da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197000"/>
            <a:ext cx="83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Conceit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 Saúde Mental em Moçambiqu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spectos éticos na prestação de cuidados ao utente com transtorno mental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Equipa que trabalha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em Saúde Mental e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tribuiçõ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9FC6-CA11-468C-960A-A4629C3ECBE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2" descr="http://t3.gstatic.com/images?q=tbn:ANd9GcQltXYPMfdJLRMf58_4C3cf3lhu4Uf0nmaaup8sGWRt166vroERAAbKagkj"/>
          <p:cNvPicPr/>
          <p:nvPr/>
        </p:nvPicPr>
        <p:blipFill>
          <a:blip r:embed="rId1"/>
          <a:stretch/>
        </p:blipFill>
        <p:spPr>
          <a:xfrm>
            <a:off x="5003640" y="3068640"/>
            <a:ext cx="3544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epidemiológicos da 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njuntura socioeconômica de Moçambique concorre para o elevado número de casos, bem como o contexto político de pós-independência (pobreza extrema, reflexos psicológicos da guerr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rupos sociais que, pelas suas características de desenvolvimento e/ou situacionais, se encontram em maior risco para os transtornos mentai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rianças órfãs (pela guerra e HIV/sida, principalmente), vítimas de abuso sexual e violência, portadoras de deficiência fís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s, mulheres vítimas de violência sexual e domést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ilhos de mães com deficiência de io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A5F5-D656-4EEB-A2BD-8763D6CA829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iclo vicioso da pobreza e perturbação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7B8C-BD52-430E-923E-68752836413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http://www.misau.gov.mz/var/corporate/storage/images/media/images/ciclo_vicioso_da_pobreza_e_perturbacao_mental/3125-2-por-MZ/ciclo_vicioso_da_pobreza_e_perturbacao_mental.gif"/>
          <p:cNvPicPr/>
          <p:nvPr/>
        </p:nvPicPr>
        <p:blipFill>
          <a:blip r:embed="rId1"/>
          <a:stretch/>
        </p:blipFill>
        <p:spPr>
          <a:xfrm>
            <a:off x="1116000" y="1341360"/>
            <a:ext cx="66834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847C-2DA1-48BF-AEB1-56A2B86C097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tângulo 5"/>
          <p:cNvSpPr/>
          <p:nvPr/>
        </p:nvSpPr>
        <p:spPr>
          <a:xfrm>
            <a:off x="4284720" y="1341360"/>
            <a:ext cx="4572000" cy="44830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 comum que algumas pessoas achem “graça” do indivíduo desorientado, muitas vezes ironizando falas e comportamentos 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e apresente. Esta, obviamente, não deve ser a atitude do enfermeiro geral, pois por mais desorientado que esteja, o paciente percebe esse tipo de reacção e sente-se bastante desampar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8992-9BEC-4E77-BF27-1339378D870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o Explicativo 3 (Ênfase) 5"/>
          <p:cNvSpPr/>
          <p:nvPr/>
        </p:nvSpPr>
        <p:spPr>
          <a:xfrm>
            <a:off x="2627280" y="1268280"/>
            <a:ext cx="6265800" cy="374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2262" y="3073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comum pensarem que um paciente nunca se lembra do que fez durante um surto. No entanto, isso não é verdade. Após uma crise, apresentando-se mais controlada, uma paciente passou a recusar a atenção de uma enfermeira. Quando se perguntou a razão disso, ela explico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la estava zombando de mim quando eu estava falando bobagens..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ctualmente, existe pouca actividade de advocacia e legislação levada a efeito pelo governo de Moçambique no âmbito da saúde ment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Há déficit de reconhecimento da importância da saúde mental pela sociedade civil e pelos responsáveis das instituições da saúd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Relacionado com isto, estão as questões ligadas ao reconhecimento dos direitos humanos dos doentes mentais, à discriminação e ao estigm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1817-109C-4152-818D-623E8271848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Mesmo no sector formal de cuidados, a falta de suporte psicossocial conduz ao fenómeno denominado “porta giratória”, em que as recaídas dos pacientes são frequentes e este entra no circuito internamento-alta-descompensação-internament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e fenómeno reforça as crenças acerca da natureza incurável das doenças mentais e dos fracos resultados terapêuticos do sistema psiquiátrico convencional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848D-7739-49BF-819E-74B6A62E3AF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000" y="1143000"/>
            <a:ext cx="849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Moçambique, não existe legislação neste âmbito, e também há desconhecimento das linhas de orientação universais da defesa dos direitos humanos dos doentes ment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entanto, o PNSM desenvolveu um draft de uma lei de saúde men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 draft representa oportunidade única de assegurar que seu desenvolvimento esteja conforme os 10 princípios básicos dos cuidados em saúde mental e os princípios internacionais de regulamentação dos direitos das pessoas com transtornos ment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68FD-4532-4495-B04E-7CA5FD50657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incípios internacionais de regulamentação dos direitos das pessoas com transtornos mentai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1991, os Princípios das Nações Unidas para a Proteção de Pessoas com Enfermidade Mental e a Melhoria da Atenção à Saúde Mental (Princípios ASM) estabeleceram padrões mínimos de direitos humanos para a prática no campo da saúde mental.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rincípios ASM têm funcionado como um marco referencial para a definição de legislação de saúde mental em muitos país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licam-se, genericamente, a pessoas com transtornos mentais, estejam elas ou não em hospitais psiquiátric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B6A7-9E44-44CE-A255-5EC21688656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4920" y="1268280"/>
            <a:ext cx="8381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z Princípios Básic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. Promoção da saúde mental e prevenção dos transtornos mentai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2. Acesso à atenção básica em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3. Avaliações de saúde mental em conformidade com princípios internacionalmente acei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4. Cláusula de tipo menos restritivo de atenção à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5. Autodeterminação:O tratamento sem autorização de um corpo legalmente constituído só deve ser instituído, estritamente, em emergências, e somente enquanto durar a emerg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3638-0ECB-4C51-8488-0B3B857AE56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1092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inuação 10 Princípios Básic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6. Direito a ser assistido no exercício da autodetermin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7. Disponibilidade de procedimento de revisão: as entidades de revisão de saúde mental devem ter poderes estatutários para obrigar o cumprimento das disposições da legislação de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8. Mecanismo automático de revisão periód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9. Tomador de decisão qualificado (tomar suas próprias decisões, baseado no direito à informaçã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0. Respeito a lei em vigor no paí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                         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(WHO, 1996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648B-FBE7-4B3D-A7AF-A7FD0004D5D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35280" y="1557360"/>
            <a:ext cx="701496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ceituar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conhecer a importância da epidemiologia na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aspectos gerais da atenção a saúde mental em Moçambique (serviços, recursos humanos, epidemiologia, polític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26FA-1897-4C09-B138-CB0CA795FC1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492280"/>
            <a:ext cx="18716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stigma, a discriminação e a marginalização que ainda impregnam a área da saúde mental, aumentam a probabilidade de atropelo aos direitos humanos dos portadores de doença men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r outro lado, a fraca capacidade de afirmação por parte desta população agrava ainda mais este problema, conduzindo a situações gritantes de violação de direitos humanos e civ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por esta razão que se torna imperioso que exista um quadro legal que proteja os direitos destas pesso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92F0-698C-4365-AEEB-4F2FB532984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Equipa que trabalha em Saúde Mental e atribuiçõ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4000" y="1125360"/>
            <a:ext cx="8586720" cy="49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acordo com a Estratégia e Plano de Acção para a Saúde Mental – 2015, o MISAU estabeleceu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A reformulação da carreira de “Técnicos de Psiquiatria e Saúde Mental” torna-se imperiosa e deveria contemplar a seguinte estrutura: um nível médio de entrada na carreira, vocacionado para os cuidados primários, secundários e terciários; e um nível superior, correspondendo à especialização dos Clínicos Gerais em Psiquiatria e Saúde Mental em Programas de Pós-Graduação, Psicólogos Clínicos, Terapeutas Ocupacionais e Enfermeiros Especializados em Psiquiatria e Saúde Mental no Instituto Superior de Ciências da Saúde, vocacionados para a prestação de cuidados nas unidades sanitárias de nível terciário e quaternário”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774C-932B-4AF8-9748-C6F3E7ADD31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É preciso defender a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52D2-DB9A-40BC-9A75-1936C5E3A93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http://www2.portalminassaude.com.br/javascript/tiny_mce/plugins/uploaded/Sanatorio-%C3%A0-reforma---foto.jpg"/>
          <p:cNvPicPr/>
          <p:nvPr/>
        </p:nvPicPr>
        <p:blipFill>
          <a:blip r:embed="rId1"/>
          <a:stretch/>
        </p:blipFill>
        <p:spPr>
          <a:xfrm>
            <a:off x="2470320" y="1384200"/>
            <a:ext cx="40464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4920" y="980640"/>
            <a:ext cx="8381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Organização Mundial de Saúde (OMS) afirma que não existe definição "oficial" para saúde mental. Porém, afirma-s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ferenças culturais, julgamentos subjetivos e teorias relacionadas afetam o modo como a "saúde mental" é defini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úde mental é um termo usado para descrever o nível de qualidade de vida cognitiva ou emocional dos indivídu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saúde mental pode incluir a capacidade de um indivíduo de apreciar a vida e procurar um equilíbrio entre as atividades e os esforços para atingir a resiliência psicológica. 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1052-4793-469D-B3CE-75D001F9FCD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 o que é Resiliência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205000"/>
            <a:ext cx="8381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É a habilidade de persistir nos momentos difíceis, mantendo a esperança e a saúde mental. Pessoas resilientes se tornam mais fortes após situações difícei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or que isso acontece?  Porque essas pessoas desenvolvem confiança em si, aprendendo novas formas de lidar com os conflit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B12A-0267-46BD-8AB5-088415A8FE2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9" descr="http://www.eb23-cmdt-conceicao-silva.rcts.pt/J028887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981000"/>
            <a:ext cx="792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ili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m geral, a resiliência depende de condições psicológicas internas e extern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nível interno são favorecidas as pessoas otimistas, que assumem a responsabilidade pelas próprias escolhas, que prezam a autonomia, que estabelecem vínculos sociais e familiares positivos e que são flexíveis no que diz respeito à mudança de posicionamentos, sentimentos e pensa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nível das condições externas estão as relações positivas, àquelas que promovem suporte afetivo/material, acolhimento e cumplic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D6C2-1F58-4570-9B7A-EA376E3D912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dmite-se, entretanto, que o conceito de Saúde Mental é mais amplo que a ausência de transtornos mentais“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úde Mental é o equilíbrio emocional entre o patrimônio interno e as exigências ou vivências externas. É a capacidade de administrar a própria vida e as suas emoções dentro de um amplo espectro de variações, sem contudo perder o valor do real e do precioso. É ser capaz de ser sujeito de suas próprias ações sem perder a noção de tempo e espaço. É buscar viver a vida na sua plenitude máxima, respeitando o legal e o outro” (Dr. Loruss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9275-716E-494D-9528-F4B3EE13368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000" y="1988640"/>
            <a:ext cx="838188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291600" indent="-2916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aúde Mental é estar de bem consigo e com os outros. É aceitar as exigências da vida. Saber lidar com as boas emoções e também com as desagradáveis: alegria/tristeza; coragem/medo; amor/ódio; serenidade/raiva; ciúmes; culpa; frustrações. É reconhecer seus limites e buscar ajuda quando necessário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5FC2-21A0-4E76-A798-34E93E12B86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1052640"/>
            <a:ext cx="511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Seis aspectos foram identificados como critérios para se ter saúde mental: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Atitudes positivas de si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Crescimento, desenvolvimento e auto-realização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Integração e resposta emocional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Autonomia e autodeterminação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Percepção da realidade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Domínio ambiental e competência social; 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CA9E-B151-4DE4-B29F-6EFCCE74159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2" descr="http://www.solidario.blog.br/wp-content/uploads/2011/10/sa%C3%BAde-mental.jpg"/>
          <p:cNvPicPr/>
          <p:nvPr/>
        </p:nvPicPr>
        <p:blipFill>
          <a:blip r:embed="rId1"/>
          <a:srcRect l="5584" t="0" r="5584" b="0"/>
          <a:stretch/>
        </p:blipFill>
        <p:spPr>
          <a:xfrm>
            <a:off x="4932360" y="2060640"/>
            <a:ext cx="404352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0:37Z</dcterms:created>
  <dc:creator>Escolastica</dc:creator>
  <dc:description/>
  <dc:language>en-US</dc:language>
  <cp:lastModifiedBy>Mendoza</cp:lastModifiedBy>
  <dcterms:modified xsi:type="dcterms:W3CDTF">2012-02-02T07:46:06Z</dcterms:modified>
  <cp:revision>99</cp:revision>
  <dc:subject/>
  <dc:title>Epidemiologia da Saúde Mental</dc:title>
</cp:coreProperties>
</file>