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7A67-BFA3-4FEF-B366-C0FA6EBE402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1DE1-846C-425C-A657-EB065C1F076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53188-2B8C-4543-B5B3-46D1425EE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F3E6E-8A71-479A-9D06-188009348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BF8F2-DEDF-41BB-AF1C-E49D3CC1F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9BD8D-02B1-4B75-8F62-6C035300E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51FD0-1264-4BA3-91AB-163807514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8F400-0D10-442B-B8BF-E2D01BBAE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C1429-A6F9-4AE1-8F2A-1E761AE39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C0D8D-9CA4-449C-846A-CDB6D356B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08838-C2B7-4B5B-AD97-4B21D3894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6D895-0238-481D-82AA-EE4987162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5B527-F1F4-4444-9FC2-6EC2C94DD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331EB-0E77-4162-AE4D-1BAC9DD3F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F773-967C-4737-B31F-1BA2E687B56A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55640" y="1700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6265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Formas de tratamento para os transtornos mentais mais frequentes: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Medicamentoso e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sicossocial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55640" y="4292280"/>
            <a:ext cx="7704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e demênc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DFB8-866B-4B87-8791-BCA8B8CCEB2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2" descr="http://3.bp.blogspot.com/_gRlHC1QvTv8/TSzfXTnvrPI/AAAAAAAABto/jPaNzLGE_oQ/s1600/Dona_Miguelina-felipehenriquegavioli.jpg"/>
          <p:cNvPicPr/>
          <p:nvPr/>
        </p:nvPicPr>
        <p:blipFill>
          <a:blip r:embed="rId1"/>
          <a:stretch/>
        </p:blipFill>
        <p:spPr>
          <a:xfrm>
            <a:off x="3276720" y="1125360"/>
            <a:ext cx="345600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a Doença de Alzheimer (DA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412640"/>
            <a:ext cx="823752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inda não há cura para a DA. Assim, o tratamento é para minimizar os danos e a progressão da doença e </a:t>
            </a: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proteger o sistema nervos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mo a DA se manifesta por alterações do comportamento e afeta o cérebro, as especialidades médicas que tratam de indivíduos com DA são a Psiquiatria, a Neurologia e a Geriatri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1692-A714-48C9-B1A9-DFAE99F5FB4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CaixaDeTexto 5"/>
          <p:cNvSpPr/>
          <p:nvPr/>
        </p:nvSpPr>
        <p:spPr>
          <a:xfrm rot="16200000">
            <a:off x="-46692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a Doença de Alzheimer (DA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26920" y="1197000"/>
            <a:ext cx="7940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Os cuidadores são fundamentais para o tratamento da DA no ambiente domiciliar, mas nem todos os familiares estão preparados física e psicologicamente para conviver e cuidar de alguém que não os reconhece nem valoriza seus esforç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or isso é importante o acesso às informações sobre a patologia e o apoio psicosocial aos cuidador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O cuidador de paciente com Doença de Alzheimer frequentemente tem que lidar com irritabilidade, agressividade, mudanças de humor e de comporta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F061-FCAB-4742-9FDC-1F84D68AAF5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CaixaDeTexto 5"/>
          <p:cNvSpPr/>
          <p:nvPr/>
        </p:nvSpPr>
        <p:spPr>
          <a:xfrm rot="16200000">
            <a:off x="-41004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a Doença de Alzheimer (DA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55640" y="1341000"/>
            <a:ext cx="80834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cuidadores devem ser treinados sobre como lidar com a DA e sobre mudanças ambientais de protecção que devem ou não ser feit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rabalho do cuidador é muito cansativo, pois há um grande esforço físico e emocio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deal é que mais de um profissional, ou familiar, assumam esta responsabilidade, para o estabelecimento de turnos de repous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rientações ao cuidador buscam proporcionar o máximo de segurança e a melhor qualidade de vida possível para os utentes e seus cuidador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B153-4EF3-4B25-AE88-E17495A2594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CaixaDeTexto 5"/>
          <p:cNvSpPr/>
          <p:nvPr/>
        </p:nvSpPr>
        <p:spPr>
          <a:xfrm rot="16200000">
            <a:off x="-41004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a Doença de Alzheimer (DA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55280" y="162828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istem duas classes principai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medicamentos para o tratamento da D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anticolinesterásic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ntagonista dependente de voltagem dos receptores N-metil-D-aspartato (NMDA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sas duas classes de medicamentos agem de forma totalmente diferenciada no cérebro e podem ser usadas isoladamente ou associa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E890-B2A0-4A8D-A23A-9F6230CA77D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aixaDeTexto 5"/>
          <p:cNvSpPr/>
          <p:nvPr/>
        </p:nvSpPr>
        <p:spPr>
          <a:xfrm rot="16200000">
            <a:off x="-41004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a Doença de Alzheimer (DA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24000" y="1341360"/>
            <a:ext cx="5543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pectos do tratamento da DA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específico: consiste em tratar as alterações de comportamento (agitação e agressividade), do humor ( depressão), que não deve ser feito apenas com medicação, mas com orientação e acção de equipe multiprofissio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pecífico: consiste no uso de uma ou das duas drogas específicas, anteriormente mostra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2495-20D2-466E-A403-855674F3B6D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CaixaDeTexto 5"/>
          <p:cNvSpPr/>
          <p:nvPr/>
        </p:nvSpPr>
        <p:spPr>
          <a:xfrm rot="16200000">
            <a:off x="-46692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2" descr="http://t3.gstatic.com/images?q=tbn:ANd9GcT5bWsV2GSsNQ-TAPfe6yloLrjWlUFrky6C_dfKkaui_rDAuywF"/>
          <p:cNvPicPr/>
          <p:nvPr/>
        </p:nvPicPr>
        <p:blipFill>
          <a:blip r:embed="rId1"/>
          <a:stretch/>
        </p:blipFill>
        <p:spPr>
          <a:xfrm>
            <a:off x="5940360" y="1484280"/>
            <a:ext cx="302112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a Doença de Alzheimer (DA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360" y="1143000"/>
            <a:ext cx="815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Os efeitos colaterais comuns desses medicamentos sã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Hepatotoxicidad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iarréi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Náuse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Vômit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Tontur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Fadig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Insôni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Falta de apetit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Mialgi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FBD9-F3BD-4EAD-9EB6-3B717BFB07F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CaixaDeTexto 5"/>
          <p:cNvSpPr/>
          <p:nvPr/>
        </p:nvSpPr>
        <p:spPr>
          <a:xfrm rot="16200000">
            <a:off x="-41004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tângulo 6"/>
          <p:cNvSpPr/>
          <p:nvPr/>
        </p:nvSpPr>
        <p:spPr>
          <a:xfrm>
            <a:off x="4284720" y="3068640"/>
            <a:ext cx="4608360" cy="15570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Vários desses efeitos colaterais tendem a desaparecer nas primeiras seman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Demência Vascular (DV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360" y="1125360"/>
            <a:ext cx="815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O tratamento eficaz da DV deve incluir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revenção de novas lesões cerebrovasculares pelo uso de anti-hipertensivos e antitrombóticos, quando necessár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Intervenções farmacológicas para neuroproteção, ativação cerebral, transtorno psiquiátrico e retirar medicamentos que causem mais prejuízos que benéficos (hipotensores e os que causem declínio cognitiv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Adequação do ambiente às dificuldades do idoso, a evitar traumas e acid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Mobilização da família e dos cuidador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D4BF-71B7-49B2-9202-49A6A240E87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CaixaDeTexto 5"/>
          <p:cNvSpPr/>
          <p:nvPr/>
        </p:nvSpPr>
        <p:spPr>
          <a:xfrm rot="16200000">
            <a:off x="-41004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Demência Vascular (DV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55640" y="1413000"/>
            <a:ext cx="808344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O tratamento medicamentoso pode diminuir e estabilizar a deterioração cognitiva dos utentes com DV. Em acompanhamento de 5 anos, 6% dos utentes tiveram déficit cognitivo e alterações do humor revertidos e 40% se mantiveram independent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omo existe alta frequência de depressão, pertubações comportamentais e ansiedade associada as demências, a psicoterapia para utentes e familiares pode ajudar muito a melhorar a qualidade de vi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517F-570B-46DA-9339-C6B54937945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CaixaDeTexto 5"/>
          <p:cNvSpPr/>
          <p:nvPr/>
        </p:nvSpPr>
        <p:spPr>
          <a:xfrm rot="16200000">
            <a:off x="-41004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Demência Vascular (DV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55280" y="2349000"/>
            <a:ext cx="815508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Inclui os exercícios cognitivos, grupos de apoio, instrução para as principais dificuldades e acompanhamento regular do comprometimento cognitivo através de testes psicológic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DB22-9187-4092-BF63-7A5C701D903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CaixaDeTexto 5"/>
          <p:cNvSpPr/>
          <p:nvPr/>
        </p:nvSpPr>
        <p:spPr>
          <a:xfrm rot="16200000">
            <a:off x="-41004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tamento para os quadros de dem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Formas de tratamento para os quadros de demência mais frequentes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Medicamentoso: actuação e efeitos secundári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sicos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0217-C00B-41B7-A618-C812927C4E4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50920" y="1413000"/>
            <a:ext cx="6788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screver aspectos gerais dos tratamentos indicados para os principais quadros de demênc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xplicar as duas principais formas de trata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A292-30C3-4BF4-8C01-56341A469C4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708280"/>
            <a:ext cx="1985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comuns no tratamento de todos os transtornos ment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03640" y="1267920"/>
            <a:ext cx="5472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á tratamentos adequados para cada tipo de transtorno, o que não é só feito com medicament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tratamento medicamentoso é um valioso instrumento da Psiquiatria para o controle dos sintomas e, com o avanço das pesquisas, muito se tem conseguido em melhora da qualidade de vida da pessoa com transtorno ment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CCA9-0CA0-4CE6-8D2F-A63D7700D9C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2" descr="http://t3.gstatic.com/images?q=tbn:ANd9GcTGd4n3U5TPozPkqpEVRBHNmLusXrq007ObkB58jbXHyC9OAIP69g"/>
          <p:cNvPicPr/>
          <p:nvPr/>
        </p:nvPicPr>
        <p:blipFill>
          <a:blip r:embed="rId1"/>
          <a:stretch/>
        </p:blipFill>
        <p:spPr>
          <a:xfrm>
            <a:off x="468360" y="3429000"/>
            <a:ext cx="2374920" cy="2324160"/>
          </a:xfrm>
          <a:prstGeom prst="rect">
            <a:avLst/>
          </a:prstGeom>
          <a:ln w="0">
            <a:noFill/>
          </a:ln>
        </p:spPr>
      </p:pic>
      <p:sp>
        <p:nvSpPr>
          <p:cNvPr id="106" name="CaixaDeTexto 6"/>
          <p:cNvSpPr/>
          <p:nvPr/>
        </p:nvSpPr>
        <p:spPr>
          <a:xfrm rot="20500800">
            <a:off x="688320" y="5276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18ff"/>
                </a:solidFill>
                <a:latin typeface="Verdana"/>
              </a:rPr>
              <a:t>Psicotróp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j0296847"/>
          <p:cNvPicPr/>
          <p:nvPr/>
        </p:nvPicPr>
        <p:blipFill>
          <a:blip r:embed="rId2"/>
          <a:stretch/>
        </p:blipFill>
        <p:spPr>
          <a:xfrm>
            <a:off x="250920" y="1052640"/>
            <a:ext cx="115236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comuns no tratamento de todos os transtornos ment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47640" y="1268280"/>
            <a:ext cx="72914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da vez mais, a abordagem ampla na qual se ofereçam outras possibilidades terapêuticas, mostra ser mais adequada e eficaz no tratamento de pessoas com transtorno mental, afinal apenas o controle não ensina o paciente a lidar com seus problemas cotidianos e emocion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riatividade e a dedicação dos profissionais neste campo permite conhecer e perceber a cada momento diferentes facetas da mente humana, o que resulta em novas possibilidades no trata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DF3A-46A2-4EFA-8B68-A611AA305CE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j0296847"/>
          <p:cNvPicPr/>
          <p:nvPr/>
        </p:nvPicPr>
        <p:blipFill>
          <a:blip r:embed="rId1"/>
          <a:stretch/>
        </p:blipFill>
        <p:spPr>
          <a:xfrm>
            <a:off x="250920" y="907920"/>
            <a:ext cx="122544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comuns no tratamento de todos os transtornos ment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47640" y="1143000"/>
            <a:ext cx="7291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do você está com dor de cabeça, toma um analgésico, não é? Mesmo que a dor passe, você sabe que a medicação apenas atuou na redução de um sintoma, e não na sua caus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psicotrópicos são drogas cujo principal uso é modificar as funções psíquicas, normais ou alteradas. Portanto, não curam o doente mental, apenas diminuem seu sofri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222F-9B0C-48FC-A05D-0A163E06FD0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j0296847"/>
          <p:cNvPicPr/>
          <p:nvPr/>
        </p:nvPicPr>
        <p:blipFill>
          <a:blip r:embed="rId1"/>
          <a:stretch/>
        </p:blipFill>
        <p:spPr>
          <a:xfrm>
            <a:off x="395280" y="1125360"/>
            <a:ext cx="1108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comuns no tratamento de todos os transtornos ment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58920" y="1143000"/>
            <a:ext cx="7580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ipo de psicofármaco, assim como o tempo de utilização e as dosagens, vão depender do tipo de sintoma que se deseja combater e da maneira como reage o organismo do usuário. Algumas pessoas necessitam de doses mais altas ou de utilizá-los por um tempo mais long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m outras, se consegue o mesmo efeito com doses menores e emprazos menores. Os efeitos colaterais também são variáveis de pessoa para pesso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5660-79D3-4509-8F44-1197C3BD6CC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5" descr="j0296847"/>
          <p:cNvPicPr/>
          <p:nvPr/>
        </p:nvPicPr>
        <p:blipFill>
          <a:blip r:embed="rId1"/>
          <a:stretch/>
        </p:blipFill>
        <p:spPr>
          <a:xfrm>
            <a:off x="395280" y="1125360"/>
            <a:ext cx="96984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comuns no tratamento de todos os transtornos ment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15640" y="2133720"/>
            <a:ext cx="78058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idade, sexo, peso, metabolismo individual, hábitos e dieta são fatores que devem se levar em conta quando se pensa em ação medicamentosa, e a coleta destes dados pelo enfermeiro geral é indispensável para que o psiquiatra possa fazer a prescrição adequad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B144-BE0B-44BE-82B2-BD60CA98512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5" descr="j0296847"/>
          <p:cNvPicPr/>
          <p:nvPr/>
        </p:nvPicPr>
        <p:blipFill>
          <a:blip r:embed="rId1"/>
          <a:stretch/>
        </p:blipFill>
        <p:spPr>
          <a:xfrm>
            <a:off x="395280" y="1125360"/>
            <a:ext cx="96984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comuns no tratamento de todos os transtornos ment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58920" y="1143000"/>
            <a:ext cx="7580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muito importante que o enfermeiro geral conheça os efeitos das drogas utilizadas neste sector, pois é comum ouvir-se entre os usuários frases do tipo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O remédio dele acabou, eu posso dar o meu?”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Minha vizinha estava como eu fiquei e eu dei meu remédio para ela”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e tipo de dúvida ou afirmação chega com maior freqüência para o enfermeiro do que para outros profissionais do sector, e este precisa ter segurança ao afirmar que esta prescrição só pode ser feita pelo médico e que o uso indevido destas medicações pode ser perig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697E-F3E1-4662-9AEF-3AFEC017D4C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5" descr="j0296847"/>
          <p:cNvPicPr/>
          <p:nvPr/>
        </p:nvPicPr>
        <p:blipFill>
          <a:blip r:embed="rId1"/>
          <a:stretch/>
        </p:blipFill>
        <p:spPr>
          <a:xfrm>
            <a:off x="395280" y="1125360"/>
            <a:ext cx="96984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7:57:27Z</dcterms:created>
  <dc:creator>Escolastica</dc:creator>
  <dc:description/>
  <dc:language>en-US</dc:language>
  <cp:lastModifiedBy>Mendoza</cp:lastModifiedBy>
  <dcterms:modified xsi:type="dcterms:W3CDTF">2012-02-02T08:36:35Z</dcterms:modified>
  <cp:revision>33</cp:revision>
  <dc:subject/>
  <dc:title>Formas de tratamento para os transtornos mentais mais frequentes: Medicamentoso e Psicossocial.</dc:title>
</cp:coreProperties>
</file>