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3016-B26E-41DB-AC84-214DD328D1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225-289C-42FB-A005-B7DF1DDA2A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2446-1552-4EA5-9FD1-D188D5E863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E609-F139-46AA-B1EA-1AFCEB959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9E65-148F-48F9-BB0D-007C23840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B6D4-F746-45BA-9E96-EDD23C663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C55E-D139-4E9D-B9C9-DCF7D3E2E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9E22-E502-4019-8716-93342304F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C664-6A72-4AE2-BAC7-79164CCFF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4FDD-65A5-482A-9467-2B2CFDB41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DBA8-565B-420C-A70F-9262F6A89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D078-9598-47AE-AC72-F3CB776A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6A41-7012-479D-B04F-40C42E9FB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54E1-6973-48E3-9EBA-08ED54E43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2155-C9DB-49BB-BB94-A3AF25F1D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4113-FEC8-4A6C-92E2-C8A1FA96A69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ratamentoalcoolismo.org/105-clinica-de-alcoolismo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626580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76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000" y="981000"/>
            <a:ext cx="816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envolve um encontro regular entre o paciente e um profissional de saúde mental, geralmente um psicólogo ou psiquiat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encontros, ou sessões, podem abordar problemas atuais ou passados, pensamentos, idéias, sentimentos, relações e vivê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meio do compartilhamento destas experiências com o terapeuta – de falar sobre seu mundo com alguém de fora – as pessoas com esquizofrenia podem gradualmente entender mais sobre si próprias e seus problemas. Também podem aprender a discernir aquilo que é real do que não é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1EBF-BA97-4097-A422-DE51FCF05E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recentes indicam que a psicoterapia de suporte e as abordagens cognitivo-comportamentais que ajudam o paciente a conviver melhor com a doença e a desenvolver recursos para a resolução de problemas e dificuldades, podem trazer benefícios para as pessoas com esquizofren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não substitui a medicação. É uma abordagem coadjuvante, que funciona melhor se os sintomas psicóticos estiverem controlados pela medicaçã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47FF-098F-44A0-962A-21DFB09C5D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105264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dicamentos utilizados para tratar a esquizofrenia pertencem a dois grandes gru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convencionais (chamados de neuroléptic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novos (também denominados antipsicóticos de segunda geração ou "atípicos"); Estes são capazes de ajudar a controlar os sintomas do transtorno sem causar tantos efeitos adversos estigmatiz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801-EE4E-458A-9CE6-A118EB72F0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826920" y="4869000"/>
            <a:ext cx="77774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s nomes dos produtos variam de país para país e mais de um nome de produto pode ser usado para a mesma droga dentro de um paí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ixaDeTexto 6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980640"/>
            <a:ext cx="8597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atuais para tratamento do alcoolismo, envolvem dua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ntoxicação: realizada por alguns dias sob supervisão médica, permite combater os efeitos agudos da retirada do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ido aos altos índices de recaídas, o alcoolismo não é tratada somente pela medicina tradi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 (Alcoólicos Anônimos-AA): Depois de controlados os sintomas agudos da crise de abstinência, os pacientes devem ser encaminhados para programas de reabilitação, cujo objetivo é ajudá-los a viver sem álcool na circulação sanguíne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62E-20FA-4E2D-B9F0-18FE97530C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0360" y="1143000"/>
            <a:ext cx="469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-se hoje já comprovadas, ou em fase avançada de testes, três substâncias eficazes na supressão do desejo pelo álcool: naltrexona, acamprosato e ondansetro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alcoolismo não deve ser confundido com o tratamento da abstinência alcoól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785-4E17-4503-B1B9-4074F103EE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Clínica de alcoolismo, funcionamen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6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o organismo incorpora literalmente o álcool ao seu metabolismo, a interrupção da ingestão de álcool faz com que o corpo se ressinta: a isto chamamos de abstinência que, dependendo, do tempo e da quantidade de álcool consumidos pode causar sérios problemas e até a morte nos casos não trat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dicações citadas na projecção anterior não têm finalidade de atuar nessa fa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bstinência já tem suas alternativas de tratamento bem estabelecidas e relativamente satisfató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A0E0-5081-49CA-8056-143B968551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xplosão 1 5"/>
          <p:cNvSpPr/>
          <p:nvPr/>
        </p:nvSpPr>
        <p:spPr>
          <a:xfrm>
            <a:off x="4284720" y="5373720"/>
            <a:ext cx="3024000" cy="1079640"/>
          </a:xfrm>
          <a:prstGeom prst="irregularSeal1">
            <a:avLst/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JAMOS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issulfiran é uma substância que força o paciente a não beber sob a pena de intenso mal es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alcoólatras morreram por não conseguirem conter o desejo pelo álcool enquanto estavam sob efeito do Dissulfir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sabendo o que poderia acontecer, não conseguiram evitar a combinação do álcool com o Dissulfiram, não conseguiram sequer esperar a eliminação do Dissulfira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352-BF3C-4F33-B574-B1F48732E8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altrexona possui um efeito bloqueador do prazer proporcionado pelo álcool, cortando o ciclo de reforço positivo que leva e mantém 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rimeira substância a atingir a essência do alcoolismo: o desejo pelo consum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ra uma medicação conhecida quanto aos efeitos benéficos e colaterais, sua utilização para o alcoolismo foi relativamente rápida, pois já se encontrava no mercado há muitos anos: bastou que se acrescentasse na bula uma nova indicação, o tratamento d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CF2B-5EE0-4759-99C6-FBC8A3E233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268280"/>
            <a:ext cx="8381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principais efeitos colaterais da naltrexona (enjôo e vômito), são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s principais acções da naltrexona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ibir o desejo pelo álcool e mesmo que se beba, o prazer da sensação de estar "alto" é abolido. Assim, a bebida para o alcoólatra em uso de naltrexona se torna sem gra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ão há uma interação danosa entre álcool e naltrexona, esta exerce uma real atividade terapêut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8124-2836-4B02-88E1-AE27FCFA6B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acamprosato, ao contrário da naltrexona, é novo e foi criado especificamente para o tratamento do alcoolism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 sendo introduzido no mercado brasileiro pela Merck, mas já é usado na Europa há alguns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mecanismo do acamprosato é distinto da naltrexona embora também diminua o desejo pelo álcool. Atua mais na abstinência, reduzindo o reforço negativo deixado pela supressão do álcool naqueles que se tornaram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E5F-078A-4E3B-8703-C89CB7C710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as principai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as principais psicos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647C-DC2D-4D85-9C05-1977C69205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ipos de psicos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F9D-A5DF-481A-949C-4551136C8F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940-3D9D-4CDA-884C-A63F7B846F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2" descr="http://t2.gstatic.com/images?q=tbn:ANd9GcQ8N9nDq3fueJSMz1t4dDhTkjRMeQsa2WPyMsDf9Y1BHa30ztmO"/>
          <p:cNvPicPr/>
          <p:nvPr/>
        </p:nvPicPr>
        <p:blipFill>
          <a:blip r:embed="rId1"/>
          <a:stretch/>
        </p:blipFill>
        <p:spPr>
          <a:xfrm>
            <a:off x="3203640" y="1052640"/>
            <a:ext cx="34099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1413000"/>
            <a:ext cx="8012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um tratamento único que cure esse distúrbi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eficaz requer um esforço multidisciplinar abrangente, incluindo a psicoterapia e diversos tipos de cuidado psicossocial, como o treinamento de capacidades de vida e sociais, reabilitação e terapia de família e comunitári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B82-0F9B-43C4-928A-02BEF94679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143000"/>
            <a:ext cx="7796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muito importante que o tratamento comece o mais rápido possí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 não é possível tratar em casa, porque o paciente não aceita que esteja doente nem aceita ser me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sempre medicamentoso, mas a Psicoterapia pode ser importante para a recuper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ratar uma Psicose sem medicação tem entre outros riscos, o de cronific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356-226F-4681-AFB8-995A57145AA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1483920"/>
            <a:ext cx="806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Às vezes o primeiro tratamento não produz melhora e tem que ser mud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esmo que já esteja se sentindo bem, o paciente não deve interromper a medic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ma psicose pode ser benigna e rapidamente curável, mas também pode ser longa, difícil de tratar, ter recaídas, ter fases de depressões e de trocas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D35-DDD2-4358-83D9-7A94372914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1916280"/>
            <a:ext cx="779472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s jovens (14 a 24 anos), o tratamento não pode esperar. As conseqüências da cronificação podem ser catastróf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pais arrependidos por não terem tratado a tempo, mas nunca por terem forçado o tratamento mesmo que contra a vontade do paci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E2B-3BA3-476F-9778-4B158F8022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ângulo 5"/>
          <p:cNvSpPr/>
          <p:nvPr/>
        </p:nvSpPr>
        <p:spPr>
          <a:xfrm rot="16200000">
            <a:off x="18720" y="3404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63280" y="981000"/>
            <a:ext cx="82803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ermos gerais, a reabilitação inclui uma ampla gama de intervenções não-méd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gramas de reabilitação enfatizam o treinamento social, vocacional e ocupacional para ajudar as pessoas a superarem as dificul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países esses programas incluem o desenvolvimento de habilidades, como: lidar com dinheiro, usar transporte público, treinamento de hábitos sociais para que o paciente se relacione melhor socialmente, técnicas de resolução de problemas e aconselhamento voc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3F9-EA3F-47AE-BAD9-1F0F5BE1B0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4:53Z</dcterms:created>
  <dc:creator>Escolastica</dc:creator>
  <dc:description/>
  <dc:language>en-US</dc:language>
  <cp:lastModifiedBy>Mendoza</cp:lastModifiedBy>
  <dcterms:modified xsi:type="dcterms:W3CDTF">2012-02-02T09:37:14Z</dcterms:modified>
  <cp:revision>4</cp:revision>
  <dc:subject/>
  <dc:title>Tratamento das Psicoses</dc:title>
</cp:coreProperties>
</file>