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D8D1-1284-4445-9F5C-4C256ADA813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1389-DD84-4D57-AED0-68C456B37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BEFD-33A5-40AD-AFB6-D4DF43FA9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F3FF-C826-48A8-ABBB-0DEA09F96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4CFC-4F56-4E61-8B05-419EC9945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B2923-B1C8-4A95-942C-FE6015AAE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3D9AA-F228-487A-8559-F1698F4E7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F394C-ED83-45E0-B3A3-8132D5945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154E-6C5E-4081-8279-BF43E320F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AC57-EB03-48E2-8C03-02A29269C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08BE-C9A8-4646-A2C5-A142DF7C6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B9EB-6AE7-4DA4-92DC-64193120A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49F8-341F-4839-9FD4-BE13F7B97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4F88-6CE8-4A83-BEE4-053382A6F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9BF3-1AF4-4A08-8F89-464505F27F0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7336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58920" y="4436640"/>
            <a:ext cx="693432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1763640" y="1915200"/>
            <a:ext cx="61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laboração de plano de  orientações em saúde;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ordenação com outros integrantes da equipa.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3357360"/>
            <a:ext cx="4392360" cy="2879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NÃO NECESSARIAMENTE O PLANO DEVERÁ TER TODOS OS ELEMENTOS. ISSO IRÁ DEPENDER DA ABRANGÊNCIA DO PLANO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1374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nstrução será dirigida pelo professor, de modo que todos caminharão juntos, passando por cada um dos elementos do pla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da dupla escolherá seu tema ou área de atuação para o pla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0C3-9658-4092-9B3C-D29FB9FED4F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://2.bp.blogspot.com/_W-4qil_rSm0/TEv1Wt9i_wI/AAAAAAAAAfI/1-AVdzmdd6o/s1600/inset+day.gif"/>
          <p:cNvPicPr/>
          <p:nvPr/>
        </p:nvPicPr>
        <p:blipFill>
          <a:blip r:embed="rId1"/>
          <a:stretch/>
        </p:blipFill>
        <p:spPr>
          <a:xfrm>
            <a:off x="5292720" y="3860640"/>
            <a:ext cx="331164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Vamos elaborar um plano de  orientaçõe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267920"/>
            <a:ext cx="837072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lementos de um plano de orientaç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que abordar (o tem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o abordar (metodologi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participa (público-alv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cursos disponíveis (materiais de apoio audiovisual, folhetos, cartilhas, meios de divulgaçã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irá realizar e on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uração da atividade em si e por quanto temp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ceri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brangência (individual, grupal, coletiva – uma comunidade, um distrito, um país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77D4-C7B7-4394-ABE8-6B04EA117F2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laboração de plano de  orientaçõe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196640"/>
            <a:ext cx="837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lementos de um plano de orientaç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que abordar (o tem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o abordar (metodologi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participa (público-alv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cursos disponíveis (materiais de apoio audiovisual, folhetos, cartilhas, meios de divulgaçã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irá realizar e on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uração da atividade em si e por quanto temp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ceri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brangência (individual, grupal, coletiva – uma comunidade, um distrito, um país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7579-BC29-452F-AC9B-90A972680D8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18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ordenação com os integrantes da equipa d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844280"/>
            <a:ext cx="83818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Um plano de orientação em saúde deve ser coordenado com os integrantes da equipe de saúde, para proporcionar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volvimento de to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equipe multiprofissional terá diferentes olhares sobre um mesmo te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lorização por toda equipe terá maior impacto n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F9AA-98D2-4313-BF7C-2D967266870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41000"/>
            <a:ext cx="4043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plano de orientação podem ser inseridos sujeitos da comunidade que já exercem algum trabalho dessa natureza ou representem um canal de comunicação com a população (líderes comunitários, rádios locais, por exempl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A360-88E2-4770-8E82-D2582BD1C27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cpadnews.com.br/uploads/20101209/266x220-20101209111553-biblia-audio.jpg"/>
          <p:cNvPicPr/>
          <p:nvPr/>
        </p:nvPicPr>
        <p:blipFill>
          <a:blip r:embed="rId1"/>
          <a:stretch/>
        </p:blipFill>
        <p:spPr>
          <a:xfrm>
            <a:off x="4643280" y="1606680"/>
            <a:ext cx="4292640" cy="3566880"/>
          </a:xfrm>
          <a:prstGeom prst="rect">
            <a:avLst/>
          </a:prstGeom>
          <a:ln w="0">
            <a:noFill/>
          </a:ln>
        </p:spPr>
      </p:pic>
      <p:sp>
        <p:nvSpPr>
          <p:cNvPr id="110" name="CaixaDeTexto 6"/>
          <p:cNvSpPr/>
          <p:nvPr/>
        </p:nvSpPr>
        <p:spPr>
          <a:xfrm>
            <a:off x="622764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ádi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todologia também pode contar com o apoio de pessoas da comunidade com algum dom artístico, como música, teatro de rua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oveitar as forças locais é muito posi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E6F5-769C-4427-817B-967FD25F19A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oglobo.globo.com/fotos/2009/06/29/29_MHG_rshow_teatro3.jpg"/>
          <p:cNvPicPr/>
          <p:nvPr/>
        </p:nvPicPr>
        <p:blipFill>
          <a:blip r:embed="rId1"/>
          <a:stretch/>
        </p:blipFill>
        <p:spPr>
          <a:xfrm>
            <a:off x="468360" y="2781360"/>
            <a:ext cx="5591160" cy="357516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6"/>
          <p:cNvSpPr/>
          <p:nvPr/>
        </p:nvSpPr>
        <p:spPr>
          <a:xfrm>
            <a:off x="6300720" y="3716280"/>
            <a:ext cx="25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teatro tem elevado impacto no processo de educação em saú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41360"/>
            <a:ext cx="8381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es comunitários podem ser utilizad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6F86-8358-4286-BA4A-077DDA3DA83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ixaDeTexto 5"/>
          <p:cNvSpPr/>
          <p:nvPr/>
        </p:nvSpPr>
        <p:spPr>
          <a:xfrm>
            <a:off x="1258920" y="458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gre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6"/>
          <p:cNvSpPr/>
          <p:nvPr/>
        </p:nvSpPr>
        <p:spPr>
          <a:xfrm>
            <a:off x="6156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aç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117360" y="-676440"/>
            <a:ext cx="18385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17360" y="-676440"/>
            <a:ext cx="18385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117360" y="-676440"/>
            <a:ext cx="18385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http://homedanoiva.com/images/stories/igreja.jpg"/>
          <p:cNvPicPr/>
          <p:nvPr/>
        </p:nvPicPr>
        <p:blipFill>
          <a:blip r:embed="rId1"/>
          <a:stretch/>
        </p:blipFill>
        <p:spPr>
          <a:xfrm>
            <a:off x="539640" y="1916280"/>
            <a:ext cx="3521160" cy="263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blogs.estadao.com.br/marcos-guterman/files/2009/08/africa.jpg"/>
          <p:cNvPicPr/>
          <p:nvPr/>
        </p:nvPicPr>
        <p:blipFill>
          <a:blip r:embed="rId2"/>
          <a:stretch/>
        </p:blipFill>
        <p:spPr>
          <a:xfrm>
            <a:off x="4356000" y="2133720"/>
            <a:ext cx="44481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D79B-A2C1-4654-81AC-1A81905D6B5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000" y="1341360"/>
            <a:ext cx="83818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es comunitários podem ser utilizad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CaixaDeTexto 8"/>
          <p:cNvSpPr/>
          <p:nvPr/>
        </p:nvSpPr>
        <p:spPr>
          <a:xfrm>
            <a:off x="125892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c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9"/>
          <p:cNvSpPr/>
          <p:nvPr/>
        </p:nvSpPr>
        <p:spPr>
          <a:xfrm>
            <a:off x="507672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entros comunit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cpadnews.com.br/uploads/20101108/266x220-20101108162835-1.jpg"/>
          <p:cNvPicPr/>
          <p:nvPr/>
        </p:nvPicPr>
        <p:blipFill>
          <a:blip r:embed="rId1"/>
          <a:stretch/>
        </p:blipFill>
        <p:spPr>
          <a:xfrm>
            <a:off x="395280" y="2349360"/>
            <a:ext cx="4073400" cy="338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4.bp.blogspot.com/_JgaNMaFgYAY/TOLMGyPgy4I/AAAAAAAAEnw/8U42miH2IoU/s1600/Caravana%2Bda%2BCidadania.jpg"/>
          <p:cNvPicPr/>
          <p:nvPr/>
        </p:nvPicPr>
        <p:blipFill>
          <a:blip r:embed="rId2"/>
          <a:stretch/>
        </p:blipFill>
        <p:spPr>
          <a:xfrm>
            <a:off x="4572000" y="2421000"/>
            <a:ext cx="429588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000" y="1557360"/>
            <a:ext cx="83818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Grupos pré-existentes devem ser convidados como apoi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mães que amamenta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pessoas vivendo com HIV/s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pessoas em tratamento para tuberculo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jovens de diferentes igrej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nvolver os setores de educação, trabalho e ação social como parceir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08BA-4470-48CF-95F2-277F13EDA4D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7467840" cy="125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os pares vamos elaborar um plano de orientação em saúd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29E0-8132-4651-A14A-E496D7A0ED9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2.bp.blogspot.com/_W-4qil_rSm0/TEv1Wt9i_wI/AAAAAAAAAfI/1-AVdzmdd6o/s1600/inset+day.gif"/>
          <p:cNvPicPr/>
          <p:nvPr/>
        </p:nvPicPr>
        <p:blipFill>
          <a:blip r:embed="rId1"/>
          <a:stretch/>
        </p:blipFill>
        <p:spPr>
          <a:xfrm>
            <a:off x="2340000" y="2421000"/>
            <a:ext cx="51116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5:19:08Z</dcterms:created>
  <dc:creator>Escolastica</dc:creator>
  <dc:description/>
  <dc:language>en-US</dc:language>
  <cp:lastModifiedBy>user</cp:lastModifiedBy>
  <dcterms:modified xsi:type="dcterms:W3CDTF">2011-09-29T10:32:45Z</dcterms:modified>
  <cp:revision>15</cp:revision>
  <dc:subject/>
  <dc:title>Slide 1</dc:title>
</cp:coreProperties>
</file>