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A456-2EF2-4B5A-BB1A-A044541D9B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8195-6EB4-493A-8F76-87AB2CD46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F44A-CAB6-43E6-9328-189396F59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8E7A-2361-4AC0-9AF3-72028837E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1058-3FBA-4A8D-99D9-37F58CE5C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928B-4236-4A73-8400-6E65DB44A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ED7C-C99D-42EF-906A-2722028A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D7D6-4A62-4F56-A208-C44C2BDF7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A5A55-4740-4066-A87C-FA459F80E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247D9-FF81-4505-A558-FA82405EF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AD06-F490-4DE1-AF35-042501364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81F4-BEDE-442B-946F-260475B33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499A-671C-460F-9D9D-C5FB777FB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FAF7-EF31-4079-BEDB-962CBA40E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232-D131-4B79-920E-0BB36A1F4A7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763640" y="1988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s de género e a natureza estrutural da violência</a:t>
            </a: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s auto-infligid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773360"/>
            <a:ext cx="838188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sponde aos comportamentos suicidas e os auto-abu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rimeiro caso, a tipologia contempla suicídio, ideação suicida e tentativas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de auto-abuso nomeia as agressões a si próprio e as automutil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88C-95EF-4D4A-AABB-6F72DBF16B1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s interpesso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violências interpessoais são classificadas em dois âmbit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rafamiliar: ocorre entre os parceiros íntimos e entre membros da família, principalmente no domícilio. Inclui as várias formas de agressão contra crianças, mulheres,  homens, idos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a: é definida como aquela que ocorre no ambiente social em geral, entre conhecidos e desconhecidos. Consideram-se suas várias expressões como violência juvenil, agressões físicas, estupros, ataques sexuais e, inclusive, a violência institucional que ocorre, por exemplo, em escolas, locais de trabalho, prisões e asil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D8A-C44D-4053-B3F7-88448F29D2D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s coletiv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3640" y="1143000"/>
            <a:ext cx="8515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olências coletivas se classificam os atos que causam danos, lesões e mortes, e que acontecem nos âmbitos macrossociais, políticos e econômicos, caracterizando a dominação de grupos e do Es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luem-se os crimes cometidos por grupos organizados, atos terroristas e de multid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mpo político, são consideradas as guerras e os processos de aniquilamento de determinados povos e nações por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lassificação de violência coletiva abrange ainda ataques econômicos entre grupos e nações, geralmente motivados por interesses de dom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9B60-C57E-40F8-A975-9AF18CFEF3F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9640" y="1844280"/>
            <a:ext cx="8382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acordo com os dados oficiais do Ministério do Interior, a violência contra a Mulher tem atingido níveis muito elevados no país entre 2004-2007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te período mais de 29.000 mulheres apresentaram queixa nos Gabinetes de Atendimento à mulher, como tendo sido vítimas de violência, com uma média de mais de 7.000 mulheres por a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AB3-9E64-431A-B11F-357BD12AE52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41300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números reais das vítimas de violência são muito mais elevados que estes, uma vez que muitas mulheres não apresentam queixa quando são vítimas de violência, por razões culturais, sociais e económicas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7EC5-90EC-4A00-B959-97EB3531EC6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ixaDeTexto 5"/>
          <p:cNvSpPr/>
          <p:nvPr/>
        </p:nvSpPr>
        <p:spPr>
          <a:xfrm>
            <a:off x="1187280" y="3573360"/>
            <a:ext cx="72723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m gostaria de citar exemplos dessas razões culturais, sociais e econôm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PENSANDO"/>
          <p:cNvPicPr/>
          <p:nvPr/>
        </p:nvPicPr>
        <p:blipFill>
          <a:blip r:embed="rId1"/>
          <a:stretch/>
        </p:blipFill>
        <p:spPr>
          <a:xfrm>
            <a:off x="4140360" y="4581360"/>
            <a:ext cx="12952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412640"/>
            <a:ext cx="83818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tipos principais de violência contra a mulher em Moçambique são a física, sexual e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ermos conceptuais existe uma diversidade de percepções sobre este fenómeno, mas todas elas possuem pontos comuns no que se refere ao essencial, que consiste no reconhecimento de que toda e qualquer violência é um mal social que deve ser eliminado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4BA4-FD51-47F2-9E19-B1E213C16C2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studo piloto WLSA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WLSA Moçambique concluiu estudo piloto do projecto de pesquisa sobre violência contra as mulheres, que desenvolveu nos Gabinetes de Atendimento da Mulher e da Criança, na cidade de Maputo e nas províncias de Maputo e Sofa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 objectivo da pesquisa foi conhecer a realidade da violência de género, denunciada no espaço policial das esquadras onde foram criados os Gabinetes de Atendimento da Mulher e d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s resultados estão publicados no liv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jia, Margarita; Osório, Conceição; Arthur, Maria José (2004). Não sofrer caladas. Violência Contra Mulheres e Crianças: denúncia e gestão de conflitos. Maputo: WLSA Moçambiqu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95A-919B-44B5-80D8-A116E5E1B0F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fichario"/>
          <p:cNvPicPr/>
          <p:nvPr/>
        </p:nvPicPr>
        <p:blipFill>
          <a:blip r:embed="rId1"/>
          <a:stretch/>
        </p:blipFill>
        <p:spPr>
          <a:xfrm>
            <a:off x="6804000" y="4149720"/>
            <a:ext cx="9064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1: Número total de ocorrências e relação vítima-agressor, segundo o sex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59D3-AA89-4CA2-AC3D-A10DD7CEF1B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39600" y="-137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270080"/>
          <a:ext cx="8640720" cy="4937040"/>
        </p:xfrm>
        <a:graphic>
          <a:graphicData uri="http://schemas.openxmlformats.org/drawingml/2006/table">
            <a:tbl>
              <a:tblPr/>
              <a:tblGrid>
                <a:gridCol w="1728720"/>
                <a:gridCol w="1150920"/>
                <a:gridCol w="936720"/>
                <a:gridCol w="647640"/>
                <a:gridCol w="1152360"/>
                <a:gridCol w="647640"/>
                <a:gridCol w="648000"/>
                <a:gridCol w="1728720"/>
              </a:tblGrid>
              <a:tr h="296640"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bin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orr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agressore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or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/ sex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resentou</a:t>
                      </a:r>
                      <a:br>
                        <a:rPr sz="1400"/>
                      </a:b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ª Esq. Mat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Bo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ª Esq. B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9(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Do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Nhamat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Gorong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268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2: Perfil geral da relação vítima-agressor, vítimas do sexo feminin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1280" y="1376280"/>
          <a:ext cx="8035920" cy="4645080"/>
        </p:xfrm>
        <a:graphic>
          <a:graphicData uri="http://schemas.openxmlformats.org/drawingml/2006/table">
            <a:tbl>
              <a:tblPr/>
              <a:tblGrid>
                <a:gridCol w="3720960"/>
                <a:gridCol w="1463760"/>
                <a:gridCol w="1233360"/>
                <a:gridCol w="1617840"/>
              </a:tblGrid>
              <a:tr h="496080"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u de parentesc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 (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x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segundo o parent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ante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val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vítimas sexo femin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,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8257-15FE-4CD6-82EF-E4D681FC058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3: Tipo de violência doméstica, sendo o agressor o marid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1268280"/>
          <a:ext cx="8381880" cy="4206960"/>
        </p:xfrm>
        <a:graphic>
          <a:graphicData uri="http://schemas.openxmlformats.org/drawingml/2006/table">
            <a:tbl>
              <a:tblPr/>
              <a:tblGrid>
                <a:gridCol w="4076640"/>
                <a:gridCol w="1434960"/>
                <a:gridCol w="1435320"/>
                <a:gridCol w="1434960"/>
              </a:tblGrid>
              <a:tr h="277560">
                <a:tc rowSpan="2"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/viol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rupçã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órcio/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/violência domé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8CF2-9205-489B-A453-30E60A60DE2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6"/>
          <p:cNvSpPr/>
          <p:nvPr/>
        </p:nvSpPr>
        <p:spPr>
          <a:xfrm>
            <a:off x="250920" y="5516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Verdana"/>
              </a:rPr>
              <a:t>O limite entre Ofensas Corporais Voluntárias Simples (OCVS) e Ofensas Corporais Voluntárias Qualificadas (OCVQ) está definido na lei e a sua classificação é de apreciação da Medicina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0" y="981000"/>
            <a:ext cx="439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contra a mulher são todos os actos perpetrados contra a mulher e que sejam capazes de causar danos físicos, sexuais, psicológicos e outros, incluindo a ameaça de tais actos, a imposição de restrições ou a privação arbitrária das liberdades fundamentais na vida privada e pública (Fórum Mulher,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2464-5769-4A4A-B80C-734944BD5C3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A Poligamia é um atentado aos direitos das mulheres"/>
          <p:cNvPicPr/>
          <p:nvPr/>
        </p:nvPicPr>
        <p:blipFill>
          <a:blip r:embed="rId1"/>
          <a:stretch/>
        </p:blipFill>
        <p:spPr>
          <a:xfrm>
            <a:off x="684360" y="1090440"/>
            <a:ext cx="3816360" cy="5351760"/>
          </a:xfrm>
          <a:prstGeom prst="rect">
            <a:avLst/>
          </a:prstGeom>
          <a:ln w="0">
            <a:noFill/>
          </a:ln>
        </p:spPr>
      </p:pic>
      <p:sp>
        <p:nvSpPr>
          <p:cNvPr id="102" name="CaixaDeTexto 9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4: Tipo de violência doméstica, sendo o agressor a esposa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9640" y="1413000"/>
          <a:ext cx="8293320" cy="4754520"/>
        </p:xfrm>
        <a:graphic>
          <a:graphicData uri="http://schemas.openxmlformats.org/drawingml/2006/table">
            <a:tbl>
              <a:tblPr/>
              <a:tblGrid>
                <a:gridCol w="4003920"/>
                <a:gridCol w="1430280"/>
                <a:gridCol w="1428840"/>
                <a:gridCol w="1430280"/>
              </a:tblGrid>
              <a:tr h="324360"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0280" rIns="80280" tIns="40320" bIns="403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 frust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a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uso de confianç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itiç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g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71F5-6C6A-4A93-BB78-3087F8329E9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16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principal vítima de violência perpetrada pelos homens, ocorrendo, sobretudo, entre os 25 e 34 anos e em todas as idades e extractos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homens são os principais perpetradores de violência contra a mulher, normalmente os parceiros ínti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51E3-766B-408D-876D-5976900D4F1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O casamento prematuro é uma violação dos direitos humanos"/>
          <p:cNvPicPr/>
          <p:nvPr/>
        </p:nvPicPr>
        <p:blipFill>
          <a:blip r:embed="rId1"/>
          <a:stretch/>
        </p:blipFill>
        <p:spPr>
          <a:xfrm>
            <a:off x="611280" y="988920"/>
            <a:ext cx="3816360" cy="5351400"/>
          </a:xfrm>
          <a:prstGeom prst="rect">
            <a:avLst/>
          </a:prstGeom>
          <a:ln w="0">
            <a:noFill/>
          </a:ln>
        </p:spPr>
      </p:pic>
      <p:sp>
        <p:nvSpPr>
          <p:cNvPr id="108" name="CaixaDeTexto 7"/>
          <p:cNvSpPr/>
          <p:nvPr/>
        </p:nvSpPr>
        <p:spPr>
          <a:xfrm rot="16200000">
            <a:off x="-2337120" y="3424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140000" y="2204640"/>
            <a:ext cx="482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 a violência contra a mulher é um dos problemas mais graves do país e séria barreira ao desenvolv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897C-9FE9-4F13-8747-E4DEF5E430C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Este corpo é meu"/>
          <p:cNvPicPr/>
          <p:nvPr/>
        </p:nvPicPr>
        <p:blipFill>
          <a:blip r:embed="rId1"/>
          <a:stretch/>
        </p:blipFill>
        <p:spPr>
          <a:xfrm>
            <a:off x="539640" y="1268280"/>
            <a:ext cx="3535560" cy="4996080"/>
          </a:xfrm>
          <a:prstGeom prst="rect">
            <a:avLst/>
          </a:prstGeom>
          <a:ln w="0">
            <a:noFill/>
          </a:ln>
        </p:spPr>
      </p:pic>
      <p:sp>
        <p:nvSpPr>
          <p:cNvPr id="114" name="CaixaDeTexto 9"/>
          <p:cNvSpPr/>
          <p:nvPr/>
        </p:nvSpPr>
        <p:spPr>
          <a:xfrm rot="16200000">
            <a:off x="-2409120" y="34963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C80-5FE3-4241-8F28-A874158C58C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Não à violência contra as mulheres"/>
          <p:cNvPicPr/>
          <p:nvPr/>
        </p:nvPicPr>
        <p:blipFill>
          <a:blip r:embed="rId1"/>
          <a:stretch/>
        </p:blipFill>
        <p:spPr>
          <a:xfrm>
            <a:off x="971640" y="1314360"/>
            <a:ext cx="3525840" cy="5139000"/>
          </a:xfrm>
          <a:prstGeom prst="rect">
            <a:avLst/>
          </a:prstGeom>
          <a:ln w="0">
            <a:noFill/>
          </a:ln>
        </p:spPr>
      </p:pic>
      <p:sp>
        <p:nvSpPr>
          <p:cNvPr id="119" name="CaixaDeTexto 6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16360" y="1268280"/>
            <a:ext cx="41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vítimas mostram-se relutantes em apresentar queixas nos órgãos competentes por vergonha, receio e pelo sentimento de lealdade familiar (PNUD, 2003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mpunidade do agressor gera insegurança com relação a recidivas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000" y="1773360"/>
            <a:ext cx="83818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atureza da violência contra a mulher resulta da desigualdade de poder com relação aos homens, nas diferentes faixas etárias, nas relações familiares, comunitárias e social, económica, cultural, religiosa e polí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36D3-AEFB-44C3-B97F-826C72BD5A1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1773000"/>
            <a:ext cx="838188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lém da violência de género, a mulher é também vítima de muitos outros males sócio-culturais e económicos, como a pobreza absoluta e o analfabet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opulação adulta, a mulher é majoritariamente analfabeta. A taxa de analfabetismo das mulheres está acima de 68%, comparado a dos homens, que está abaixo dos 36,7%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3C78-9487-479F-A618-9B8656E7D8B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989000"/>
            <a:ext cx="83818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mais infectada pelo HIV, com uma taxa de seroprevalência de 57%, associado, em parte, com atitudes de violência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sequência esta encontra-se em posição vulnerável e de desvantagem, em relação ao hom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4CE2-4F36-418E-BF02-B745DE7B55B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916280"/>
            <a:ext cx="83818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propõe uma classificação estrutural para a violência, que categoriza o fenômeno a partir de suas manifestações empírica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dirigida pela pessoa contra si mesma: auto-inflig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s relações: interpesso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o âmbito da sociedade: cole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2483-6EFA-4C83-9C5D-1B542D7FA53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37:57Z</dcterms:created>
  <dc:creator>Escolastica</dc:creator>
  <dc:description/>
  <dc:language>en-US</dc:language>
  <cp:lastModifiedBy>user</cp:lastModifiedBy>
  <dcterms:modified xsi:type="dcterms:W3CDTF">2011-09-29T10:42:14Z</dcterms:modified>
  <cp:revision>52</cp:revision>
  <dc:subject/>
  <dc:title>Slide 1</dc:title>
</cp:coreProperties>
</file>