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FCB-CB0F-4505-98E5-229F0EBBD1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C38-BCAD-4D78-8216-578B7386A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2F87-0466-4985-BBA4-1F9813062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3AB4-112D-4A3B-8C45-81FB30B64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87B8-2642-4963-AA4B-CE538C674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D0FF-0792-4E57-BA5A-C1625DAB4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ADDC-7F9E-4E7D-9EC3-E780D03AE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8E824-97B7-4961-BB81-9184269C8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7BACF-BCCB-44F2-811D-AE10AF92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1B0A-2385-4FBE-A0CB-FACAA229B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ACA6-C1A5-430A-9A98-DD2697DB3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1DDB-DE6B-4FF4-B66C-634CCD337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D7C4D-4FEC-4909-A744-E5E1BD9D4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BF04-E5FF-4F33-8E28-B3516FB33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AB60-CD49-4930-BFC7-170B957A99A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4508280"/>
            <a:ext cx="69343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619280" y="213984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onceito, formas e ciclo da violência e mitos que a legitimam; impacto na saúde de mulheres e crianç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0920" y="981000"/>
            <a:ext cx="8588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ormas de violência psicológic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bilização emocional da vítima para satisfazer a necessidade de atenção, carinho e de importâ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ressão dissimulada, em que o agressor tenta fazer com que a vítima se sinta inferior, dependente e culp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tude de oposição e aversão também é um caso de violência psicológica, em que o agressor toma certas atitudes com o intuito de provocar ou menosprezar a víti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eaça de mor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A3BC-C406-4C76-BA4C-ECBD6F1AAE1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t3.gstatic.com/images?q=tbn:ANd9GcRzEL0-LU_yjULIaVRzfeyjLDFmBQMmoIxXZYDNq4hKqmlRu_vq"/>
          <p:cNvPicPr/>
          <p:nvPr/>
        </p:nvPicPr>
        <p:blipFill>
          <a:blip r:embed="rId1"/>
          <a:stretch/>
        </p:blipFill>
        <p:spPr>
          <a:xfrm>
            <a:off x="5148360" y="4941720"/>
            <a:ext cx="19652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 a violência psicológica é tida como a que mais ocorre no país, uma vez que antes da ocorrência da violência física e sexual, ocorre antes a violência psicológ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3CE-E183-42A3-8185-B3185BA5462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t3.gstatic.com/images?q=tbn:ANd9GcTu_XPlftMS4is-lt4kGJYCUam8NOLinzdMHLJuTylbtJ6p0vjL"/>
          <p:cNvPicPr/>
          <p:nvPr/>
        </p:nvPicPr>
        <p:blipFill>
          <a:blip r:embed="rId1"/>
          <a:stretch/>
        </p:blipFill>
        <p:spPr>
          <a:xfrm rot="1729200">
            <a:off x="2512800" y="2957400"/>
            <a:ext cx="1881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verb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verbal não é uma forma de violência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rmalmente é utilizada para incomodar a vida das outras pesso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feita por meio do silêncio, que muitas vezes é muito mais violento que os métodos utilizados habitualmente, como as ofensas morais (insultos), depreciações e os questionários infindáve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A31B-C658-4D4C-B51A-C3AEB99D47B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t3.gstatic.com/images?q=tbn:ANd9GcQAqgN-R1EjEHwA9kenZL7kpDKexzPaG_Gd1WtDlgP6Gh8Ngf4Y7w"/>
          <p:cNvPicPr/>
          <p:nvPr/>
        </p:nvPicPr>
        <p:blipFill>
          <a:blip r:embed="rId1"/>
          <a:stretch/>
        </p:blipFill>
        <p:spPr>
          <a:xfrm>
            <a:off x="5364000" y="4343400"/>
            <a:ext cx="19447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sexu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143000"/>
            <a:ext cx="864072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a qual o agressor abusa do poder que tem sobre a vítima para obter gratificação sexual, sendo esta induzida ou obrigada a práticas sex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sexual engloba o medo, a vergonha e a culpa sentidos pela vítima, mesmo naquelas que denunciam o agress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incipal forma de violência sexual em Moçambique é o estupro, assedio sexual, sucessor do faleci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EC71-1331-41DE-B1E1-BB8747DF2AE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t2.gstatic.com/images?q=tbn:ANd9GcSZlNbaseZNbhUywf4iSnXSsBSP7FhfOYUtpLxcQ-OWt9b9YQz8"/>
          <p:cNvPicPr/>
          <p:nvPr/>
        </p:nvPicPr>
        <p:blipFill>
          <a:blip r:embed="rId1"/>
          <a:stretch/>
        </p:blipFill>
        <p:spPr>
          <a:xfrm>
            <a:off x="4572000" y="4292640"/>
            <a:ext cx="1933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Neglig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84428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negligência é o acto de omissão do responsável pela criança, idoso ou pessoa dependente, em proporcionar as necessidades básicas necessárias para a sua sobrevivência e desenvolv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danos causados pela negligência podem ser permanentes e grav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923-0FD5-4B86-BEB0-44449B827FF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t2.gstatic.com/images?q=tbn:ANd9GcSAdzTRXpfjYfJbRweBMv88exw6R3bM5k3I2CfhYmEAMyu5sGqWFg"/>
          <p:cNvPicPr/>
          <p:nvPr/>
        </p:nvPicPr>
        <p:blipFill>
          <a:blip r:embed="rId1"/>
          <a:stretch/>
        </p:blipFill>
        <p:spPr>
          <a:xfrm>
            <a:off x="4788000" y="3933720"/>
            <a:ext cx="225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unciona como um sistema circular – o chamado ciclo da violência, que apresenta, em geral, três fase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AD60-F633-442E-A05B-0C6D802F21C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2771640" y="2133720"/>
            <a:ext cx="3238560" cy="3381120"/>
          </a:xfrm>
          <a:prstGeom prst="rect">
            <a:avLst/>
          </a:prstGeom>
          <a:ln w="0">
            <a:noFill/>
          </a:ln>
        </p:spPr>
      </p:pic>
      <p:sp>
        <p:nvSpPr>
          <p:cNvPr id="165" name="Retângulo de cantos arredondados 15"/>
          <p:cNvSpPr/>
          <p:nvPr/>
        </p:nvSpPr>
        <p:spPr>
          <a:xfrm>
            <a:off x="755640" y="328464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007e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2. Fase do ataque vio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de cantos arredondados 16"/>
          <p:cNvSpPr/>
          <p:nvPr/>
        </p:nvSpPr>
        <p:spPr>
          <a:xfrm>
            <a:off x="5219640" y="263700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de aumento da 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de cantos arredondados 17"/>
          <p:cNvSpPr/>
          <p:nvPr/>
        </p:nvSpPr>
        <p:spPr>
          <a:xfrm>
            <a:off x="4716360" y="5013360"/>
            <a:ext cx="3672000" cy="792000"/>
          </a:xfrm>
          <a:prstGeom prst="roundRect">
            <a:avLst>
              <a:gd name="adj" fmla="val 16667"/>
            </a:avLst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3. Fase do apaziguamento ou da lua-de-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)Fase de aumento da tensão: as tensões quotidianas acumuladas pelo agressor criam um ambiente de perigo iminente para a vítima, que é, muitas vezes, culpabilizada por tais tens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Sob qualquer pretexto o agressor direcciona todas as suas tensões sobre a vítima: são usualmente situações do quotidiano, como acusar a vítima de não ter cozinhado ou cozinhado com sal a mais, de ter chegado tarde em casa ou de ter amantes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11C-E2AF-4336-95BB-7E67151ABA4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4500720" y="4076640"/>
            <a:ext cx="2230200" cy="2328840"/>
          </a:xfrm>
          <a:prstGeom prst="rect">
            <a:avLst/>
          </a:prstGeom>
          <a:ln w="0">
            <a:noFill/>
          </a:ln>
        </p:spPr>
      </p:pic>
      <p:sp>
        <p:nvSpPr>
          <p:cNvPr id="173" name="Retângulo de cantos arredondados 8"/>
          <p:cNvSpPr/>
          <p:nvPr/>
        </p:nvSpPr>
        <p:spPr>
          <a:xfrm>
            <a:off x="6156360" y="414972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de aumento da 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Fase do ataque violento: o agressor maltrata, física e psicologicamente a vítima, que procura defender-se, esperando que o agressor pare e não avance com mais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ste ataque pode ser de grande intensidade, podendo a vítima, por vezes, ficar em estado grave, necessitando de atendimento ao qual o agressor nem sempre lhe dá acesso imediat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3499-7651-4B89-953B-6D02BDDBD5E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4494240" y="3645000"/>
            <a:ext cx="2523960" cy="263520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de cantos arredondados 6"/>
          <p:cNvSpPr/>
          <p:nvPr/>
        </p:nvSpPr>
        <p:spPr>
          <a:xfrm>
            <a:off x="2484360" y="4437000"/>
            <a:ext cx="2497320" cy="914400"/>
          </a:xfrm>
          <a:prstGeom prst="roundRect">
            <a:avLst>
              <a:gd name="adj" fmla="val 16667"/>
            </a:avLst>
          </a:prstGeom>
          <a:solidFill>
            <a:srgbClr val="007e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2. Fase do ataque vio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Fase do apaziguamento ou da lua-de-mel: o agressor, depois da tensão ter sido direccionada sobre a vítima, manifesta-lhe arrependimento e promete que não vai voltar a ser viol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presenta motivos para que a vítima desculpe a violência, como: ter corrido mal o dia, ter consumido álcool ou outras drogas e até relatar algum comportamento da vítima como motivo para seu descontrolo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Para reforçar o pedido de desculpas pode tratar a vítima com delicadeza e tentar seduzi-la, fazendo-a acreditar que, de facto, foi essa a última vez que se descontrolou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C670-A4E2-48F7-AC8B-886D1410592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cnho.files.wordpress.com/2010/12/ciclo.gif"/>
          <p:cNvPicPr/>
          <p:nvPr/>
        </p:nvPicPr>
        <p:blipFill>
          <a:blip r:embed="rId1"/>
          <a:stretch/>
        </p:blipFill>
        <p:spPr>
          <a:xfrm rot="17994000">
            <a:off x="3761280" y="4667760"/>
            <a:ext cx="1673280" cy="1747800"/>
          </a:xfrm>
          <a:prstGeom prst="rect">
            <a:avLst/>
          </a:prstGeom>
          <a:ln w="0">
            <a:noFill/>
          </a:ln>
        </p:spPr>
      </p:pic>
      <p:sp>
        <p:nvSpPr>
          <p:cNvPr id="185" name="Retângulo de cantos arredondados 6"/>
          <p:cNvSpPr/>
          <p:nvPr/>
        </p:nvSpPr>
        <p:spPr>
          <a:xfrm>
            <a:off x="5292720" y="5445000"/>
            <a:ext cx="3672000" cy="792360"/>
          </a:xfrm>
          <a:prstGeom prst="roundRect">
            <a:avLst>
              <a:gd name="adj" fmla="val 16667"/>
            </a:avLst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3. Fase do apaziguamento ou da lua-de-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907920"/>
            <a:ext cx="8597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ciclo é vivido pela vítima numa constante de medo, esperança e a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edo, em virtude da violência de que é alv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sperança, porque acredita no arrependimento e nos pedidos de desculpa que têm lugar depois da violência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mor, porque apesar da violência, podem existir momentos positivos no relacionament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iclo da violência caracteriza-se pela continuidade no tempo, isto é, pela repetição sucessiva ao longo de meses ou anos, podendo ser cada vez menores as fases da tensão e de apaziguamento e cada vez maior e mais intensa a fase do ataque viol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situações limite, o culminar destes episódios poderá ser o hom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D7FD-4B53-42E3-84F6-79766381DBF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ver em um mundo no qual as pessoas são vistas como detentoras de direitos é uma grande conqui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séculos, milhões de seres humanos, nos mais diversos lugares do mundo, foram reduzidos à condição de escravos e submetidos aos tratamentos mais cruéis e degradantes que podemos imagin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é bem pouco tempo, a violência contra a mulher e o abuso sexual de crianças despertavam apenas indignação moral. Hoje acarretam punições juríd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37B1-2534-484F-AE81-D8ED75E108A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itos que legitimam 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1484280"/>
            <a:ext cx="83822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muitos os mitos acerca da violência, podendo, assim, constituirem-se em um verdadeiro obstáculo a qualquer tipo de interven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ta forma, o profissional de saúde tem um papel fundamental na desmistificação de alguns mitos e preconceitos junto dos seus utentes, contribuindo de forma activa para reduzir 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98FB-1CDC-496B-B9AB-DFB41213374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5DA7-AA5D-4408-8C7E-1DA309A8A7A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1125360"/>
          <a:ext cx="8569440" cy="4937400"/>
        </p:xfrm>
        <a:graphic>
          <a:graphicData uri="http://schemas.openxmlformats.org/drawingml/2006/table">
            <a:tbl>
              <a:tblPr/>
              <a:tblGrid>
                <a:gridCol w="3397320"/>
                <a:gridCol w="517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álcool e outras drogas fazem com que as pessoas se tornem violen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substâncias químicas não são a causa da violência, mas podem potenciá-la porque têm efeito desinibi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9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 homens que batem nas mulheres são doentes ment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 agressores são pessoas “normais”. No entanto, a forma como se comportam nas relações interpessoais pode revelar uma estrutura de personalidade que predispõe à violê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iolência doméstica é um problema que n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ecta muitas mulhe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estatísticas internacionais indicam que existem entre 30% e 40% de mulheres vítimas dos seus companheiros ou mar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2A72-FDEA-498D-861D-8930F26FEB9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197000"/>
          <a:ext cx="8496360" cy="4937040"/>
        </p:xfrm>
        <a:graphic>
          <a:graphicData uri="http://schemas.openxmlformats.org/drawingml/2006/table">
            <a:tbl>
              <a:tblPr/>
              <a:tblGrid>
                <a:gridCol w="345600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iolência apenas existe em famílias de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ível socioeconôm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vítimas provêm de todos os estratos sociais, de todas as idades, raças e credos religiosos, sendo 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nómeno de carácter univers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ssão é apenas uma perda momentânea 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zão por parte da pessoa que agri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quer tipo de violência, de uma pessoa sobre outra, é crime, independente da sua frequ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 intensidade. O agressor age com o objectivo de manter o controlo sobre a víti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mulher não pode sair de casa porque p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itos e pode ficar sem os filh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mulher tem o direito e a responsabilidade de proteger-se a si e aos seus filhos, devendo no enta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r as autoridades judici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03BD-11CF-41C9-868D-57781761DBC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413000"/>
          <a:ext cx="8569440" cy="4449600"/>
        </p:xfrm>
        <a:graphic>
          <a:graphicData uri="http://schemas.openxmlformats.org/drawingml/2006/table">
            <a:tbl>
              <a:tblPr/>
              <a:tblGrid>
                <a:gridCol w="2376360"/>
                <a:gridCol w="61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ítima é responsável pela violência porque a provo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nguém pede para ser agredido e ninguém merece sofrer agressão, independente, daquilo que diga ou faça. Ninguém deseja que o cônjuge seja abusiv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mulheres cujo segundo ou terceiro parceiro são agressores, muitas vezes são tidas pelo outros como culpadas pela violência – “deve ser algo com ela”. Na verdade, o agressor usa a táctica do charme no início do relacionamento a fim de descobrir que ela já foi vítima de ab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ão usa essa informação para culpá-la pela violê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F019-70E8-4C6A-9566-D34E9A99D26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95280" y="1052640"/>
          <a:ext cx="8496360" cy="5059080"/>
        </p:xfrm>
        <a:graphic>
          <a:graphicData uri="http://schemas.openxmlformats.org/drawingml/2006/table">
            <a:tbl>
              <a:tblPr/>
              <a:tblGrid>
                <a:gridCol w="2592360"/>
                <a:gridCol w="590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mulheres vítimas de violência doméstica só 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ão porque não saem de casa e até devem gos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apanh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heres sobreviventes de violência canalizam as energias, diariamente, a tentar sobreviver e a evitar serem mor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ão vários os factores que as impedem de desenvolverem estratégias para acabar com a violência, nomeadamente a dependência emocional (muitas vezes associadas a técnicas de controlo do agressor) e financeira, poucas opções viáveis de acomodação e apoio, resposta inadequada do sistema judiciário criminal ou de outros serviços, isolamento social, impedimentos culturais ou religiosos, o medo de sofrer ainda mais violência e o facto de terem filhos em comu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306-252C-48A0-9E17-E88CEBB3E2F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1268280"/>
          <a:ext cx="8353440" cy="3230640"/>
        </p:xfrm>
        <a:graphic>
          <a:graphicData uri="http://schemas.openxmlformats.org/drawingml/2006/table">
            <a:tbl>
              <a:tblPr/>
              <a:tblGrid>
                <a:gridCol w="2303640"/>
                <a:gridCol w="604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8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 homem pode ser agressor e um bom pai ao mesmo temp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qualidade da interacção do pai com o filho deve ser avaliada numa situação de violênci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á evidência científica que só pelo facto de as crianças estarem expostas a situações de violência é possível observar o impacto dessas vivências através de alterações comportamentais, emocionais e psicológicas das crianças (vitimação indirecta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vivência num ambiente de violência, onde os protagonistas são as figuras de apego (pais, por exemplo), desenvolve nas crianças a concepção de um mundo imprevisível, inseguro e assustador, podendo promover a manifestação de sintomas de ansiedade, de evitamento e/ou agressiv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gravidade deste impacto depende do nível de desenvolvimento da criança, severidade da violência presenciada, proximidade quer ao ambiente físico quer à vítima e características individuais de cada criança (SANI, 1999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7246-AE4A-45C0-B770-7606EF5CAB8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1628640"/>
            <a:ext cx="8381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udos revelam que os homens que agridem a companheira fisicamente também abusam fisicamente dos filhos em 40 a 75% dos ca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agressores, muitas vezes demonstram acentuado interesse pelos filhos quando da separação como um meio de manter o contacto, e assim controlar o cônjug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A082-4BD9-41CF-B88A-9F5850CDEB2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000" y="1699920"/>
            <a:ext cx="83818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xperiência das mulheres violentadas implica um conjunto de sentimentos relacionados com a violência, que vão desde a confusão sobre o que provoca a violência, até sentimentos de desespero sobre a possibilidade de parar com a mesma, sentimentos de isolamento e depressão por estarem sob o controle violento dos seus maridos. Por vezes, algumas mulheres consideram o suicídio como uma opção para fugirem da violência” (Voices of the Poor, World Bank, 2000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A5F-303D-4D1D-89C5-5FDFE06C4CA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000" y="1844280"/>
            <a:ext cx="83818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lheres e crianças com reacções de Stress Pós-violência exibem grande variedade de sintomas físicos, psicológicos e emocion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queixar-se do trauma físico propriamente dito (dor, mutil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desenvolver disfunções sexuais, doenças de transmissão sexual, dores crónicas e distúrbios funcionais, desordens gastro-intestinais, gravidezes não desejadas, aborto natural ou induzido, bem como o risco de contrair o HIV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DD75-391E-4A5C-BFF8-69B0F8F649C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557000"/>
            <a:ext cx="83822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bem verdade que o mundo continua sendo injusto, sobretudo com os mais vulneráveis, pois parte significativa da população sofre a falta de emprego, saúde, alimentação, água potável. Porém, pelo menos diante destes absurdos, hoje podemos dizer: isso não está direito!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mais importante, podemos nos dirigir ao Estado como cidadãos e exigir que nossas demandas sejam atendidas, não como favor, mas como direito!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E773-FF54-4A7F-A3BF-A28EB320FF0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360"/>
            <a:ext cx="8381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ordens mentais depressivas, pânico, ansiedade generalizada, fobia, comportamento anti-social e outras desordens de personalidade, adesão ao uso de álcool e outras drogas, distúrbio do sono, anorexia, buli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nça, em particular, poderá ter perdas importantes no seu desenvolvimento psicomotor, afetivo e cognitivo, com prejuízos na escola e no relacionamento com outras cria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BE51-A8F1-4686-95AF-9FCB7BA79A3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rganização Mundial da Saúde (OMS) define violência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mposição de um grau significativo de dor e sofrimento evitáveis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ém, especialistas afirmam que o conceito é muito mais amplo e ambíguo do que essa mera constatação de que a violência é a imposição de dor, a agressão cometida por uma pessoa contra outra; mesmo porque a dor é um conceito muito difícil de ser defini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6D2-D4C1-4862-AB82-E7ABABA5982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9640" y="1412640"/>
            <a:ext cx="83822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é a “ação ou efeito de violentar, de empregar força física (contra alguém ou algo) ou intimidação moral contra (alguém); ato violento, crueldade, força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specto jurídico, o termo é definido como o “constrangimento físico ou moral exercido sobre alguém, para obrigá-lo a submeter-se à vontade de outrem; coação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Verdana"/>
              </a:rPr>
              <a:t>(Dicionário Houaiss)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7070-D284-409C-B662-577D536CDEA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7400" y="3860640"/>
            <a:ext cx="1279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0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acordo com a comunidade internacional de direitos humanos, a violência é compreendida como todas as violações dos direit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vis (vida, propriedade, liberdade de ir e vir, de consciência e de culto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líticos (direito a votar e a ser votado, ter participação polític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ciais (habitação, saúde, educação, seguranç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conômicos (emprego e salário);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ulturais (direito de manter e manifestar sua própria cultur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5B19-E29C-4DE9-88D2-0252FC15910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ormas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8780-DAC4-4738-AB3F-F1FA9B266A2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ipse 5"/>
          <p:cNvSpPr/>
          <p:nvPr/>
        </p:nvSpPr>
        <p:spPr>
          <a:xfrm>
            <a:off x="1187280" y="1628640"/>
            <a:ext cx="3529080" cy="144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ipse 6"/>
          <p:cNvSpPr/>
          <p:nvPr/>
        </p:nvSpPr>
        <p:spPr>
          <a:xfrm>
            <a:off x="1258920" y="3789360"/>
            <a:ext cx="3529080" cy="144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ipse 7"/>
          <p:cNvSpPr/>
          <p:nvPr/>
        </p:nvSpPr>
        <p:spPr>
          <a:xfrm>
            <a:off x="5003640" y="3716280"/>
            <a:ext cx="3529080" cy="14414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egligênci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ipse 8"/>
          <p:cNvSpPr/>
          <p:nvPr/>
        </p:nvSpPr>
        <p:spPr>
          <a:xfrm>
            <a:off x="4932360" y="1700280"/>
            <a:ext cx="3527280" cy="14414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fís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ísica é o uso da força com o objectivo de ferir, deixando ou não marcas ev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omuns, murros, socos, mordidas e agressões com objectos diver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, as mais comuns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ofensas corporais voluntárias simples (esbofetear, pontapear, morder ou esmurrar), outras ofensas qualificadas (espancamentos que resulte em sangramento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A7F7-8B7A-4216-97D0-B465919AE0D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t3.gstatic.com/images?q=tbn:ANd9GcQGOHPjYgRHpToatDuIFgOHK6O5vKylrSLTY3OE-qQz-OIgLIYe"/>
          <p:cNvPicPr/>
          <p:nvPr/>
        </p:nvPicPr>
        <p:blipFill>
          <a:blip r:embed="rId1"/>
          <a:stretch/>
        </p:blipFill>
        <p:spPr>
          <a:xfrm>
            <a:off x="5724360" y="4508640"/>
            <a:ext cx="24004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264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psicológica ou agressão emocional, tão ou mais prejudicial que a física, é caracterizada pela rejeição, depreciação, discriminação, humilhação, desrespeito e punições exager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violência que não deixa marcas corporais visíveis, mas emocionalmente provoca cicatrizes para toda a vida.</a:t>
            </a:r>
            <a:br>
              <a:rPr sz="24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                   </a:t>
            </a:r>
            <a:br>
              <a:rPr sz="24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A0A-7DDE-42EF-96D7-EDAFE7F2104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t3.gstatic.com/images?q=tbn:ANd9GcTA5h1GQIGZhkrwxK-yvhJq-A5m-Mu-bVlb-Tt-Wa8SgPxVXbfy"/>
          <p:cNvPicPr/>
          <p:nvPr/>
        </p:nvPicPr>
        <p:blipFill>
          <a:blip r:embed="rId1"/>
          <a:stretch/>
        </p:blipFill>
        <p:spPr>
          <a:xfrm>
            <a:off x="4067280" y="3645000"/>
            <a:ext cx="2592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7:55:07Z</dcterms:created>
  <dc:creator>Escolastica</dc:creator>
  <dc:description/>
  <dc:language>en-US</dc:language>
  <cp:lastModifiedBy>user</cp:lastModifiedBy>
  <dcterms:modified xsi:type="dcterms:W3CDTF">2011-09-29T10:41:37Z</dcterms:modified>
  <cp:revision>81</cp:revision>
  <dc:subject/>
  <dc:title>Slide 1</dc:title>
</cp:coreProperties>
</file>