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B0A1-13C3-4B14-AED0-8B344552FB31}"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17AB-B8FA-4567-BB2D-62DDE306B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430ABB-3693-4756-8D8A-15F80F24A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56D018-93FF-4CD4-A0A9-12948E36F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F90D0B-B548-44FF-87AE-1C150E9F9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10CA2-8861-4577-B819-DCBADEC373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5"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0"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04C4A5-ABBD-4F1C-8950-861D5627FA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9"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2"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7"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543859-C2AF-4E56-AC05-274FB2B42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F1888-D343-40B8-98B6-F0BB93585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E355D-0E44-42F6-B28F-E62BDCC267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550BF8-9BBF-42B0-BA11-650324F148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68BFC-0771-4E61-860F-D8E1CBB0E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D80DD-B51C-4A34-9C83-F0DB7B3CB4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21155-6EC8-40B8-B392-2D5C015546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4817-8E6C-473A-801D-2CAF67B565E2}" type="slidenum">
              <a:rPr b="0" lang="pt-PT" sz="1200" spc="-1" strike="noStrike">
                <a:solidFill>
                  <a:srgbClr val="9999ff"/>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900000" y="177336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7"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8"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ufpa.br/dicas/wor-defi.htm" TargetMode="External"/><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ine.gov.mz/sectorias_dir/saude_dir/Document.2010-06-22.0842441933" TargetMode="External"/><Relationship Id="rId2" Type="http://schemas.openxmlformats.org/officeDocument/2006/relationships/hyperlink" Target="http://www.ine.gov.mz/sectorias_dir/saude_dir/Document.2010-06-22.0502160683" TargetMode="External"/><Relationship Id="rId3" Type="http://schemas.openxmlformats.org/officeDocument/2006/relationships/hyperlink" Target="http://www.ine.gov.mz/sectorias_dir/saude_dir/Document.2010-06-22.0873529420" TargetMode="External"/><Relationship Id="rId4" Type="http://schemas.openxmlformats.org/officeDocument/2006/relationships/hyperlink" Target="http://www.ine.gov.mz/sectorias_dir/saude_dir/TLD04_08" TargetMode="External"/><Relationship Id="rId5" Type="http://schemas.openxmlformats.org/officeDocument/2006/relationships/hyperlink" Target="http://www.ine.gov.mz/sectorias_dir/saude_dir/Document.2010-01-27.8809667113" TargetMode="External"/><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03280" y="4724280"/>
            <a:ext cx="6934320" cy="1440000"/>
          </a:xfrm>
          <a:prstGeom prst="rect">
            <a:avLst/>
          </a:prstGeom>
          <a:solidFill>
            <a:srgbClr val="ffffff"/>
          </a:solidFill>
          <a:ln w="9360">
            <a:solidFill>
              <a:srgbClr val="0000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Módulo 8: Prática de Enfermagem I – Promoção da Saúde</a:t>
            </a:r>
            <a:endParaRPr b="1" lang="en-US" sz="2800" spc="-1" strike="noStrike">
              <a:solidFill>
                <a:srgbClr val="000066"/>
              </a:solidFill>
              <a:latin typeface="Verdana"/>
            </a:endParaRPr>
          </a:p>
        </p:txBody>
      </p:sp>
      <p:sp>
        <p:nvSpPr>
          <p:cNvPr id="93" name="Rectangle 2067"/>
          <p:cNvSpPr/>
          <p:nvPr/>
        </p:nvSpPr>
        <p:spPr>
          <a:xfrm>
            <a:off x="1116000" y="1989000"/>
            <a:ext cx="7380360" cy="203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Indicadores de saúde: noções e finalidade; Principais indicadores de saúde; </a:t>
            </a:r>
            <a:r>
              <a:rPr b="1" lang="pt-BR" sz="2800" spc="-1" strike="noStrike">
                <a:solidFill>
                  <a:srgbClr val="ffffff"/>
                </a:solidFill>
                <a:latin typeface="Verdana"/>
              </a:rPr>
              <a:t>Indicadores de Saúde de Moçambique.</a:t>
            </a:r>
            <a:endParaRPr b="0" lang="en-US" sz="2800" spc="-1" strike="noStrike">
              <a:solidFill>
                <a:srgbClr val="000000"/>
              </a:solidFill>
              <a:latin typeface="Arial"/>
            </a:endParaRPr>
          </a:p>
        </p:txBody>
      </p:sp>
      <p:sp>
        <p:nvSpPr>
          <p:cNvPr id="94" name="Rectangle 206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5"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2" name=""/>
          <p:cNvSpPr txBox="1"/>
          <p:nvPr/>
        </p:nvSpPr>
        <p:spPr>
          <a:xfrm>
            <a:off x="324000" y="1143000"/>
            <a:ext cx="8640720" cy="502920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que é o IDH?</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IDH mede o desenvolvimento humano de países, estados e municípios, utilizando como critérios indicadores de longevidade (esperança de vida ao nascer), renda (PIB per capita) e educação (taxa de alfabetização de pessoas com 15 anos ou mais e taxa de matrícula bruta no ensino fundamental, médio ou superior).</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IDH varia de zero (nenhum desenvolvimento humano) a um (desenvolvimento humano total). IDH até 0,499 é considerado baixo. Índices entre 0,500 e 0,799 são considerados médios, e superiores a 0,800, altos.</a:t>
            </a:r>
            <a:endParaRPr b="1" lang="en-US" sz="2400" spc="-1" strike="noStrike">
              <a:solidFill>
                <a:srgbClr val="000066"/>
              </a:solidFill>
              <a:latin typeface="Verdana"/>
            </a:endParaRPr>
          </a:p>
        </p:txBody>
      </p:sp>
      <p:sp>
        <p:nvSpPr>
          <p:cNvPr id="1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2BB2B-F342-45AA-BE54-2931923AEC2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6" name=""/>
          <p:cNvSpPr txBox="1"/>
          <p:nvPr/>
        </p:nvSpPr>
        <p:spPr>
          <a:xfrm>
            <a:off x="468000" y="1412640"/>
            <a:ext cx="8381880" cy="444636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çambique, segundo a ONU, é um dos 50 países menos desenvolvidos do mundo;</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ntre 2000 e 2004, a expectativa de vida subiu de 44,3 para 46,7 anos; a proporção de crianças matriculadas na escola aumentou 7,6% e o PIB per capita cresceu 65%.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país tinha, em 2000, IDH de 0,366; chegou a 0,428 em 2004.</a:t>
            </a:r>
            <a:endParaRPr b="1" lang="en-US" sz="24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Noruega ocupa o topo do ranking (com IDH de 0,963) e Níger em último lugar (com IDH de 0,281). </a:t>
            </a:r>
            <a:br>
              <a:rPr sz="2400"/>
            </a:br>
            <a:br>
              <a:rPr sz="2400"/>
            </a:br>
            <a:br>
              <a:rPr sz="2400"/>
            </a:br>
            <a:r>
              <a:rPr b="0" lang="pt-BR" sz="2400" spc="-1" strike="noStrike">
                <a:solidFill>
                  <a:srgbClr val="5b5b98"/>
                </a:solidFill>
                <a:latin typeface="Verdana"/>
              </a:rPr>
              <a:t> </a:t>
            </a:r>
            <a:endParaRPr b="1" lang="en-US" sz="24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68DA-48C3-4E4B-B52D-5245133EBF2E}"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0" name=""/>
          <p:cNvSpPr txBox="1"/>
          <p:nvPr/>
        </p:nvSpPr>
        <p:spPr>
          <a:xfrm>
            <a:off x="468000" y="1557000"/>
            <a:ext cx="8381880" cy="4157640"/>
          </a:xfrm>
          <a:prstGeom prst="rect">
            <a:avLst/>
          </a:prstGeom>
          <a:noFill/>
          <a:ln w="0">
            <a:noFill/>
          </a:ln>
        </p:spPr>
        <p:txBody>
          <a:bodyPr anchor="t">
            <a:normAutofit fontScale="91000"/>
          </a:bodyPr>
          <a:p>
            <a:pPr marL="312120" indent="-3121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tanto:</a:t>
            </a:r>
            <a:endParaRPr b="1" lang="en-US" sz="2800" spc="-1" strike="noStrike">
              <a:solidFill>
                <a:srgbClr val="000066"/>
              </a:solidFill>
              <a:latin typeface="Verdana"/>
            </a:endParaRPr>
          </a:p>
          <a:p>
            <a:pPr lvl="1" marL="676080" indent="-259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dicadores podem e devem ser utilizados como ferramentas para auxiliar o gerenciamento da qualidade. </a:t>
            </a:r>
            <a:endParaRPr b="1" lang="en-US" sz="2400" spc="-1" strike="noStrike">
              <a:solidFill>
                <a:srgbClr val="000066"/>
              </a:solidFill>
              <a:latin typeface="Verdana"/>
            </a:endParaRPr>
          </a:p>
          <a:p>
            <a:pPr lvl="1" marL="676080" indent="-259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dicadores de saúde da população associados a indicadores econômicos, financeiros, de produção, de recursos humanos, de qualidade da assistência propriamente dita, isto é, relacionados a determinadas doenças, auxiliam na avaliação de programas e de serviços. </a:t>
            </a:r>
            <a:br>
              <a:rPr sz="2400"/>
            </a:br>
            <a:br>
              <a:rPr sz="2400"/>
            </a:br>
            <a:r>
              <a:rPr b="0" lang="pt-BR" sz="2400" spc="-1" strike="noStrike">
                <a:solidFill>
                  <a:srgbClr val="5b5b98"/>
                </a:solidFill>
                <a:latin typeface="Verdana"/>
              </a:rPr>
              <a:t> </a:t>
            </a:r>
            <a:endParaRPr b="1" lang="en-US" sz="2400" spc="-1" strike="noStrike">
              <a:solidFill>
                <a:srgbClr val="000066"/>
              </a:solidFill>
              <a:latin typeface="Verdana"/>
            </a:endParaRPr>
          </a:p>
        </p:txBody>
      </p:sp>
      <p:sp>
        <p:nvSpPr>
          <p:cNvPr id="1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1583-BF37-42D6-96CF-28ED9531E5F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4" name=""/>
          <p:cNvSpPr txBox="1"/>
          <p:nvPr/>
        </p:nvSpPr>
        <p:spPr>
          <a:xfrm>
            <a:off x="468000" y="1915920"/>
            <a:ext cx="8381880" cy="271908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À luz da teoria. Não existe análise de dados sem reflexão teórica.</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 </a:t>
            </a:r>
            <a:r>
              <a:rPr b="0" lang="pt-BR" sz="2400" spc="-1" strike="noStrike">
                <a:solidFill>
                  <a:srgbClr val="5b5b98"/>
                </a:solidFill>
                <a:latin typeface="Verdana"/>
              </a:rPr>
              <a:t>Em série histórica (análise temporal).</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 comparação espacial (análise territorial).</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D272-82CC-4B52-93E2-9773E2BC7811}"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8" name=""/>
          <p:cNvSpPr txBox="1"/>
          <p:nvPr/>
        </p:nvSpPr>
        <p:spPr>
          <a:xfrm>
            <a:off x="539640" y="1844640"/>
            <a:ext cx="8382240" cy="3726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smembrando-o em categoria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Gênero</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aixa etária</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aça/Cor</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ndimento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aracterização socioeconômica</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Vulnerabilidade socioeconômica</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62C7-BED9-4099-90B9-F8035070511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2" name=""/>
          <p:cNvSpPr txBox="1"/>
          <p:nvPr/>
        </p:nvSpPr>
        <p:spPr>
          <a:xfrm>
            <a:off x="468000" y="1628280"/>
            <a:ext cx="8381880" cy="4086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brangências territoriais</a:t>
            </a:r>
            <a:r>
              <a:rPr b="0" lang="pt-BR" sz="2800" spc="-1" strike="noStrike">
                <a:solidFill>
                  <a:srgbClr val="5b5b98"/>
                </a:solidFill>
                <a:latin typeface="Verdana"/>
              </a:rPr>
              <a:t>	</a:t>
            </a:r>
            <a:endParaRPr b="1" lang="en-US" sz="28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por país, continente</a:t>
            </a:r>
            <a:endParaRPr b="1" lang="en-US" sz="24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Grandes regiões</a:t>
            </a:r>
            <a:endParaRPr b="1" lang="en-US" sz="28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Sul de Moçambique</a:t>
            </a:r>
            <a:endParaRPr b="1" lang="en-US" sz="24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 província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Regiões metropolitanas ou rurai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 distritos</a:t>
            </a:r>
            <a:endParaRPr b="1" lang="en-US" sz="28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33AC-9CB5-40E7-A55E-8D512E6BFF09}"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6" name=""/>
          <p:cNvSpPr txBox="1"/>
          <p:nvPr/>
        </p:nvSpPr>
        <p:spPr>
          <a:xfrm>
            <a:off x="456840" y="1267920"/>
            <a:ext cx="8381880" cy="352908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ara a Organização Mundial da Saúde, os indicadores gerais de saúde podem subdividir-se em três grupos: </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traduzem a saúde ou sua falta em um grupo populacional. </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a:t>
            </a:r>
            <a:endParaRPr b="1" lang="en-US" sz="2400" spc="-1" strike="noStrike">
              <a:solidFill>
                <a:srgbClr val="000066"/>
              </a:solidFill>
              <a:latin typeface="Verdana"/>
            </a:endParaRPr>
          </a:p>
          <a:p>
            <a:pPr lvl="2" marL="1131480" indent="-22608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eficiente de Natalidade = Número de nascimentos/população total</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A1E06-B770-491F-93B8-B3089CE207E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59" name="CaixaDeTexto 5"/>
          <p:cNvSpPr/>
          <p:nvPr/>
        </p:nvSpPr>
        <p:spPr>
          <a:xfrm>
            <a:off x="684360" y="4941720"/>
            <a:ext cx="8135640" cy="119124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s</a:t>
            </a:r>
            <a:r>
              <a:rPr b="1" lang="pt-BR" sz="2400" spc="-1" strike="noStrike">
                <a:solidFill>
                  <a:srgbClr val="000000"/>
                </a:solidFill>
                <a:latin typeface="Verdana"/>
              </a:rPr>
              <a:t> Coeficientes  </a:t>
            </a:r>
            <a:r>
              <a:rPr b="0" lang="pt-BR" sz="2400" spc="-1" strike="noStrike">
                <a:solidFill>
                  <a:srgbClr val="000000"/>
                </a:solidFill>
                <a:latin typeface="Verdana"/>
              </a:rPr>
              <a:t>são razões entre o número de ocorrências e o número total (número de ocorrências e número de não ocorrênc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61" name=""/>
          <p:cNvSpPr txBox="1"/>
          <p:nvPr/>
        </p:nvSpPr>
        <p:spPr>
          <a:xfrm>
            <a:off x="394920" y="1341000"/>
            <a:ext cx="8443800" cy="4614840"/>
          </a:xfrm>
          <a:prstGeom prst="rect">
            <a:avLst/>
          </a:prstGeom>
          <a:noFill/>
          <a:ln w="0">
            <a:noFill/>
          </a:ln>
        </p:spPr>
        <p:txBody>
          <a:bodyPr anchor="t">
            <a:normAutofit fontScale="95000"/>
          </a:bodyPr>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m “índice” expressa situações multidimensionais.</a:t>
            </a:r>
            <a:endParaRPr b="1" lang="en-US" sz="2400" spc="-1" strike="noStrike">
              <a:solidFill>
                <a:srgbClr val="000066"/>
              </a:solidFill>
              <a:latin typeface="Verdana"/>
            </a:endParaRPr>
          </a:p>
          <a:p>
            <a:pPr lvl="1" marL="705600" indent="-271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Índice de Apgar. </a:t>
            </a:r>
            <a:endParaRPr b="1" lang="en-US" sz="2400" spc="-1" strike="noStrike">
              <a:solidFill>
                <a:srgbClr val="000066"/>
              </a:solidFill>
              <a:latin typeface="Verdana"/>
            </a:endParaRPr>
          </a:p>
          <a:p>
            <a:pPr lvl="1" marL="705600" indent="-271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índice de Apgar reune cinco dimensões (frequencia cardíaca, respiração, tónus muscular, irritabilidade reflexa e cor da pele), que são avaliadas no 1º., 5º. e 10º. minuto após o nascimento, atribuindo-se a cada um dos sinais uma pontuação de 0 a 2 para avaliar as condições gerais do recém nascido.</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o fundo, porém, deve prevalecer “indicadores de saúde” para designar todo este campo de conhecimento. O índice de Apgar não deixa de ser um indicador.</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6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6BE4-27C7-498D-8FAE-7466797C854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6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b5b98"/>
                </a:solidFill>
                <a:latin typeface="Verdana"/>
              </a:rPr>
              <a:t>Continuaçã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se referem às condições do meio e que têm influência sobre a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saneamento básic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medem os recursos materiais e humanos relacionados às atividades de saúde.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número de unidades básicas de saúde, número de profissionais de saúde, número de leitos hospitalares e número de consultas em relação a determinada população (Laurenti e cols., 1987).</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502F-4050-413C-8058-49909CBBCBBE}"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5640" y="228240"/>
            <a:ext cx="7723080" cy="6793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69" name=""/>
          <p:cNvSpPr txBox="1"/>
          <p:nvPr/>
        </p:nvSpPr>
        <p:spPr>
          <a:xfrm>
            <a:off x="468000" y="1125360"/>
            <a:ext cx="8381880" cy="2951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É consenso que com o avanço da informatização dos sistemas administrativos e com a disseminação em grande escala da internet, existem, atualmente, mais informações disponíveis do que a capacidade dos analistas em processá-las.</a:t>
            </a:r>
            <a:endParaRPr b="1" lang="en-US" sz="2800" spc="-1" strike="noStrike">
              <a:solidFill>
                <a:srgbClr val="000066"/>
              </a:solidFill>
              <a:latin typeface="Verdana"/>
            </a:endParaRPr>
          </a:p>
        </p:txBody>
      </p:sp>
      <p:sp>
        <p:nvSpPr>
          <p:cNvPr id="1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1C37-94EF-43E2-A106-1603EF01BE9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72" name="Picture 13" descr="pc-man2">
            <a:hlinkClick r:id="rId1"/>
          </p:cNvPr>
          <p:cNvPicPr/>
          <p:nvPr/>
        </p:nvPicPr>
        <p:blipFill>
          <a:blip r:embed="rId2"/>
          <a:stretch/>
        </p:blipFill>
        <p:spPr>
          <a:xfrm>
            <a:off x="5076720" y="3716280"/>
            <a:ext cx="3027600" cy="268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97" name=""/>
          <p:cNvSpPr txBox="1"/>
          <p:nvPr/>
        </p:nvSpPr>
        <p:spPr>
          <a:xfrm>
            <a:off x="324000" y="1196640"/>
            <a:ext cx="8640720" cy="511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que é um indicador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resumo de dados com o objetivo de responder a questões relevantes para o planejamento e administração das açõe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 termos gerais, são medidas síntese que contêm informações relevantes sobre determinados atributos e dimensões do estado de saúde, bem como do desempenho do sistema de saúde (Ripsa, 2008).</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 </a:t>
            </a:r>
            <a:r>
              <a:rPr b="0" lang="pt-BR" sz="2400" spc="-1" strike="noStrike">
                <a:solidFill>
                  <a:srgbClr val="5b5b98"/>
                </a:solidFill>
                <a:latin typeface="Verdana"/>
              </a:rPr>
              <a:t>Vistos em conjunto, devem refletir a situação sanitária de uma população e servir para a vigilância das condições de saúde (Ripsa, 2008).</a:t>
            </a:r>
            <a:endParaRPr b="1" lang="en-US" sz="2400" spc="-1" strike="noStrike">
              <a:solidFill>
                <a:srgbClr val="000066"/>
              </a:solidFill>
              <a:latin typeface="Verdana"/>
            </a:endParaRPr>
          </a:p>
        </p:txBody>
      </p:sp>
      <p:sp>
        <p:nvSpPr>
          <p:cNvPr id="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7756-EB16-4810-B042-5D9FCF16A66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74"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É indispensável que se realize uma seleção adequada das informações a serem utilizadas, levando-se em consideração os objetivos da utilizaçã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Exemplos:</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	</a:t>
            </a:r>
            <a:r>
              <a:rPr b="0" lang="pt-BR" sz="2800" spc="-1" strike="noStrike">
                <a:solidFill>
                  <a:srgbClr val="5b5b98"/>
                </a:solidFill>
                <a:latin typeface="Verdana"/>
              </a:rPr>
              <a:t>a) Indicadores relacionados à implantação de uma US em determinado territóri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aracterização socioeconômica dos usuári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erfil epidemiológico do local.</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B1E7-6D56-4E33-81DF-E8C5FF4FA97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78"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ntinuação</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b) Indicadores para subsidiar processos de planejamento, gestão e avaliação de políticas soci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Índice de escolaridad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trabalho e ren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cesso a serviç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9C4A-3792-44CA-95CB-1E4A80E48B3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2"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 o avanço no controle das doenças, passou-se a analisar outras dimensões do estado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capac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cesso a Servi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Qualidade da Aten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atores Ambient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rganização do Sistem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3B99-1C63-4049-A644-708E9C648BC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6"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Grupos de Indicadores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Refer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Hospitala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tend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ís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Hum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inanceir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enças de Notificação Compulsóri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3048-986C-49EA-A3BD-D5B62DBD03D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0"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Refer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saúde e adoecimento referidas pelo próprio indivíduo em inquéritos populacion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de Indicadores: Prevalência de doenças crônicas; Proporção de pessoas em boas condições de saúde; taxa de restrição de atividades em razão de agravos à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cesso e utilização dos serviços, restrição no acesso, planejamento e gestão de políticas públicas, desigualdades raciais e de gêner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D1C2-A15C-43C4-B7AE-8736BC12734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4" name=""/>
          <p:cNvSpPr txBox="1"/>
          <p:nvPr/>
        </p:nvSpPr>
        <p:spPr>
          <a:xfrm>
            <a:off x="539640" y="1557360"/>
            <a:ext cx="8382240" cy="430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Hospitala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ternações realizadas, serve como indicador das condições de saúde, demanda e oferta de servi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Proporção de internações por causas externas; Taxa de internações por Infecção Respiratória Aguda (IRA) em menores de 5 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Condições de saúde, subsidio ao processo de planejamento, gestão e avaliação de políticas públicas, mensuração de desigualdade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1294-4EE7-411B-B53E-0C84F7E36BF1}"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8" name=""/>
          <p:cNvSpPr txBox="1"/>
          <p:nvPr/>
        </p:nvSpPr>
        <p:spPr>
          <a:xfrm>
            <a:off x="468000" y="1700280"/>
            <a:ext cx="8381880" cy="408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Óbitos de determinada população segundo causa, idade, condição de evitabilidade, etc.</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Taxa de Mortalidade Infantil (por 1.000 nascidos vivos); Taxa de mortalidade por causas externas(por 100.000 hab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Prevenção de agravos, análise das condições de saúde e dimensionar o desenvolvimento socioeconômic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BF39-3553-4D79-B319-41756B77183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2" name=""/>
          <p:cNvSpPr txBox="1"/>
          <p:nvPr/>
        </p:nvSpPr>
        <p:spPr>
          <a:xfrm>
            <a:off x="468000" y="1628640"/>
            <a:ext cx="8381880" cy="394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tend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tilização de serviços de saúde, como internações, consultas médicas, realização de exam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de Indicadores: Consultas Médicas realizadas, por habitante/ano; Número de procedimentos complementares por consult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valiar o acesso e utilização de serviços, a gestão das políticas públicas, identificar desigualdades ou carências locais e regionai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E873-B23F-4F91-9DB8-313240B0A9FA}"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6" name=""/>
          <p:cNvSpPr txBox="1"/>
          <p:nvPr/>
        </p:nvSpPr>
        <p:spPr>
          <a:xfrm>
            <a:off x="468000" y="1700280"/>
            <a:ext cx="8381880" cy="4014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ferta de Recursos Fís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ferta de serviç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Leitos por mil habitantes; Leitos de obstetrícia por mil nascidos viv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Oferta de serviços, acesso, organização dos serviços de saúde, organização da rede (público </a:t>
            </a:r>
            <a:r>
              <a:rPr b="0" i="1" lang="pt-BR" sz="2400" spc="-1" strike="noStrike">
                <a:solidFill>
                  <a:srgbClr val="5b5b98"/>
                </a:solidFill>
                <a:latin typeface="Verdana"/>
              </a:rPr>
              <a:t>versus privado), </a:t>
            </a:r>
            <a:r>
              <a:rPr b="0" lang="pt-BR" sz="2400" spc="-1" strike="noStrike">
                <a:solidFill>
                  <a:srgbClr val="5b5b98"/>
                </a:solidFill>
                <a:latin typeface="Verdana"/>
              </a:rPr>
              <a:t>desigualdades regionais e gestão de políticas pública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8BE0-2E4E-44A8-95AC-8116F006792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0"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ferta de Recursos Hum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rofissionais de saúde existentes em estabeleciment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Coeficiente de Médicos, por mil habitantes; Número de enfermeiros por habita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Oferta de profissionais da saúde à população, desigualdades regionai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B852-836C-4759-98B7-F16A85ACEF3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01" name=""/>
          <p:cNvSpPr txBox="1"/>
          <p:nvPr/>
        </p:nvSpPr>
        <p:spPr>
          <a:xfrm>
            <a:off x="395280" y="1413000"/>
            <a:ext cx="8515440" cy="29527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indicador de saúde deve revelar a situação de saúde de um indivíduo ou de uma populaçã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Um indicador indica um aspecto.</a:t>
            </a:r>
            <a:endParaRPr b="1" lang="en-US" sz="28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Taxa de mortalidade infantil de 21,22. Significa que morrem 21,22 crianças de 0 a 1 ano para 1000 nascimentos</a:t>
            </a:r>
            <a:r>
              <a:rPr b="0" lang="pt-BR" sz="2000" spc="-1" strike="noStrike">
                <a:solidFill>
                  <a:srgbClr val="5b5b98"/>
                </a:solidFill>
                <a:latin typeface="Verdana"/>
              </a:rPr>
              <a:t>. </a:t>
            </a:r>
            <a:endParaRPr b="1" lang="en-US" sz="2000" spc="-1" strike="noStrike">
              <a:solidFill>
                <a:srgbClr val="000066"/>
              </a:solidFill>
              <a:latin typeface="Verdana"/>
            </a:endParaRPr>
          </a:p>
        </p:txBody>
      </p:sp>
      <p:sp>
        <p:nvSpPr>
          <p:cNvPr id="1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6166-0477-4D45-80B8-A39D5CDA5D2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04" name="CaixaDeTexto 5"/>
          <p:cNvSpPr/>
          <p:nvPr/>
        </p:nvSpPr>
        <p:spPr>
          <a:xfrm>
            <a:off x="468360" y="4724280"/>
            <a:ext cx="8424720" cy="11912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s</a:t>
            </a:r>
            <a:r>
              <a:rPr b="1" lang="pt-BR" sz="2400" spc="-1" strike="noStrike">
                <a:solidFill>
                  <a:srgbClr val="000000"/>
                </a:solidFill>
                <a:latin typeface="Verdana"/>
              </a:rPr>
              <a:t> Taxas  </a:t>
            </a:r>
            <a:r>
              <a:rPr b="0" lang="pt-BR" sz="2400" spc="-1" strike="noStrike">
                <a:solidFill>
                  <a:srgbClr val="000000"/>
                </a:solidFill>
                <a:latin typeface="Verdana"/>
              </a:rPr>
              <a:t>são coeficientes multiplicados por um fator de correção (10, 100, 1, 1000 etc.) para tornar o resultado mais inteligív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4" name=""/>
          <p:cNvSpPr txBox="1"/>
          <p:nvPr/>
        </p:nvSpPr>
        <p:spPr>
          <a:xfrm>
            <a:off x="394920" y="1915920"/>
            <a:ext cx="8381880" cy="3151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inanceir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spesa pública e transferências realizadas para a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Proporção de despesas por fonte de recursos; Gasto público em saúde, por habitant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dequação do gasto, gestão públic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A37E-CCF0-44B4-AAFC-0B57E2638A6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8" name=""/>
          <p:cNvSpPr txBox="1"/>
          <p:nvPr/>
        </p:nvSpPr>
        <p:spPr>
          <a:xfrm>
            <a:off x="468000" y="1628280"/>
            <a:ext cx="8381880" cy="41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enças de Notificação Compulsó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gistro de agravos que por força legal devem ser comunicados ao Sistema de Vigilância Epidemiológ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Taxa de Incidência de Sida por 100.000 habitantes; Incidência de Cólera, Incidência de Tuberculose, Incidência de Malá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Morbidade, prevenção de doenças e promoção da saúde, gestão públic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2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3E43E-F33D-4D98-B718-D7444B8B511A}"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2"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s principais modalidades de indicadores de saúde sã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 / sobreviv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 gravidade / incapac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utrição / crescimento e desenvolv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spectos demográf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socioeconômic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aúde ambient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erviços de saúde.</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5F5D-FA37-4E7C-B1D8-743DEB56D36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6" name=""/>
          <p:cNvSpPr txBox="1"/>
          <p:nvPr/>
        </p:nvSpPr>
        <p:spPr>
          <a:xfrm>
            <a:off x="456840" y="148428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oi o primeiro indicador usad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fácil de operar: a morte é clara e objetivamente definida e cada óbito tem de ser registrado (nem sempre – ainda há cemitérios clandestinos em muitos pequenos municípios e especialmente óbitos de recém-nascidos deixam de ser registrad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Há numerosos indicadores baseados na mortalidade.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F017-D449-4A3B-92FE-8DD01DB8C584}"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30" name=""/>
          <p:cNvSpPr txBox="1"/>
          <p:nvPr/>
        </p:nvSpPr>
        <p:spPr>
          <a:xfrm>
            <a:off x="539640" y="1700280"/>
            <a:ext cx="8382240" cy="40147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Morbida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conhecimento essencial, que permite:</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ferir os riscos de adoecer a que as pessoas estão sujeita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bter indicações para investigações de seus fatores determinante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escolha de ações adequadas. </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hecer mudanças numa situação de saúde no curto prazo (malária em Mapu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25C2-857B-4C1E-9A79-D2561A9C151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34" name=""/>
          <p:cNvSpPr txBox="1"/>
          <p:nvPr/>
        </p:nvSpPr>
        <p:spPr>
          <a:xfrm>
            <a:off x="456840" y="1341000"/>
            <a:ext cx="8381880" cy="4830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Registros clínic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caminho fácil para conhecer a saúde da população: resumos de altas, registos de consultas, process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em sempre são completos ou confiáve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ão de baixo custo e permitem rapidez na investig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existência ou não do atendimento depende do tipo de agravo, do sexo, da idade, da classe social.</a:t>
            </a:r>
            <a:endParaRPr b="1" lang="en-US" sz="2400" spc="-1" strike="noStrike">
              <a:solidFill>
                <a:srgbClr val="000066"/>
              </a:solidFill>
              <a:latin typeface="Verdana"/>
            </a:endParaRPr>
          </a:p>
        </p:txBody>
      </p:sp>
      <p:sp>
        <p:nvSpPr>
          <p:cNvPr id="2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7622-F738-402A-99ED-A456753CE48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de Moçambique</a:t>
            </a:r>
            <a:endParaRPr b="1" lang="en-US" sz="3200" spc="-1" strike="noStrike">
              <a:solidFill>
                <a:srgbClr val="ffffff"/>
              </a:solidFill>
              <a:latin typeface="Verdana"/>
            </a:endParaRPr>
          </a:p>
        </p:txBody>
      </p:sp>
      <p:sp>
        <p:nvSpPr>
          <p:cNvPr id="238" name=""/>
          <p:cNvSpPr txBox="1"/>
          <p:nvPr/>
        </p:nvSpPr>
        <p:spPr>
          <a:xfrm>
            <a:off x="250560" y="1143000"/>
            <a:ext cx="8713800" cy="50292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1"/>
              </a:rPr>
              <a:t>Camas existentes no SNS Moçambique 1975-2009 </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2"/>
              </a:rPr>
              <a:t>Infra-estruturas hospitalares 1975 - 2009</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3"/>
              </a:rPr>
              <a:t>Pessoal do serviço nacional de saúde, Moçambique, 1980 – 2009</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4"/>
              </a:rPr>
              <a:t>Taxa de letalidade das doenças de notificação obrigatória, 2004 - 2008</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5"/>
              </a:rPr>
              <a:t>Taxa de baixo peso à nascença, 2006 - 2008</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Serviços prestados, 2004 - 2008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População vacinada segundo tipos de vacinas, 2004 - 2008   </a:t>
            </a:r>
            <a:endParaRPr b="1" lang="en-US" sz="2400" spc="-1" strike="noStrike">
              <a:solidFill>
                <a:srgbClr val="000066"/>
              </a:solidFill>
              <a:latin typeface="Verdana"/>
            </a:endParaRPr>
          </a:p>
          <a:p>
            <a:pPr marL="32904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Evolução das taxas de cobertura do programa alargado de vacinações, 2004 - 2008 </a:t>
            </a:r>
            <a:r>
              <a:rPr b="0" lang="pt-BR" sz="2000" spc="-1" strike="noStrike">
                <a:solidFill>
                  <a:srgbClr val="000066"/>
                </a:solidFill>
                <a:latin typeface="Verdana"/>
              </a:rPr>
              <a:t>  </a:t>
            </a:r>
            <a:endParaRPr b="1" lang="en-US" sz="2000" spc="-1" strike="noStrike">
              <a:solidFill>
                <a:srgbClr val="000066"/>
              </a:solidFill>
              <a:latin typeface="Verdana"/>
            </a:endParaRPr>
          </a:p>
        </p:txBody>
      </p:sp>
      <p:sp>
        <p:nvSpPr>
          <p:cNvPr id="2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FD27-5A9C-44FB-B587-890635DE165B}"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228240"/>
            <a:ext cx="792180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Indicadores de Saúde de Moçambique</a:t>
            </a:r>
            <a:endParaRPr b="1" lang="en-US" sz="2800" spc="-1" strike="noStrike">
              <a:solidFill>
                <a:srgbClr val="ffffff"/>
              </a:solidFill>
              <a:latin typeface="Verdana"/>
            </a:endParaRPr>
          </a:p>
        </p:txBody>
      </p:sp>
      <p:sp>
        <p:nvSpPr>
          <p:cNvPr id="242" name=""/>
          <p:cNvSpPr txBox="1"/>
          <p:nvPr/>
        </p:nvSpPr>
        <p:spPr>
          <a:xfrm>
            <a:off x="456840" y="1142640"/>
            <a:ext cx="8381880" cy="3941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rviços prestados, 2004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olução da cobertura de saúde materno - infantil, Moçambique.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raestruturas das US do SNS, 2004-2008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S do SNS, 2006 –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raestrutura das US do SNS,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mas do SNS, 2004 –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quipamento do SNS,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l do SNS, 2004 - 2008 </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30E4-942D-407F-92FA-51A148959BDE}"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245" name="CaixaDeTexto 6"/>
          <p:cNvSpPr/>
          <p:nvPr/>
        </p:nvSpPr>
        <p:spPr>
          <a:xfrm>
            <a:off x="395280" y="5229360"/>
            <a:ext cx="828036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se indicadores estão disponíveis 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ttp://www.ine.gov.mz/home_page/sectorias_dir/saude_di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de Moçambique</a:t>
            </a:r>
            <a:endParaRPr b="1" lang="en-US" sz="3200" spc="-1" strike="noStrike">
              <a:solidFill>
                <a:srgbClr val="ffffff"/>
              </a:solidFill>
              <a:latin typeface="Verdana"/>
            </a:endParaRPr>
          </a:p>
        </p:txBody>
      </p:sp>
      <p:sp>
        <p:nvSpPr>
          <p:cNvPr id="247" name=""/>
          <p:cNvSpPr txBox="1"/>
          <p:nvPr/>
        </p:nvSpPr>
        <p:spPr>
          <a:xfrm>
            <a:off x="323640" y="1125000"/>
            <a:ext cx="8381880" cy="1008360"/>
          </a:xfrm>
          <a:prstGeom prst="rect">
            <a:avLst/>
          </a:prstGeom>
          <a:noFill/>
          <a:ln w="0">
            <a:noFill/>
          </a:ln>
        </p:spPr>
        <p:txBody>
          <a:bodyPr anchor="t">
            <a:normAutofit fontScale="97000"/>
          </a:bodyPr>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Atividade de grupo</a:t>
            </a:r>
            <a:endParaRPr b="1" lang="en-US" sz="2800" spc="-1" strike="noStrike">
              <a:solidFill>
                <a:srgbClr val="000066"/>
              </a:solidFill>
              <a:latin typeface="Verdana"/>
            </a:endParaRPr>
          </a:p>
        </p:txBody>
      </p:sp>
      <p:sp>
        <p:nvSpPr>
          <p:cNvPr id="2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2F056-D24E-43BD-98A8-3A5A10CAF0A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50" name="Picture 2" descr="http://lh6.ggpht.com/-LnOhHPv-fwM/ThR-l2gaITI/AAAAAAAAAfw/uk2G0XH-JaU/grupo001%25255B3%25255D.png"/>
          <p:cNvPicPr/>
          <p:nvPr/>
        </p:nvPicPr>
        <p:blipFill>
          <a:blip r:embed="rId1"/>
          <a:stretch/>
        </p:blipFill>
        <p:spPr>
          <a:xfrm>
            <a:off x="1857240" y="2133720"/>
            <a:ext cx="552780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06" name=""/>
          <p:cNvSpPr txBox="1"/>
          <p:nvPr/>
        </p:nvSpPr>
        <p:spPr>
          <a:xfrm>
            <a:off x="468000" y="1341360"/>
            <a:ext cx="8381880" cy="3221280"/>
          </a:xfrm>
          <a:prstGeom prst="rect">
            <a:avLst/>
          </a:prstGeom>
          <a:noFill/>
          <a:ln w="0">
            <a:noFill/>
          </a:ln>
        </p:spPr>
        <p:txBody>
          <a:bodyPr anchor="t">
            <a:normAutofit fontScale="99000"/>
          </a:bodyPr>
          <a:p>
            <a:pPr lvl="1"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Nesse exemplo: </a:t>
            </a:r>
            <a:endParaRPr b="1" lang="en-US" sz="2800" spc="-1" strike="noStrike">
              <a:solidFill>
                <a:srgbClr val="000066"/>
              </a:solidFill>
              <a:latin typeface="Verdana"/>
            </a:endParaRPr>
          </a:p>
          <a:p>
            <a:pPr lvl="2" marL="735480" indent="-339480">
              <a:spcBef>
                <a:spcPts val="60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Taxa de mortalidade infantil de 21,22. Significa que morrem 21,22 crianças de 0 a 1 ano para 1000 nascimentos. </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Qual o fator de correção? 1000</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Qual a população? Crianças de 0 a 1 ano</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Em geral, o tempo é em 1 ano.</a:t>
            </a:r>
            <a:endParaRPr b="1" lang="en-US" sz="2800" spc="-1" strike="noStrike">
              <a:solidFill>
                <a:srgbClr val="000066"/>
              </a:solidFill>
              <a:latin typeface="Verdana"/>
            </a:endParaRPr>
          </a:p>
        </p:txBody>
      </p:sp>
      <p:sp>
        <p:nvSpPr>
          <p:cNvPr id="1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B7F7-17CA-444D-891B-1F920E85651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09" name="Retângulo 5"/>
          <p:cNvSpPr/>
          <p:nvPr/>
        </p:nvSpPr>
        <p:spPr>
          <a:xfrm>
            <a:off x="324000" y="4653000"/>
            <a:ext cx="864072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Verdana"/>
              </a:rPr>
              <a:t>A Taxa de mortalidade infantil em Moçambique é de </a:t>
            </a:r>
            <a:r>
              <a:rPr b="0" lang="pt-BR" sz="2400" spc="-1" strike="noStrike">
                <a:solidFill>
                  <a:srgbClr val="000000"/>
                </a:solidFill>
                <a:latin typeface="Verdana"/>
              </a:rPr>
              <a:t>78,95 mortes/1.000 nascimentos (dado de 2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 que isto significa? Como se faz a leitura dessa taxa?</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1" name=""/>
          <p:cNvSpPr txBox="1"/>
          <p:nvPr/>
        </p:nvSpPr>
        <p:spPr>
          <a:xfrm>
            <a:off x="539640" y="1557360"/>
            <a:ext cx="8382240" cy="3294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ara que os indicadores de saúde são usado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screver a situação de saúde de um indivíduo ou popul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valiar as mudanças ou tendências durante um período de temp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valiar a eficácia e impacto de um programa.</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8C8A-9CA0-4840-92F6-EA1F6AEA1784}"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5" name=""/>
          <p:cNvSpPr txBox="1"/>
          <p:nvPr/>
        </p:nvSpPr>
        <p:spPr>
          <a:xfrm>
            <a:off x="468000" y="1483920"/>
            <a:ext cx="8381880" cy="43750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ara Mainz, os indicadores podem ser usados par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cumentação da qualidade da assist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mparação entre instituições e em uma mesma ao longo do temp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vali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stabelecimento de prioridad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monstração da confiabilidade e transparência dos serviços prestados frente à soc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elhoria contínua da qu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7CAD-25E3-432E-8DF2-59ECA02AA5E9}"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9" name=""/>
          <p:cNvSpPr txBox="1"/>
          <p:nvPr/>
        </p:nvSpPr>
        <p:spPr>
          <a:xfrm>
            <a:off x="324000" y="1142640"/>
            <a:ext cx="8640720" cy="1422360"/>
          </a:xfrm>
          <a:prstGeom prst="rect">
            <a:avLst/>
          </a:prstGeom>
          <a:noFill/>
          <a:ln w="0">
            <a:noFill/>
          </a:ln>
        </p:spPr>
        <p:txBody>
          <a:bodyPr anchor="t">
            <a:normAutofit fontScale="76000"/>
          </a:bodyPr>
          <a:p>
            <a:pPr marL="260640" indent="-260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utilização de indicadores de saúde permite o estabelecimento de padrões e sua evolução ao longo dos anos. Vejamos a MI em Moçambique:</a:t>
            </a:r>
            <a:endParaRPr b="1" lang="en-US" sz="2400" spc="-1" strike="noStrike">
              <a:solidFill>
                <a:srgbClr val="000066"/>
              </a:solidFill>
              <a:latin typeface="Verdana"/>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6417-8E2F-48D0-BEBD-601C020ACB3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graphicFrame>
        <p:nvGraphicFramePr>
          <p:cNvPr id="122" name=""/>
          <p:cNvGraphicFramePr/>
          <p:nvPr/>
        </p:nvGraphicFramePr>
        <p:xfrm>
          <a:off x="539640" y="2276640"/>
          <a:ext cx="7921800" cy="4063680"/>
        </p:xfrm>
        <a:graphic>
          <a:graphicData uri="http://schemas.openxmlformats.org/drawingml/2006/table">
            <a:tbl>
              <a:tblPr/>
              <a:tblGrid>
                <a:gridCol w="3961080"/>
                <a:gridCol w="3960720"/>
              </a:tblGrid>
              <a:tr h="203760">
                <a:tc>
                  <a:txBody>
                    <a:bodyPr lIns="50760" rIns="5076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a:noFill/>
                    </a:lnL>
                    <a:lnR>
                      <a:noFill/>
                    </a:lnR>
                    <a:lnT w="5760">
                      <a:solidFill>
                        <a:srgbClr val="8a8ab9"/>
                      </a:solidFill>
                    </a:lnT>
                    <a:lnB>
                      <a:noFill/>
                    </a:lnB>
                    <a:noFill/>
                  </a:tcPr>
                </a:tc>
                <a:tc>
                  <a:txBody>
                    <a:bodyPr lIns="50760" rIns="5076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a:noFill/>
                    </a:lnL>
                    <a:lnR>
                      <a:noFill/>
                    </a:lnR>
                    <a:lnT w="5760">
                      <a:solidFill>
                        <a:srgbClr val="8a8ab9"/>
                      </a:solidFill>
                    </a:lnT>
                    <a:lnB>
                      <a:noFill/>
                    </a:lnB>
                    <a:noFill/>
                  </a:tcPr>
                </a:tc>
              </a:tr>
              <a:tr h="66132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Ano</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Taxa de mortalidade infantil em Moçambique</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3</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99</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4</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30,79</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5</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30,79</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6</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29,24</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7</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09,93</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8</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07,84</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09</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05,8</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10</a:t>
                      </a:r>
                      <a:endParaRPr b="0" lang="en-US" sz="2000" spc="-1" strike="noStrike">
                        <a:solidFill>
                          <a:srgbClr val="000000"/>
                        </a:solidFill>
                        <a:latin typeface="Arial"/>
                      </a:endParaRPr>
                    </a:p>
                  </a:txBody>
                  <a:tcPr anchor="t" marL="50760" marR="50760">
                    <a:lnL>
                      <a:noFill/>
                    </a:lnL>
                    <a:lnR>
                      <a:noFill/>
                    </a:lnR>
                    <a:lnT>
                      <a:noFill/>
                    </a:lnT>
                    <a:lnB>
                      <a:no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103,82</a:t>
                      </a:r>
                      <a:endParaRPr b="0" lang="en-US" sz="2000" spc="-1" strike="noStrike">
                        <a:solidFill>
                          <a:srgbClr val="000000"/>
                        </a:solidFill>
                        <a:latin typeface="Arial"/>
                      </a:endParaRPr>
                    </a:p>
                  </a:txBody>
                  <a:tcPr anchor="t" marL="50760" marR="50760">
                    <a:lnL>
                      <a:noFill/>
                    </a:lnL>
                    <a:lnR>
                      <a:noFill/>
                    </a:lnR>
                    <a:lnT>
                      <a:noFill/>
                    </a:lnT>
                    <a:lnB>
                      <a:noFill/>
                    </a:lnB>
                    <a:noFill/>
                  </a:tcPr>
                </a:tc>
              </a:tr>
              <a:tr h="356400">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2011</a:t>
                      </a:r>
                      <a:endParaRPr b="0" lang="en-US" sz="2000" spc="-1" strike="noStrike">
                        <a:solidFill>
                          <a:srgbClr val="000000"/>
                        </a:solidFill>
                        <a:latin typeface="Arial"/>
                      </a:endParaRPr>
                    </a:p>
                  </a:txBody>
                  <a:tcPr anchor="t" marL="50760" marR="50760">
                    <a:lnL>
                      <a:noFill/>
                    </a:lnL>
                    <a:lnR>
                      <a:noFill/>
                    </a:lnR>
                    <a:lnT>
                      <a:noFill/>
                    </a:lnT>
                    <a:lnB w="5760">
                      <a:solidFill>
                        <a:srgbClr val="8a8ab9"/>
                      </a:solidFill>
                    </a:lnB>
                    <a:noFill/>
                  </a:tcPr>
                </a:tc>
                <a:tc>
                  <a:txBody>
                    <a:bodyPr lIns="50760" rIns="50760" tIns="25560" bIns="255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b98"/>
                          </a:solidFill>
                          <a:latin typeface="Verdana"/>
                        </a:rPr>
                        <a:t>78,95 (até 3/11)</a:t>
                      </a:r>
                      <a:endParaRPr b="0" lang="en-US" sz="2000" spc="-1" strike="noStrike">
                        <a:solidFill>
                          <a:srgbClr val="000000"/>
                        </a:solidFill>
                        <a:latin typeface="Arial"/>
                      </a:endParaRPr>
                    </a:p>
                  </a:txBody>
                  <a:tcPr anchor="t" marL="50760" marR="50760">
                    <a:lnL>
                      <a:noFill/>
                    </a:lnL>
                    <a:lnR>
                      <a:noFill/>
                    </a:lnR>
                    <a:lnT>
                      <a:noFill/>
                    </a:lnT>
                    <a:lnB w="5760">
                      <a:solidFill>
                        <a:srgbClr val="8a8ab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24" name=""/>
          <p:cNvSpPr txBox="1"/>
          <p:nvPr/>
        </p:nvSpPr>
        <p:spPr>
          <a:xfrm>
            <a:off x="539640" y="1557000"/>
            <a:ext cx="8382240" cy="41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bora o uso de um único indicador isoladamente não possibilite o conhecimento da complexidade da realidade social, a associação de vários deles e, ainda, a comparação entre diferentes indicadores de distintas localidades facilita sua compreens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A Taxa de MI em Moçambique analisada no conjunto do Índice de Desenvolvimento Humano (IDH), da Taxa de cobertura vacinal, do índice de aleitamento materno etc. oferecerá bem mais compreensão dessa realidade.</a:t>
            </a:r>
            <a:endParaRPr b="1" lang="en-US" sz="2400" spc="-1" strike="noStrike">
              <a:solidFill>
                <a:srgbClr val="000066"/>
              </a:solidFill>
              <a:latin typeface="Verdana"/>
            </a:endParaRPr>
          </a:p>
        </p:txBody>
      </p:sp>
      <p:sp>
        <p:nvSpPr>
          <p:cNvPr id="1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FBC8-01A3-40A6-A77C-95310380DFB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28" name=""/>
          <p:cNvSpPr txBox="1"/>
          <p:nvPr/>
        </p:nvSpPr>
        <p:spPr>
          <a:xfrm>
            <a:off x="456840" y="1628280"/>
            <a:ext cx="8381880" cy="4543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tant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s indicadores fornecem uma base quantitativa para profissionais da saúde, gestores de instituições prestadoras de serviços, fontes pagadoras e planejadores, com o objetivo de atingir melhoria da assistência e dos processos relacionados à assistência.</a:t>
            </a:r>
            <a:endParaRPr b="1" lang="en-US" sz="2400" spc="-1" strike="noStrike">
              <a:solidFill>
                <a:srgbClr val="000066"/>
              </a:solidFill>
              <a:latin typeface="Verdana"/>
            </a:endParaRPr>
          </a:p>
        </p:txBody>
      </p:sp>
      <p:sp>
        <p:nvSpPr>
          <p:cNvPr id="1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2DA5-3E3A-4507-A51B-F88A3E376B0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21:00:17Z</dcterms:created>
  <dc:creator>Escolastica</dc:creator>
  <dc:description/>
  <dc:language>en-US</dc:language>
  <cp:lastModifiedBy>user</cp:lastModifiedBy>
  <dcterms:modified xsi:type="dcterms:W3CDTF">2011-09-29T10:28:48Z</dcterms:modified>
  <cp:revision>72</cp:revision>
  <dc:subject/>
  <dc:title>Slide 1</dc:title>
</cp:coreProperties>
</file>