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gif" ContentType="image/gi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08C26-3E18-49DC-B45B-F133D9BFBA9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13B34-711A-49BF-9945-AD8EA0DED7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6DC85-B523-4E87-BE8D-1BD21EA219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EC13A-529E-4073-B7F6-1FEAB3DB8A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EE49D-0DE0-4F05-9CC7-2DFAF62D68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AD203-BAC0-48EF-99F5-011A8A66D1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0ADF0-E801-4F2C-802C-839C20D6EC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39F1D-1EB6-42F7-A4D2-51DBEC69F2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6B060-40F0-46DA-ABE5-5477D986F9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D1BDF-EE7E-4EA9-A29E-D38F61CB5E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5F8DD-F06B-40FA-923B-674EF9F744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EA6BB-553C-46B0-842F-35FDD8CC07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0D448-9A30-4D0A-A217-43CDE9E6FE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F3B44-6C27-4976-9C4B-9717F54C58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A231C-58ED-427A-9F0C-C001B55156A8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3"/>
          <p:cNvSpPr/>
          <p:nvPr/>
        </p:nvSpPr>
        <p:spPr>
          <a:xfrm>
            <a:off x="826920" y="170028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7"/>
          <p:cNvSpPr/>
          <p:nvPr/>
        </p:nvSpPr>
        <p:spPr>
          <a:xfrm>
            <a:off x="2971800" y="1676520"/>
            <a:ext cx="5029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.br/imgres?imgurl=http://img.photobucket.com/albums/v739/martiuks/PENSANDO.jpg&amp;imgrefurl=http://elespaciodemartha.blogspot.com/&amp;h=280&amp;w=200&amp;sz=50&amp;tbnid=ZFCnHigb6AcAUM:&amp;tbnh=109&amp;tbnw=77&amp;hl=pt-BR&amp;start=14&amp;prev=/images?q=pensando&amp;svnum=10&amp;hl=pt-BR&amp;lr=&amp;sa=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331640" y="4436640"/>
            <a:ext cx="6933960" cy="153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Verdana"/>
              </a:rPr>
              <a:t>Módulo 8: Prática de Enfermagem I – Promoção da Saúde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3" name="Rectangle 2067"/>
          <p:cNvSpPr/>
          <p:nvPr/>
        </p:nvSpPr>
        <p:spPr>
          <a:xfrm>
            <a:off x="2771640" y="1773360"/>
            <a:ext cx="6372360" cy="20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068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Espaço Reservado para Rodapé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"/>
          <p:cNvSpPr/>
          <p:nvPr/>
        </p:nvSpPr>
        <p:spPr>
          <a:xfrm>
            <a:off x="1835280" y="2348640"/>
            <a:ext cx="615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Como identificar factores de risco a saú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Como identificar os fatores de risco à saú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68000" y="1574280"/>
            <a:ext cx="838188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Informando as pessoas para exercerem o controle sobre sua própria saúde e a saúde da comunidade – estas poderão identificar por si próprias os fatores de risco à saúde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Mantendo planos de educação em saúde contínuos, individual, grupal e coletivo, que levem a adoção de estilos de vida saudáveis, ao desenvolvimento de aptidões e capacidades individuais;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E7C2C-85DF-4806-AA62-8510BA400160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79616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Como controlar os fatores de risco à saú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8560" y="1267920"/>
            <a:ext cx="878508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controle de fatores de risco está estreitamente vinculado à eficácia da sociedade em cobrar a implantação de políticas públicas voltadas à QV e ao desenvolvimento da capacidade de analisar criticamente a realidade e promover a transformação positiv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BF085-3FDF-4B60-8ED3-FD247C4C1026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Elipse 5"/>
          <p:cNvSpPr/>
          <p:nvPr/>
        </p:nvSpPr>
        <p:spPr>
          <a:xfrm>
            <a:off x="1332000" y="3645000"/>
            <a:ext cx="3671640" cy="1439640"/>
          </a:xfrm>
          <a:prstGeom prst="ellipse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População orientada e consc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Elipse 6"/>
          <p:cNvSpPr/>
          <p:nvPr/>
        </p:nvSpPr>
        <p:spPr>
          <a:xfrm>
            <a:off x="4716360" y="3284640"/>
            <a:ext cx="4176720" cy="1800000"/>
          </a:xfrm>
          <a:prstGeom prst="ellipse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Direitos humanos básicos garantidos (moradia, alimentação, saúde e educaçã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Elipse 7"/>
          <p:cNvSpPr/>
          <p:nvPr/>
        </p:nvSpPr>
        <p:spPr>
          <a:xfrm>
            <a:off x="2484360" y="4797360"/>
            <a:ext cx="4824360" cy="1584360"/>
          </a:xfrm>
          <a:prstGeom prst="ellipse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Políticas de saúde com enfoque na atenção primária à saúde e profissionais compet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Ações de controle dos fatores de risco à saúde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c3c77"/>
                </a:solidFill>
                <a:latin typeface="Verdana"/>
              </a:rPr>
              <a:t>Entre as ações de controle dos fatores de risco a saúde, encontram-se: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As medidas de vigilância epidemiológica (identificação, registro e controle da ocorrência de doenças)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Vacinaçõe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Saneamento básic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Vigilância sanitária de alimentos, do meio ambiente e de medicament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Adequação do ambiente de trabalh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Orientações  específicas para determinados fatores de risc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E0859-1741-4686-86C3-C756083067E1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Importância de conhecer os fatores de risco a saú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68000" y="1483920"/>
            <a:ext cx="8381880" cy="235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nhecendo os fatores de risco para determinados agravos à saúde é possível programar medidas dirigidas à prevenção e ao controle destes, com maiores chances de estabelecer planos de intervenções de sucess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5CE4B-DAAA-4775-9858-F2E1441F3C8B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tângulo de cantos arredondados 5"/>
          <p:cNvSpPr/>
          <p:nvPr/>
        </p:nvSpPr>
        <p:spPr>
          <a:xfrm>
            <a:off x="4572000" y="3573360"/>
            <a:ext cx="3240000" cy="93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9a9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Vejamos exemplos a segu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j0296847"/>
          <p:cNvPicPr/>
          <p:nvPr/>
        </p:nvPicPr>
        <p:blipFill>
          <a:blip r:embed="rId1"/>
          <a:stretch/>
        </p:blipFill>
        <p:spPr>
          <a:xfrm>
            <a:off x="2268360" y="3573360"/>
            <a:ext cx="1762200" cy="27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Importância de conhecer os fatores de risco a saú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50560" y="1267920"/>
            <a:ext cx="8599320" cy="475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mo controlar os fatores de risco para o HIV/Sida?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mpreendendo estes factores e a partir disso adotando de forma consciente os hábitos saudávei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Fatores de risco para o HIV/Sida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F9BCA-1966-4DA2-B910-D7CDD09F8A9D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24000" y="3357720"/>
          <a:ext cx="8640720" cy="3017520"/>
        </p:xfrm>
        <a:graphic>
          <a:graphicData uri="http://schemas.openxmlformats.org/drawingml/2006/table">
            <a:tbl>
              <a:tblPr/>
              <a:tblGrid>
                <a:gridCol w="8640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3c3c77"/>
                          </a:solidFill>
                          <a:latin typeface="Verdana"/>
                        </a:rPr>
                        <a:t>Ter prática sexual desprotegida (oral, vaginal ou anal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3c3c77"/>
                          </a:solidFill>
                          <a:latin typeface="Verdana"/>
                        </a:rPr>
                        <a:t>Multiplicidade de parceir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3c3c77"/>
                          </a:solidFill>
                          <a:latin typeface="Verdana"/>
                        </a:rPr>
                        <a:t>Compartilhar seringas contaminadas (prática presente entre usuários de drogas injetávei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3c3c77"/>
                          </a:solidFill>
                          <a:latin typeface="Verdana"/>
                        </a:rPr>
                        <a:t>Receber transfusão de sangue sem contro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3c3c77"/>
                          </a:solidFill>
                          <a:latin typeface="Verdana"/>
                        </a:rPr>
                        <a:t>Contato com sangue e fluidos corporais sem o uso dos equipamentos de proteção individual (EPI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Importância de conhecer os fatores de risco a saú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32746-4A42-4438-BE7C-5231C28974BF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23640" y="1341000"/>
            <a:ext cx="85150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Usar preservativo sempre e durante toda a relação sexual (oral, vaginal e anal)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sexo anal pode produzir pequenas fendas na pele que forma o ânus. Estas permitem acesso direto de agentes infecciosos à corrente sanguínea, aumentando o risco de transmissão do HIV e do vírus da hepatite B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61" name="Picture 5" descr="j0296847"/>
          <p:cNvPicPr/>
          <p:nvPr/>
        </p:nvPicPr>
        <p:blipFill>
          <a:blip r:embed="rId1"/>
          <a:stretch/>
        </p:blipFill>
        <p:spPr>
          <a:xfrm>
            <a:off x="611280" y="981000"/>
            <a:ext cx="1512720" cy="2359080"/>
          </a:xfrm>
          <a:prstGeom prst="rect">
            <a:avLst/>
          </a:prstGeom>
          <a:ln w="0">
            <a:noFill/>
          </a:ln>
        </p:spPr>
      </p:pic>
      <p:sp>
        <p:nvSpPr>
          <p:cNvPr id="162" name="CaixaDeTexto 7"/>
          <p:cNvSpPr/>
          <p:nvPr/>
        </p:nvSpPr>
        <p:spPr>
          <a:xfrm>
            <a:off x="2268360" y="1268280"/>
            <a:ext cx="6191280" cy="1557000"/>
          </a:xfrm>
          <a:prstGeom prst="rect">
            <a:avLst/>
          </a:prstGeom>
          <a:gradFill rotWithShape="0">
            <a:gsLst>
              <a:gs pos="0">
                <a:srgbClr val="a9a9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onhecendo os fatores de risco torna-se fácil perceber as medidas de controle mais eficaz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Vejamo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Importância de conhecer os fatores de risco a saú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6840" y="1484280"/>
            <a:ext cx="83818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Continuação:Para controlar os fatores de riscos para HIV/Sida, orienta-se: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Reduzir o número de parceiros sexuais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Restrição no número de contatos casuais. Um estranho pode ter tido contato com diferentes indivíduos e não há como saber se entrou em contato com doente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vitar relacionamento com quem pareça estar doente, com erupções na pele ou outros sintomas de DST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FE62D-B2EF-43DD-A29C-080A7BB9C31F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1039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Importância de conhecer os fatores de risco a saú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539640" y="1699920"/>
            <a:ext cx="8382240" cy="35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Continuação:Para controlar os fatores de riscos para HIV/Sida, orienta-se: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ão compartilhar seringas e outros instrumentos invasiv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xigir a testagem do sangue em casos de transfusã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Trabalhadores de saúde usarem os EPI necessários nas situações exigida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39C67-4BF6-4D21-AFC9-4A1595694F8B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Exercício em pequenos grup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C7BF6-D6CD-444E-A16D-05D581113639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" descr="http://lh6.ggpht.com/-LnOhHPv-fwM/ThR-l2gaITI/AAAAAAAAAfw/uk2G0XH-JaU/grupo001%25255B3%25255D.png"/>
          <p:cNvPicPr/>
          <p:nvPr/>
        </p:nvPicPr>
        <p:blipFill>
          <a:blip r:embed="rId1"/>
          <a:stretch/>
        </p:blipFill>
        <p:spPr>
          <a:xfrm>
            <a:off x="1835280" y="1197000"/>
            <a:ext cx="629892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15640" y="228600"/>
            <a:ext cx="77230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O que é um factor de risco a saú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94920" y="1483920"/>
            <a:ext cx="84978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É um termo estatístico utilizado para designar uma condição ambiental, característica ou comportamento que aumenta a probabilidade da ocorrência de determinada doenç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Por exemplo: tabagismo, idade, história familiar de determinados cânceres, hábito alimentar, obesidade, falta de exercício são fatores de risco para o desenvolvimento do câncer. Ou seja, indivíduos sadios, quando expostos a estes fatores de risco têm mais chances de desenvolver o câncer.</a:t>
            </a:r>
            <a:r>
              <a:rPr b="1" lang="pt-BR" sz="2400" spc="-1" strike="noStrike">
                <a:solidFill>
                  <a:srgbClr val="3c3c77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0ED5C-EECC-4410-AE92-70FD1A3B9F08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Tipos de fatores de risc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Fatores biológicos (idade, sexo, características pessoais determinadas pela herança genética)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Por exemplo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Mulheres com mais de 45 anos têm maior risco para câncer de colo do úter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Os homens tem uma carga de hipertensão arterial 20% mais que as mulhere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Os homens tem mais tuberculose que as mulhere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Filhos de pais diabéticos têm mais risco para desenvolver diabete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B12D2-3AB3-41DB-9E33-44540BD4F797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Tipos de fatores de risc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24000" y="907920"/>
            <a:ext cx="86407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meio ambiente, que abrange condições geográficas, características da ocupação humana, fontes de água para consumo, disponibilidade e qualidade dos alimentos e condições de habitaçã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or exemplo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Região de clima seco é fator de risco para as doenças respiratória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Local de trabalho com excesso de barulho é fator de risco à acuidade auditiva e a saúde mental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Água poluída, alimentos contaminados são fatores de risco para parasitoses e infecções do trato digestóri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Habitação precária (pouca ventilação e iluminação) é fator de risco para tuberculos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813D2-EEA3-43E7-8487-C32AE9B19B7C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Tipos de fatores de risc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meio socioeconômico e cultural, que expressa ocupação e renda, acesso à educação formal e ao lazer, os graus de liberdade, hábitos e formas de relacionamento interpessoal, a possibilidade de acesso aos serviços voltados para a promoção e recuperação da saúde e a qualidade da atenção por eles prestada podem representar fatores de risco a saúde. Por exemplo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Verdana"/>
              </a:rPr>
              <a:t>Crianças filhas de mães de baixa escolaridade têm mais chance de morrer no 1º. ano de vida;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Verdana"/>
              </a:rPr>
              <a:t>A dificuldade de acesso aos serviços de saúde aumentam a mortalidade por câncer e outras doenças crônicas não transmissíveis;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Verdana"/>
              </a:rPr>
              <a:t>Baixa renda está associada a mortalidade infantil.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E7E83-2C02-4E32-8C76-14DF4AF498B7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Tipos de fatores de risc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Do exposto, pode-se perceber que os fatores de risco podem ser </a:t>
            </a:r>
            <a:r>
              <a:rPr b="1" lang="pt-BR" sz="2800" spc="-1" strike="noStrike">
                <a:solidFill>
                  <a:srgbClr val="000066"/>
                </a:solidFill>
                <a:latin typeface="Verdana"/>
              </a:rPr>
              <a:t>modificáveis e não modificáveis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Na opinião de vocês, sobre quais fatores de risco o enfermeiro geral poderá intervir?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4BCA6-627D-4F81-BFB5-17C051636654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PENSAND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64000" y="3411360"/>
            <a:ext cx="1944720" cy="27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Dados os fatores de risco, vamos classificá-los em modificáveis ou não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143000"/>
            <a:ext cx="4114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Idade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Sedentarismo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Obesidade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Hereditariedade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Tabagismo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Sexo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Raça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Habitação precária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Falta de saneamento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724280" y="1143000"/>
            <a:ext cx="4114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Estresse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Consumo de alimentos e água impróprios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Elevado consumo de gorduras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Alcoolismo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Sexo desprotegido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Dificuldade de acesso ao serviço de saúde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D4DB3-B124-45FC-AE1E-6B63BD9AC75C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Analisando os fatores de risco pode-se concluir que: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94920" y="141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Parte dos fatores de risco é modificável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Parte é não modificável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Entre os fatores modificáveis, alguns são mais difíceis e exigem mais esforços para serem ultrapassados; outros menos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Os fatores de risco modificáveis serão ultrapassados com esforços conjuntos: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e indivíduos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rofissionais de saúde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olíticas públicas de saúde e de outros setores sociais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5" name="Espaço Reservado para Rodapé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Espaço Reservado para Número de Slide 5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10801-74F8-4C9B-B0AE-CF8B5D4C6651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Como identificar os fatores de risc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23640" y="1773360"/>
            <a:ext cx="851508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Realizando consultas médicas, odontológicas e de enfermagem, periódicas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Tornando os serviços de saúde acessíveis a todos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Realizando levantamento do perfil de saúde de comunidades ou grupo de trabalhadores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BEDB2-E543-45A1-9906-6CFE527829A5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5T07:52:33Z</dcterms:created>
  <dc:creator>Escolastica</dc:creator>
  <dc:description/>
  <dc:language>en-US</dc:language>
  <cp:lastModifiedBy>user</cp:lastModifiedBy>
  <dcterms:modified xsi:type="dcterms:W3CDTF">2011-09-29T10:34:28Z</dcterms:modified>
  <cp:revision>38</cp:revision>
  <dc:subject/>
  <dc:title>Slide 1</dc:title>
</cp:coreProperties>
</file>