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2030-1E14-4373-97E7-40B8122FA8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D707-0FCC-4B83-A042-FD07B0261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6BFC5-FED0-472E-A85A-8BF893D3F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B097-D637-4D40-AFA9-5CEFE395F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6D14-1291-4936-A96D-FD4EF5BAE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F2CD-4248-4B3A-80B1-8FBEE196C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937C-96C4-45D0-AF0E-84EDD5F20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9A85-197B-4AF4-B6C8-3348A1732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C79C-BCA7-46D0-B977-039FE48FC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9A8E-046C-42F1-A29F-0D2A660CC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4E9F-1B10-40AD-9CCA-232B2E4C3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85FA-0336-443D-BDDE-32FF425A8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FC08-DD75-4094-996E-B56916B0E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DCF2-FB17-4CB4-A754-BF0A22A85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DAE8-EECD-46A6-83B6-010ACD0D02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835280" y="199620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 e a criança: um assunto de Saúde Públic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267920"/>
            <a:ext cx="8586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São devastadora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esquisadores documentam conseqüências físicas (variando de pequenas cicatrizes até danos cerebrais permanentes e mort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sicológicas (desde baixa auto-estima até desordens psíquicas sever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gnitivas (desde deficiência de atenção e distúrbios de aprendizado até distúrbios orgânicos cerebrais sever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mportamentais (variando da dificuldade de relacionamento com colegas até comportamentos suicidas e criminosos) decorrentes de abusos físicos, psicológicos, sexuais e de negli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0065-7925-4CF9-9407-E25BA277748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000" y="1341000"/>
            <a:ext cx="8381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mando essas conseqüências da violência contra crianças/adolescentes, isso significa que todos os níveis de atenção à saúde precisam estar atentos a essa situação e implantar programas de prevenção e atenção, principalmente para famílias que vivem em contextos de risco social e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2F18-B2DF-44B5-BF2E-EC12B987F4B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http://t3.gstatic.com/images?q=tbn:ANd9GcQUPJyy5XRAtzvW9LyzGa6tbop6jbx7U4tsrTpNzDTMZlb-SP56"/>
          <p:cNvPicPr/>
          <p:nvPr/>
        </p:nvPicPr>
        <p:blipFill>
          <a:blip r:embed="rId1"/>
          <a:stretch/>
        </p:blipFill>
        <p:spPr>
          <a:xfrm>
            <a:off x="3132000" y="3860640"/>
            <a:ext cx="36943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atar imediatamente 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relato e a atitude dos pais durante a consulta – que podem ser de aparente preocupação e de extensiva colaboração com a equipe de saúde, mas percebe-se uma ausência de angústia quanto à gravidade das lesões, o que não ocorre habitualmente com os pais de crianças acident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ormar, em linguagem apropriada, as graves conseqüências de maus-tratos e abuso sexual para o desenvolv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93A-122F-4BA4-A42C-404D053AA9F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que a família poderá beneficiar-se de ajuda mút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ompanhar os desdobramentos da notificação; se o agressor é alguém da família, não é conveniente informá-lo imediata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 poderá sofrer riscos ainda maio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aso, deve-se entrar em contato, de modo estratégico, com membros não agressores, de preferência com indicação da cri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sobre a importância do tratamento para o agressor, se ele for d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4A1E-1DC8-4BBF-9A79-8A35248C300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tir estratégias protetoras, pois a família se situa, face ao sofrimento, também como víti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a família para evitar comentários sobre o ocorrido com vizinhos e/ou amigos, pois a exposição gera nova violência à víti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97F-0156-44C7-91F4-F781D221EF1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Picture 2" descr="http://t3.gstatic.com/images?q=tbn:ANd9GcTMAYwsPwQAg_G3uNN2JSqM93zp6NN17A8p5AWmsFIWDYXJTmrt8A"/>
          <p:cNvPicPr/>
          <p:nvPr/>
        </p:nvPicPr>
        <p:blipFill>
          <a:blip r:embed="rId1"/>
          <a:stretch/>
        </p:blipFill>
        <p:spPr>
          <a:xfrm>
            <a:off x="3492360" y="3429000"/>
            <a:ext cx="32655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teger a identidade da criança e do adolescente abusados (compromisso éticoprofission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ituação deverá ser relatada somente às pessoas que irão tratar da criança/adolesc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ulta com a criança/adolescente deve ser privativa, a fim de favorecer a expressão de sentimentos; da situação de violência; sua relação com a família, amigos, escol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dolescente tem direito ao sigilo e à confidencialidade das informações. Isso pode ser rompido nas situações previstas por lei, como nos casos de violência ou de risco à vida, sendo, necessária a notificação ao Conselho Tute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820-EAFC-4E4F-BFD8-A21DCB12332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23640" y="1196640"/>
            <a:ext cx="489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relevante que o profissional deixe claro para a vítima a sua disponibilidade para escutá-lo, sem julgamentos, favorecendo o vínculo de conf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família deve ser envolvida no atendimento, para que possa contribuir com o tratamento da vítima, além de possibilitar uma melhor relação entre seus memb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5AA-02EC-490F-9242-D9F8666C4A1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2" descr="http://t0.gstatic.com/images?q=tbn:ANd9GcTvCSLE3VvL4xybZZrf1Fj5MFaEilEGT8Xj2TjPlTVjdxBRCUR8Fg"/>
          <p:cNvPicPr/>
          <p:nvPr/>
        </p:nvPicPr>
        <p:blipFill>
          <a:blip r:embed="rId1"/>
          <a:stretch/>
        </p:blipFill>
        <p:spPr>
          <a:xfrm>
            <a:off x="5180040" y="1484280"/>
            <a:ext cx="383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sos de violência contra a criança/adolescente necessitam de intervenção ampliada, de equipe interdisciplinar: assistente social , enfermeiro, médico, psicólogo, pois é necessária discutir os desfechos que a equipe de saúde pretende alcançar, evitando medidas precipitadas, que podem acabar afastando a famíl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 saúde deve priorizar a assistência à criança e a sua família e encaminhar o caso aos órgãos de proteção, responsabilização e atendimento/acompanh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CECA-F141-4E89-8FA9-6325FBC535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5"/>
          <p:cNvSpPr/>
          <p:nvPr/>
        </p:nvSpPr>
        <p:spPr>
          <a:xfrm>
            <a:off x="900000" y="5589720"/>
            <a:ext cx="6624720" cy="4597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ais são esses órgãos em Moçamb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445000"/>
            <a:ext cx="466920" cy="6192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istas para identificação de violênci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ísica contra crianças/adolescen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BC9-A328-48E6-9958-305937DDF74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68880" cy="532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t3.gstatic.com/images?q=tbn:ANd9GcSPuE4T58sQG3geZVK78Oc7QBOzvUU8L8BEn4Bi2Ka6axHM-NqIlA"/>
          <p:cNvPicPr/>
          <p:nvPr/>
        </p:nvPicPr>
        <p:blipFill>
          <a:blip r:embed="rId2"/>
          <a:stretch/>
        </p:blipFill>
        <p:spPr>
          <a:xfrm>
            <a:off x="250920" y="2133720"/>
            <a:ext cx="291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não revitimização, é importante evit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nsiderar o sent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ar frases como: “isso não foi nada”, “vai passar”, “não precisa chorar”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esso de ze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par 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onstrar surpresa, choro, horror (sinais de censura ou desaprov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de humor neg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A16F-B83D-4A08-BCED-B9F80688BCD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9640" y="2205000"/>
            <a:ext cx="8382240" cy="271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A violência é crime! Nenhuma vítima é capaz de se esquecer disso. Mas um atendimento acolhedor, receptivo e, acima de tudo, humano pode ajudá-la a superar.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53C-8927-44A9-A48E-9742FE2BCA5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séculos, a mulher suportou indefesa e em silêncio os abusos do homem. Portanto, em grande parte da história da humanidade a mulher ficou sempre à sombra dos interesses des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3EF9-E648-447A-BEF9-A19F5017900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www.jm1.com.br/wp-content/uploads/2011/07/violencia-domestica_trabalho-de-margarida-espinho1.jpg"/>
          <p:cNvPicPr/>
          <p:nvPr/>
        </p:nvPicPr>
        <p:blipFill>
          <a:blip r:embed="rId1"/>
          <a:stretch/>
        </p:blipFill>
        <p:spPr>
          <a:xfrm>
            <a:off x="2484360" y="2852640"/>
            <a:ext cx="4780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ousseau, que tanto contribuiu para a compreensão do Estado Moderno, defendia que a mulher deveria ser colocada a serviço do homem desde a infância até a idade adulta, isto é, que nunca deveria ter participação em construções sociais e políticas (PERRUSO, 2005, p.3 ; apud CDH, 2005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8D55-1C73-4D8B-9A1F-53A2AEE019F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t2.gstatic.com/images?q=tbn:ANd9GcTAYpI5HtaLJzJkgm8V_DxPCd-YeO4CVvNbhoOMgDGgaOckfyC9lw"/>
          <p:cNvPicPr/>
          <p:nvPr/>
        </p:nvPicPr>
        <p:blipFill>
          <a:blip r:embed="rId1"/>
          <a:stretch/>
        </p:blipFill>
        <p:spPr>
          <a:xfrm>
            <a:off x="3419640" y="3573360"/>
            <a:ext cx="2844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50920" y="907560"/>
            <a:ext cx="518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ão, a mulher, historicamente, vem sofrendo vários tipos de violência: familiar, pelo marido/companheiro; social, na violação de seus direitos, dupla carga de trabalho e na falta de respostas das políticas públicas de saúde de qualidade para acompanhar a gestação, puerpério, climatério e situações de viol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do isso contribui para a perpetuação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0519-668B-4A42-9F67-1D1200D8618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http://t2.gstatic.com/images?q=tbn:ANd9GcSxx9YJACcpVMq9XvlSm8SXQcmAIvf7Vf430-HC2hpKHCMyIryolg"/>
          <p:cNvPicPr/>
          <p:nvPr/>
        </p:nvPicPr>
        <p:blipFill>
          <a:blip r:embed="rId1"/>
          <a:stretch/>
        </p:blipFill>
        <p:spPr>
          <a:xfrm>
            <a:off x="5435640" y="1773360"/>
            <a:ext cx="35607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4920" y="105264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 – de discriminação, agressão ou coerção, ocasionada pelo fato de a vítima ser mulher, e que cause dano, morte, constrangimento, limitação, sofrimento físico, sexual, moral, psicológico, social, político ou econômico ou perda patrimonial. Pode acontecer tanto em espaços públicos como pri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DF1C-F53C-4645-9759-84E05890D09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tângulo de cantos arredondados 5"/>
          <p:cNvSpPr/>
          <p:nvPr/>
        </p:nvSpPr>
        <p:spPr>
          <a:xfrm>
            <a:off x="971640" y="4076640"/>
            <a:ext cx="7561080" cy="2089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olência de gênero é toda violência sofrida pelo fato de ser mulher, sem distinção de raça, classe social, religião, idade ou qualquer outra condição; produto de um sistema social que subordina o sexo femin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e os tipos de violência existentes contra a mulher no mundo, aquele praticado no ambiente familiar é um dos mais cruéis e perversos. O lar, identificado como local acolhedor e de proteção, passa a ser, nesses casos, um ambiente de perigo contínuo, de medo e ansiedade perman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amiliar "recobre o universo das pessoas relacionadas por laços consangüíneos ou afins. A violência doméstica é mais ampla, abrangendo pessoas que vivem sob o mesmo teto, mas não necessariamente vinculadas pelo parentesco"(Saffioti, 1997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AF14-E838-4253-90D2-F212DAFE404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feito da violência doméstica contra a mulher, decorrente de maus-tratos, humilhações, agressões físicas, sexuais, morais, patrimoniais e psicológicas, é devastador para sua auto-es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o medo vivenciado cotidianamente e o temor aterrorizante causador de insegurança e instabilidade, agravados pelo fato de as vítimas nunca saberem a razão capaz de desencadear nova fúria dos agressores; e a vergonha que passam diante de familiares, vizinhos, amigos e conhecidos, que provoca ansiedade, depressão, dores crônicas, entre outras enferm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D21-2FE8-430C-B6E2-94F15CC2C6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violência doméstica é qualquer ação ou conduta cometida por familiares ou pessoas que vivem na mesma casa, que cause morte, dano ou sofrimento físico, sexual ou psicológico à mulher e à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as formas mais comuns de manifestação da violência contra a mulher e, no entanto, uma das mais invisíveis, sendo uma das violações dos direitos humanos mais praticadas e menos reconhecidas do mun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-se de um fenômeno mundial que não respeita fronteiras de classe social, raça/etnia, religião, idade e grau de escola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D83-9338-4B96-8E3E-D9383B3A6B0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 e a Saúde Públ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267920"/>
            <a:ext cx="52560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reconhece a violência doméstica como um problema de Saúde Pública, pois afeta a integridade física 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feitos da violência doméstica contra a mulher e a criança sobre a saúde física e mental são evidentes para quem trabalha na ár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m situação de violência freqüentam com assiduidade os serviços de saúde e em geral com "queixas vagas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5DB8-E29A-4479-B056-E161D6D64CB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http://t3.gstatic.com/images?q=tbn:ANd9GcSDWjZ6SgEP3MNd_211TKlgW9tNfioXyWzEFcuQIK17A_27O8WL"/>
          <p:cNvPicPr/>
          <p:nvPr/>
        </p:nvPicPr>
        <p:blipFill>
          <a:blip r:embed="rId1"/>
          <a:stretch/>
        </p:blipFill>
        <p:spPr>
          <a:xfrm>
            <a:off x="5549760" y="1392120"/>
            <a:ext cx="33814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"A rota das vítimas de violência doméstica passa regularmente pelos pronto socorros, ambulatórios e hospitais da rede de saúde" (Rufino, 1997), que em geral não conseguem fazer o diagnóstico de violência doméstica, assim como não compreendem a magnitude do problema como uma questão de Saúde Pública e nem conseguem assumir a responsabilidade social que lhes cab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é fundamental que o setor saúde invista na capacitação dos profissionais de saúde para o atendimento adequado às mulheres em situação de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B63C-85EE-4303-BF81-EF24FD7AD12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268280"/>
            <a:ext cx="878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entendermos porque a violência contra a mulher é uma questão de Saúde Pública, é preciso compreendê-l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numérico (grande número de vítima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repercussões deletérias na sanidade física e mental, gerando demandas para os serviços de saúde em diversas áreas do cuidado (controle de DST/HIV/aids, assistência psicológica, psiquiátrica, clínica, cirúrgica, dentr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decorrências econômicas para o país: redução da produtividade devido ao absenteísmo ao trabalho ou baixo desempenho; e do período que ficam às expensas da seguridade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AAF7-9121-4A8A-896D-FCE297558EE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violência contra a mulher e a criança pode ser evitada e, suas conseqüências, reduzidas, da mesma forma que a Saúde Pública conseguiu prevenir e reduzir, em todo o mundo, as complicações relacionadas à gravidez, aos acidentes de trabalho, às doenças contagiosas e enfermidades causadas por alimentos e água contamin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fatores responsáveis por reações violentas contra mulheres e crianças, quer sejam derivados de atitudes e comportamentos ou de condições sociais, econômicas, políticas e culturais mais amplas, podem ser modificados por ações de Saúde Púb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8117-E85D-4782-B6F8-6372C250EA7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doecimentos decorrentes da violência são evidenciados pelo aumento da busca pelos serviços de saúde após a vivência da violência, tanto para o tratamento dos ferimentos atuais quanto para o tratamento das doenças posteriores à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1248-3037-4001-AA92-8F3B4349670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t2.gstatic.com/images?q=tbn:ANd9GcQjmcw3Y9fNEg0WznpUU0-1WhX4-qNfRz9zl3Qx4-nGwEk25lGP"/>
          <p:cNvPicPr/>
          <p:nvPr/>
        </p:nvPicPr>
        <p:blipFill>
          <a:blip r:embed="rId1"/>
          <a:stretch/>
        </p:blipFill>
        <p:spPr>
          <a:xfrm>
            <a:off x="3267000" y="3124080"/>
            <a:ext cx="3033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crônicos, vagos e repeti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ada tardia no pré-n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anheiro muito controlador; reage quando separado da mulh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ecção urinária de repetição (sem causa secundári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pélvica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o intestino irri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na sexu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licações em gestações anteriores, abortos de repeti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0450-C762-41FC-9ECF-C4F6906EAF3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crônica em qualquer parte do corpo ou mesmo sem localização preci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que não tem nome ou lug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stória de tentativa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sões físicas que não se explicam de forma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bromial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E673-0EEC-4217-ABC6-AB16EB103C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Por que o profissional de saúde não investiga 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profissionais acreditam que a violência doméstica é um problema pessoal e privado e , por isso, eles não têm o direito de intrometer-se, já que é um problema social ou legal, mas não um problema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nsam, também, que as mulheres gostam de apanhar, pois ficam co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percepções descritas acima são todas equivocadas, o que contribui para a perpetuação da violência contra a mulher, uma vez que o profissional perde a oportunidade de realizar uma intervenção qualific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FED-55ED-478A-B823-7D638B158CB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ve atuar no sentid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julgar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r calmamente a história da mulher e suas expectativas em relação à assist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uscar entender seu problema, a origem de seu sofrimento e as dificuldades que ela tem para sair da dinâmica abu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a rede de suporte social que ela já tem ou pode acionar, como seu trabalho, amigos, família, recursos mater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ontar as possibilidades e reforçar pontos posit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EBD8-8852-4015-98E0-6BFF88B59AC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potenciais riscos que a mulher pode correr (presença de armas e ameaças) e avaliar junto com a mulher sobre tais riscos, tentativas anteriores e formas de pre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tindo das questões trazidas pelas mulheres em atendimento, informar que a violência é uma situação de alta ocorrência, tem caráter social e está associada às desigualdades de direitos entre o homem e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cutir os planos da mulher para a vida dela, buscando encontrar alternativas à situação atu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02A-5E0C-47C8-ABA9-09382C6E8C6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50560" y="1052280"/>
            <a:ext cx="5041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que um ou mais vizinhos para o(s) qual(is) você pode contar sobre a violência, e peça para eles ajudarem se ouvirem brigas em sua ca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briga for inevitável, certifique-se de estar em um lugar do qual possa fugir e no qual não haja arm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laneje como fugir de casa em segurança, e o lugar para onde você poderá ir, caso necessá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750-D571-42B2-A5C1-5F9C8921E29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://t0.gstatic.com/images?q=tbn:ANd9GcQERJUSI4gRoaXmV0iBNaAPrJfZ-KP13nRFIPhHemTlTKYNvG0J"/>
          <p:cNvPicPr/>
          <p:nvPr/>
        </p:nvPicPr>
        <p:blipFill>
          <a:blip r:embed="rId1"/>
          <a:stretch/>
        </p:blipFill>
        <p:spPr>
          <a:xfrm>
            <a:off x="5219640" y="1916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ixe em um lugar seguro um pacote com cópias de seus documentos e dos documentos de seus filhos, dinheiro, roupas e cópia da chave de casa, para o caso de ter de fugir rapid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um acordo com alguma vizinha(o) em quem possa confiar, e combine um código de comunicação para situações de emergência, como: “Quando eu colocar o pano de prato para fora da janela, chame ajuda” ou “Quando ouvir briga, chame os vizinhos para bater em panelas na frente da cas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unca brigue na cozinha ou em local em que haja armas ou fa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1AB-65C6-4791-A153-8F54850851A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4920" y="1341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uma rede social, incluindo uma família nuclear ou exten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grupos de auto-ajuda e de empoderamento e troca de experiên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emprego ou a possibilidade de gerar rendi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acesso a organizações de direitos huma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C3A-41A3-4CBE-88A2-D5CABE9DBC3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http://t1.gstatic.com/images?q=tbn:ANd9GcSprk-xCa5dK229BIkiTrjbQrBHVLwjrWeKqr_m7bvi_-LWauer0Q"/>
          <p:cNvPicPr/>
          <p:nvPr/>
        </p:nvPicPr>
        <p:blipFill>
          <a:blip r:embed="rId1"/>
          <a:stretch/>
        </p:blipFill>
        <p:spPr>
          <a:xfrm>
            <a:off x="3276720" y="4221000"/>
            <a:ext cx="2970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acesso a serviços públicos que forneçam cuidados de saúde, protecção policial e justi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ossibilidade de realizar rituais culturais e cerimón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na inspiração política ou religiosa uma fonte de conforto, de sentido e de perspectiva para o futu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B8D-E0DD-4023-A753-6C8DE23EEEC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http://t0.gstatic.com/images?q=tbn:ANd9GcTd6W6MHyjx7yYYDtWUy2HL5F9IHuHj_UUlZI4tEMoe4ZA_h3dw"/>
          <p:cNvPicPr/>
          <p:nvPr/>
        </p:nvPicPr>
        <p:blipFill>
          <a:blip r:embed="rId1"/>
          <a:stretch/>
        </p:blipFill>
        <p:spPr>
          <a:xfrm>
            <a:off x="2484360" y="386064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907920"/>
            <a:ext cx="864072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possível prevenir a violência contra mulheres e cri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afirmação não é um artigo de fé, mas baseada em evidências constatadas em exemplos de sucesso em todo o mundo, desde ações individuais e comunitárias de pequena escala, com suporte na Saúde Pública, até políticas nacionais e iniciativas do legisl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53A-0B85-44B7-9086-9AEC4236347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http://4.bp.blogspot.com/-n4GXFryTRDc/TiJNoa4S00I/AAAAAAAACJ4/Y5SL6uv6YjM/s250/PROTEJA%2BNOSSAS%2BCRIAN%25C3%2587AS%2BNEGRAS.jpg"/>
          <p:cNvPicPr/>
          <p:nvPr/>
        </p:nvPicPr>
        <p:blipFill>
          <a:blip r:embed="rId1"/>
          <a:stretch/>
        </p:blipFill>
        <p:spPr>
          <a:xfrm>
            <a:off x="2916360" y="3987720"/>
            <a:ext cx="29509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, agressão ou coerção – ocasionada pelo fato de a vítima ser criança ou adolescente, e que cause dano, constrangimento, limitação, sofrimento físico, sexual, moral, psicológico ou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376C-B38B-4562-8367-42CA17617F0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t2.gstatic.com/images?q=tbn:ANd9GcRKPm1l_LseokYmleLmd5lP8Omo0n3RjhIPx1rCzWuOaKgdm_SO"/>
          <p:cNvPicPr/>
          <p:nvPr/>
        </p:nvPicPr>
        <p:blipFill>
          <a:blip r:embed="rId1"/>
          <a:stretch/>
        </p:blipFill>
        <p:spPr>
          <a:xfrm>
            <a:off x="2484360" y="3645000"/>
            <a:ext cx="5008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contra crianças e adolescentes é um fenômeno complexo que envolve causas socioeconômicas e histórico-culturais, aliado a pouca visibilidade, à ilegalidade e à impun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rimeira causa se destaca a má distribuição de renda, migração, pobreza, acelerado processo de urbanização e ineficácia das políticas sociais e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que tange aos aspectos histórico-culturais, identifica-se a concepção, ainda vigente, da criança e do adolescente como objeto de dominação dos adultos, merecedores de amor desvalorizado, contaminado pela idéia de fraqueza e inferio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301-232B-4786-AB60-84B947842C8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6840" y="114300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es de 1870, as crianças eram vistas como adultos e a infância não existia; trabalho infantil não era visto como exploração, mas como dever à sociedade e a Deus; além disso, eram julgadas como adultos nos crimes que cometi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fanticídio, até o século IX, não era crime, já que as crianças ilegítimas ou portadoras de alguma deficiência eram jogadas de precipíci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137B-1D9C-4A34-AF71-DE671E89AB2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Picture 2" descr="http://t2.gstatic.com/images?q=tbn:ANd9GcRpB-NXzfmgITb2_wjKAce6WAQQG_WVDzQStCUuJrEwF-lbpFXVmg"/>
          <p:cNvPicPr/>
          <p:nvPr/>
        </p:nvPicPr>
        <p:blipFill>
          <a:blip r:embed="rId1"/>
          <a:stretch/>
        </p:blipFill>
        <p:spPr>
          <a:xfrm>
            <a:off x="3024360" y="4365720"/>
            <a:ext cx="3263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século XIX, a criança começa a ter direito à educação e, somente em 1924, foi realizada a 1ª Declaração dos Direitos da Cr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esar de algumas conquistas, as crianças e adolescentes ainda são as maiores vítimas da violência, seja intra ou extra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E6DE-9951-478E-A5AD-110FAD6A350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http://t3.gstatic.com/images?q=tbn:ANd9GcQ46jFeb9qlXqeDh4ztrQStDLdbeuRxkGbNY__uqWSb9L6WqbCpUQ"/>
          <p:cNvPicPr/>
          <p:nvPr/>
        </p:nvPicPr>
        <p:blipFill>
          <a:blip r:embed="rId1"/>
          <a:stretch/>
        </p:blipFill>
        <p:spPr>
          <a:xfrm>
            <a:off x="2843280" y="3645000"/>
            <a:ext cx="3960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ausas de violência contra crianças e adoles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gligência fruto do despreparo para maternagem e patern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muitas vezes utilizada como instrumento pedag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buso sexual trata-se de uma falta de fronteira entre as gerações, onde predomina o abuso de poder do mais forte e a cultura de coisificação da criança e do adolesc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psicológica refere-se à depreciação, a ameaças e à rejeição do adulto sobre a criança, desenvolvendo nesta um comportamento destrutivo ou autodestrutivo devido à desvalorização que sofr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F07-0942-4421-9DB3-1CF2EBDBC2E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3:49:16Z</dcterms:created>
  <dc:creator>Escolastica</dc:creator>
  <dc:description/>
  <dc:language>en-US</dc:language>
  <cp:lastModifiedBy>user</cp:lastModifiedBy>
  <dcterms:modified xsi:type="dcterms:W3CDTF">2011-09-29T10:42:40Z</dcterms:modified>
  <cp:revision>48</cp:revision>
  <dc:subject/>
  <dc:title>Slide 1</dc:title>
</cp:coreProperties>
</file>