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ED9B-C5D6-420E-B6DF-216FBF3A8DE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58BC-1D52-48DA-A6C1-C9E10E552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E6B22-477F-4B51-ADC5-C8BDB4DF6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A5D2A-9250-4C48-899D-677EF18F2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A104-20BF-461C-9C47-150E459D2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D511B-E3EA-416A-998D-CBB96C762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7300E-89E5-4121-BA42-6C0E91A37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89A9A-7906-4F80-8B7D-2EF06F0F6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07C7-CE13-42B0-8214-F4C3A72CE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0433-0477-4D73-A270-9DE971172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A42A-16EA-427C-B5DD-61FB5C7CC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54122-7F95-4130-98F7-5E71A93DC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887CC-57AD-48C7-A62B-0D0AA2112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3EBA-4D6A-4A17-A06F-55D994D76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1A3D-B669-47E0-8253-725955E528F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84464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1.bp.blogspot.com/-TxxVqjmP82Y/TXoaxhnumuI/AAAAAAAAAt8/76jf5NTPbps/s1600/justica+-+bla&#231;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b23-cmdt-conceicao-silva.rcts.pt/janela_solucao1.htm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31640" y="4436640"/>
            <a:ext cx="693396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1187280" y="213984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ntrodução: relação entre direitos humanos, género e cultura; direitos humanos em saúde; violência e violação dos direitos humanos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cultura e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5280" y="1341000"/>
            <a:ext cx="568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 igualdade de seres humanos não quer dizer igualdade física nem intelectual ou psicológ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Cada pessoa humana tem sua individualidade, personalidade, modo próprio de ver e senti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ssim, também, os grupos sociais têm sua </a:t>
            </a:r>
            <a:r>
              <a:rPr b="1" lang="pt-BR" sz="2400" spc="-1" strike="noStrike">
                <a:solidFill>
                  <a:srgbClr val="5b5b98"/>
                </a:solidFill>
                <a:latin typeface="Verdana"/>
              </a:rPr>
              <a:t>cultura própria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, que é resultado de condições naturais e soci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b5b98"/>
                </a:solidFill>
                <a:latin typeface="Verdana"/>
              </a:rPr>
              <a:t>Pessoas com Valor Igual, mas Indivíduos e Culturas Difer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1DEC-0240-4628-9B63-1EE72632F8B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http://t0.gstatic.com/images?q=tbn:ANd9GcQzb2Tz2dzCBf_mSINR2BpOwf95ObfQVMrr8ZPh3dP1eF8jlSKx"/>
          <p:cNvPicPr/>
          <p:nvPr/>
        </p:nvPicPr>
        <p:blipFill>
          <a:blip r:embed="rId1"/>
          <a:stretch/>
        </p:blipFill>
        <p:spPr>
          <a:xfrm>
            <a:off x="6227640" y="3716280"/>
            <a:ext cx="2225880" cy="2522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ttp://t3.gstatic.com/images?q=tbn:ANd9GcS4CZA0Vcyb8fqVj4gvPC0YIdT6tZsCTKDSL_YOpWP2PlavZOs6"/>
          <p:cNvPicPr/>
          <p:nvPr/>
        </p:nvPicPr>
        <p:blipFill>
          <a:blip r:embed="rId2"/>
          <a:stretch/>
        </p:blipFill>
        <p:spPr>
          <a:xfrm>
            <a:off x="5651640" y="1360440"/>
            <a:ext cx="33382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 que é cultur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9640" y="980640"/>
            <a:ext cx="8382240" cy="29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É o conjunto de fenômenos materiais e ideológicos que caracterizam um grupo étnico ou uma nação (língua, costumes, rituais, culinária, vestuário, religião), estando em permanente processo de mudanç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C379-5AD9-475C-A6DF-200D3886F93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http://t3.gstatic.com/images?q=tbn:ANd9GcS4CZA0Vcyb8fqVj4gvPC0YIdT6tZsCTKDSL_YOpWP2PlavZOs6"/>
          <p:cNvPicPr/>
          <p:nvPr/>
        </p:nvPicPr>
        <p:blipFill>
          <a:blip r:embed="rId1"/>
          <a:stretch/>
        </p:blipFill>
        <p:spPr>
          <a:xfrm>
            <a:off x="3419640" y="3429000"/>
            <a:ext cx="43210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cultura e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3640" y="1341000"/>
            <a:ext cx="4895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Em vários países existem inúmeros agentes sociais de saúde, que ainda não tem status enquanto tal. São raizeiros, rezadeiras, parteiras e outr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s tradições, identidade, língua, religiosidade e patrimônio dos povos são bens culturais que afetam sua saú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A7F8-DF8C-4BD1-BA68-5D78AF897D1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C:\Users\Escolastica\Documents\Mocambique GERAL\Fotos mocambique social jan 2008\P1030007.JPG"/>
          <p:cNvPicPr/>
          <p:nvPr/>
        </p:nvPicPr>
        <p:blipFill>
          <a:blip r:embed="rId1"/>
          <a:stretch/>
        </p:blipFill>
        <p:spPr>
          <a:xfrm>
            <a:off x="5364000" y="1341360"/>
            <a:ext cx="3614760" cy="4819680"/>
          </a:xfrm>
          <a:prstGeom prst="rect">
            <a:avLst/>
          </a:prstGeom>
          <a:ln w="0">
            <a:noFill/>
          </a:ln>
        </p:spPr>
      </p:pic>
      <p:sp>
        <p:nvSpPr>
          <p:cNvPr id="154" name="Retângulo de cantos arredondados 7"/>
          <p:cNvSpPr/>
          <p:nvPr/>
        </p:nvSpPr>
        <p:spPr>
          <a:xfrm>
            <a:off x="324000" y="5589720"/>
            <a:ext cx="4535280" cy="792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aizeiro ensinando o tratamento de verminoses – Mercado de Map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Conector angulado 9"/>
          <p:cNvCxnSpPr/>
          <p:nvPr/>
        </p:nvCxnSpPr>
        <p:spPr>
          <a:xfrm flipV="1">
            <a:off x="4284360" y="5084280"/>
            <a:ext cx="935640" cy="4327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cultura e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413000"/>
            <a:ext cx="85150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O movimento negro tem levantado a importância da cultura das religiões de matriz africana na saú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presenta que os terreiros de Candomblé, além das atividades religiosas funcionam como centros de saúde, que trata doenças físicas e mentais e fornecem suporte social para as comunidad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s ações terapêuticas são muitas, baseadas em procedimentos naturais com o objetivo de eliminar a origem dos transtorn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9E61-37B9-4591-AACC-83763C75D6B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cultura e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142640"/>
            <a:ext cx="838188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O terreiro é o lugar do Axé, da tradição, da cosmovisão Africana e o lugar que mantém viva esta cosmovis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 doença é provocada pelo enfraquecimento do Axé (cosmos) que está incorporado no homem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b5b98"/>
                </a:solidFill>
                <a:latin typeface="Verdana"/>
              </a:rPr>
              <a:t>Essa cosmovisão inclui a relação com a ancestralidade e com o Axé, como forma de entender a saúde e as manifestações das doenças e que considera a saúde não apenas como um estado de ausência de doenças, mas resultado de trocas interativas com as diversas dimensões da existência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O movimento reivindica que se reconheça a diferença étnica e a inclusão dos terreiros na rota da saú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107B-2505-405F-B489-C11945736EF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 que é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000" y="112536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O termo gênero começou a ser utilizado por teóricos e estudiosos de mulheres e do feminismo, no final da década de 70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Naquele momento, o movimento feminista ressurgia com força em todo o mundo, provavelmente por influência da onda revolucionária que percorrera a Europa, a China, a América Latina e EUA, no final da década de 60, com os grandes movimentos estudantis e a contestação dos papéis e comportamentos sexuai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67BB-14E0-4DB3-8A1D-0A8BEFC9B24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Sexo versus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Espaço Reservado para Conteúdo 11"/>
          <p:cNvSpPr/>
          <p:nvPr/>
        </p:nvSpPr>
        <p:spPr>
          <a:xfrm>
            <a:off x="46836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d5dae"/>
                </a:solidFill>
                <a:latin typeface="Verdana"/>
                <a:ea typeface="Arial"/>
              </a:rPr>
              <a:t>Sexo: Diferenças anátomo-fisiológicas existentes entre os homens e as mulhe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d5dae"/>
                </a:solidFill>
                <a:latin typeface="Verdana"/>
                <a:ea typeface="Arial"/>
              </a:rPr>
              <a:t>É um conceito bioló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d5dae"/>
                </a:solidFill>
                <a:latin typeface="Verdana"/>
                <a:ea typeface="Arial"/>
              </a:rPr>
              <a:t>Gênero:É o conjunto de características sociais, culturais, políticas, psicológicas, jurídicas e econômicas atribuídas às pessoas de forma diferenciada de acordo com o sex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d5dae"/>
                </a:solidFill>
                <a:latin typeface="Verdana"/>
                <a:ea typeface="Arial"/>
              </a:rPr>
              <a:t>As características de gênero são construções sócio-culturais que variam através da história e se referem aos papéis psicológicos e culturais que a sociedade atribui a cada um do que considera “masculino” ou “feminino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d5dae"/>
                </a:solidFill>
                <a:latin typeface="Verdana"/>
                <a:ea typeface="Arial"/>
              </a:rPr>
              <a:t>É um conceito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género e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11280" y="1483920"/>
            <a:ext cx="4897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Trabalhar a questão de Direitos Humanos e Saúde implica em incorporar em nossas análises as diferenças biológicas e desigualdades sociais oriundas da opressão de género, racial/étnica e de inserção das classes sociai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FFFE-6E7C-48F2-90BB-2D945CE65D6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http://t0.gstatic.com/images?q=tbn:ANd9GcQzb2Tz2dzCBf_mSINR2BpOwf95ObfQVMrr8ZPh3dP1eF8jlSKx"/>
          <p:cNvPicPr/>
          <p:nvPr/>
        </p:nvPicPr>
        <p:blipFill>
          <a:blip r:embed="rId1"/>
          <a:stretch/>
        </p:blipFill>
        <p:spPr>
          <a:xfrm>
            <a:off x="5508720" y="1989000"/>
            <a:ext cx="30510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 em saúd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000" y="1773360"/>
            <a:ext cx="838188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Mais recentemente foi incluída no conceito de saúde, a noção de “Saúde como um Direito”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E que direito é esse?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	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Um Direito Humano Universal, que hoje é compreendido como DESCA (Direitos econômicos, sociais, culturais e ambientai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9EE2-1621-444B-A641-DD1FBA0CB5F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Essa concepção foi reforçada na Carta dos Povos sobre a Saúde, escrita com a participação de 92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países, em 2000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" Saúde é uma questão social, econômica, política e acima de tudo, um direito humano fundamental. Desigualdades, pobreza, exploração, violência e injustiça encontram-se entre as causas das doenças e morte dos pobres e marginalizados. Proporcionar condições de saúde para todos implica desafiar interesses poderosos, resistir à globlalização e mudar drasticamente as prioridades políticas e econômicas "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C425-055D-41DC-B88C-37AF0357D22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000" y="1773000"/>
            <a:ext cx="8381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Com a criação da Organização das Nações Unidas (ONU), em 1945, o conceito de direitos humanos tem se universalizado, alcançando uma grande importância na cultura jurídica internac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Em 10/12/1948 a Declaração Universal dos Direitos Humanos foi proclamada pela Assembléia Geral da ONU em sua Resolução 217 A (III), como resposta aos horrores da 2ª. Guerra Mundial e como intento de sentar as bases da nova ordem interna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03E0-2AD5-4F22-A411-BD3917AD2AC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4920" y="1989000"/>
            <a:ext cx="8381880" cy="30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Esse conceito implica perceber que os Direitos Humanos em relação á saúde, não devem ser restritos a públicos alvos distintos, ou a áreas específicas em saúde e que a luta pelos Direitos Humanos é a mesma luta dos Direitos a saúd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3D7D-3846-43CF-971F-8CBF060DDDD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utar por direitos humanos em saúde também significa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640" y="2060280"/>
            <a:ext cx="83822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Lutar pela inversão de prioridades no orçamento público, onde o ser humano seja o centro das prioridad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Lutar pelo aumento da renda média dos cidadãos e políticas de empreg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Lutar por educ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Lutar por equilíbrio ambi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Lutar por diminuir as diferenças soci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89C1-40ED-4A84-8A75-3CE4AFB80FD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4000" y="1052280"/>
            <a:ext cx="85262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5b5b98"/>
                </a:solidFill>
                <a:latin typeface="Verdana"/>
                <a:ea typeface="Arial"/>
              </a:rPr>
              <a:t>Objectivos da ONU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b5b98"/>
                </a:solidFill>
                <a:latin typeface="Verdana"/>
                <a:ea typeface="Arial"/>
              </a:rPr>
              <a:t>Manter a paz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b5b98"/>
                </a:solidFill>
                <a:latin typeface="Verdana"/>
                <a:ea typeface="Arial"/>
              </a:rPr>
              <a:t>a segurança internaciona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b5b98"/>
                </a:solidFill>
                <a:latin typeface="Verdana"/>
                <a:ea typeface="Arial"/>
              </a:rPr>
              <a:t>desenvolver relações amigáveis entre as naçõe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b5b98"/>
                </a:solidFill>
                <a:latin typeface="Verdana"/>
                <a:ea typeface="Arial"/>
              </a:rPr>
              <a:t>realizar a cooperação internacional resolvendo problemas internacionais de ordem econômica, social, intelectual e humanitária, desenvolver e encorajar o respeito pelos direitos humanos e pelas liberdades fundamentais sem qualquer tipo de distin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DDF4-6AEF-4ACD-947F-9C8D6B3D51F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liam_heartbubbles"/>
          <p:cNvPicPr/>
          <p:nvPr/>
        </p:nvPicPr>
        <p:blipFill>
          <a:blip r:embed="rId1"/>
          <a:stretch/>
        </p:blipFill>
        <p:spPr>
          <a:xfrm>
            <a:off x="7570800" y="5251320"/>
            <a:ext cx="10303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1557000"/>
            <a:ext cx="8381880" cy="27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Viver em um mundo no qual as pessoas são vistas como detentoras de direitos é uma grande conquist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A palavra direito significa exatamente aquilo que é reto, correto ou just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D181-3DBB-4E0E-9F41-60C84DF98AA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://1.bp.blogspot.com/-TxxVqjmP82Y/TXoaxhnumuI/AAAAAAAAAt8/76jf5NTPbps/s200/justica%2B-%2Bbla%25C3%25A7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933720"/>
            <a:ext cx="3465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 que são os direitos human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1125360"/>
            <a:ext cx="8381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São um conjunto de leis, vantagens e prerrogativas que devem ser reconhecidas como essenciais pelo indivíduo para que este possa ter uma vida digna, ou seja, que não seja inferior ou superior aos outros porque é de um sexo diferente, porque pertencem a uma etnia diferente, ou religião, ou cultura, ou grupo 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São também definidos como um conjunto de regras que o Estado e todos os cidadãos devem seguir e respeit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São importantes para que se tenha uma convivência em paz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E83C-9897-4BE5-B240-6B60DAFFF1C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 que são os direitos human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000" y="980640"/>
            <a:ext cx="83818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São direitos fundamentais da pessoa humana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O direito à satisfação das necessidades vitais (alimentação, habitação, assistência na doença e na educação); o direito a usufruir de liberdades políticas e civis (liberdade de pensamento, religião e associação); respeito pela integridade do indivíduo como um só; a igualdade perante a lei; o direito ao afeto e à livre expressão da sexualidade, entr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5A7B-EDCA-4DEB-B7F8-C0F08B30293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aixaDeTexto 5"/>
          <p:cNvSpPr/>
          <p:nvPr/>
        </p:nvSpPr>
        <p:spPr>
          <a:xfrm>
            <a:off x="1332000" y="4941720"/>
            <a:ext cx="691200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cordando a leitura da “Declaração dos Direitos Humanos”, quem gostaria de acrescentar outro dir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9" descr="http://www.eb23-cmdt-conceicao-silva.rcts.pt/J028887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5805360"/>
            <a:ext cx="4669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000" y="134136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Não existe um direito mais importante que o outr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Para o pleno exercício da cidadania, é preciso a garantia do conjunto dos Direitos Human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Cada cidadão deve ter garantido todos os Direitos Humanos, nenhum deve ser esquecido ou violad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A violação dos direitos humanos constitui violênc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A72D-97B5-4447-BBBB-EFC692D2D75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unção dos direitos human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1143000"/>
            <a:ext cx="842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Proteger os indivíduos das arbitrariedades, do autoritarismo, da prepotência e dos abusos de pode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Representam a liberdade dos seres humanos; sua construção está ligada ao individualismo crescente das sociedades ao longo dos tempos, que levou à necessidade de limitar o poder do Estado sobre os indivíduos, fazendo com que o respeitassem e aos seus interess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Estão associados a uma idéia de civilização, de democracia, que em conjunto reflecte uma idéia de igualdade e de dignidade para to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4682-C2D6-4FAC-960D-9379E0FE3E2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cultura e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3640" y="1268280"/>
            <a:ext cx="583236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Respeitar os Direitos Humanos é promover a vida em sociedade, sem discriminação de classe social, </a:t>
            </a:r>
            <a:r>
              <a:rPr b="1" lang="pt-BR" sz="2400" spc="-1" strike="noStrike">
                <a:solidFill>
                  <a:srgbClr val="5b5b98"/>
                </a:solidFill>
                <a:latin typeface="Verdana"/>
              </a:rPr>
              <a:t>cultura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, religião, raça, etnia, </a:t>
            </a:r>
            <a:r>
              <a:rPr b="1" lang="pt-BR" sz="2400" spc="-1" strike="noStrike">
                <a:solidFill>
                  <a:srgbClr val="5b5b98"/>
                </a:solidFill>
                <a:latin typeface="Verdana"/>
              </a:rPr>
              <a:t>género 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e opção sexu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Para que exista igualdade de direitos é preciso respeito às diferenç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 igualdade racial e entre </a:t>
            </a:r>
            <a:r>
              <a:rPr b="1" lang="pt-BR" sz="2400" spc="-1" strike="noStrike">
                <a:solidFill>
                  <a:srgbClr val="5b5b98"/>
                </a:solidFill>
                <a:latin typeface="Verdana"/>
              </a:rPr>
              <a:t>homens e mulheres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 são fundamentais ao desenvolvimento da humanidade e para tornar real os Direitos Human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4E37-40FD-42EB-A39D-3DC894BFABC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t0.gstatic.com/images?q=tbn:ANd9GcQzb2Tz2dzCBf_mSINR2BpOwf95ObfQVMrr8ZPh3dP1eF8jlSKx"/>
          <p:cNvPicPr/>
          <p:nvPr/>
        </p:nvPicPr>
        <p:blipFill>
          <a:blip r:embed="rId1"/>
          <a:stretch/>
        </p:blipFill>
        <p:spPr>
          <a:xfrm>
            <a:off x="6370560" y="3716280"/>
            <a:ext cx="2162160" cy="24494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4"/>
          <p:cNvSpPr/>
          <p:nvPr/>
        </p:nvSpPr>
        <p:spPr>
          <a:xfrm>
            <a:off x="63360" y="-82872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63360" y="-82872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63360" y="-82872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t3.gstatic.com/images?q=tbn:ANd9GcS4CZA0Vcyb8fqVj4gvPC0YIdT6tZsCTKDSL_YOpWP2PlavZOs6"/>
          <p:cNvPicPr/>
          <p:nvPr/>
        </p:nvPicPr>
        <p:blipFill>
          <a:blip r:embed="rId2"/>
          <a:stretch/>
        </p:blipFill>
        <p:spPr>
          <a:xfrm>
            <a:off x="5867280" y="1484280"/>
            <a:ext cx="30895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23:14:09Z</dcterms:created>
  <dc:creator>Escolastica</dc:creator>
  <dc:description/>
  <dc:language>en-US</dc:language>
  <cp:lastModifiedBy>ENOCK</cp:lastModifiedBy>
  <dcterms:modified xsi:type="dcterms:W3CDTF">2019-09-09T21:35:27Z</dcterms:modified>
  <cp:revision>45</cp:revision>
  <dc:subject/>
  <dc:title>Slide 1</dc:title>
</cp:coreProperties>
</file>