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wmf" ContentType="image/x-wmf"/>
  <Override PartName="/ppt/media/image10.jpeg" ContentType="image/jpe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EF2C-D75A-4F52-85B3-71342A56835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1CAF-1A61-45F1-B49A-3BC58CAB8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19E5-E2BF-499C-A29F-A78CA6713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F96A-04E9-4FDA-AF95-D9F0E379B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F76F-040A-46B9-8335-277D363F02FD}" type="slidenum"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0DE5-37FC-490F-A549-EC0014BD25C1}" type="slidenum"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1F78-76BD-45D4-80AA-FD9742E3C102}" type="slidenum"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BD92-A91B-4DE8-9051-4094E2D3C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E54B-C0D1-4EAF-8DCD-F79BC93D1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F6BE-E463-4FF3-99DB-29240EEE9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8BE4-F025-4938-8E5E-CB9903E43CDE}" type="slidenum"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0CE0-FF98-40EA-86AD-752233C23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12F8-94A7-4D72-9832-CE0A5E250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FAFC-9529-4504-8D8C-7C8589E50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DEAF-DBBF-4EA8-AEAC-112A4BCED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DBEA-C6AC-4970-A716-76C884387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135A-1EB9-436B-AFF9-BACACF4F0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8773-5C1E-41A7-9B2A-776DED9BA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98C31-1FAB-4985-A328-421303F89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85C40-DEB7-4922-BE75-CCF9C86BF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F292-24F0-41AA-9E5F-79D50F503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5819-503F-44D4-8722-CA52D3BDD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381B0-BFB1-49BF-84EB-24CAD7C14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B48B2-61B0-41B2-9B80-399C835D2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A08C-D938-4661-B51B-F986D2F1E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44C00-B8E9-45EA-83AC-BC3F7DC2B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5FC54-A17B-4BFE-8EFA-0CA90F1A7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E258E-C061-4727-9AC4-D5A600B52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C8F5C-D2FA-4C09-831D-9611E03C2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009A6-57AD-4235-A46E-73425A819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A4B2-CDB4-4D76-9FF8-3AE2D33C6E7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0000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populo.weblog.com.pt/arquivo/cuidados.jpg&amp;imgrefurl=http://populo.weblog.com.pt/arquivo/2006/09/index0&amp;h=262&amp;w=256&amp;sz=6&amp;hl=pt-BR&amp;start=17&amp;tbnid=f-CHjGQ-K7G24M:&amp;tbnh=112&amp;tbnw=109&amp;prev=/images?q=cuidados&amp;gbv=2&amp;hl=pt-BR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31640" y="4292280"/>
            <a:ext cx="6933960" cy="16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2195640" y="256464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rientação para a saúde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ço Reservado para Rodapé 4"/>
          <p:cNvSpPr/>
          <p:nvPr/>
        </p:nvSpPr>
        <p:spPr>
          <a:xfrm>
            <a:off x="4067280" y="6308640"/>
            <a:ext cx="273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ontos essenciais para quem realiza orientação em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O papel do profissional não é resolver o problema do utente, mas informar e fazê-lo  refletir sobre sua situação de risc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Não apresente soluções ou conselhos ao utente;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Não faça conclusões precipitada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Não pergunte demais – aconselhar ou orientar não é um processo de pergunta-resposta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Espaço Reservado para Número de Slide 5"/>
          <p:cNvSpPr/>
          <p:nvPr/>
        </p:nvSpPr>
        <p:spPr>
          <a:xfrm>
            <a:off x="46836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387B-2BBB-4BE7-AF07-ECFC1E3E4A5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467480" cy="928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dividua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218960"/>
            <a:ext cx="6186600" cy="53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A individualidade é constituida por nossas vivências, isto é, pela maneira como sentimos e compreendemos o que se passa conosco e com o mundo que nos rodeia. 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“</a:t>
            </a: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É a maneira própria com que cada um de nós percebe, imagina, lembra, opina, deseja, age, ama e odeia, sente e dá prazer, toma posição diante das coisas e dos outros, decide, sente-se feliz ou infeliz” (Marilena Chauí).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Portanto, cada indivíduo tem sua própria forma de perceber aquilo que lhe é transmitido.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D502-D538-469B-8BF2-E2A2F6FCEBE1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ço Reservado para Rodapé 2"/>
          <p:cNvSpPr/>
          <p:nvPr/>
        </p:nvSpPr>
        <p:spPr>
          <a:xfrm>
            <a:off x="2843280" y="6308640"/>
            <a:ext cx="381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9c9cff"/>
                </a:solidFill>
                <a:latin typeface="Verdana"/>
                <a:ea typeface="Arial"/>
              </a:rPr>
              <a:t>Curso de Enfermagem G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t1.gstatic.com/images?q=tbn:Odc5zrnss8MLNM:http://blog.actbr.org.br/up/a/ac/blog.actbr.org.br/img/Pensando.png"/>
          <p:cNvPicPr/>
          <p:nvPr/>
        </p:nvPicPr>
        <p:blipFill>
          <a:blip r:embed="rId1"/>
          <a:stretch/>
        </p:blipFill>
        <p:spPr>
          <a:xfrm>
            <a:off x="6875640" y="1557360"/>
            <a:ext cx="18288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ço Reservado para Rodapé 4"/>
          <p:cNvSpPr/>
          <p:nvPr/>
        </p:nvSpPr>
        <p:spPr>
          <a:xfrm>
            <a:off x="3851280" y="6237360"/>
            <a:ext cx="295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112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Habilidades favoráveis a quem realiza orient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Ser calmo, confiante, disciplinado e respeitador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Ter tact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Ser bom observador;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Ser capaz de criar empati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Apresentar-se bem, com postura adequad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Utilizar linguagem compreensível de acordo com as características dos participant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Saber escutar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Espaço Reservado para Número de Slide 5"/>
          <p:cNvSpPr/>
          <p:nvPr/>
        </p:nvSpPr>
        <p:spPr>
          <a:xfrm>
            <a:off x="539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6BBF-9BFA-4091-B9A7-4394411E14F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tura ao aconselhar ou ori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4065-EA23-40D9-AC61-B87BF63BCCF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http://izefiliz.zip.net/images/Sorria.jpg"/>
          <p:cNvPicPr/>
          <p:nvPr/>
        </p:nvPicPr>
        <p:blipFill>
          <a:blip r:embed="rId1"/>
          <a:stretch/>
        </p:blipFill>
        <p:spPr>
          <a:xfrm>
            <a:off x="2987640" y="1197000"/>
            <a:ext cx="4336920" cy="5111640"/>
          </a:xfrm>
          <a:prstGeom prst="rect">
            <a:avLst/>
          </a:prstGeom>
          <a:ln w="0">
            <a:noFill/>
          </a:ln>
        </p:spPr>
      </p:pic>
      <p:pic>
        <p:nvPicPr>
          <p:cNvPr id="147" name="Retângulo 7" descr=""/>
          <p:cNvPicPr/>
          <p:nvPr/>
        </p:nvPicPr>
        <p:blipFill>
          <a:blip r:embed="rId2"/>
          <a:stretch/>
        </p:blipFill>
        <p:spPr>
          <a:xfrm>
            <a:off x="19080" y="1682640"/>
            <a:ext cx="413208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67480" cy="654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tura ao dar orient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4920" y="1197000"/>
            <a:ext cx="84646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Evite mãos e braços nos bolsos (passa insegurança e impede o fluxo natural da energia)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Não dê as costas para o grup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Gestos e maneirismos podem ajudá-lo a ganhar apoio e confiança do utente, mas de forma exagerada atrapalha; evite f</a:t>
            </a: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azer barulho com as chaves ou moedas nos bolsos, brincar com a canet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Caminhe pela sala, estebeleça contato visual com TODOS os participantes – Evite olhar para o mesmo lado ou para os mesmos participante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6EA4-4D62-4BFA-ACA1-58DEDBD7164D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6"/>
          <p:cNvSpPr/>
          <p:nvPr/>
        </p:nvSpPr>
        <p:spPr>
          <a:xfrm>
            <a:off x="1828800" y="3271680"/>
            <a:ext cx="624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052640"/>
            <a:ext cx="4716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A sociedade é muito visual; as pessoas fazem julgamentos no momento em que o vêem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A maneira de se vestir é mais importante do que se imagina. 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Os trabalhadores de saúde devem ser modelo de higiene e apresentação pessoal, zelando seus fardament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Espaço Reservado para Número de Slide 8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2B14-5353-4A22-9D3A-E4E30C0120C4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" descr="C:\Documents and Settings\Administrador\Meus documentos\Moçambique GERAL\enfermaria modelo\fotos enf modelo depois\DSC00785.JPG"/>
          <p:cNvPicPr/>
          <p:nvPr/>
        </p:nvPicPr>
        <p:blipFill>
          <a:blip r:embed="rId1"/>
          <a:stretch/>
        </p:blipFill>
        <p:spPr>
          <a:xfrm>
            <a:off x="5148360" y="1052640"/>
            <a:ext cx="3714480" cy="49528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67480" cy="654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tura ao dar orient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Espaço Reservado para Rodapé 9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tura ao dar orient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Use roupas adequadas (sem decotes, que não marque o corpo) para não desviar a atenção dos participant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Evite calçados que faça barulho, para não tirar a concentração dos  participant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Ao usar um recurso audiovisual, evite ficar presa ao mesmo, pois seu foco deve ser sempre o grup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transparente, cavalete, ecrã... É apenas um apoi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DD8F-8CE1-425D-A7F3-100C91B8DB1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67480" cy="714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Lingu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980640"/>
            <a:ext cx="82468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Não utilize palavras que enfraquecem o que você tem a dizer, como: “talvez”, “acho”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Vá directo ao assunto, não faça rodeios</a:t>
            </a: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Seja simples, directo e cla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86AD-E2A3-4E67-80D1-9E76B4D93C08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http://www.geocities.com/HotSprings/Bath/3909/image12.gif"/>
          <p:cNvPicPr/>
          <p:nvPr/>
        </p:nvPicPr>
        <p:blipFill>
          <a:blip r:embed="rId1"/>
          <a:stretch/>
        </p:blipFill>
        <p:spPr>
          <a:xfrm>
            <a:off x="353880" y="2857680"/>
            <a:ext cx="3403800" cy="3346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http://www.geocities.com/HotSprings/Bath/3909/image14.gif"/>
          <p:cNvPicPr/>
          <p:nvPr/>
        </p:nvPicPr>
        <p:blipFill>
          <a:blip r:embed="rId2"/>
          <a:stretch/>
        </p:blipFill>
        <p:spPr>
          <a:xfrm>
            <a:off x="4286160" y="2786040"/>
            <a:ext cx="3813120" cy="3071880"/>
          </a:xfrm>
          <a:prstGeom prst="rect">
            <a:avLst/>
          </a:prstGeom>
          <a:ln w="0">
            <a:noFill/>
          </a:ln>
        </p:spPr>
      </p:pic>
      <p:sp>
        <p:nvSpPr>
          <p:cNvPr id="167" name="CaixaDeTexto 8"/>
          <p:cNvSpPr/>
          <p:nvPr/>
        </p:nvSpPr>
        <p:spPr>
          <a:xfrm>
            <a:off x="755640" y="609300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inguagem téc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aixaDeTexto 9"/>
          <p:cNvSpPr/>
          <p:nvPr/>
        </p:nvSpPr>
        <p:spPr>
          <a:xfrm>
            <a:off x="4140360" y="5732640"/>
            <a:ext cx="44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inguagem compreensí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spaço Reservado para Rodapé 10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065"/>
          <p:cNvGrpSpPr/>
          <p:nvPr/>
        </p:nvGrpSpPr>
        <p:grpSpPr>
          <a:xfrm>
            <a:off x="6875640" y="333360"/>
            <a:ext cx="1998000" cy="1366920"/>
            <a:chOff x="6875640" y="333360"/>
            <a:chExt cx="1998000" cy="1366920"/>
          </a:xfrm>
        </p:grpSpPr>
        <p:pic>
          <p:nvPicPr>
            <p:cNvPr id="171" name="Object 2" descr=""/>
            <p:cNvPicPr/>
            <p:nvPr/>
          </p:nvPicPr>
          <p:blipFill>
            <a:blip r:embed="rId1"/>
            <a:stretch/>
          </p:blipFill>
          <p:spPr>
            <a:xfrm>
              <a:off x="6875640" y="333360"/>
              <a:ext cx="971280" cy="136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2" name="Group 1067"/>
            <p:cNvGrpSpPr/>
            <p:nvPr/>
          </p:nvGrpSpPr>
          <p:grpSpPr>
            <a:xfrm>
              <a:off x="8002800" y="712440"/>
              <a:ext cx="870840" cy="986760"/>
              <a:chOff x="8002800" y="712440"/>
              <a:chExt cx="870840" cy="986760"/>
            </a:xfrm>
          </p:grpSpPr>
          <p:grpSp>
            <p:nvGrpSpPr>
              <p:cNvPr id="173" name="Group 1068"/>
              <p:cNvGrpSpPr/>
              <p:nvPr/>
            </p:nvGrpSpPr>
            <p:grpSpPr>
              <a:xfrm>
                <a:off x="8002800" y="712440"/>
                <a:ext cx="870840" cy="986760"/>
                <a:chOff x="8002800" y="712440"/>
                <a:chExt cx="870840" cy="986760"/>
              </a:xfrm>
            </p:grpSpPr>
            <p:sp>
              <p:nvSpPr>
                <p:cNvPr id="174" name="Freeform 1069"/>
                <p:cNvSpPr/>
                <p:nvPr/>
              </p:nvSpPr>
              <p:spPr>
                <a:xfrm>
                  <a:off x="8324640" y="843480"/>
                  <a:ext cx="297000" cy="16992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169920"/>
                    <a:gd name="textAreaBottom" fmla="*/ 169920 h 169920"/>
                  </a:gdLst>
                  <a:ahLst/>
                  <a:rect l="textAreaLeft" t="textAreaTop" r="textAreaRight" b="textAreaBottom"/>
                  <a:pathLst>
                    <a:path w="633" h="401">
                      <a:moveTo>
                        <a:pt x="219" y="96"/>
                      </a:moveTo>
                      <a:lnTo>
                        <a:pt x="252" y="42"/>
                      </a:lnTo>
                      <a:lnTo>
                        <a:pt x="341" y="7"/>
                      </a:lnTo>
                      <a:lnTo>
                        <a:pt x="402" y="0"/>
                      </a:lnTo>
                      <a:lnTo>
                        <a:pt x="469" y="0"/>
                      </a:lnTo>
                      <a:lnTo>
                        <a:pt x="583" y="30"/>
                      </a:lnTo>
                      <a:lnTo>
                        <a:pt x="633" y="109"/>
                      </a:lnTo>
                      <a:lnTo>
                        <a:pt x="608" y="213"/>
                      </a:lnTo>
                      <a:lnTo>
                        <a:pt x="528" y="304"/>
                      </a:lnTo>
                      <a:lnTo>
                        <a:pt x="445" y="366"/>
                      </a:lnTo>
                      <a:lnTo>
                        <a:pt x="356" y="393"/>
                      </a:lnTo>
                      <a:lnTo>
                        <a:pt x="289" y="401"/>
                      </a:lnTo>
                      <a:lnTo>
                        <a:pt x="219" y="386"/>
                      </a:lnTo>
                      <a:lnTo>
                        <a:pt x="165" y="343"/>
                      </a:lnTo>
                      <a:lnTo>
                        <a:pt x="139" y="289"/>
                      </a:lnTo>
                      <a:lnTo>
                        <a:pt x="143" y="231"/>
                      </a:lnTo>
                      <a:lnTo>
                        <a:pt x="169" y="161"/>
                      </a:lnTo>
                      <a:lnTo>
                        <a:pt x="180" y="149"/>
                      </a:lnTo>
                      <a:lnTo>
                        <a:pt x="17" y="74"/>
                      </a:lnTo>
                      <a:lnTo>
                        <a:pt x="0" y="57"/>
                      </a:lnTo>
                      <a:lnTo>
                        <a:pt x="0" y="34"/>
                      </a:lnTo>
                      <a:lnTo>
                        <a:pt x="39" y="21"/>
                      </a:lnTo>
                      <a:lnTo>
                        <a:pt x="219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070"/>
                <p:cNvSpPr/>
                <p:nvPr/>
              </p:nvSpPr>
              <p:spPr>
                <a:xfrm>
                  <a:off x="8520480" y="1069560"/>
                  <a:ext cx="353160" cy="325800"/>
                </a:xfrm>
                <a:custGeom>
                  <a:avLst/>
                  <a:gdLst>
                    <a:gd name="textAreaLeft" fmla="*/ 0 w 353160"/>
                    <a:gd name="textAreaRight" fmla="*/ 353520 w 353160"/>
                    <a:gd name="textAreaTop" fmla="*/ 0 h 325800"/>
                    <a:gd name="textAreaBottom" fmla="*/ 326160 h 325800"/>
                  </a:gdLst>
                  <a:ahLst/>
                  <a:rect l="textAreaLeft" t="textAreaTop" r="textAreaRight" b="textAreaBottom"/>
                  <a:pathLst>
                    <a:path w="753" h="770">
                      <a:moveTo>
                        <a:pt x="92" y="13"/>
                      </a:moveTo>
                      <a:lnTo>
                        <a:pt x="266" y="45"/>
                      </a:lnTo>
                      <a:lnTo>
                        <a:pt x="454" y="125"/>
                      </a:lnTo>
                      <a:lnTo>
                        <a:pt x="563" y="194"/>
                      </a:lnTo>
                      <a:lnTo>
                        <a:pt x="674" y="277"/>
                      </a:lnTo>
                      <a:lnTo>
                        <a:pt x="729" y="337"/>
                      </a:lnTo>
                      <a:lnTo>
                        <a:pt x="753" y="417"/>
                      </a:lnTo>
                      <a:lnTo>
                        <a:pt x="737" y="450"/>
                      </a:lnTo>
                      <a:lnTo>
                        <a:pt x="679" y="491"/>
                      </a:lnTo>
                      <a:lnTo>
                        <a:pt x="537" y="517"/>
                      </a:lnTo>
                      <a:lnTo>
                        <a:pt x="388" y="532"/>
                      </a:lnTo>
                      <a:lnTo>
                        <a:pt x="305" y="537"/>
                      </a:lnTo>
                      <a:lnTo>
                        <a:pt x="329" y="574"/>
                      </a:lnTo>
                      <a:lnTo>
                        <a:pt x="417" y="637"/>
                      </a:lnTo>
                      <a:lnTo>
                        <a:pt x="491" y="674"/>
                      </a:lnTo>
                      <a:lnTo>
                        <a:pt x="574" y="711"/>
                      </a:lnTo>
                      <a:lnTo>
                        <a:pt x="587" y="747"/>
                      </a:lnTo>
                      <a:lnTo>
                        <a:pt x="550" y="770"/>
                      </a:lnTo>
                      <a:lnTo>
                        <a:pt x="487" y="754"/>
                      </a:lnTo>
                      <a:lnTo>
                        <a:pt x="354" y="664"/>
                      </a:lnTo>
                      <a:lnTo>
                        <a:pt x="288" y="614"/>
                      </a:lnTo>
                      <a:lnTo>
                        <a:pt x="242" y="537"/>
                      </a:lnTo>
                      <a:lnTo>
                        <a:pt x="255" y="509"/>
                      </a:lnTo>
                      <a:lnTo>
                        <a:pt x="325" y="500"/>
                      </a:lnTo>
                      <a:lnTo>
                        <a:pt x="450" y="494"/>
                      </a:lnTo>
                      <a:lnTo>
                        <a:pt x="567" y="477"/>
                      </a:lnTo>
                      <a:lnTo>
                        <a:pt x="628" y="454"/>
                      </a:lnTo>
                      <a:lnTo>
                        <a:pt x="674" y="420"/>
                      </a:lnTo>
                      <a:lnTo>
                        <a:pt x="674" y="386"/>
                      </a:lnTo>
                      <a:lnTo>
                        <a:pt x="654" y="329"/>
                      </a:lnTo>
                      <a:lnTo>
                        <a:pt x="604" y="292"/>
                      </a:lnTo>
                      <a:lnTo>
                        <a:pt x="563" y="251"/>
                      </a:lnTo>
                      <a:lnTo>
                        <a:pt x="500" y="222"/>
                      </a:lnTo>
                      <a:lnTo>
                        <a:pt x="417" y="173"/>
                      </a:lnTo>
                      <a:lnTo>
                        <a:pt x="316" y="134"/>
                      </a:lnTo>
                      <a:lnTo>
                        <a:pt x="225" y="118"/>
                      </a:lnTo>
                      <a:lnTo>
                        <a:pt x="113" y="105"/>
                      </a:lnTo>
                      <a:lnTo>
                        <a:pt x="43" y="87"/>
                      </a:lnTo>
                      <a:lnTo>
                        <a:pt x="0" y="57"/>
                      </a:lnTo>
                      <a:lnTo>
                        <a:pt x="0" y="15"/>
                      </a:lnTo>
                      <a:lnTo>
                        <a:pt x="43" y="0"/>
                      </a:lnTo>
                      <a:lnTo>
                        <a:pt x="126" y="13"/>
                      </a:lnTo>
                      <a:lnTo>
                        <a:pt x="138" y="15"/>
                      </a:lnTo>
                      <a:lnTo>
                        <a:pt x="92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1071"/>
                <p:cNvSpPr/>
                <p:nvPr/>
              </p:nvSpPr>
              <p:spPr>
                <a:xfrm>
                  <a:off x="8002800" y="712440"/>
                  <a:ext cx="410400" cy="369360"/>
                </a:xfrm>
                <a:custGeom>
                  <a:avLst/>
                  <a:gdLst>
                    <a:gd name="textAreaLeft" fmla="*/ 0 w 410400"/>
                    <a:gd name="textAreaRight" fmla="*/ 410760 w 410400"/>
                    <a:gd name="textAreaTop" fmla="*/ 0 h 369360"/>
                    <a:gd name="textAreaBottom" fmla="*/ 369720 h 369360"/>
                  </a:gdLst>
                  <a:ahLst/>
                  <a:rect l="textAreaLeft" t="textAreaTop" r="textAreaRight" b="textAreaBottom"/>
                  <a:pathLst>
                    <a:path w="874" h="872">
                      <a:moveTo>
                        <a:pt x="799" y="750"/>
                      </a:moveTo>
                      <a:lnTo>
                        <a:pt x="865" y="789"/>
                      </a:lnTo>
                      <a:lnTo>
                        <a:pt x="874" y="828"/>
                      </a:lnTo>
                      <a:lnTo>
                        <a:pt x="849" y="865"/>
                      </a:lnTo>
                      <a:lnTo>
                        <a:pt x="778" y="872"/>
                      </a:lnTo>
                      <a:lnTo>
                        <a:pt x="686" y="797"/>
                      </a:lnTo>
                      <a:lnTo>
                        <a:pt x="649" y="734"/>
                      </a:lnTo>
                      <a:lnTo>
                        <a:pt x="579" y="654"/>
                      </a:lnTo>
                      <a:lnTo>
                        <a:pt x="511" y="564"/>
                      </a:lnTo>
                      <a:lnTo>
                        <a:pt x="450" y="489"/>
                      </a:lnTo>
                      <a:lnTo>
                        <a:pt x="363" y="396"/>
                      </a:lnTo>
                      <a:lnTo>
                        <a:pt x="254" y="308"/>
                      </a:lnTo>
                      <a:lnTo>
                        <a:pt x="166" y="233"/>
                      </a:lnTo>
                      <a:lnTo>
                        <a:pt x="125" y="211"/>
                      </a:lnTo>
                      <a:lnTo>
                        <a:pt x="88" y="211"/>
                      </a:lnTo>
                      <a:lnTo>
                        <a:pt x="29" y="195"/>
                      </a:lnTo>
                      <a:lnTo>
                        <a:pt x="13" y="163"/>
                      </a:lnTo>
                      <a:lnTo>
                        <a:pt x="0" y="105"/>
                      </a:lnTo>
                      <a:lnTo>
                        <a:pt x="13" y="50"/>
                      </a:lnTo>
                      <a:lnTo>
                        <a:pt x="42" y="15"/>
                      </a:lnTo>
                      <a:lnTo>
                        <a:pt x="79" y="0"/>
                      </a:lnTo>
                      <a:lnTo>
                        <a:pt x="129" y="20"/>
                      </a:lnTo>
                      <a:lnTo>
                        <a:pt x="154" y="7"/>
                      </a:lnTo>
                      <a:lnTo>
                        <a:pt x="175" y="35"/>
                      </a:lnTo>
                      <a:lnTo>
                        <a:pt x="192" y="105"/>
                      </a:lnTo>
                      <a:lnTo>
                        <a:pt x="179" y="140"/>
                      </a:lnTo>
                      <a:lnTo>
                        <a:pt x="188" y="195"/>
                      </a:lnTo>
                      <a:lnTo>
                        <a:pt x="229" y="233"/>
                      </a:lnTo>
                      <a:lnTo>
                        <a:pt x="328" y="314"/>
                      </a:lnTo>
                      <a:lnTo>
                        <a:pt x="404" y="369"/>
                      </a:lnTo>
                      <a:lnTo>
                        <a:pt x="478" y="436"/>
                      </a:lnTo>
                      <a:lnTo>
                        <a:pt x="524" y="481"/>
                      </a:lnTo>
                      <a:lnTo>
                        <a:pt x="616" y="554"/>
                      </a:lnTo>
                      <a:lnTo>
                        <a:pt x="686" y="640"/>
                      </a:lnTo>
                      <a:lnTo>
                        <a:pt x="753" y="737"/>
                      </a:lnTo>
                      <a:lnTo>
                        <a:pt x="799" y="7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1072"/>
                <p:cNvSpPr/>
                <p:nvPr/>
              </p:nvSpPr>
              <p:spPr>
                <a:xfrm>
                  <a:off x="8313480" y="1027440"/>
                  <a:ext cx="251640" cy="336960"/>
                </a:xfrm>
                <a:custGeom>
                  <a:avLst/>
                  <a:gdLst>
                    <a:gd name="textAreaLeft" fmla="*/ 0 w 251640"/>
                    <a:gd name="textAreaRight" fmla="*/ 252000 w 251640"/>
                    <a:gd name="textAreaTop" fmla="*/ 0 h 336960"/>
                    <a:gd name="textAreaBottom" fmla="*/ 337320 h 336960"/>
                  </a:gdLst>
                  <a:ahLst/>
                  <a:rect l="textAreaLeft" t="textAreaTop" r="textAreaRight" b="textAreaBottom"/>
                  <a:pathLst>
                    <a:path w="536" h="797">
                      <a:moveTo>
                        <a:pt x="17" y="209"/>
                      </a:moveTo>
                      <a:lnTo>
                        <a:pt x="74" y="104"/>
                      </a:lnTo>
                      <a:lnTo>
                        <a:pt x="124" y="55"/>
                      </a:lnTo>
                      <a:lnTo>
                        <a:pt x="212" y="3"/>
                      </a:lnTo>
                      <a:lnTo>
                        <a:pt x="287" y="0"/>
                      </a:lnTo>
                      <a:lnTo>
                        <a:pt x="366" y="15"/>
                      </a:lnTo>
                      <a:lnTo>
                        <a:pt x="436" y="52"/>
                      </a:lnTo>
                      <a:lnTo>
                        <a:pt x="436" y="122"/>
                      </a:lnTo>
                      <a:lnTo>
                        <a:pt x="403" y="182"/>
                      </a:lnTo>
                      <a:lnTo>
                        <a:pt x="403" y="292"/>
                      </a:lnTo>
                      <a:lnTo>
                        <a:pt x="416" y="459"/>
                      </a:lnTo>
                      <a:lnTo>
                        <a:pt x="478" y="562"/>
                      </a:lnTo>
                      <a:lnTo>
                        <a:pt x="536" y="644"/>
                      </a:lnTo>
                      <a:lnTo>
                        <a:pt x="536" y="708"/>
                      </a:lnTo>
                      <a:lnTo>
                        <a:pt x="473" y="767"/>
                      </a:lnTo>
                      <a:lnTo>
                        <a:pt x="423" y="795"/>
                      </a:lnTo>
                      <a:lnTo>
                        <a:pt x="349" y="797"/>
                      </a:lnTo>
                      <a:lnTo>
                        <a:pt x="262" y="797"/>
                      </a:lnTo>
                      <a:lnTo>
                        <a:pt x="166" y="779"/>
                      </a:lnTo>
                      <a:lnTo>
                        <a:pt x="74" y="674"/>
                      </a:lnTo>
                      <a:lnTo>
                        <a:pt x="24" y="550"/>
                      </a:lnTo>
                      <a:lnTo>
                        <a:pt x="0" y="452"/>
                      </a:lnTo>
                      <a:lnTo>
                        <a:pt x="0" y="337"/>
                      </a:lnTo>
                      <a:lnTo>
                        <a:pt x="17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1073"/>
                <p:cNvSpPr/>
                <p:nvPr/>
              </p:nvSpPr>
              <p:spPr>
                <a:xfrm>
                  <a:off x="8408520" y="1314720"/>
                  <a:ext cx="213120" cy="353880"/>
                </a:xfrm>
                <a:custGeom>
                  <a:avLst/>
                  <a:gdLst>
                    <a:gd name="textAreaLeft" fmla="*/ 0 w 213120"/>
                    <a:gd name="textAreaRight" fmla="*/ 213480 w 213120"/>
                    <a:gd name="textAreaTop" fmla="*/ 0 h 353880"/>
                    <a:gd name="textAreaBottom" fmla="*/ 354240 h 353880"/>
                  </a:gdLst>
                  <a:ahLst/>
                  <a:rect l="textAreaLeft" t="textAreaTop" r="textAreaRight" b="textAreaBottom"/>
                  <a:pathLst>
                    <a:path w="454" h="835">
                      <a:moveTo>
                        <a:pt x="249" y="14"/>
                      </a:moveTo>
                      <a:lnTo>
                        <a:pt x="192" y="0"/>
                      </a:lnTo>
                      <a:lnTo>
                        <a:pt x="137" y="19"/>
                      </a:lnTo>
                      <a:lnTo>
                        <a:pt x="104" y="90"/>
                      </a:lnTo>
                      <a:lnTo>
                        <a:pt x="137" y="203"/>
                      </a:lnTo>
                      <a:lnTo>
                        <a:pt x="192" y="263"/>
                      </a:lnTo>
                      <a:lnTo>
                        <a:pt x="249" y="368"/>
                      </a:lnTo>
                      <a:lnTo>
                        <a:pt x="279" y="421"/>
                      </a:lnTo>
                      <a:lnTo>
                        <a:pt x="279" y="489"/>
                      </a:lnTo>
                      <a:lnTo>
                        <a:pt x="203" y="556"/>
                      </a:lnTo>
                      <a:lnTo>
                        <a:pt x="100" y="629"/>
                      </a:lnTo>
                      <a:lnTo>
                        <a:pt x="37" y="667"/>
                      </a:lnTo>
                      <a:lnTo>
                        <a:pt x="0" y="697"/>
                      </a:lnTo>
                      <a:lnTo>
                        <a:pt x="0" y="729"/>
                      </a:lnTo>
                      <a:lnTo>
                        <a:pt x="41" y="735"/>
                      </a:lnTo>
                      <a:lnTo>
                        <a:pt x="142" y="750"/>
                      </a:lnTo>
                      <a:lnTo>
                        <a:pt x="288" y="795"/>
                      </a:lnTo>
                      <a:lnTo>
                        <a:pt x="329" y="827"/>
                      </a:lnTo>
                      <a:lnTo>
                        <a:pt x="386" y="835"/>
                      </a:lnTo>
                      <a:lnTo>
                        <a:pt x="454" y="797"/>
                      </a:lnTo>
                      <a:lnTo>
                        <a:pt x="412" y="780"/>
                      </a:lnTo>
                      <a:lnTo>
                        <a:pt x="253" y="745"/>
                      </a:lnTo>
                      <a:lnTo>
                        <a:pt x="150" y="727"/>
                      </a:lnTo>
                      <a:lnTo>
                        <a:pt x="74" y="707"/>
                      </a:lnTo>
                      <a:lnTo>
                        <a:pt x="74" y="699"/>
                      </a:lnTo>
                      <a:lnTo>
                        <a:pt x="87" y="682"/>
                      </a:lnTo>
                      <a:lnTo>
                        <a:pt x="137" y="646"/>
                      </a:lnTo>
                      <a:lnTo>
                        <a:pt x="279" y="572"/>
                      </a:lnTo>
                      <a:lnTo>
                        <a:pt x="362" y="508"/>
                      </a:lnTo>
                      <a:lnTo>
                        <a:pt x="379" y="464"/>
                      </a:lnTo>
                      <a:lnTo>
                        <a:pt x="366" y="398"/>
                      </a:lnTo>
                      <a:lnTo>
                        <a:pt x="329" y="345"/>
                      </a:lnTo>
                      <a:lnTo>
                        <a:pt x="279" y="270"/>
                      </a:lnTo>
                      <a:lnTo>
                        <a:pt x="262" y="193"/>
                      </a:lnTo>
                      <a:lnTo>
                        <a:pt x="262" y="117"/>
                      </a:lnTo>
                      <a:lnTo>
                        <a:pt x="262" y="49"/>
                      </a:lnTo>
                      <a:lnTo>
                        <a:pt x="249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1074"/>
                <p:cNvSpPr/>
                <p:nvPr/>
              </p:nvSpPr>
              <p:spPr>
                <a:xfrm>
                  <a:off x="8278920" y="1317240"/>
                  <a:ext cx="174600" cy="381960"/>
                </a:xfrm>
                <a:custGeom>
                  <a:avLst/>
                  <a:gdLst>
                    <a:gd name="textAreaLeft" fmla="*/ 0 w 174600"/>
                    <a:gd name="textAreaRight" fmla="*/ 174600 w 174600"/>
                    <a:gd name="textAreaTop" fmla="*/ 0 h 381960"/>
                    <a:gd name="textAreaBottom" fmla="*/ 382320 h 381960"/>
                  </a:gdLst>
                  <a:ahLst/>
                  <a:rect l="textAreaLeft" t="textAreaTop" r="textAreaRight" b="textAreaBottom"/>
                  <a:pathLst>
                    <a:path w="370" h="903">
                      <a:moveTo>
                        <a:pt x="189" y="140"/>
                      </a:moveTo>
                      <a:lnTo>
                        <a:pt x="234" y="45"/>
                      </a:lnTo>
                      <a:lnTo>
                        <a:pt x="287" y="0"/>
                      </a:lnTo>
                      <a:lnTo>
                        <a:pt x="325" y="0"/>
                      </a:lnTo>
                      <a:lnTo>
                        <a:pt x="370" y="23"/>
                      </a:lnTo>
                      <a:lnTo>
                        <a:pt x="358" y="102"/>
                      </a:lnTo>
                      <a:lnTo>
                        <a:pt x="320" y="170"/>
                      </a:lnTo>
                      <a:lnTo>
                        <a:pt x="237" y="241"/>
                      </a:lnTo>
                      <a:lnTo>
                        <a:pt x="164" y="354"/>
                      </a:lnTo>
                      <a:lnTo>
                        <a:pt x="123" y="419"/>
                      </a:lnTo>
                      <a:lnTo>
                        <a:pt x="101" y="481"/>
                      </a:lnTo>
                      <a:lnTo>
                        <a:pt x="114" y="547"/>
                      </a:lnTo>
                      <a:lnTo>
                        <a:pt x="147" y="625"/>
                      </a:lnTo>
                      <a:lnTo>
                        <a:pt x="176" y="667"/>
                      </a:lnTo>
                      <a:lnTo>
                        <a:pt x="201" y="728"/>
                      </a:lnTo>
                      <a:lnTo>
                        <a:pt x="197" y="752"/>
                      </a:lnTo>
                      <a:lnTo>
                        <a:pt x="139" y="848"/>
                      </a:lnTo>
                      <a:lnTo>
                        <a:pt x="123" y="901"/>
                      </a:lnTo>
                      <a:lnTo>
                        <a:pt x="73" y="903"/>
                      </a:lnTo>
                      <a:lnTo>
                        <a:pt x="11" y="878"/>
                      </a:lnTo>
                      <a:lnTo>
                        <a:pt x="3" y="855"/>
                      </a:lnTo>
                      <a:lnTo>
                        <a:pt x="28" y="828"/>
                      </a:lnTo>
                      <a:lnTo>
                        <a:pt x="98" y="775"/>
                      </a:lnTo>
                      <a:lnTo>
                        <a:pt x="139" y="745"/>
                      </a:lnTo>
                      <a:lnTo>
                        <a:pt x="147" y="720"/>
                      </a:lnTo>
                      <a:lnTo>
                        <a:pt x="123" y="675"/>
                      </a:lnTo>
                      <a:lnTo>
                        <a:pt x="77" y="617"/>
                      </a:lnTo>
                      <a:lnTo>
                        <a:pt x="35" y="549"/>
                      </a:lnTo>
                      <a:lnTo>
                        <a:pt x="11" y="501"/>
                      </a:lnTo>
                      <a:lnTo>
                        <a:pt x="0" y="444"/>
                      </a:lnTo>
                      <a:lnTo>
                        <a:pt x="35" y="384"/>
                      </a:lnTo>
                      <a:lnTo>
                        <a:pt x="90" y="301"/>
                      </a:lnTo>
                      <a:lnTo>
                        <a:pt x="164" y="208"/>
                      </a:lnTo>
                      <a:lnTo>
                        <a:pt x="189" y="1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1075"/>
              <p:cNvGrpSpPr/>
              <p:nvPr/>
            </p:nvGrpSpPr>
            <p:grpSpPr>
              <a:xfrm>
                <a:off x="8190360" y="915840"/>
                <a:ext cx="559800" cy="474840"/>
                <a:chOff x="8190360" y="915840"/>
                <a:chExt cx="559800" cy="474840"/>
              </a:xfrm>
            </p:grpSpPr>
            <p:sp>
              <p:nvSpPr>
                <p:cNvPr id="181" name="Freeform 1076"/>
                <p:cNvSpPr/>
                <p:nvPr/>
              </p:nvSpPr>
              <p:spPr>
                <a:xfrm>
                  <a:off x="8190360" y="915840"/>
                  <a:ext cx="559800" cy="474840"/>
                </a:xfrm>
                <a:custGeom>
                  <a:avLst/>
                  <a:gdLst>
                    <a:gd name="textAreaLeft" fmla="*/ 0 w 559800"/>
                    <a:gd name="textAreaRight" fmla="*/ 560160 w 559800"/>
                    <a:gd name="textAreaTop" fmla="*/ 0 h 474840"/>
                    <a:gd name="textAreaBottom" fmla="*/ 475200 h 474840"/>
                  </a:gdLst>
                  <a:ahLst/>
                  <a:rect l="textAreaLeft" t="textAreaTop" r="textAreaRight" b="textAreaBottom"/>
                  <a:pathLst>
                    <a:path w="1192" h="1120">
                      <a:moveTo>
                        <a:pt x="174" y="0"/>
                      </a:moveTo>
                      <a:lnTo>
                        <a:pt x="103" y="85"/>
                      </a:lnTo>
                      <a:lnTo>
                        <a:pt x="61" y="158"/>
                      </a:lnTo>
                      <a:lnTo>
                        <a:pt x="24" y="236"/>
                      </a:lnTo>
                      <a:lnTo>
                        <a:pt x="0" y="296"/>
                      </a:lnTo>
                      <a:lnTo>
                        <a:pt x="28" y="383"/>
                      </a:lnTo>
                      <a:lnTo>
                        <a:pt x="116" y="436"/>
                      </a:lnTo>
                      <a:lnTo>
                        <a:pt x="187" y="488"/>
                      </a:lnTo>
                      <a:lnTo>
                        <a:pt x="161" y="626"/>
                      </a:lnTo>
                      <a:lnTo>
                        <a:pt x="124" y="814"/>
                      </a:lnTo>
                      <a:lnTo>
                        <a:pt x="153" y="1014"/>
                      </a:lnTo>
                      <a:lnTo>
                        <a:pt x="190" y="1105"/>
                      </a:lnTo>
                      <a:lnTo>
                        <a:pt x="353" y="1074"/>
                      </a:lnTo>
                      <a:lnTo>
                        <a:pt x="466" y="1069"/>
                      </a:lnTo>
                      <a:lnTo>
                        <a:pt x="637" y="1074"/>
                      </a:lnTo>
                      <a:lnTo>
                        <a:pt x="787" y="1108"/>
                      </a:lnTo>
                      <a:lnTo>
                        <a:pt x="874" y="1120"/>
                      </a:lnTo>
                      <a:lnTo>
                        <a:pt x="874" y="1044"/>
                      </a:lnTo>
                      <a:lnTo>
                        <a:pt x="854" y="902"/>
                      </a:lnTo>
                      <a:lnTo>
                        <a:pt x="816" y="762"/>
                      </a:lnTo>
                      <a:lnTo>
                        <a:pt x="787" y="624"/>
                      </a:lnTo>
                      <a:lnTo>
                        <a:pt x="774" y="573"/>
                      </a:lnTo>
                      <a:lnTo>
                        <a:pt x="824" y="551"/>
                      </a:lnTo>
                      <a:lnTo>
                        <a:pt x="962" y="578"/>
                      </a:lnTo>
                      <a:lnTo>
                        <a:pt x="1088" y="603"/>
                      </a:lnTo>
                      <a:lnTo>
                        <a:pt x="1149" y="641"/>
                      </a:lnTo>
                      <a:lnTo>
                        <a:pt x="1153" y="566"/>
                      </a:lnTo>
                      <a:lnTo>
                        <a:pt x="1192" y="473"/>
                      </a:lnTo>
                      <a:lnTo>
                        <a:pt x="1037" y="408"/>
                      </a:lnTo>
                      <a:lnTo>
                        <a:pt x="912" y="360"/>
                      </a:lnTo>
                      <a:lnTo>
                        <a:pt x="800" y="333"/>
                      </a:lnTo>
                      <a:lnTo>
                        <a:pt x="713" y="315"/>
                      </a:lnTo>
                      <a:lnTo>
                        <a:pt x="628" y="315"/>
                      </a:lnTo>
                      <a:lnTo>
                        <a:pt x="567" y="323"/>
                      </a:lnTo>
                      <a:lnTo>
                        <a:pt x="486" y="315"/>
                      </a:lnTo>
                      <a:lnTo>
                        <a:pt x="416" y="278"/>
                      </a:lnTo>
                      <a:lnTo>
                        <a:pt x="353" y="218"/>
                      </a:lnTo>
                      <a:lnTo>
                        <a:pt x="299" y="165"/>
                      </a:lnTo>
                      <a:lnTo>
                        <a:pt x="240" y="69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solidFill>
                  <a:srgbClr val="f8f8f8"/>
                </a:solidFill>
                <a:ln w="176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" name="Group 1077"/>
                <p:cNvGrpSpPr/>
                <p:nvPr/>
              </p:nvGrpSpPr>
              <p:grpSpPr>
                <a:xfrm>
                  <a:off x="8222040" y="944640"/>
                  <a:ext cx="498240" cy="431280"/>
                  <a:chOff x="8222040" y="944640"/>
                  <a:chExt cx="498240" cy="431280"/>
                </a:xfrm>
              </p:grpSpPr>
              <p:sp>
                <p:nvSpPr>
                  <p:cNvPr id="183" name="Freeform 1078"/>
                  <p:cNvSpPr/>
                  <p:nvPr/>
                </p:nvSpPr>
                <p:spPr>
                  <a:xfrm>
                    <a:off x="8222040" y="944640"/>
                    <a:ext cx="92880" cy="142920"/>
                  </a:xfrm>
                  <a:custGeom>
                    <a:avLst/>
                    <a:gdLst>
                      <a:gd name="textAreaLeft" fmla="*/ 0 w 92880"/>
                      <a:gd name="textAreaRight" fmla="*/ 93240 w 92880"/>
                      <a:gd name="textAreaTop" fmla="*/ 0 h 142920"/>
                      <a:gd name="textAreaBottom" fmla="*/ 143280 h 142920"/>
                    </a:gdLst>
                    <a:ahLst/>
                    <a:rect l="textAreaLeft" t="textAreaTop" r="textAreaRight" b="textAreaBottom"/>
                    <a:pathLst>
                      <a:path w="198" h="340">
                        <a:moveTo>
                          <a:pt x="0" y="301"/>
                        </a:moveTo>
                        <a:lnTo>
                          <a:pt x="13" y="227"/>
                        </a:lnTo>
                        <a:lnTo>
                          <a:pt x="58" y="146"/>
                        </a:lnTo>
                        <a:lnTo>
                          <a:pt x="95" y="78"/>
                        </a:lnTo>
                        <a:lnTo>
                          <a:pt x="124" y="25"/>
                        </a:lnTo>
                        <a:lnTo>
                          <a:pt x="161" y="0"/>
                        </a:lnTo>
                        <a:lnTo>
                          <a:pt x="198" y="15"/>
                        </a:lnTo>
                        <a:lnTo>
                          <a:pt x="145" y="93"/>
                        </a:lnTo>
                        <a:lnTo>
                          <a:pt x="83" y="197"/>
                        </a:lnTo>
                        <a:lnTo>
                          <a:pt x="46" y="289"/>
                        </a:lnTo>
                        <a:lnTo>
                          <a:pt x="46" y="340"/>
                        </a:lnTo>
                        <a:lnTo>
                          <a:pt x="0" y="340"/>
                        </a:lnTo>
                        <a:lnTo>
                          <a:pt x="0" y="280"/>
                        </a:lnTo>
                        <a:lnTo>
                          <a:pt x="0" y="30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079"/>
                  <p:cNvSpPr/>
                  <p:nvPr/>
                </p:nvSpPr>
                <p:spPr>
                  <a:xfrm>
                    <a:off x="8265240" y="994320"/>
                    <a:ext cx="86040" cy="121680"/>
                  </a:xfrm>
                  <a:custGeom>
                    <a:avLst/>
                    <a:gdLst>
                      <a:gd name="textAreaLeft" fmla="*/ 0 w 86040"/>
                      <a:gd name="textAreaRight" fmla="*/ 86040 w 86040"/>
                      <a:gd name="textAreaTop" fmla="*/ 0 h 121680"/>
                      <a:gd name="textAreaBottom" fmla="*/ 122040 h 121680"/>
                    </a:gdLst>
                    <a:ahLst/>
                    <a:rect l="textAreaLeft" t="textAreaTop" r="textAreaRight" b="textAreaBottom"/>
                    <a:pathLst>
                      <a:path w="183" h="286">
                        <a:moveTo>
                          <a:pt x="0" y="254"/>
                        </a:moveTo>
                        <a:lnTo>
                          <a:pt x="11" y="191"/>
                        </a:lnTo>
                        <a:lnTo>
                          <a:pt x="53" y="123"/>
                        </a:lnTo>
                        <a:lnTo>
                          <a:pt x="87" y="65"/>
                        </a:lnTo>
                        <a:lnTo>
                          <a:pt x="115" y="20"/>
                        </a:lnTo>
                        <a:lnTo>
                          <a:pt x="149" y="0"/>
                        </a:lnTo>
                        <a:lnTo>
                          <a:pt x="183" y="12"/>
                        </a:lnTo>
                        <a:lnTo>
                          <a:pt x="133" y="79"/>
                        </a:lnTo>
                        <a:lnTo>
                          <a:pt x="76" y="165"/>
                        </a:lnTo>
                        <a:lnTo>
                          <a:pt x="42" y="244"/>
                        </a:lnTo>
                        <a:lnTo>
                          <a:pt x="42" y="286"/>
                        </a:lnTo>
                        <a:lnTo>
                          <a:pt x="0" y="286"/>
                        </a:lnTo>
                        <a:lnTo>
                          <a:pt x="0" y="235"/>
                        </a:lnTo>
                        <a:lnTo>
                          <a:pt x="0" y="25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80"/>
                  <p:cNvSpPr/>
                  <p:nvPr/>
                </p:nvSpPr>
                <p:spPr>
                  <a:xfrm>
                    <a:off x="8301600" y="1023840"/>
                    <a:ext cx="90000" cy="347760"/>
                  </a:xfrm>
                  <a:custGeom>
                    <a:avLst/>
                    <a:gdLst>
                      <a:gd name="textAreaLeft" fmla="*/ 0 w 90000"/>
                      <a:gd name="textAreaRight" fmla="*/ 90360 w 90000"/>
                      <a:gd name="textAreaTop" fmla="*/ 0 h 347760"/>
                      <a:gd name="textAreaBottom" fmla="*/ 347760 h 347760"/>
                    </a:gdLst>
                    <a:ahLst/>
                    <a:rect l="textAreaLeft" t="textAreaTop" r="textAreaRight" b="textAreaBottom"/>
                    <a:pathLst>
                      <a:path w="192" h="823">
                        <a:moveTo>
                          <a:pt x="38" y="800"/>
                        </a:moveTo>
                        <a:lnTo>
                          <a:pt x="18" y="707"/>
                        </a:lnTo>
                        <a:lnTo>
                          <a:pt x="0" y="582"/>
                        </a:lnTo>
                        <a:lnTo>
                          <a:pt x="5" y="428"/>
                        </a:lnTo>
                        <a:lnTo>
                          <a:pt x="18" y="280"/>
                        </a:lnTo>
                        <a:lnTo>
                          <a:pt x="50" y="164"/>
                        </a:lnTo>
                        <a:lnTo>
                          <a:pt x="92" y="73"/>
                        </a:lnTo>
                        <a:lnTo>
                          <a:pt x="142" y="0"/>
                        </a:lnTo>
                        <a:lnTo>
                          <a:pt x="192" y="46"/>
                        </a:lnTo>
                        <a:lnTo>
                          <a:pt x="142" y="119"/>
                        </a:lnTo>
                        <a:lnTo>
                          <a:pt x="118" y="182"/>
                        </a:lnTo>
                        <a:lnTo>
                          <a:pt x="88" y="295"/>
                        </a:lnTo>
                        <a:lnTo>
                          <a:pt x="68" y="458"/>
                        </a:lnTo>
                        <a:lnTo>
                          <a:pt x="68" y="587"/>
                        </a:lnTo>
                        <a:lnTo>
                          <a:pt x="79" y="687"/>
                        </a:lnTo>
                        <a:lnTo>
                          <a:pt x="101" y="752"/>
                        </a:lnTo>
                        <a:lnTo>
                          <a:pt x="118" y="805"/>
                        </a:lnTo>
                        <a:lnTo>
                          <a:pt x="42" y="823"/>
                        </a:lnTo>
                        <a:lnTo>
                          <a:pt x="38" y="8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Freeform 1081"/>
                  <p:cNvSpPr/>
                  <p:nvPr/>
                </p:nvSpPr>
                <p:spPr>
                  <a:xfrm>
                    <a:off x="8382600" y="1054440"/>
                    <a:ext cx="68400" cy="309960"/>
                  </a:xfrm>
                  <a:custGeom>
                    <a:avLst/>
                    <a:gdLst>
                      <a:gd name="textAreaLeft" fmla="*/ 0 w 68400"/>
                      <a:gd name="textAreaRight" fmla="*/ 68760 w 68400"/>
                      <a:gd name="textAreaTop" fmla="*/ 0 h 309960"/>
                      <a:gd name="textAreaBottom" fmla="*/ 309960 h 309960"/>
                    </a:gdLst>
                    <a:ahLst/>
                    <a:rect l="textAreaLeft" t="textAreaTop" r="textAreaRight" b="textAreaBottom"/>
                    <a:pathLst>
                      <a:path w="144" h="731">
                        <a:moveTo>
                          <a:pt x="41" y="724"/>
                        </a:moveTo>
                        <a:lnTo>
                          <a:pt x="11" y="603"/>
                        </a:lnTo>
                        <a:lnTo>
                          <a:pt x="0" y="473"/>
                        </a:lnTo>
                        <a:lnTo>
                          <a:pt x="0" y="348"/>
                        </a:lnTo>
                        <a:lnTo>
                          <a:pt x="11" y="240"/>
                        </a:lnTo>
                        <a:lnTo>
                          <a:pt x="24" y="128"/>
                        </a:lnTo>
                        <a:lnTo>
                          <a:pt x="67" y="40"/>
                        </a:lnTo>
                        <a:lnTo>
                          <a:pt x="93" y="0"/>
                        </a:lnTo>
                        <a:lnTo>
                          <a:pt x="144" y="0"/>
                        </a:lnTo>
                        <a:lnTo>
                          <a:pt x="105" y="120"/>
                        </a:lnTo>
                        <a:lnTo>
                          <a:pt x="93" y="220"/>
                        </a:lnTo>
                        <a:lnTo>
                          <a:pt x="88" y="346"/>
                        </a:lnTo>
                        <a:lnTo>
                          <a:pt x="88" y="473"/>
                        </a:lnTo>
                        <a:lnTo>
                          <a:pt x="93" y="619"/>
                        </a:lnTo>
                        <a:lnTo>
                          <a:pt x="105" y="701"/>
                        </a:lnTo>
                        <a:lnTo>
                          <a:pt x="118" y="731"/>
                        </a:lnTo>
                        <a:lnTo>
                          <a:pt x="41" y="72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1082"/>
                  <p:cNvSpPr/>
                  <p:nvPr/>
                </p:nvSpPr>
                <p:spPr>
                  <a:xfrm>
                    <a:off x="8463960" y="1050120"/>
                    <a:ext cx="67680" cy="325800"/>
                  </a:xfrm>
                  <a:custGeom>
                    <a:avLst/>
                    <a:gdLst>
                      <a:gd name="textAreaLeft" fmla="*/ 0 w 67680"/>
                      <a:gd name="textAreaRight" fmla="*/ 68040 w 67680"/>
                      <a:gd name="textAreaTop" fmla="*/ 0 h 325800"/>
                      <a:gd name="textAreaBottom" fmla="*/ 326160 h 325800"/>
                    </a:gdLst>
                    <a:ahLst/>
                    <a:rect l="textAreaLeft" t="textAreaTop" r="textAreaRight" b="textAreaBottom"/>
                    <a:pathLst>
                      <a:path w="144" h="771">
                        <a:moveTo>
                          <a:pt x="50" y="736"/>
                        </a:moveTo>
                        <a:lnTo>
                          <a:pt x="15" y="601"/>
                        </a:lnTo>
                        <a:lnTo>
                          <a:pt x="3" y="471"/>
                        </a:lnTo>
                        <a:lnTo>
                          <a:pt x="0" y="338"/>
                        </a:lnTo>
                        <a:lnTo>
                          <a:pt x="0" y="186"/>
                        </a:lnTo>
                        <a:lnTo>
                          <a:pt x="24" y="80"/>
                        </a:lnTo>
                        <a:lnTo>
                          <a:pt x="37" y="6"/>
                        </a:lnTo>
                        <a:lnTo>
                          <a:pt x="101" y="0"/>
                        </a:lnTo>
                        <a:lnTo>
                          <a:pt x="88" y="73"/>
                        </a:lnTo>
                        <a:lnTo>
                          <a:pt x="63" y="196"/>
                        </a:lnTo>
                        <a:lnTo>
                          <a:pt x="67" y="313"/>
                        </a:lnTo>
                        <a:lnTo>
                          <a:pt x="88" y="471"/>
                        </a:lnTo>
                        <a:lnTo>
                          <a:pt x="106" y="606"/>
                        </a:lnTo>
                        <a:lnTo>
                          <a:pt x="127" y="681"/>
                        </a:lnTo>
                        <a:lnTo>
                          <a:pt x="144" y="771"/>
                        </a:lnTo>
                        <a:lnTo>
                          <a:pt x="50" y="7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1083"/>
                  <p:cNvSpPr/>
                  <p:nvPr/>
                </p:nvSpPr>
                <p:spPr>
                  <a:xfrm>
                    <a:off x="8532720" y="1058760"/>
                    <a:ext cx="45720" cy="10332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103320"/>
                      <a:gd name="textAreaBottom" fmla="*/ 103680 h 103320"/>
                    </a:gdLst>
                    <a:ahLst/>
                    <a:rect l="textAreaLeft" t="textAreaTop" r="textAreaRight" b="textAreaBottom"/>
                    <a:pathLst>
                      <a:path w="97" h="245">
                        <a:moveTo>
                          <a:pt x="25" y="0"/>
                        </a:moveTo>
                        <a:lnTo>
                          <a:pt x="0" y="71"/>
                        </a:lnTo>
                        <a:lnTo>
                          <a:pt x="0" y="139"/>
                        </a:lnTo>
                        <a:lnTo>
                          <a:pt x="13" y="220"/>
                        </a:lnTo>
                        <a:lnTo>
                          <a:pt x="25" y="245"/>
                        </a:lnTo>
                        <a:lnTo>
                          <a:pt x="90" y="197"/>
                        </a:lnTo>
                        <a:lnTo>
                          <a:pt x="64" y="122"/>
                        </a:lnTo>
                        <a:lnTo>
                          <a:pt x="73" y="46"/>
                        </a:lnTo>
                        <a:lnTo>
                          <a:pt x="97" y="11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Freeform 1084"/>
                  <p:cNvSpPr/>
                  <p:nvPr/>
                </p:nvSpPr>
                <p:spPr>
                  <a:xfrm>
                    <a:off x="8606880" y="1074960"/>
                    <a:ext cx="46800" cy="79200"/>
                  </a:xfrm>
                  <a:custGeom>
                    <a:avLst/>
                    <a:gdLst>
                      <a:gd name="textAreaLeft" fmla="*/ 0 w 46800"/>
                      <a:gd name="textAreaRight" fmla="*/ 47160 w 46800"/>
                      <a:gd name="textAreaTop" fmla="*/ 0 h 79200"/>
                      <a:gd name="textAreaBottom" fmla="*/ 79560 h 79200"/>
                    </a:gdLst>
                    <a:ahLst/>
                    <a:rect l="textAreaLeft" t="textAreaTop" r="textAreaRight" b="textAreaBottom"/>
                    <a:pathLst>
                      <a:path w="100" h="189">
                        <a:moveTo>
                          <a:pt x="25" y="0"/>
                        </a:moveTo>
                        <a:lnTo>
                          <a:pt x="0" y="63"/>
                        </a:lnTo>
                        <a:lnTo>
                          <a:pt x="0" y="128"/>
                        </a:lnTo>
                        <a:lnTo>
                          <a:pt x="25" y="176"/>
                        </a:lnTo>
                        <a:lnTo>
                          <a:pt x="100" y="189"/>
                        </a:lnTo>
                        <a:lnTo>
                          <a:pt x="71" y="144"/>
                        </a:lnTo>
                        <a:lnTo>
                          <a:pt x="75" y="75"/>
                        </a:lnTo>
                        <a:lnTo>
                          <a:pt x="100" y="25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1085"/>
                  <p:cNvSpPr/>
                  <p:nvPr/>
                </p:nvSpPr>
                <p:spPr>
                  <a:xfrm>
                    <a:off x="8683920" y="1100880"/>
                    <a:ext cx="36360" cy="7020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70200"/>
                      <a:gd name="textAreaBottom" fmla="*/ 70560 h 70200"/>
                    </a:gdLst>
                    <a:ahLst/>
                    <a:rect l="textAreaLeft" t="textAreaTop" r="textAreaRight" b="textAreaBottom"/>
                    <a:pathLst>
                      <a:path w="77" h="165">
                        <a:moveTo>
                          <a:pt x="17" y="0"/>
                        </a:moveTo>
                        <a:lnTo>
                          <a:pt x="0" y="35"/>
                        </a:lnTo>
                        <a:lnTo>
                          <a:pt x="0" y="99"/>
                        </a:lnTo>
                        <a:lnTo>
                          <a:pt x="11" y="149"/>
                        </a:lnTo>
                        <a:lnTo>
                          <a:pt x="77" y="165"/>
                        </a:lnTo>
                        <a:lnTo>
                          <a:pt x="50" y="114"/>
                        </a:lnTo>
                        <a:lnTo>
                          <a:pt x="50" y="60"/>
                        </a:lnTo>
                        <a:lnTo>
                          <a:pt x="66" y="1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560" y="428400"/>
            <a:ext cx="5761080" cy="703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ffffff"/>
                </a:solidFill>
                <a:latin typeface="Verdana"/>
              </a:rPr>
              <a:t>Perguntas e respost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7120" y="16430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Nunca inicie uma explicação sem estar certo de que compreendeu a pergunta. 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Repetir a pergunta e ouvi-la de sua própria voz o acalmará e você estará respondendo de modo que todos o compreendam.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Satisfaça a pessoa que pergunta. Nunca termine uma resposta com “Isso responde à sua pergunta?”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Uma vez ou outra, uma pergunta hostil será lançada no seu caminho. Seja cortês. 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Nunca, sob qualquer circunstância, se torne agressivo, nervoso ou impositivo. As pessoas apreciam as boas maneiras. 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Espaço Reservado para Número de Slide 4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20FB-DE27-4B88-90F1-CAB7E184E6A7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ço Reservado para Rodapé 2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116000" y="333360"/>
            <a:ext cx="7745400" cy="581400"/>
          </a:xfrm>
          <a:prstGeom prst="rect">
            <a:avLst/>
          </a:prstGeom>
          <a:solidFill>
            <a:srgbClr val="5b5b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ffffff"/>
                </a:solidFill>
                <a:latin typeface="Verdana"/>
              </a:rPr>
              <a:t>Como perguntar eficaz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9"/>
          <p:cNvSpPr/>
          <p:nvPr/>
        </p:nvSpPr>
        <p:spPr>
          <a:xfrm>
            <a:off x="1828800" y="2924280"/>
            <a:ext cx="624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1"/>
          <p:cNvSpPr/>
          <p:nvPr/>
        </p:nvSpPr>
        <p:spPr>
          <a:xfrm>
            <a:off x="2819520" y="227808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 2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1143000" y="2467080"/>
            <a:ext cx="701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3"/>
          <p:cNvSpPr/>
          <p:nvPr/>
        </p:nvSpPr>
        <p:spPr>
          <a:xfrm>
            <a:off x="428760" y="1714680"/>
            <a:ext cx="8353440" cy="39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Use um tom de voz que demonst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  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interesse e aten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Faça uma pergunta de cada vez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Use - então? - E? - Ah 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Faça a mesma pergunta de diferentes maneir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Evite o mesmo tipo de pergunt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Procure envolver diferentes participantes com as per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050"/>
          <p:cNvGrpSpPr/>
          <p:nvPr/>
        </p:nvGrpSpPr>
        <p:grpSpPr>
          <a:xfrm>
            <a:off x="7308720" y="1197000"/>
            <a:ext cx="1580400" cy="1595520"/>
            <a:chOff x="7308720" y="1197000"/>
            <a:chExt cx="1580400" cy="1595520"/>
          </a:xfrm>
        </p:grpSpPr>
        <p:grpSp>
          <p:nvGrpSpPr>
            <p:cNvPr id="201" name="Group 1051"/>
            <p:cNvGrpSpPr/>
            <p:nvPr/>
          </p:nvGrpSpPr>
          <p:grpSpPr>
            <a:xfrm>
              <a:off x="8147520" y="1251720"/>
              <a:ext cx="741600" cy="1518120"/>
              <a:chOff x="8147520" y="1251720"/>
              <a:chExt cx="741600" cy="1518120"/>
            </a:xfrm>
          </p:grpSpPr>
          <p:sp>
            <p:nvSpPr>
              <p:cNvPr id="202" name="Freeform 1052"/>
              <p:cNvSpPr/>
              <p:nvPr/>
            </p:nvSpPr>
            <p:spPr>
              <a:xfrm>
                <a:off x="8147520" y="1716480"/>
                <a:ext cx="290520" cy="51696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505" h="835">
                    <a:moveTo>
                      <a:pt x="267" y="124"/>
                    </a:moveTo>
                    <a:lnTo>
                      <a:pt x="319" y="72"/>
                    </a:lnTo>
                    <a:lnTo>
                      <a:pt x="392" y="21"/>
                    </a:lnTo>
                    <a:lnTo>
                      <a:pt x="443" y="0"/>
                    </a:lnTo>
                    <a:lnTo>
                      <a:pt x="505" y="4"/>
                    </a:lnTo>
                    <a:lnTo>
                      <a:pt x="505" y="52"/>
                    </a:lnTo>
                    <a:lnTo>
                      <a:pt x="474" y="93"/>
                    </a:lnTo>
                    <a:lnTo>
                      <a:pt x="416" y="124"/>
                    </a:lnTo>
                    <a:lnTo>
                      <a:pt x="271" y="190"/>
                    </a:lnTo>
                    <a:lnTo>
                      <a:pt x="133" y="269"/>
                    </a:lnTo>
                    <a:lnTo>
                      <a:pt x="75" y="289"/>
                    </a:lnTo>
                    <a:lnTo>
                      <a:pt x="55" y="320"/>
                    </a:lnTo>
                    <a:lnTo>
                      <a:pt x="75" y="351"/>
                    </a:lnTo>
                    <a:lnTo>
                      <a:pt x="195" y="467"/>
                    </a:lnTo>
                    <a:lnTo>
                      <a:pt x="250" y="505"/>
                    </a:lnTo>
                    <a:lnTo>
                      <a:pt x="332" y="570"/>
                    </a:lnTo>
                    <a:lnTo>
                      <a:pt x="416" y="632"/>
                    </a:lnTo>
                    <a:lnTo>
                      <a:pt x="412" y="663"/>
                    </a:lnTo>
                    <a:lnTo>
                      <a:pt x="350" y="673"/>
                    </a:lnTo>
                    <a:lnTo>
                      <a:pt x="257" y="673"/>
                    </a:lnTo>
                    <a:lnTo>
                      <a:pt x="199" y="704"/>
                    </a:lnTo>
                    <a:lnTo>
                      <a:pt x="178" y="783"/>
                    </a:lnTo>
                    <a:lnTo>
                      <a:pt x="178" y="825"/>
                    </a:lnTo>
                    <a:lnTo>
                      <a:pt x="154" y="835"/>
                    </a:lnTo>
                    <a:lnTo>
                      <a:pt x="116" y="797"/>
                    </a:lnTo>
                    <a:lnTo>
                      <a:pt x="123" y="731"/>
                    </a:lnTo>
                    <a:lnTo>
                      <a:pt x="157" y="683"/>
                    </a:lnTo>
                    <a:lnTo>
                      <a:pt x="226" y="642"/>
                    </a:lnTo>
                    <a:lnTo>
                      <a:pt x="301" y="622"/>
                    </a:lnTo>
                    <a:lnTo>
                      <a:pt x="308" y="601"/>
                    </a:lnTo>
                    <a:lnTo>
                      <a:pt x="271" y="560"/>
                    </a:lnTo>
                    <a:lnTo>
                      <a:pt x="113" y="457"/>
                    </a:lnTo>
                    <a:lnTo>
                      <a:pt x="65" y="416"/>
                    </a:lnTo>
                    <a:lnTo>
                      <a:pt x="20" y="361"/>
                    </a:lnTo>
                    <a:lnTo>
                      <a:pt x="0" y="299"/>
                    </a:lnTo>
                    <a:lnTo>
                      <a:pt x="13" y="262"/>
                    </a:lnTo>
                    <a:lnTo>
                      <a:pt x="92" y="238"/>
                    </a:lnTo>
                    <a:lnTo>
                      <a:pt x="188" y="197"/>
                    </a:lnTo>
                    <a:lnTo>
                      <a:pt x="250" y="154"/>
                    </a:lnTo>
                    <a:lnTo>
                      <a:pt x="267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053"/>
              <p:cNvSpPr/>
              <p:nvPr/>
            </p:nvSpPr>
            <p:spPr>
              <a:xfrm>
                <a:off x="8406360" y="1693800"/>
                <a:ext cx="201600" cy="49464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494640"/>
                  <a:gd name="textAreaBottom" fmla="*/ 495000 h 494640"/>
                </a:gdLst>
                <a:ahLst/>
                <a:rect l="textAreaLeft" t="textAreaTop" r="textAreaRight" b="textAreaBottom"/>
                <a:pathLst>
                  <a:path w="351" h="799">
                    <a:moveTo>
                      <a:pt x="75" y="61"/>
                    </a:moveTo>
                    <a:lnTo>
                      <a:pt x="106" y="10"/>
                    </a:lnTo>
                    <a:lnTo>
                      <a:pt x="144" y="0"/>
                    </a:lnTo>
                    <a:lnTo>
                      <a:pt x="196" y="0"/>
                    </a:lnTo>
                    <a:lnTo>
                      <a:pt x="261" y="37"/>
                    </a:lnTo>
                    <a:lnTo>
                      <a:pt x="302" y="120"/>
                    </a:lnTo>
                    <a:lnTo>
                      <a:pt x="333" y="227"/>
                    </a:lnTo>
                    <a:lnTo>
                      <a:pt x="351" y="336"/>
                    </a:lnTo>
                    <a:lnTo>
                      <a:pt x="351" y="484"/>
                    </a:lnTo>
                    <a:lnTo>
                      <a:pt x="313" y="645"/>
                    </a:lnTo>
                    <a:lnTo>
                      <a:pt x="258" y="740"/>
                    </a:lnTo>
                    <a:lnTo>
                      <a:pt x="185" y="788"/>
                    </a:lnTo>
                    <a:lnTo>
                      <a:pt x="117" y="799"/>
                    </a:lnTo>
                    <a:lnTo>
                      <a:pt x="65" y="768"/>
                    </a:lnTo>
                    <a:lnTo>
                      <a:pt x="24" y="730"/>
                    </a:lnTo>
                    <a:lnTo>
                      <a:pt x="13" y="669"/>
                    </a:lnTo>
                    <a:lnTo>
                      <a:pt x="0" y="552"/>
                    </a:lnTo>
                    <a:lnTo>
                      <a:pt x="10" y="408"/>
                    </a:lnTo>
                    <a:lnTo>
                      <a:pt x="41" y="258"/>
                    </a:lnTo>
                    <a:lnTo>
                      <a:pt x="61" y="150"/>
                    </a:lnTo>
                    <a:lnTo>
                      <a:pt x="7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054"/>
              <p:cNvSpPr/>
              <p:nvPr/>
            </p:nvSpPr>
            <p:spPr>
              <a:xfrm>
                <a:off x="8462160" y="2124000"/>
                <a:ext cx="117720" cy="64584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645840"/>
                  <a:gd name="textAreaBottom" fmla="*/ 646200 h 645840"/>
                </a:gdLst>
                <a:ahLst/>
                <a:rect l="textAreaLeft" t="textAreaTop" r="textAreaRight" b="textAreaBottom"/>
                <a:pathLst>
                  <a:path w="205" h="1043">
                    <a:moveTo>
                      <a:pt x="99" y="185"/>
                    </a:moveTo>
                    <a:lnTo>
                      <a:pt x="71" y="116"/>
                    </a:lnTo>
                    <a:lnTo>
                      <a:pt x="71" y="41"/>
                    </a:lnTo>
                    <a:lnTo>
                      <a:pt x="109" y="0"/>
                    </a:lnTo>
                    <a:lnTo>
                      <a:pt x="153" y="20"/>
                    </a:lnTo>
                    <a:lnTo>
                      <a:pt x="184" y="92"/>
                    </a:lnTo>
                    <a:lnTo>
                      <a:pt x="201" y="216"/>
                    </a:lnTo>
                    <a:lnTo>
                      <a:pt x="205" y="370"/>
                    </a:lnTo>
                    <a:lnTo>
                      <a:pt x="194" y="504"/>
                    </a:lnTo>
                    <a:lnTo>
                      <a:pt x="174" y="648"/>
                    </a:lnTo>
                    <a:lnTo>
                      <a:pt x="174" y="823"/>
                    </a:lnTo>
                    <a:lnTo>
                      <a:pt x="201" y="895"/>
                    </a:lnTo>
                    <a:lnTo>
                      <a:pt x="191" y="929"/>
                    </a:lnTo>
                    <a:lnTo>
                      <a:pt x="143" y="940"/>
                    </a:lnTo>
                    <a:lnTo>
                      <a:pt x="92" y="988"/>
                    </a:lnTo>
                    <a:lnTo>
                      <a:pt x="68" y="1029"/>
                    </a:lnTo>
                    <a:lnTo>
                      <a:pt x="10" y="1043"/>
                    </a:lnTo>
                    <a:lnTo>
                      <a:pt x="0" y="998"/>
                    </a:lnTo>
                    <a:lnTo>
                      <a:pt x="20" y="960"/>
                    </a:lnTo>
                    <a:lnTo>
                      <a:pt x="92" y="929"/>
                    </a:lnTo>
                    <a:lnTo>
                      <a:pt x="143" y="906"/>
                    </a:lnTo>
                    <a:lnTo>
                      <a:pt x="160" y="885"/>
                    </a:lnTo>
                    <a:lnTo>
                      <a:pt x="140" y="827"/>
                    </a:lnTo>
                    <a:lnTo>
                      <a:pt x="123" y="709"/>
                    </a:lnTo>
                    <a:lnTo>
                      <a:pt x="119" y="569"/>
                    </a:lnTo>
                    <a:lnTo>
                      <a:pt x="123" y="476"/>
                    </a:lnTo>
                    <a:lnTo>
                      <a:pt x="129" y="350"/>
                    </a:lnTo>
                    <a:lnTo>
                      <a:pt x="119" y="237"/>
                    </a:lnTo>
                    <a:lnTo>
                      <a:pt x="99" y="1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055"/>
              <p:cNvSpPr/>
              <p:nvPr/>
            </p:nvSpPr>
            <p:spPr>
              <a:xfrm>
                <a:off x="8296200" y="2125080"/>
                <a:ext cx="183960" cy="64368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643680"/>
                  <a:gd name="textAreaBottom" fmla="*/ 644040 h 643680"/>
                </a:gdLst>
                <a:ahLst/>
                <a:rect l="textAreaLeft" t="textAreaTop" r="textAreaRight" b="textAreaBottom"/>
                <a:pathLst>
                  <a:path w="320" h="1040">
                    <a:moveTo>
                      <a:pt x="197" y="96"/>
                    </a:moveTo>
                    <a:lnTo>
                      <a:pt x="231" y="31"/>
                    </a:lnTo>
                    <a:lnTo>
                      <a:pt x="272" y="0"/>
                    </a:lnTo>
                    <a:lnTo>
                      <a:pt x="320" y="20"/>
                    </a:lnTo>
                    <a:lnTo>
                      <a:pt x="313" y="82"/>
                    </a:lnTo>
                    <a:lnTo>
                      <a:pt x="282" y="126"/>
                    </a:lnTo>
                    <a:lnTo>
                      <a:pt x="221" y="237"/>
                    </a:lnTo>
                    <a:lnTo>
                      <a:pt x="180" y="343"/>
                    </a:lnTo>
                    <a:lnTo>
                      <a:pt x="156" y="456"/>
                    </a:lnTo>
                    <a:lnTo>
                      <a:pt x="159" y="566"/>
                    </a:lnTo>
                    <a:lnTo>
                      <a:pt x="197" y="713"/>
                    </a:lnTo>
                    <a:lnTo>
                      <a:pt x="228" y="855"/>
                    </a:lnTo>
                    <a:lnTo>
                      <a:pt x="272" y="916"/>
                    </a:lnTo>
                    <a:lnTo>
                      <a:pt x="269" y="951"/>
                    </a:lnTo>
                    <a:lnTo>
                      <a:pt x="231" y="968"/>
                    </a:lnTo>
                    <a:lnTo>
                      <a:pt x="145" y="981"/>
                    </a:lnTo>
                    <a:lnTo>
                      <a:pt x="84" y="1019"/>
                    </a:lnTo>
                    <a:lnTo>
                      <a:pt x="52" y="1040"/>
                    </a:lnTo>
                    <a:lnTo>
                      <a:pt x="0" y="992"/>
                    </a:lnTo>
                    <a:lnTo>
                      <a:pt x="11" y="961"/>
                    </a:lnTo>
                    <a:lnTo>
                      <a:pt x="62" y="940"/>
                    </a:lnTo>
                    <a:lnTo>
                      <a:pt x="128" y="930"/>
                    </a:lnTo>
                    <a:lnTo>
                      <a:pt x="190" y="930"/>
                    </a:lnTo>
                    <a:lnTo>
                      <a:pt x="200" y="910"/>
                    </a:lnTo>
                    <a:lnTo>
                      <a:pt x="190" y="875"/>
                    </a:lnTo>
                    <a:lnTo>
                      <a:pt x="138" y="741"/>
                    </a:lnTo>
                    <a:lnTo>
                      <a:pt x="104" y="610"/>
                    </a:lnTo>
                    <a:lnTo>
                      <a:pt x="87" y="515"/>
                    </a:lnTo>
                    <a:lnTo>
                      <a:pt x="84" y="426"/>
                    </a:lnTo>
                    <a:lnTo>
                      <a:pt x="97" y="340"/>
                    </a:lnTo>
                    <a:lnTo>
                      <a:pt x="128" y="251"/>
                    </a:lnTo>
                    <a:lnTo>
                      <a:pt x="176" y="133"/>
                    </a:lnTo>
                    <a:lnTo>
                      <a:pt x="197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056"/>
              <p:cNvSpPr/>
              <p:nvPr/>
            </p:nvSpPr>
            <p:spPr>
              <a:xfrm>
                <a:off x="8331480" y="1322640"/>
                <a:ext cx="236880" cy="336240"/>
              </a:xfrm>
              <a:custGeom>
                <a:avLst/>
                <a:gdLst>
                  <a:gd name="textAreaLeft" fmla="*/ 0 w 236880"/>
                  <a:gd name="textAreaRight" fmla="*/ 237240 w 236880"/>
                  <a:gd name="textAreaTop" fmla="*/ 0 h 336240"/>
                  <a:gd name="textAreaBottom" fmla="*/ 336600 h 336240"/>
                </a:gdLst>
                <a:ahLst/>
                <a:rect l="textAreaLeft" t="textAreaTop" r="textAreaRight" b="textAreaBottom"/>
                <a:pathLst>
                  <a:path w="412" h="543">
                    <a:moveTo>
                      <a:pt x="151" y="454"/>
                    </a:moveTo>
                    <a:lnTo>
                      <a:pt x="182" y="522"/>
                    </a:lnTo>
                    <a:lnTo>
                      <a:pt x="254" y="543"/>
                    </a:lnTo>
                    <a:lnTo>
                      <a:pt x="316" y="536"/>
                    </a:lnTo>
                    <a:lnTo>
                      <a:pt x="367" y="492"/>
                    </a:lnTo>
                    <a:lnTo>
                      <a:pt x="408" y="402"/>
                    </a:lnTo>
                    <a:lnTo>
                      <a:pt x="412" y="296"/>
                    </a:lnTo>
                    <a:lnTo>
                      <a:pt x="398" y="203"/>
                    </a:lnTo>
                    <a:lnTo>
                      <a:pt x="340" y="99"/>
                    </a:lnTo>
                    <a:lnTo>
                      <a:pt x="298" y="51"/>
                    </a:lnTo>
                    <a:lnTo>
                      <a:pt x="254" y="21"/>
                    </a:lnTo>
                    <a:lnTo>
                      <a:pt x="213" y="0"/>
                    </a:lnTo>
                    <a:lnTo>
                      <a:pt x="141" y="7"/>
                    </a:lnTo>
                    <a:lnTo>
                      <a:pt x="103" y="69"/>
                    </a:lnTo>
                    <a:lnTo>
                      <a:pt x="83" y="134"/>
                    </a:lnTo>
                    <a:lnTo>
                      <a:pt x="83" y="238"/>
                    </a:lnTo>
                    <a:lnTo>
                      <a:pt x="100" y="337"/>
                    </a:lnTo>
                    <a:lnTo>
                      <a:pt x="120" y="392"/>
                    </a:lnTo>
                    <a:lnTo>
                      <a:pt x="6" y="474"/>
                    </a:lnTo>
                    <a:lnTo>
                      <a:pt x="0" y="505"/>
                    </a:lnTo>
                    <a:lnTo>
                      <a:pt x="17" y="522"/>
                    </a:lnTo>
                    <a:lnTo>
                      <a:pt x="141" y="430"/>
                    </a:lnTo>
                    <a:lnTo>
                      <a:pt x="151" y="4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057"/>
              <p:cNvSpPr/>
              <p:nvPr/>
            </p:nvSpPr>
            <p:spPr>
              <a:xfrm>
                <a:off x="8418240" y="1251720"/>
                <a:ext cx="470880" cy="56196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561960"/>
                  <a:gd name="textAreaBottom" fmla="*/ 562320 h 561960"/>
                </a:gdLst>
                <a:ahLst/>
                <a:rect l="textAreaLeft" t="textAreaTop" r="textAreaRight" b="textAreaBottom"/>
                <a:pathLst>
                  <a:path w="819" h="908">
                    <a:moveTo>
                      <a:pt x="545" y="628"/>
                    </a:moveTo>
                    <a:lnTo>
                      <a:pt x="504" y="669"/>
                    </a:lnTo>
                    <a:lnTo>
                      <a:pt x="417" y="720"/>
                    </a:lnTo>
                    <a:lnTo>
                      <a:pt x="339" y="751"/>
                    </a:lnTo>
                    <a:lnTo>
                      <a:pt x="284" y="782"/>
                    </a:lnTo>
                    <a:lnTo>
                      <a:pt x="232" y="823"/>
                    </a:lnTo>
                    <a:lnTo>
                      <a:pt x="226" y="895"/>
                    </a:lnTo>
                    <a:lnTo>
                      <a:pt x="277" y="908"/>
                    </a:lnTo>
                    <a:lnTo>
                      <a:pt x="407" y="833"/>
                    </a:lnTo>
                    <a:lnTo>
                      <a:pt x="504" y="744"/>
                    </a:lnTo>
                    <a:lnTo>
                      <a:pt x="617" y="631"/>
                    </a:lnTo>
                    <a:lnTo>
                      <a:pt x="709" y="559"/>
                    </a:lnTo>
                    <a:lnTo>
                      <a:pt x="788" y="504"/>
                    </a:lnTo>
                    <a:lnTo>
                      <a:pt x="819" y="477"/>
                    </a:lnTo>
                    <a:lnTo>
                      <a:pt x="808" y="443"/>
                    </a:lnTo>
                    <a:lnTo>
                      <a:pt x="771" y="395"/>
                    </a:lnTo>
                    <a:lnTo>
                      <a:pt x="634" y="320"/>
                    </a:lnTo>
                    <a:lnTo>
                      <a:pt x="504" y="250"/>
                    </a:lnTo>
                    <a:lnTo>
                      <a:pt x="345" y="178"/>
                    </a:lnTo>
                    <a:lnTo>
                      <a:pt x="287" y="137"/>
                    </a:lnTo>
                    <a:lnTo>
                      <a:pt x="226" y="82"/>
                    </a:lnTo>
                    <a:lnTo>
                      <a:pt x="164" y="21"/>
                    </a:lnTo>
                    <a:lnTo>
                      <a:pt x="109" y="0"/>
                    </a:lnTo>
                    <a:lnTo>
                      <a:pt x="0" y="76"/>
                    </a:lnTo>
                    <a:lnTo>
                      <a:pt x="7" y="147"/>
                    </a:lnTo>
                    <a:lnTo>
                      <a:pt x="27" y="175"/>
                    </a:lnTo>
                    <a:lnTo>
                      <a:pt x="82" y="164"/>
                    </a:lnTo>
                    <a:lnTo>
                      <a:pt x="72" y="134"/>
                    </a:lnTo>
                    <a:lnTo>
                      <a:pt x="51" y="123"/>
                    </a:lnTo>
                    <a:lnTo>
                      <a:pt x="41" y="86"/>
                    </a:lnTo>
                    <a:lnTo>
                      <a:pt x="102" y="45"/>
                    </a:lnTo>
                    <a:lnTo>
                      <a:pt x="154" y="86"/>
                    </a:lnTo>
                    <a:lnTo>
                      <a:pt x="154" y="123"/>
                    </a:lnTo>
                    <a:lnTo>
                      <a:pt x="133" y="168"/>
                    </a:lnTo>
                    <a:lnTo>
                      <a:pt x="150" y="199"/>
                    </a:lnTo>
                    <a:lnTo>
                      <a:pt x="253" y="226"/>
                    </a:lnTo>
                    <a:lnTo>
                      <a:pt x="294" y="188"/>
                    </a:lnTo>
                    <a:lnTo>
                      <a:pt x="431" y="271"/>
                    </a:lnTo>
                    <a:lnTo>
                      <a:pt x="545" y="323"/>
                    </a:lnTo>
                    <a:lnTo>
                      <a:pt x="607" y="354"/>
                    </a:lnTo>
                    <a:lnTo>
                      <a:pt x="668" y="385"/>
                    </a:lnTo>
                    <a:lnTo>
                      <a:pt x="716" y="426"/>
                    </a:lnTo>
                    <a:lnTo>
                      <a:pt x="747" y="467"/>
                    </a:lnTo>
                    <a:lnTo>
                      <a:pt x="719" y="497"/>
                    </a:lnTo>
                    <a:lnTo>
                      <a:pt x="654" y="539"/>
                    </a:lnTo>
                    <a:lnTo>
                      <a:pt x="586" y="586"/>
                    </a:lnTo>
                    <a:lnTo>
                      <a:pt x="545" y="6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058"/>
            <p:cNvGrpSpPr/>
            <p:nvPr/>
          </p:nvGrpSpPr>
          <p:grpSpPr>
            <a:xfrm>
              <a:off x="7308720" y="1197000"/>
              <a:ext cx="759600" cy="1595520"/>
              <a:chOff x="7308720" y="1197000"/>
              <a:chExt cx="759600" cy="1595520"/>
            </a:xfrm>
          </p:grpSpPr>
          <p:sp>
            <p:nvSpPr>
              <p:cNvPr id="209" name="Freeform 1059"/>
              <p:cNvSpPr/>
              <p:nvPr/>
            </p:nvSpPr>
            <p:spPr>
              <a:xfrm>
                <a:off x="7550640" y="1286280"/>
                <a:ext cx="297360" cy="34812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060"/>
              <p:cNvSpPr/>
              <p:nvPr/>
            </p:nvSpPr>
            <p:spPr>
              <a:xfrm>
                <a:off x="7308720" y="1197000"/>
                <a:ext cx="342360" cy="558360"/>
              </a:xfrm>
              <a:custGeom>
                <a:avLst/>
                <a:gdLst>
                  <a:gd name="textAreaLeft" fmla="*/ 0 w 342360"/>
                  <a:gd name="textAreaRight" fmla="*/ 342720 w 342360"/>
                  <a:gd name="textAreaTop" fmla="*/ 0 h 558360"/>
                  <a:gd name="textAreaBottom" fmla="*/ 558720 h 558360"/>
                </a:gdLst>
                <a:ahLst/>
                <a:rect l="textAreaLeft" t="textAreaTop" r="textAreaRight" b="textAreaBottom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061"/>
              <p:cNvSpPr/>
              <p:nvPr/>
            </p:nvSpPr>
            <p:spPr>
              <a:xfrm>
                <a:off x="7631280" y="1659960"/>
                <a:ext cx="178920" cy="524160"/>
              </a:xfrm>
              <a:custGeom>
                <a:avLst/>
                <a:gdLst>
                  <a:gd name="textAreaLeft" fmla="*/ 0 w 178920"/>
                  <a:gd name="textAreaRight" fmla="*/ 178920 w 178920"/>
                  <a:gd name="textAreaTop" fmla="*/ 0 h 524160"/>
                  <a:gd name="textAreaBottom" fmla="*/ 524520 h 524160"/>
                </a:gdLst>
                <a:ahLst/>
                <a:rect l="textAreaLeft" t="textAreaTop" r="textAreaRight" b="textAreaBottom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062"/>
              <p:cNvSpPr/>
              <p:nvPr/>
            </p:nvSpPr>
            <p:spPr>
              <a:xfrm>
                <a:off x="7714080" y="1674360"/>
                <a:ext cx="273240" cy="402480"/>
              </a:xfrm>
              <a:custGeom>
                <a:avLst/>
                <a:gdLst>
                  <a:gd name="textAreaLeft" fmla="*/ 0 w 273240"/>
                  <a:gd name="textAreaRight" fmla="*/ 273600 w 273240"/>
                  <a:gd name="textAreaTop" fmla="*/ 0 h 402480"/>
                  <a:gd name="textAreaBottom" fmla="*/ 402840 h 402480"/>
                </a:gdLst>
                <a:ahLst/>
                <a:rect l="textAreaLeft" t="textAreaTop" r="textAreaRight" b="textAreaBottom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063"/>
              <p:cNvSpPr/>
              <p:nvPr/>
            </p:nvSpPr>
            <p:spPr>
              <a:xfrm>
                <a:off x="7735680" y="2130840"/>
                <a:ext cx="332640" cy="650520"/>
              </a:xfrm>
              <a:custGeom>
                <a:avLst/>
                <a:gdLst>
                  <a:gd name="textAreaLeft" fmla="*/ 0 w 332640"/>
                  <a:gd name="textAreaRight" fmla="*/ 333000 w 332640"/>
                  <a:gd name="textAreaTop" fmla="*/ 0 h 650520"/>
                  <a:gd name="textAreaBottom" fmla="*/ 650880 h 650520"/>
                </a:gdLst>
                <a:ahLst/>
                <a:rect l="textAreaLeft" t="textAreaTop" r="textAreaRight" b="textAreaBottom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064"/>
              <p:cNvSpPr/>
              <p:nvPr/>
            </p:nvSpPr>
            <p:spPr>
              <a:xfrm>
                <a:off x="7526520" y="2129400"/>
                <a:ext cx="223920" cy="66312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663120"/>
                  <a:gd name="textAreaBottom" fmla="*/ 663480 h 663120"/>
                </a:gdLst>
                <a:ahLst/>
                <a:rect l="textAreaLeft" t="textAreaTop" r="textAreaRight" b="textAreaBottom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Espaço Reservado para Número de Slide 2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5BC8-079B-44E5-8D08-A326099D8F8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ço Reservado para Rodapé 2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O termo orientação para a saúde está mais voltado para o dar informação, ensinar, tornar o conhecimento accessível as pessoa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O termo educação para a saúde é mais amplo, pois se compromete com a aprendizagem em si, com a mudança de comportament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Há quem considere informação, orientação e educação para a saúde a mesma cois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6F69-48FA-4F29-98F0-7C94B6354FD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46DC-4572-4C57-AAE5-77804EC6D3A0}" type="slidenum">
              <a:rPr b="0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328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s 3 maneiras de fazer perguntas para um grupo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4582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Faça pergunta ao grupo como um tod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Chame o nome de um participante antes de fazer a pergunt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Ponha a questão e em seguida dirija a pergunta ao participante específic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Evite usar um só maneira de fazer perguntas – UTILIZE SEMPRE AS 3 TÉCNI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sso ajudará a manter a atenção do grupo e promover uma participação diversifica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0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C3E4-F91D-4B8C-AA07-611A858C7FAC}" type="slidenum">
              <a:rPr b="0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o responder eficazm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38224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Responda à pergunta com objetividad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Responda com outra pergunt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  <a:ea typeface="Arial"/>
              </a:rPr>
              <a:t>Quando não for capaz de responder a uma pergunta, reconheça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Procure a resposta e comunique-a na sessão seguinte, quando houve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Estimule o grupo e o participante que fez a pergunta a buscar  a respost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ço Reservado para Rodapé 5"/>
          <p:cNvSpPr/>
          <p:nvPr/>
        </p:nvSpPr>
        <p:spPr>
          <a:xfrm>
            <a:off x="3635280" y="6237360"/>
            <a:ext cx="25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Verdana"/>
              </a:rPr>
              <a:t>Como  escutar com eficácia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403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Ter atenção para com 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Estabelecer contacto visu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Postura corporal relax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Usar palavras e sinais corporais de estímul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Evitar distrac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Não fazer outras acções simultaneam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Compreender os sentimentos d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Confirmar o que o utente ouviu, solicitando para o mesmo parafrase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Detectar preocupa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Evitar interromper o utente muitas vez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Fazer uma pergunta de cada vez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Usar perguntas abert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Não falar da sua própria histó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Espaço Reservado para Número de Slide 6"/>
          <p:cNvSpPr/>
          <p:nvPr/>
        </p:nvSpPr>
        <p:spPr>
          <a:xfrm>
            <a:off x="324000" y="6237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3986-8462-4AFA-A14C-C8BBDD56C2D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1840" y="189000"/>
            <a:ext cx="7921800" cy="806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ffff"/>
                </a:solidFill>
                <a:latin typeface="Verdana"/>
              </a:rPr>
              <a:t>Barreiras à escuta eficaz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214960" y="1356840"/>
            <a:ext cx="36432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Ruíd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Falta de clarez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Bloqueio emociona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Preconceitos e estereótip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Preocupação com a respost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Resistência às mudança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Pudor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Med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Temp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Falta de atenç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CaixaDeTexto 4"/>
          <p:cNvSpPr/>
          <p:nvPr/>
        </p:nvSpPr>
        <p:spPr>
          <a:xfrm>
            <a:off x="324000" y="1125360"/>
            <a:ext cx="471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São todos os factores que interferem no processo de comun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ço Reservado para Número de Slide 5"/>
          <p:cNvSpPr/>
          <p:nvPr/>
        </p:nvSpPr>
        <p:spPr>
          <a:xfrm>
            <a:off x="684360" y="6237360"/>
            <a:ext cx="502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99D1-9853-4254-9F6B-67A25BCCE9EE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http://t1.gstatic.com/images?q=tbn:M37ZptRx_lLB-M:http://www.massote.pro.br/wp-content/uploads/2009/01/barulho.JPG"/>
          <p:cNvPicPr/>
          <p:nvPr/>
        </p:nvPicPr>
        <p:blipFill>
          <a:blip r:embed="rId1"/>
          <a:stretch/>
        </p:blipFill>
        <p:spPr>
          <a:xfrm>
            <a:off x="326880" y="2781360"/>
            <a:ext cx="4641840" cy="3505320"/>
          </a:xfrm>
          <a:prstGeom prst="rect">
            <a:avLst/>
          </a:prstGeom>
          <a:ln w="0">
            <a:noFill/>
          </a:ln>
        </p:spPr>
      </p:pic>
      <p:sp>
        <p:nvSpPr>
          <p:cNvPr id="235" name="Espaço Reservado para Rodapé 5"/>
          <p:cNvSpPr/>
          <p:nvPr/>
        </p:nvSpPr>
        <p:spPr>
          <a:xfrm>
            <a:off x="3635280" y="6237360"/>
            <a:ext cx="25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467840" cy="797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rocesso de comunic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85480" y="1125360"/>
            <a:ext cx="48625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Voluntária ou involuntariamente estamos constantemente nos comunicando, mesmo sem fazer uso da palavr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Um simples gesto pode revelar algo para um observador aten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Nossa expressão corporal e gestual diz muito para um bom observado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Estamos a emitir e receber mensagens em todos os contactos que estabelecemos, formais ou n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8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1CE5-6FCE-4EBE-8A68-189D2B1E4F07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http://fotojornalismojf.files.wordpress.com/2007/09/42-16264702.jpg"/>
          <p:cNvPicPr/>
          <p:nvPr/>
        </p:nvPicPr>
        <p:blipFill>
          <a:blip r:embed="rId1"/>
          <a:stretch/>
        </p:blipFill>
        <p:spPr>
          <a:xfrm>
            <a:off x="5148360" y="1368360"/>
            <a:ext cx="3527280" cy="3589560"/>
          </a:xfrm>
          <a:prstGeom prst="rect">
            <a:avLst/>
          </a:prstGeom>
          <a:ln w="0">
            <a:noFill/>
          </a:ln>
        </p:spPr>
      </p:pic>
      <p:sp>
        <p:nvSpPr>
          <p:cNvPr id="240" name="CaixaDeTexto 7"/>
          <p:cNvSpPr/>
          <p:nvPr/>
        </p:nvSpPr>
        <p:spPr>
          <a:xfrm>
            <a:off x="5364000" y="494172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O que este gesto poderá estar  comunica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Espaço Reservado para Rodapé 5"/>
          <p:cNvSpPr/>
          <p:nvPr/>
        </p:nvSpPr>
        <p:spPr>
          <a:xfrm>
            <a:off x="3635280" y="6237360"/>
            <a:ext cx="25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ço Reservado para Rodapé 5"/>
          <p:cNvSpPr/>
          <p:nvPr/>
        </p:nvSpPr>
        <p:spPr>
          <a:xfrm>
            <a:off x="3203640" y="6237360"/>
            <a:ext cx="280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Orientação individual e grup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403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Individua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Confidenci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Para uma pessoa ou cas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Suscita emoções fortes no utente e profissio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Informação com enfoque para mudanças de atitudes e de comportament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6000" y="981000"/>
            <a:ext cx="403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Grupal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Não é confidenci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Pequenos ou grandes grup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Emocionalmente neutr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Generaliz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Informação usada para aumentar conhecimento, baseada nas necessidades gerais dos participa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Espaço Reservado para Número de Slide 6"/>
          <p:cNvSpPr/>
          <p:nvPr/>
        </p:nvSpPr>
        <p:spPr>
          <a:xfrm>
            <a:off x="611280" y="6237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1BE1-53EE-451B-9BCA-6EA6B2BC8E4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tângulo de cantos arredondados 7"/>
          <p:cNvSpPr/>
          <p:nvPr/>
        </p:nvSpPr>
        <p:spPr>
          <a:xfrm>
            <a:off x="1547640" y="5229360"/>
            <a:ext cx="6264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Vocês acham que uma substitui a ou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9" descr="http://www.eb23-cmdt-conceicao-silva.rcts.pt/J0288870.gif"/>
          <p:cNvPicPr/>
          <p:nvPr/>
        </p:nvPicPr>
        <p:blipFill>
          <a:blip r:embed="rId1"/>
          <a:stretch/>
        </p:blipFill>
        <p:spPr>
          <a:xfrm>
            <a:off x="7380360" y="5229360"/>
            <a:ext cx="466560" cy="61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Quando ori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8000" y="1773360"/>
            <a:ext cx="838188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  <a:ea typeface="Arial"/>
              </a:rPr>
              <a:t>O enfermeiro geral deve evitar oportunidades perdidas de dar orientação, ou seja, este orientará ao longo de suas atividades, continuamente em cada contato com o utent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  <a:ea typeface="Arial"/>
              </a:rPr>
              <a:t>Além disso poderá estabelecer planos de orientação para a saúde para grupos específicos ou para temas necessári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1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C5AF-1934-481B-BF72-712FE10BCA6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ço Reservado para Rodapé 4"/>
          <p:cNvSpPr/>
          <p:nvPr/>
        </p:nvSpPr>
        <p:spPr>
          <a:xfrm>
            <a:off x="3995640" y="6308640"/>
            <a:ext cx="302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2560" y="277920"/>
            <a:ext cx="7643880" cy="77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mbiente para dar orient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Deve ser confortável  e privativ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Iluminado, arejado, isento de barulho, limpo, disposição de cadeiras para todos os participantes (em círculo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Que não seja interrompido por telefone ou pela entrada de pessoas fora da atividad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6" name="Espaço Reservado para Número de Slide 5"/>
          <p:cNvSpPr/>
          <p:nvPr/>
        </p:nvSpPr>
        <p:spPr>
          <a:xfrm>
            <a:off x="755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7889-EDB1-4DA6-9048-F27FE4125C8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balho de grup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39640" y="2133720"/>
            <a:ext cx="8382240" cy="14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Vamos para a actividade de Desenvolvimento de habilidades e atitudes para dar orientação em saúde, individua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A99A-F6EB-4190-AEA8-BC1067F5B36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Laboratório Humanís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8000" y="2276640"/>
            <a:ext cx="8381880" cy="23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Vamos para a actividade de Desenvolvimento de habilidades e atitudes para aconselhar ou orientar para a saúde (atividade grupal)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DE21-5D7E-4BD9-8A98-308912CD506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4920" y="1988640"/>
            <a:ext cx="8497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A Educação para a Saúde é definida como fator de promoção e proteção à saúde e estratégia para a conquista dos direitos de cidadan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ssim, neste capítulo, teremos a intenção de discutir “Orientação para a saúde” nesse contexto mais amplo, participativo, crítico, capaz de gerar autonomia nos sujei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0020-438D-4440-B633-7D51345B82F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052280"/>
            <a:ext cx="859788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educação para a saúde não é tarefa fácil, devendo ser realizada por pessoas minimamente capacitadas, de modo a não ferir a integridade e a ética dos participa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sta pode ser desenvolvid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ara uma só pesso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08440" indent="-2214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nominado aconselhamento; orientação individu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m pequenos e grandes grup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08440" indent="-2214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nominado palestra, porém esse termo está em desuso por trazer um caráter unidirecio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m massa, por meio da mídia (rádio, jornal, revistas, televisão, internet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B81B-FD5E-42C8-B72D-637A116B0D6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ço Reservado para Rodapé 4"/>
          <p:cNvSpPr/>
          <p:nvPr/>
        </p:nvSpPr>
        <p:spPr>
          <a:xfrm>
            <a:off x="3635280" y="6237360"/>
            <a:ext cx="280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58196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O  que é o aconselhamento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68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É um diálogo confidencial  entre o profissional e o utente; É mais usado em caráter individual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Visa proporcionar à pessoa condições para avaliar os  seus próprios riscos, tomar decisões e encontrar maneiras realísticas de enfrentar os problemas relacionados à sua saúd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Verdana"/>
              </a:rPr>
              <a:t>                                                 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7d"/>
                </a:solidFill>
                <a:latin typeface="Verdana"/>
              </a:rPr>
              <a:t>                                      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Espaço Reservado para Número de Slide 5"/>
          <p:cNvSpPr/>
          <p:nvPr/>
        </p:nvSpPr>
        <p:spPr>
          <a:xfrm>
            <a:off x="539640" y="61657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1E02-39EB-4BD7-8E2A-94DA65922F7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cuidad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550880"/>
            <a:ext cx="386568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ço Reservado para Rodapé 4"/>
          <p:cNvSpPr/>
          <p:nvPr/>
        </p:nvSpPr>
        <p:spPr>
          <a:xfrm>
            <a:off x="3348000" y="6237360"/>
            <a:ext cx="3240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conselhar não signific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2163600"/>
            <a:ext cx="723276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Dar conselho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Dizer para alguém o que fazer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Apresentar solução para os problema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Fazer sermã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Interrogatório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Confissão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Espaço Reservado para Número de Slide 5"/>
          <p:cNvSpPr/>
          <p:nvPr/>
        </p:nvSpPr>
        <p:spPr>
          <a:xfrm>
            <a:off x="46836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E5B9-8AD7-4D03-8C64-F091367C929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Espaço Reservado para Rodapé 4"/>
          <p:cNvSpPr/>
          <p:nvPr/>
        </p:nvSpPr>
        <p:spPr>
          <a:xfrm>
            <a:off x="3708360" y="623736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85080" cy="86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conselhamento signif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Dar apoio emocional e orientar mediante demanda por informação para a saúd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Identificar e corrigir crenças ou mitos relacionados a percepção do problema de saúd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Ajudar na tomada de decisão em direcção a hábitos saudávei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Apoiar na elaboração de um plano de vida saudável e de redução de fatores de risc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Espaço Reservado para Número de Slide 5"/>
          <p:cNvSpPr/>
          <p:nvPr/>
        </p:nvSpPr>
        <p:spPr>
          <a:xfrm>
            <a:off x="46836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04CA-0A3D-43F9-961D-AC9313AB42F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ço Reservado para Rodapé 4"/>
          <p:cNvSpPr/>
          <p:nvPr/>
        </p:nvSpPr>
        <p:spPr>
          <a:xfrm>
            <a:off x="3635280" y="6237360"/>
            <a:ext cx="266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559640" cy="113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Conceitos chave em aconselhamen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740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Aceitação incondicional: capacidade que o profissional deve ter para aceitar o utente </a:t>
            </a:r>
            <a:r>
              <a:rPr b="1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sem julgar, criticar ou moralizar o comportamento dest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Empatia: processo por meio do qual o profissional é capaz de compreender sentimentos, experiências de uma pessoa e colocar-se no lugar del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Confidencialidade: sigilo ou garantia a não divulgação de informação sem o consentimento do utente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Espaço Reservado para Número de Slide 5"/>
          <p:cNvSpPr/>
          <p:nvPr/>
        </p:nvSpPr>
        <p:spPr>
          <a:xfrm>
            <a:off x="539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E9A8-2392-4F58-A3F1-577CC02100A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ço Reservado para Rodapé 4"/>
          <p:cNvSpPr/>
          <p:nvPr/>
        </p:nvSpPr>
        <p:spPr>
          <a:xfrm>
            <a:off x="3348000" y="6237360"/>
            <a:ext cx="280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ontos essenciais para quem realiza orientação em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Respeitar o utente como ser humano, mesmo não aprovando as suas acçõ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Compreender que cada indivíduo é único e diferente (Individualidade)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Não julgar ou criticar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Não dar simples garantias ao utente, pois este compreenderá que seus problemas foram minimizados e se tornará dependent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Não interromper o utente em demasia pois este poderá se sentir diminuíd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Não assumir que sabe o que o utente pensa (o profissional não pode querer ler a mente do utente).  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Espaço Reservado para Número de Slide 5"/>
          <p:cNvSpPr/>
          <p:nvPr/>
        </p:nvSpPr>
        <p:spPr>
          <a:xfrm>
            <a:off x="8269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9BA1-C5FE-4F23-B183-79B6047581C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0:44:40Z</dcterms:created>
  <dc:creator>Escolastica</dc:creator>
  <dc:description/>
  <dc:language>en-US</dc:language>
  <cp:lastModifiedBy>user</cp:lastModifiedBy>
  <dcterms:modified xsi:type="dcterms:W3CDTF">2011-09-29T10:33:29Z</dcterms:modified>
  <cp:revision>90</cp:revision>
  <dc:subject/>
  <dc:title>Slide 1</dc:title>
</cp:coreProperties>
</file>