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F668-4CFD-45C3-9969-23ED7678572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C624-2F44-4090-8D8A-F058E7E3AA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F3C95-78A8-45B7-8BD6-154ACD834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7D5C-C78D-40EF-AD0D-76EEA62CE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75BA-8515-47B1-AB4A-6E8471CEE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E8B0-6C95-4BBC-8DA0-474F9979E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0470-B12B-4930-8CA8-3E0FC8C6D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8361-6D7A-46AC-B4BD-C66F6BB2F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FE81D-F640-4147-B45C-069057A3C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31C7-C71A-4AE1-80C2-0605999CF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7AC3-44E4-46C2-B24D-B38C1B254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21253-63D4-47A9-B181-E66CBDC76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E40A-6A5D-42DD-95B5-A52C4F76E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BF9FA-C6D7-4ECC-86E7-BBF20C04B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A2C7-A5A1-4B80-B500-3CDD73259FE3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184464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uidados especiais a ter com idosos doentes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(Aula 2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292280"/>
            <a:ext cx="7543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CIDENTE VASCULAR CEREBRAL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D1A1-13BE-4649-A261-87D5E614A25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AVC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57360"/>
            <a:ext cx="8381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dar dinamismo às aulas, este conteúdo será desenvolvido por meio de estudo dirigido em pequenos grup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ssamos a leitura do artig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uação do enfermeiro ao paciente com acidente vascular cereb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22F2-1BCB-43D5-A26E-81F917251AD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CaixaDeTexto 5"/>
          <p:cNvSpPr/>
          <p:nvPr/>
        </p:nvSpPr>
        <p:spPr>
          <a:xfrm>
            <a:off x="1547640" y="4292640"/>
            <a:ext cx="655344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r com atenção, sublinhando os pontos relevantes, anotando comentários do grupo e eventuais dúvidas. Destaquem as particularidades do AVC em pessoas negr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ÂNCER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A63A-A3F9-40DA-B62D-8F732982428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67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consenso na literatura oncológica mundial de que a idade acima de 65 anos consiste num dos principais fatores de risco para o desenvolvimento do câncer (BALDUCCI, 2006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cesso de envelhecimento correlaciona-se à carcinogênese em razão das células senescentes apresentarem acúmulo de mutações no DNA nuclear e mitocondrial induzidas por agentes ambientais ou por radicais livres, entretanto, são providas de menores atividades dos mecanismos fisiológicos de reparo do DNA (GIGLIO et al., 2002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5069-29D5-4F90-876A-4E666E95607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ferentes aspectos relacionados ao envelhecimento impactam no cuidado ao idoso com cânce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O envelhecimento resulta na diminuição da reserva homeostática, ou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ja, no declínio da reserva fisiológica dos sistemas orgânic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e declínio está relacionado à exposição ao tempo e não é resultado de processos patológicos, entretanto, predispõem o idoso com câncer ao aumento da vulnerabil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BCE8-825F-4BEE-9488-D947C4E8688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dução da reserva fisiológica da medula óssea com o envelhecimento, evidencia o aumento da taxa de neutropenia entre os idosos tratados com regime quimioterápico completo. Assim, a diminuição da reserva homeostática reduz a habilidade dos idosos com câncer a tolerar os tratamentos oncológicos sem eventos adversos ou complica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851B-E446-4069-87AD-F70F08415F0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armacocinética é alterada pelo processo de envelhecimento em que a absorção dos medicamentos está reduzida por causa da diminuição da motilidade intestinal, diminuição das enzimas gástricas e atrofia da mucos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serva de gordura aumenta e a de água diminui no idoso, logo a distribuição das drogas solúveis em gordura é maior que aquelas solúveis em água, alterando o pico de concentração e o tempo de meia vida dos fármac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B234-256D-40BD-B52E-2828E917FD1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xcreção de medicamentos é afetada pela redução da taxa de filtração glomerular n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 o envelhecimento também há alteração da farmacodinâmica que corresponde à alteração da sensibilidade, provocando efeitos adver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virtude da alteração na farmacocinética e farmacodinâmica, o princípio do tratamento oncológico no idoso corresponde a baixas doses e avanço lento da dosagem. Contudo, as baixas doses de quimioterapia podem reduzir os benefícios desejados pelo tratamento e minimizar a toxicidade (WHITE; COHEN 2006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70F7-9B35-4EA2-B9DB-4C7B327104B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ssociação entre câncer e envelhecimento possui três principais caus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rcinogênese lenta: corresponde ao fato da carcinogênese ser um processo longo que dura anos; logo, quanto mais a pessoa vive mais exposta ao desenvolvimento do cânce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ior risco tecidual: é que os tecidos idosos são mais sujeitos que os tecidos jovens à carcinogênese ambiental. Nessa perspectiva, há evidências que os tecidos cutâneos, linfáticos e nervosos dos idosos são mais suscetíveis ao desenvolvimento do câncer quando exposto aos fatores cancerígenos que os jov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B359-18EA-4603-B754-CFFF4CB524A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dições ambientais: são condições que favorecem o desenvolvimento do câncer, como a proliferação senescente, ou seja, a perda de habilidade de proliferação da célula idosa, estando associada à secreção de enzimas que favorecem a metástase do câncer e os fatores de crescimento, estimuladores da proliferação das células cancerígenas. E ainda, a imunosenescência que representa a progressiva perda da imunidade celular mediata com o envelhecimento, favorecendo o desenvolvimento de alguns cânceres (BALDUCCI, 2000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CCDD-3C91-4798-8196-D009024DD9E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Cuidados especiais a ter com idosos doent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000"/>
            <a:ext cx="8308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uidados de enfermagem a ter nas seguintes patologi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Úlceras por press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lostom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oença de Alzheime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oença de Parkinson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VC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ânce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iabetes mellitu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ECDE-FABD-40D1-BE3E-4341144C288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âncer no idoso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posicionamento da Sociedade de Enfermagem Oncológica e da Sociedade de Oncologia Geriátrica, a respeito do cuidado ao idoso com câncer, enfatiza a necessidade da atuação de equipes interdisciplinares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 estratégias de avaliação geriátrica a fim de otimizar o planejamento do tratamento, o acesso ao cuidado e os resultados durante a trajetória do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uidado oncológico (Oncology Nursing Society and Geriatric Oncology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sortium-ONS 2007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FDCC-3212-4EC3-933A-C87C5350BE1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nfermeira compõe a equipe multidisciplinar que em conjunto supre as necessidades dos idosos com câncer no panorama de prevenção e detecção precoce do câncer, no cuidado durante a hospitalização, no tratamento oncológico, no manejo de problemas especiais relacionados ao envelhecimento e no cuidado domiciliar (COLUSSI et al.,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2CFF-0F61-4D31-920B-D08B1ACDF7A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nfermeira deve educar o idoso e familiares quanto aos sinais de alerta mais comuns do câncer, sinais normais e anormais do envelhecimento, do aumento do risco de desenvolver câncer com o avanço da idade, das práticas para manter boa saúde, dos benefícios da detecção precoce relacionada à redução da morbidade e mortalidade, do recurso de avaliação disponível na comunidade para detecção precoce e assistência (COLUSSI et al.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E047-FBCE-419C-A59D-93336A94047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413000"/>
            <a:ext cx="86407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urante a hospitalização do idoso com câncer é responsabilidade da enfermeira manter a autonomia do cliente em relação às atividades de vida diária e seu papel no círculo famili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bservação cautelosa na admissão permite ao enfermeiro avaliar não apenas as condições físicas gerais, mas também o estado psicológico do idoso, atentando-se às deficiências auditivas e visuais para conseguir comunicar-se efetivam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1559-7C50-42F6-928A-D840BF9334F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tectar as inúmeras comorbidades presentes no idoso, não subestimando sinais e sintomas e referenciando a necessidade do tratamento delas pelo oncologista que, comumente, foca-se apenas no tratamento do cânce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uidado oncogeriátrico inclui monitorar, intervir, educar e prevenir complicações hospitalares relacionadas ao envelhecimento como: confusão mental e demência, queda, síndrome do imobilismo, úlcera por pressão e problemas nutricionais (COLUSSI et al.,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B1CD-11FE-42EA-86D0-60E71BFB93A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484280"/>
            <a:ext cx="850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tratamento cirúrgico, o cuidado da enfermagem oncogeriátrica deve estar focado na prevenção de complicações, buscando identificar e corrigir anormalidades fisiológicas, mobilizar precocemente o cliente, preservar sua função pulmonar, controlar a dor, educar o idoso e seu familiar em relação ao planejamento de alta (COLUSSI et al.,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C46F-71B8-4FF2-8EF7-209472DB358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4000" y="1196640"/>
            <a:ext cx="8640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alta hospitalar do idoso com câncer, a enfermeira, por intermédio das orientações, garante o cuidado adequado, direcionando os serviços domiciliares e soci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registos  de alta devem incluir diagnóstico, tratamento, presença de feridas e ostomias, complicações durante a hospitalização, medicações em uso, efeitos adversos do tratamento, instruções relacionadas à alimentação parenteral e presença de cateter venoso central. Além disso, a enfermeira deve avaliar individualmente a situação dos familiares, pois são os responsáveis pelo cuidado ao idoso (COLUSSI et al.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AB92-5B1A-4CDD-AFB4-962E73322BA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urante a radioterapia é papel da enfermeira organizar o suporte psicossocial do idoso com câncer para garantir aderência às sessões sequenci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obre a quimioterapia, a enfermeira deve reconhecer precocemente os sinais de toxicidade e manejar imediatamente, educando o idoso e familiar em relação aos possíveis efeitos adversos e medidas para minimizá-los. Nos cuidados paliativos, a enfermeira deve saber avaliar e manejar sintomas como dor, fadiga, dispnéia, entre outros, objetivando o conforto do idoso com câncer (COLUSSI et al.,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4A89-B171-4986-9075-4D9C27F6069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idosos com câncer possuem problemas complexos que exigem suporte fisiológico e psicossocial para manter a homeóstase ao stress da doença oncológica e do trata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versidade de demandas da população oncogeriátrica exige programas de tratamento individualizados baseados na avaliação multidisciplinar do paciente, em que a enfermeira Oncológica é uma parte importante desse time (COLUSSI et al. 2001)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A5FC-BB7E-4F55-B5A2-FBE0C8713FA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IABETES MELLITU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AC85-DDCA-44E4-872A-DF21B92F3FA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71280" y="2060640"/>
            <a:ext cx="7993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r cuidados de enfermagem a pessoas idosas com ú</a:t>
            </a: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lceras por pressão, colostomia, Doença de Alzheimer, Doença de Parkinson, AVC, câncer e diabetes mellitu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26E8-B57C-46C5-9729-AFD6908B17E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24000" y="2997360"/>
            <a:ext cx="12031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iabetes Mellitus (DM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3640" y="1268280"/>
            <a:ext cx="85150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dade de pico de incidência de novos casos de DM é de 60 a 70 anos de idade, com sintomatologia clássica geralmente ausente n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uidado integral ao idoso com DM e suas complicações é um desafio para a equipe de enfermagem, especialmente no sentido de ajudar a pessoa a conviver com essa doença crônica, qu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quer mudanças no modo de viver, envolvendo a vida de seus familiares e amigos, na casa e n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iente de trabalh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s poucos, o idoso deverá aprender a gerenciar sua vida com DM em um processo contínuo, que vise qualidade de vida e autono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5744-9396-4105-95B6-959720FD299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D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4300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DM é uma doença comum e de incidência crescente que aumenta com a idade. Apresenta alta morbidade e mortalidade, com perda importante na qualidade de vida do idoso. É uma das principais causas de mortalidade, insuficiência renal, amputação de membros inferiores, cegueira e doença cardiovascu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doença metabólica caracterizada por hiperglicemia associada a complicações, disfunções e insuficiência de vários órgãos, especialm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lhos, rins, nervos, cérebro, coração e vasos sangüíneos. Pode resultar de defeitos 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creção e/ou ação da insul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A317-B03F-4ED8-AAE9-B7851E684E9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essoa idosa, a forma mais freqüente de DM é de um achado casual devido a uma doença intercorrente (habitualmente infecções); uma manifestação de complicação típica do diabetes a longo prazo (doença cerebrovascular, infarto d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iocárdio, arteriopatia periférica); um exame de saúde ou um exame de glicemia não diretamente relacionado com a suspeita de diabe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as formas de apresentação são aumento da sede (polidipsia), aumento da micção (poliúria), aumento do apetite, fadiga, visão turva, infecções que curam lentamente, impotência em hom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034A-2442-4F90-88CB-673CC38665D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alguns casos o diagnóstico se estabelece pela primeira vez por um descontrole hiperosmolar precipitado, devido a uma infecção aguda, habitualmente uma pneumonia, em que o estado de consciência alterado e a desidratação, contribuem para o desenvolvimento do quad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 a redução da taxa de filtração glomerular no idoso, há redução da diurese osmótica e, conseqüentemente, diminuição das perdas de água e sal normalmente associadas à hiperglice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855-E11F-4E81-9584-7A8E911D7C6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 fato a destacar é que, se a poliúria está presente no idoso, muitas vezes n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pensada como sendo causada por DM, mas, freqüentemente, por hipertrofia prostática,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stites e incontinência urinária, entre outras caus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pessoas idosas raramente desenvolvem cetoacidose, mas podem entrar em estado de hiperosmolaridade e fazer sua apresentação inicial com confusão, coma ou sinais neurológicos foc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8C70-2094-4D43-9007-1763E1D9932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ainda apresentar queixas inespecíficas como: fraqueza, fadiga, perda da vitalidade ou infecções menos importantes da pele e tecidos moles, como a monilíase vulvo-vagi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regra, na presença de prurido vulvar pense em monilíase; na presença de monilíase, pense em diabe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enfermeiros devem ficar atentos, pois freqüentemente os sintomas iniciais de DM são anormalidades neurológicas ou neuropatias, tanto cranianas quanto perifér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7456-1811-44BE-B727-575D4E44253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idoso independente: a autovigilância dos sintomas e da glicemia é tão importante quanto em qualquer outra 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idoso dependente, o trabalho de vigilância deve ser assumido pelo cuidado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Em tais condições, sempre se deve avaliar a qualidade da ajuda em casa.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todos os casos, as prioridades são nesta ordem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abilizar a glicose sérica e evitar complicações da doença, tanto sobre a morbidade e mortalidade quanto sobre as fun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role dos outros fatores de risco (sobretudo a hipertensão), para prevenir complicações macrovasculare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FE2E-DAD5-4145-9405-73ED9AFB18E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ritérios de control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Aceitável: glicemia de jejum: 100-120mg/dl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Glicemia pós-prandial &lt;180 mg/dl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AE34-740C-45EB-823E-FB569C8B396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http://t1.gstatic.com/images?q=tbn:ANd9GcSS5pXLO5x-v3q72e3eBylRnpVbcLDqHPElG4svKpVvEaT58gs8Rg"/>
          <p:cNvPicPr/>
          <p:nvPr/>
        </p:nvPicPr>
        <p:blipFill>
          <a:blip r:embed="rId1"/>
          <a:stretch/>
        </p:blipFill>
        <p:spPr>
          <a:xfrm>
            <a:off x="611280" y="249228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t0.gstatic.com/images?q=tbn:ANd9GcRa-e_1Pjgtw7LnhSH5PIzaX-F9MFLFNx5uA7iwb8PE0i84BGOU"/>
          <p:cNvPicPr/>
          <p:nvPr/>
        </p:nvPicPr>
        <p:blipFill>
          <a:blip r:embed="rId2"/>
          <a:stretch/>
        </p:blipFill>
        <p:spPr>
          <a:xfrm>
            <a:off x="4932360" y="2565360"/>
            <a:ext cx="3703680" cy="3024360"/>
          </a:xfrm>
          <a:prstGeom prst="rect">
            <a:avLst/>
          </a:prstGeom>
          <a:ln w="0">
            <a:noFill/>
          </a:ln>
        </p:spPr>
      </p:pic>
      <p:sp>
        <p:nvSpPr>
          <p:cNvPr id="241" name="CaixaDeTexto 7"/>
          <p:cNvSpPr/>
          <p:nvPr/>
        </p:nvSpPr>
        <p:spPr>
          <a:xfrm>
            <a:off x="539640" y="530064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osos e familiares devem ser treinados para realização do teste de glicem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D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7000"/>
            <a:ext cx="838188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, em geral, semelhante ao proposto para outras idades. Inicialmente, recomenda-se dieta e exercício, e somente se isso não for suficiente cogita-se o uso de medic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recomendações nutricionais específicas devem ser adaptadas para cada individuo, mas, há normas que são amplamente aplicáve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strição calórica moderada de 250 a 500 kcal a menos que a ingestão diária habitual, só está indicada em casos de sobrepe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nos de 30% das calorias devem vir do consumo de gordu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8205-5D8B-41B9-9EE9-B1246A8CF4A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D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ambém se recomenda que as refeições, especialmente a ingestão de carboidratos, sejam fracionadas ao longo do dia para evitar grandes cargas calór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EF59-7D2A-4C35-87CD-8486273262E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OENÇA DE PARKINSON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BA58-C981-48E7-90C8-1AAF7A0D426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D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m ser individualizados os programas de atividade física e levar em con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isco de hipoglicemia, sobretudo nos que usam insulin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acerbação de doença cardiovascular preexis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iora das complicações crôn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3A70-ACE4-43EF-915F-ED5A2A6518F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especiais com hipoglicemia na pessoa id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essoa consciente ou com a ajuda de amigo ou famili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gerir 10 a 20g de carboidrato de absorção rápida; repetir em 10 a 15 minutos se necessári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 a própria pessoa não conseguir engolir, não forçar: injetar glucagon 1mg SC ou IM. Se não for disponível, colocar açúcar ou mel embaixo da língua ou entre a gengiva e a bochecha e levar a pessoa imediatamente a um serviço de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299B-C4CC-495A-AA4E-77B9D28C546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especiais com hipoglicemia na pessoa id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essoa inconsci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forçar ingestão oral. Dar 20ml de glicose a 50% EV e/ ou 1 mg de Glucagon IM ou SC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caminhar ao hospital. O quadro pode se repetir e ser prolongado, especialmente, em idosos, quando causado por uma sulfoniluré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ntomas neuroglicopênicos podem persistir por horas após a correção metaból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D996-1DCC-4A75-AA89-C44CEEE4779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doença de Parkinson a maioria das acções está voltada para o ensino do doente e família, pelo que aqui apenas se abordará essa verten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sino ao doente/famíli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parar, com eficiência, o doente e a família para os desafios do autocuidado no domicíl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ente e família têm de conhecer profundamente o processo de doença, as estratégias adequadas de autocuidado e os sinais indicadores de insuficiência ou toxicidade medicamento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AC4F-6805-44E8-A4D5-962FF41A19E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odas as intervenções têm por finalidade manter o utente o mais autónomo possível face ao declínio funcional progressiv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mover actividades e exercícios que proporcionem a autonomia e reduzam o risco de lesões e complic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centivar o utente e a família a consultar um fisioterapeuta (sempre que possível) a fim de estabelecer um plano de exercícios de mobiliz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1E7C-9C79-49FA-BC85-2DBBC16EBA5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13000"/>
            <a:ext cx="85075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lizar massagens e orientar para alongamentos dos músculos e articulações para reduzir a rigidez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sinar estratégias para controlar alterações de marcha e evitar lesões durante a deambul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archa de pés afastados ajuda a manter o equilíbrio na deambul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ãos cruzadas atrás das costas, ao andar, ajuda o utente a manter a coluna erecta e compensar os problemas criados pelos braços, rígidos e pendentes, ao longo do corp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centuar a importância de uma postura correc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688A-1744-4487-A54E-4D27B4D86BD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itar-se em colchão rígido, sem almofada, ajuda a impedir a flexão da coluna para a frente, o mesmo acontecendo se o utente se deitar em decúbito ventral, periodicam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tilizar dispositivos auxiliares, para prevenir lesões e dar apoio na mob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a atenuar os tremores, o utente em repouso, pode prender um objecto com as mãos ou, quando sentado, apoiar as mãos e fazer força nos braços de uma cadei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A86E-51AD-46A2-BDE1-AA540DF5397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000" y="1268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judar o utente e a família a avaliar riscos de quedas e acidentes no domicíl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mbrar ao utente que deve mudar de posição com frequência, evitando estar sentado na mesma posição por longos perío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tente e família necessitam de apoio constante, pois a sobrecarga inerente à prestação de cuidados aumenta na medida em que o utente se agra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ientar quanto a importância da adesão do utente a intervenção farmacológ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rolar o peso, semanalm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ACA9-D32C-4C5D-B0CD-0EAD0C9D767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5:42:13Z</dcterms:created>
  <dc:creator>Escolastica</dc:creator>
  <dc:description/>
  <dc:language>en-US</dc:language>
  <cp:lastModifiedBy>Mendoza</cp:lastModifiedBy>
  <dcterms:modified xsi:type="dcterms:W3CDTF">2012-01-31T14:40:55Z</dcterms:modified>
  <cp:revision>2</cp:revision>
  <dc:subject/>
  <dc:title>Cuidados especiais a ter com idosos doentes (Aula 2)</dc:title>
</cp:coreProperties>
</file>