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8.gif" ContentType="image/gif"/>
  <Override PartName="/ppt/media/image8.jpeg" ContentType="image/jpeg"/>
  <Override PartName="/ppt/media/image10.jpeg" ContentType="image/jpeg"/>
  <Override PartName="/ppt/media/image2.gif" ContentType="image/gif"/>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3.jpeg" ContentType="image/jpeg"/>
  <Override PartName="/ppt/media/image22.jpeg" ContentType="image/jpeg"/>
  <Override PartName="/ppt/media/image17.jpeg" ContentType="image/jpeg"/>
  <Override PartName="/ppt/media/image14.png" ContentType="image/png"/>
  <Override PartName="/ppt/media/image21.gif" ContentType="image/gif"/>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6.jpeg" ContentType="image/jpeg"/>
  <Override PartName="/ppt/media/image1.wmf" ContentType="image/x-wmf"/>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F7DE-37A4-410D-9732-0A796D3730E7}"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790B-1443-463F-8C3B-C53B02AF6326}"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28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AFD6-2369-42AF-A813-4AF7FEB7AB32}" type="slidenum">
              <a:rPr b="0" lang="pt-BR"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FAB74E-5E62-4891-B520-DC50AFADC7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BDD4E0-953E-460F-91F5-AA75296774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1DE0F2-7155-4715-95A2-BDAD4DB1E1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77FAE4-C374-441A-8C9E-C436B72757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137077-DF32-44E0-95F6-951B8830F4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1BBC5E-E970-418E-A100-58E7AED56B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FBAA3F-46E6-469A-9FE9-F9DE6B5D15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EB2FCD-50D6-4DAD-A99B-FE2109A4CA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D9401B-C198-4915-BBB1-A9642D87FB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36C9F6-0929-4275-BAAD-EAE09A7309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42A800-F12F-4094-B690-44A531BBCC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A2B0D7-74FB-47A5-BCF9-4C3D963A02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175E-8F4B-420B-A7F7-81C261A8FFB5}"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191628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24000" y="26028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google.com.br/imgres?q=exerc&#237;cios+de+idosos&amp;hl=pt-BR&amp;rlz=1W1RNQN_pt-BRBR458&amp;biw=1024&amp;bih=302&amp;tbm=isch&amp;tbnid=ap19rR97cYt4wM:&amp;imgrefurl=http://www.blogbrasil.com.br/dicas-de-atividades-fisicas-para-idosos/&amp;docid=b5_0dIh2NI0mEM&amp;imgurl=http://www.blogbrasil.com.br/wp-content/uploads/2009/01/dicas-de-atividades-fisicas-para-idosos.gif&amp;w=250&amp;h=213&amp;ei=Dh_6TvuWK4rqtgeJopDRBg&amp;zoom=1"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s.google.com.br/imgres?imgurl=http://www.preceonline.com.br/ntc/fotos/ter&#231;o.jpg&amp;imgrefurl=http://www.preceonline.com.br/ntc/default.asp?Cod=16&amp;usg=__gVB3XXNdfkZcPla8Qad961GIwTA=&amp;h=400&amp;w=400&amp;sz=32&amp;hl=pt-BR&amp;start=21&amp;tbnid=zICT4hRf-6qxlM:&amp;tbnh=124&amp;tbnw=124&amp;prev=/images?q=ter&#231;o&amp;gbv=2&amp;ndsp=18&amp;hl=pt-BR&amp;sa=N&amp;start=18" TargetMode="External"/><Relationship Id="rId2" Type="http://schemas.openxmlformats.org/officeDocument/2006/relationships/image" Target="../media/image19.jpeg"/><Relationship Id="rId3" Type="http://schemas.openxmlformats.org/officeDocument/2006/relationships/hyperlink" Target="http://images.google.com.br/imgres?imgurl=http://www.digitaldrops.com.br/drops/imagens/MagnoRadio1.jpg&amp;imgrefurl=http://rosaliraster.blogspot.com/2009/06/fotografias-de-uma-historia-radiofonica.html&amp;usg=__7a2F9CI5Y5XzXdd7YiuHAu8X6F8=&amp;h=581&amp;w=400&amp;sz=29&amp;hl=pt-BR&amp;start=48&amp;tbnid=cfKSMGCOb67t4M:&amp;tbnh=134&amp;tbnw=92&amp;prev=/images?q=r&#225;dio&amp;gbv=2&amp;ndsp=18&amp;hl=pt-BR&amp;sa=N&amp;start=36" TargetMode="External"/><Relationship Id="rId4" Type="http://schemas.openxmlformats.org/officeDocument/2006/relationships/image" Target="../media/image20.jpeg"/><Relationship Id="rId5" Type="http://schemas.openxmlformats.org/officeDocument/2006/relationships/hyperlink" Target="http://www.ufpa.br/dicas/treina.htm" TargetMode="External"/><Relationship Id="rId6" Type="http://schemas.openxmlformats.org/officeDocument/2006/relationships/image" Target="../media/image21.gi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7640" y="2060640"/>
            <a:ext cx="612144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Introdução a Enfermagem Geriátrica</a:t>
            </a:r>
            <a:endParaRPr b="1" lang="en-US" sz="3200" spc="-1" strike="noStrike">
              <a:solidFill>
                <a:srgbClr val="ffffff"/>
              </a:solidFill>
              <a:latin typeface="Verdana"/>
            </a:endParaRPr>
          </a:p>
        </p:txBody>
      </p:sp>
      <p:sp>
        <p:nvSpPr>
          <p:cNvPr id="91" name="PlaceHolder 2"/>
          <p:cNvSpPr>
            <a:spLocks noGrp="1"/>
          </p:cNvSpPr>
          <p:nvPr>
            <p:ph type="subTitle"/>
          </p:nvPr>
        </p:nvSpPr>
        <p:spPr>
          <a:xfrm>
            <a:off x="1042560" y="4581360"/>
            <a:ext cx="7472520" cy="144000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ceito de envelhecimento</a:t>
            </a:r>
            <a:endParaRPr b="1" lang="en-US" sz="3200" spc="-1" strike="noStrike">
              <a:solidFill>
                <a:srgbClr val="ffffff"/>
              </a:solidFill>
              <a:latin typeface="Verdana"/>
            </a:endParaRPr>
          </a:p>
        </p:txBody>
      </p:sp>
      <p:sp>
        <p:nvSpPr>
          <p:cNvPr id="141" name=""/>
          <p:cNvSpPr txBox="1"/>
          <p:nvPr/>
        </p:nvSpPr>
        <p:spPr>
          <a:xfrm>
            <a:off x="456840" y="1142640"/>
            <a:ext cx="8381880" cy="91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Organização Pan-Americana de Saúde (OPAS) define envelhecimento como:</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4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0393-8986-4FB0-B42D-50920B14263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4" name="Retângulo 5"/>
          <p:cNvSpPr/>
          <p:nvPr/>
        </p:nvSpPr>
        <p:spPr>
          <a:xfrm>
            <a:off x="468360" y="2637000"/>
            <a:ext cx="8424720" cy="228852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Verdana"/>
              </a:rPr>
              <a:t>“</a:t>
            </a:r>
            <a:r>
              <a:rPr b="0" i="1" lang="pt-BR" sz="2400" spc="-1" strike="noStrike">
                <a:solidFill>
                  <a:srgbClr val="000000"/>
                </a:solidFill>
                <a:latin typeface="Verdana"/>
              </a:rPr>
              <a:t>Um processo sequencial, individual, acumulativo, irreversível, universal, não patológico, de deterioração de um organismo maduro, próprio a todos os membros de uma espécie, de maneira que o tempo o torne menos capaz de fazer frente ao estresse do meio-ambiente e, portanto, aumente sua possibilidade de mor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ceito de envelhecimento</a:t>
            </a:r>
            <a:endParaRPr b="1" lang="en-US" sz="3200" spc="-1" strike="noStrike">
              <a:solidFill>
                <a:srgbClr val="ffffff"/>
              </a:solidFill>
              <a:latin typeface="Verdana"/>
            </a:endParaRPr>
          </a:p>
        </p:txBody>
      </p:sp>
      <p:sp>
        <p:nvSpPr>
          <p:cNvPr id="14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pode ser compreendido como um processo natural, de diminuição progressiva da reserva funcional dos indivíduos – senescência - o que, em condições normais, não costuma provocar problem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entanto, em condições de sobrecarga, como doenças, acidentes e estresse emocional, pode ocasionar uma condição patológica que requeira assistência - senilida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ertas alterações decorrentes do processo de senescência podem ter seus efeitos minimizados pela assimilação de um estilo de vida mais activo por parte do idoso.</a:t>
            </a:r>
            <a:endParaRPr b="1" lang="en-US" sz="2400" spc="-1" strike="noStrike">
              <a:solidFill>
                <a:srgbClr val="000066"/>
              </a:solidFill>
              <a:latin typeface="Verdana"/>
            </a:endParaRPr>
          </a:p>
        </p:txBody>
      </p:sp>
      <p:sp>
        <p:nvSpPr>
          <p:cNvPr id="14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EFB4-B202-4542-BC3B-EED66EC7AB1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ceito de envelhecimento</a:t>
            </a:r>
            <a:endParaRPr b="1" lang="en-US" sz="3200" spc="-1" strike="noStrike">
              <a:solidFill>
                <a:srgbClr val="ffffff"/>
              </a:solidFill>
              <a:latin typeface="Verdana"/>
            </a:endParaRPr>
          </a:p>
        </p:txBody>
      </p:sp>
      <p:sp>
        <p:nvSpPr>
          <p:cNvPr id="150" name=""/>
          <p:cNvSpPr txBox="1"/>
          <p:nvPr/>
        </p:nvSpPr>
        <p:spPr>
          <a:xfrm>
            <a:off x="468000" y="1483920"/>
            <a:ext cx="8381880" cy="4086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final da década de 90, a Organização Mundial de Saúde (OMS) passou a utilizar o conceito de “envelhecimento activo” buscando incluir, além dos cuidados com a saúde, outros fatores que afetam o envelheciment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de ser compreendido como o processo de otimização das oportunidades de saúde, participação e segurança, com o objectivo de melhorar a qualidade de vida à medida que as pessoas ficam mais velhas.</a:t>
            </a:r>
            <a:endParaRPr b="1" lang="en-US" sz="2400" spc="-1" strike="noStrike">
              <a:solidFill>
                <a:srgbClr val="000066"/>
              </a:solidFill>
              <a:latin typeface="Verdana"/>
            </a:endParaRPr>
          </a:p>
        </p:txBody>
      </p:sp>
      <p:sp>
        <p:nvSpPr>
          <p:cNvPr id="15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0925-60C2-4914-B8C0-BFE99B707F8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sso de envelhecimento</a:t>
            </a:r>
            <a:endParaRPr b="1" lang="en-US" sz="3200" spc="-1" strike="noStrike">
              <a:solidFill>
                <a:srgbClr val="ffffff"/>
              </a:solidFill>
              <a:latin typeface="Verdana"/>
            </a:endParaRPr>
          </a:p>
        </p:txBody>
      </p:sp>
      <p:sp>
        <p:nvSpPr>
          <p:cNvPr id="154" name=""/>
          <p:cNvSpPr txBox="1"/>
          <p:nvPr/>
        </p:nvSpPr>
        <p:spPr>
          <a:xfrm>
            <a:off x="468000" y="907920"/>
            <a:ext cx="8381880" cy="30974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antes considerado um fenômeno, hoje, faz parte da realidade da maioria das sociedad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ima-se para o ano de 2050 cerca de dois bilhões de pessoas com 60 anos e mais no mundo, a maioria vivendo em países em desenvolvimento.</a:t>
            </a:r>
            <a:endParaRPr b="1" lang="en-US" sz="2400" spc="-1" strike="noStrike">
              <a:solidFill>
                <a:srgbClr val="000066"/>
              </a:solidFill>
              <a:latin typeface="Verdana"/>
            </a:endParaRPr>
          </a:p>
        </p:txBody>
      </p:sp>
      <p:sp>
        <p:nvSpPr>
          <p:cNvPr id="15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07B5-F3D3-4E8D-89A8-9574A9EBDDA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57" name="Picture 2" descr="http://t2.gstatic.com/images?q=tbn:ANd9GcTFTCn8m8kut69_kqcRnh7fBoOEasqa6NJjeZyJrziZUbbVQwmZ"/>
          <p:cNvPicPr/>
          <p:nvPr/>
        </p:nvPicPr>
        <p:blipFill>
          <a:blip r:embed="rId1"/>
          <a:stretch/>
        </p:blipFill>
        <p:spPr>
          <a:xfrm>
            <a:off x="2843280" y="3357720"/>
            <a:ext cx="414972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sso de envelhecimento</a:t>
            </a:r>
            <a:endParaRPr b="1" lang="en-US" sz="3200" spc="-1" strike="noStrike">
              <a:solidFill>
                <a:srgbClr val="ffffff"/>
              </a:solidFill>
              <a:latin typeface="Verdana"/>
            </a:endParaRPr>
          </a:p>
        </p:txBody>
      </p:sp>
      <p:sp>
        <p:nvSpPr>
          <p:cNvPr id="159"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populacional é uma resposta à mudança de alguns indicadores de saúde, co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queda da fecund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redução da mort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aumento da esperança de vi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é homogêneo para todos os seres humanos, sofrendo influência dos processos de discriminação e exclusão associados ao gênero, à etnia, ao racismo, às condições sociais e econômicas, à região geográfica de origem e à localização de moradia.</a:t>
            </a:r>
            <a:endParaRPr b="1" lang="en-US" sz="24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C800-BF8C-4412-85E9-45163023064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sso de envelhecimento</a:t>
            </a:r>
            <a:endParaRPr b="1" lang="en-US" sz="3200" spc="-1" strike="noStrike">
              <a:solidFill>
                <a:srgbClr val="ffffff"/>
              </a:solidFill>
              <a:latin typeface="Verdana"/>
            </a:endParaRPr>
          </a:p>
        </p:txBody>
      </p:sp>
      <p:sp>
        <p:nvSpPr>
          <p:cNvPr id="163" name=""/>
          <p:cNvSpPr txBox="1"/>
          <p:nvPr/>
        </p:nvSpPr>
        <p:spPr>
          <a:xfrm>
            <a:off x="250560" y="981000"/>
            <a:ext cx="8713800" cy="1511280"/>
          </a:xfrm>
          <a:prstGeom prst="rect">
            <a:avLst/>
          </a:prstGeom>
          <a:noFill/>
          <a:ln w="0">
            <a:noFill/>
          </a:ln>
        </p:spPr>
        <p:txBody>
          <a:bodyPr anchor="t">
            <a:normAutofit fontScale="97000"/>
          </a:bodyPr>
          <a:p>
            <a:pPr marL="332640" indent="-332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udos mostram que a dependência para o desempenho das Atividades de Vida Diária (AVD) tende a aumentar cerca de 5% aos 60 anos para cerca de 50% aos 90 ou mais anos.</a:t>
            </a:r>
            <a:endParaRPr b="1" lang="en-US" sz="24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631A-37B5-472D-9AC0-A7AD607F18E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66" name="Picture 2" descr=""/>
          <p:cNvPicPr/>
          <p:nvPr/>
        </p:nvPicPr>
        <p:blipFill>
          <a:blip r:embed="rId1"/>
          <a:stretch/>
        </p:blipFill>
        <p:spPr>
          <a:xfrm>
            <a:off x="1042920" y="2565360"/>
            <a:ext cx="6716880" cy="384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Envelhecimento anatômico</a:t>
            </a:r>
            <a:endParaRPr b="1" lang="en-US" sz="3200" spc="-1" strike="noStrike">
              <a:solidFill>
                <a:srgbClr val="ffffff"/>
              </a:solidFill>
              <a:latin typeface="Verdana"/>
            </a:endParaRPr>
          </a:p>
        </p:txBody>
      </p:sp>
      <p:sp>
        <p:nvSpPr>
          <p:cNvPr id="168" name=""/>
          <p:cNvSpPr txBox="1"/>
          <p:nvPr/>
        </p:nvSpPr>
        <p:spPr>
          <a:xfrm>
            <a:off x="324000" y="1143000"/>
            <a:ext cx="864072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gundo Freitas </a:t>
            </a:r>
            <a:r>
              <a:rPr b="0" i="1" lang="pt-BR" sz="2400" spc="-1" strike="noStrike">
                <a:solidFill>
                  <a:srgbClr val="000066"/>
                </a:solidFill>
                <a:latin typeface="Verdana"/>
              </a:rPr>
              <a:t>et al. </a:t>
            </a:r>
            <a:r>
              <a:rPr b="0" lang="pt-BR" sz="2400" spc="-1" strike="noStrike">
                <a:solidFill>
                  <a:srgbClr val="000066"/>
                </a:solidFill>
                <a:latin typeface="Verdana"/>
              </a:rPr>
              <a:t>(2002)</a:t>
            </a:r>
            <a:r>
              <a:rPr b="0" i="1" lang="pt-BR" sz="2400" spc="-1" strike="noStrike">
                <a:solidFill>
                  <a:srgbClr val="000066"/>
                </a:solidFill>
                <a:latin typeface="Verdana"/>
              </a:rPr>
              <a:t> o</a:t>
            </a:r>
            <a:r>
              <a:rPr b="0" lang="pt-BR" sz="2400" spc="-1" strike="noStrike">
                <a:solidFill>
                  <a:srgbClr val="000066"/>
                </a:solidFill>
                <a:latin typeface="Verdana"/>
              </a:rPr>
              <a:t>correm modificações anatômicas na coluna vertebral, que causam redução na estatura (1 a 3 cm por década).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ós os 50 anos inicia-se a atrofia óssea, ou seja, a perda de massa óssea que favorece a fratura. A cartilagem articular torna-se menos resistente e menos estável sofrendo um processo degenerativo.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diminuição lenta e progressiva da massa muscular, sendo o tecido substituído por colágeno e gordura.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alterações no sistema osteoarticular geram a piora do equilíbrio corporal do idoso, reduzindo a amplitude dos movimentos e modificando a marcha. </a:t>
            </a:r>
            <a:endParaRPr b="1" lang="en-US" sz="2400" spc="-1" strike="noStrike">
              <a:solidFill>
                <a:srgbClr val="000066"/>
              </a:solidFill>
              <a:latin typeface="Verdana"/>
            </a:endParaRPr>
          </a:p>
        </p:txBody>
      </p:sp>
      <p:sp>
        <p:nvSpPr>
          <p:cNvPr id="16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F78D-21D5-4547-A718-A500DCA0FE7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Envelhecimento anatômico</a:t>
            </a:r>
            <a:endParaRPr b="1" lang="en-US" sz="3200" spc="-1" strike="noStrike">
              <a:solidFill>
                <a:srgbClr val="ffffff"/>
              </a:solidFill>
              <a:latin typeface="Verdana"/>
            </a:endParaRPr>
          </a:p>
        </p:txBody>
      </p:sp>
      <p:sp>
        <p:nvSpPr>
          <p:cNvPr id="172"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modifica a atividade celular na medula óssea, ocasionando reabastecimento inadequado de osteoclastos e osteoblastos e também desequilíbrio no processo de reabsorção e formação óssea, resultando em perda ósse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 tendência a ganho de peso pelo aumento do tecido adiposo e perda de massa muscular e óssea. A distribuição da gordura corporal se acentua no tronco e menos nos membros. Dessa forma, a gordura abdominal eleva o risco para doenças metabólicas e declínio de funções (HUGHES </a:t>
            </a:r>
            <a:r>
              <a:rPr b="0" i="1" lang="pt-BR" sz="2400" spc="-1" strike="noStrike">
                <a:solidFill>
                  <a:srgbClr val="000066"/>
                </a:solidFill>
                <a:latin typeface="Verdana"/>
              </a:rPr>
              <a:t>et al</a:t>
            </a:r>
            <a:r>
              <a:rPr b="0" lang="pt-BR" sz="2400" spc="-1" strike="noStrike">
                <a:solidFill>
                  <a:srgbClr val="000066"/>
                </a:solidFill>
                <a:latin typeface="Verdana"/>
              </a:rPr>
              <a:t>., 2004).</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609C-6467-464D-8F62-08BF8DFEDB3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Envelhecimento anatômico</a:t>
            </a:r>
            <a:endParaRPr b="1" lang="en-US" sz="3200" spc="-1" strike="noStrike">
              <a:solidFill>
                <a:srgbClr val="ffffff"/>
              </a:solidFill>
              <a:latin typeface="Verdana"/>
            </a:endParaRPr>
          </a:p>
        </p:txBody>
      </p:sp>
      <p:sp>
        <p:nvSpPr>
          <p:cNvPr id="17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opinião de Matsudo</a:t>
            </a:r>
            <a:r>
              <a:rPr b="0" i="1" lang="pt-BR" sz="2400" spc="-1" strike="noStrike">
                <a:solidFill>
                  <a:srgbClr val="000066"/>
                </a:solidFill>
                <a:latin typeface="Verdana"/>
              </a:rPr>
              <a:t> et al</a:t>
            </a:r>
            <a:r>
              <a:rPr b="0" lang="pt-BR" sz="2400" spc="-1" strike="noStrike">
                <a:solidFill>
                  <a:srgbClr val="000066"/>
                </a:solidFill>
                <a:latin typeface="Verdana"/>
              </a:rPr>
              <a:t>. (2000), o aumento da gordura corporal total e diminuição do tecido muscular pode ocorrer principalmente devido a diminuição da taxa de metabolismo basal e do nível de atividade física.</a:t>
            </a:r>
            <a:endParaRPr b="1" lang="en-US" sz="2400" spc="-1" strike="noStrike">
              <a:solidFill>
                <a:srgbClr val="000066"/>
              </a:solidFill>
              <a:latin typeface="Verdana"/>
            </a:endParaRPr>
          </a:p>
        </p:txBody>
      </p:sp>
      <p:sp>
        <p:nvSpPr>
          <p:cNvPr id="17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F6EA-90FD-4469-A925-E1F11108F72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79" name="Picture 10" descr="http://theurbanearth.files.wordpress.com/2008/12/mocambique.jpg?w=418&amp;h=271"/>
          <p:cNvPicPr/>
          <p:nvPr/>
        </p:nvPicPr>
        <p:blipFill>
          <a:blip r:embed="rId1"/>
          <a:stretch/>
        </p:blipFill>
        <p:spPr>
          <a:xfrm>
            <a:off x="539640" y="3213000"/>
            <a:ext cx="4464000" cy="2894040"/>
          </a:xfrm>
          <a:prstGeom prst="rect">
            <a:avLst/>
          </a:prstGeom>
          <a:ln w="0">
            <a:noFill/>
          </a:ln>
        </p:spPr>
      </p:pic>
      <p:pic>
        <p:nvPicPr>
          <p:cNvPr id="180" name="Imagem 6" descr="http://t1.gstatic.com/images?q=tbn:ANd9GcQfi4ma7f9-laSJovE8ZVVD0v_txvNdMNjgdZpT9dqJhOif39Qs">
            <a:hlinkClick r:id="rId2"/>
          </p:cNvPr>
          <p:cNvPicPr/>
          <p:nvPr/>
        </p:nvPicPr>
        <p:blipFill>
          <a:blip r:embed="rId3"/>
          <a:stretch/>
        </p:blipFill>
        <p:spPr>
          <a:xfrm>
            <a:off x="5796000" y="2781360"/>
            <a:ext cx="2736720" cy="2592360"/>
          </a:xfrm>
          <a:prstGeom prst="rect">
            <a:avLst/>
          </a:prstGeom>
          <a:ln w="0">
            <a:noFill/>
          </a:ln>
        </p:spPr>
      </p:pic>
      <p:sp>
        <p:nvSpPr>
          <p:cNvPr id="181" name="CaixaDeTexto 7"/>
          <p:cNvSpPr/>
          <p:nvPr/>
        </p:nvSpPr>
        <p:spPr>
          <a:xfrm>
            <a:off x="5364000" y="5229360"/>
            <a:ext cx="3780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atividade física é protectora da saúde do idos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cerebral</a:t>
            </a:r>
            <a:endParaRPr b="1" lang="en-US" sz="3200" spc="-1" strike="noStrike">
              <a:solidFill>
                <a:srgbClr val="ffffff"/>
              </a:solidFill>
              <a:latin typeface="Verdana"/>
            </a:endParaRPr>
          </a:p>
        </p:txBody>
      </p:sp>
      <p:sp>
        <p:nvSpPr>
          <p:cNvPr id="183" name=""/>
          <p:cNvSpPr txBox="1"/>
          <p:nvPr/>
        </p:nvSpPr>
        <p:spPr>
          <a:xfrm>
            <a:off x="394920" y="981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ntre as modificações mais importantes na estrutura e funcionamento cerebral, destaca-se: atrofia (redução de peso e volume), hipotrofia dos sulcos corticais, redução do volume do córtex, espessamento das meninges, redução do número de neurônios e de neurotransmissor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 alterações da estrutura do olho, diminuição visual, da nitidez das cores e da adaptação noturna e aumento da sensibilidade à luz</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terioração visual se deve a modificações fisiológicas e alterações mórbidas. Os transtornos mais comuns são a catarata, a degeneração macular, o glaucoma e a retinopatia diabética (PASI, 2006).</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5857-7CC2-4C49-82DA-58B872F2719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Introdução a Enfermagem Geriátrica</a:t>
            </a:r>
            <a:endParaRPr b="1" lang="en-US" sz="3200" spc="-1" strike="noStrike">
              <a:solidFill>
                <a:srgbClr val="ffffff"/>
              </a:solidFill>
              <a:latin typeface="Verdana"/>
            </a:endParaRPr>
          </a:p>
        </p:txBody>
      </p:sp>
      <p:sp>
        <p:nvSpPr>
          <p:cNvPr id="94" name=""/>
          <p:cNvSpPr txBox="1"/>
          <p:nvPr/>
        </p:nvSpPr>
        <p:spPr>
          <a:xfrm>
            <a:off x="468360" y="1557360"/>
            <a:ext cx="8308800" cy="4248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nceito de envelhecimen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O processo de envelhecimen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nceito e importância da Geriatria em Moçambique e no mund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rincípios básicos e importância da assistência de enfermagem ao idos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Organização e funcionamento dos serviços de atendimento ao idoso.</a:t>
            </a:r>
            <a:endParaRPr b="1" lang="en-US" sz="24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F596-3AC3-4722-AFD0-2255F0D55AB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cerebral</a:t>
            </a:r>
            <a:endParaRPr b="1" lang="en-US" sz="3200" spc="-1" strike="noStrike">
              <a:solidFill>
                <a:srgbClr val="ffffff"/>
              </a:solidFill>
              <a:latin typeface="Verdana"/>
            </a:endParaRPr>
          </a:p>
        </p:txBody>
      </p:sp>
      <p:sp>
        <p:nvSpPr>
          <p:cNvPr id="187" name=""/>
          <p:cNvSpPr txBox="1"/>
          <p:nvPr/>
        </p:nvSpPr>
        <p:spPr>
          <a:xfrm>
            <a:off x="610920" y="2636640"/>
            <a:ext cx="8381880" cy="3168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erda de audição resulta da disfunção dos componentes do sistema auditivo. Há perda da discriminação dos sons mais baixos. Ocorre maior acúmulo de cerumen no ouvido pela alteração na função glandular. As alterações vasculares também alteram a audição. São comuns os estados vertiginosos e zumbidos (FREITAS </a:t>
            </a:r>
            <a:r>
              <a:rPr b="0" i="1" lang="pt-BR" sz="2400" spc="-1" strike="noStrike">
                <a:solidFill>
                  <a:srgbClr val="000066"/>
                </a:solidFill>
                <a:latin typeface="Verdana"/>
              </a:rPr>
              <a:t>et al</a:t>
            </a:r>
            <a:r>
              <a:rPr b="0" lang="pt-BR" sz="2400" spc="-1" strike="noStrike">
                <a:solidFill>
                  <a:srgbClr val="000066"/>
                </a:solidFill>
                <a:latin typeface="Verdana"/>
              </a:rPr>
              <a:t>., 2002).</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509D-666B-486C-86E8-D115D2136E5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0" name="Picture 2" descr="http://t1.gstatic.com/images?q=tbn:ANd9GcSn5tk4XnOPzG4txKZBn7-RReXtiwrkgIzyhr83Kbtr1owPSqi-DtaXqbnw"/>
          <p:cNvPicPr/>
          <p:nvPr/>
        </p:nvPicPr>
        <p:blipFill>
          <a:blip r:embed="rId1"/>
          <a:stretch/>
        </p:blipFill>
        <p:spPr>
          <a:xfrm>
            <a:off x="7164360" y="981000"/>
            <a:ext cx="1757520" cy="175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cardiovascular</a:t>
            </a:r>
            <a:endParaRPr b="1" lang="en-US" sz="3200" spc="-1" strike="noStrike">
              <a:solidFill>
                <a:srgbClr val="ffffff"/>
              </a:solidFill>
              <a:latin typeface="Verdana"/>
            </a:endParaRPr>
          </a:p>
        </p:txBody>
      </p:sp>
      <p:sp>
        <p:nvSpPr>
          <p:cNvPr id="192"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ntre as modificações na estrutura e funcionamento cardiovascular, destaca-se: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mento de gordura, espessamento fibroso, substituição do tecido muscular por tecido conjuntivo e calcificação do anel valvar (PASI, 2006).</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gundo Souza </a:t>
            </a:r>
            <a:r>
              <a:rPr b="0" i="1" lang="pt-BR" sz="2400" spc="-1" strike="noStrike">
                <a:solidFill>
                  <a:srgbClr val="000066"/>
                </a:solidFill>
                <a:latin typeface="Verdana"/>
              </a:rPr>
              <a:t>et al</a:t>
            </a:r>
            <a:r>
              <a:rPr b="0" lang="pt-BR" sz="2400" spc="-1" strike="noStrike">
                <a:solidFill>
                  <a:srgbClr val="000066"/>
                </a:solidFill>
                <a:latin typeface="Verdana"/>
              </a:rPr>
              <a:t>. (2007) as paredes do ventrículo esquerdo aumentam de espessura, e ocorre depósito de colágeno, da mesma forma, a aorta se torna mais rígida.</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9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4AC4-D752-44E4-B968-A9AFCC3737F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5" name="Picture 12" descr="http://cdn-cf.aol.com/se/clip_art/gstres/objcts/heart_beating_final"/>
          <p:cNvPicPr/>
          <p:nvPr/>
        </p:nvPicPr>
        <p:blipFill>
          <a:blip r:embed="rId1"/>
          <a:stretch/>
        </p:blipFill>
        <p:spPr>
          <a:xfrm>
            <a:off x="7740720" y="836640"/>
            <a:ext cx="1214280" cy="121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cardiovascular</a:t>
            </a:r>
            <a:endParaRPr b="1" lang="en-US" sz="3200" spc="-1" strike="noStrike">
              <a:solidFill>
                <a:srgbClr val="ffffff"/>
              </a:solidFill>
              <a:latin typeface="Verdana"/>
            </a:endParaRPr>
          </a:p>
        </p:txBody>
      </p:sp>
      <p:sp>
        <p:nvSpPr>
          <p:cNvPr id="197" name=""/>
          <p:cNvSpPr txBox="1"/>
          <p:nvPr/>
        </p:nvSpPr>
        <p:spPr>
          <a:xfrm>
            <a:off x="250560" y="112536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s artérias, ocorre acúmulo de gordura (aterosclerose), perda de fibra elástica e aumento de colágen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sim, a função cardiovascular fica prejudicada, diminuindo a resposta de elevação de freqüência cardíaca ao esforço ou estímulo, aumentando a disfunção diastólica do ventrículo esquerdo e dificultando a ejeção ventricular.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diminuição da resposta às catecolaminas e a diminuição a resposta vascular ao reflexo barorreceptor. Ocorre maior prevalência de hipertensão arterial sistólica isolada com maior risco de eventos cardiovasculares (PASI, 2006).</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716B-5DEA-4D5B-9A71-80772CD9C40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00" name="Picture 12" descr="http://cdn-cf.aol.com/se/clip_art/gstres/objcts/heart_beating_final"/>
          <p:cNvPicPr/>
          <p:nvPr/>
        </p:nvPicPr>
        <p:blipFill>
          <a:blip r:embed="rId1"/>
          <a:stretch/>
        </p:blipFill>
        <p:spPr>
          <a:xfrm>
            <a:off x="7929720" y="765000"/>
            <a:ext cx="1214280" cy="121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do aparelho respiratório</a:t>
            </a:r>
            <a:endParaRPr b="1" lang="en-US" sz="3200" spc="-1" strike="noStrike">
              <a:solidFill>
                <a:srgbClr val="ffffff"/>
              </a:solidFill>
              <a:latin typeface="Verdana"/>
            </a:endParaRPr>
          </a:p>
        </p:txBody>
      </p:sp>
      <p:sp>
        <p:nvSpPr>
          <p:cNvPr id="202" name=""/>
          <p:cNvSpPr txBox="1"/>
          <p:nvPr/>
        </p:nvSpPr>
        <p:spPr>
          <a:xfrm>
            <a:off x="324000" y="1196640"/>
            <a:ext cx="8640720" cy="5111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musculatura da respiração enfraquece com o progredir da idade devido ao enfraquecimento dos músculos esqueléticos e enrijecimento do tórax, resultando na redução das pressões máximas inspiratórias e expiratórias com um grau de dificuldade maior para executar a dinâmica respiratória (CARVALHO; LEME, 2002).</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calcificação das cartilagens costais, das articulações costais e redução do espaço intervertebr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redução da forca dos músculos respiratórios, da taxa de fluxo expiratório e da pressão arterial de oxigênio (PASI, 2006).</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5419-46C9-4B96-8AF3-C6F7ADBD7DA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Envelhecimento do sistema digestório</a:t>
            </a:r>
            <a:endParaRPr b="1" lang="en-US" sz="3200" spc="-1" strike="noStrike">
              <a:solidFill>
                <a:srgbClr val="ffffff"/>
              </a:solidFill>
              <a:latin typeface="Verdana"/>
            </a:endParaRPr>
          </a:p>
        </p:txBody>
      </p:sp>
      <p:sp>
        <p:nvSpPr>
          <p:cNvPr id="206"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perda do paladar; redução da inervação do esôfago, da secreção de lipase e insulina, da metabolização hepática de medicamentos, da absorção de lipídeos no intestino delgado; dificuldade de esvaziamento biliar; no cólon, há enfraquecimento muscular, alteração de peristalse e dos plexos nervoos do esfíncter exterio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reto e ânus ocorre espessamento e alterações do colágeno e redução de força muscular, que diminuem a capacidade de retenção fecal volumosa; alterações de elasticidade retal e da sensibilidade à sua distensão (FERRIOLI, </a:t>
            </a:r>
            <a:r>
              <a:rPr b="0" i="1" lang="pt-BR" sz="2400" spc="-1" strike="noStrike">
                <a:solidFill>
                  <a:srgbClr val="000066"/>
                </a:solidFill>
                <a:latin typeface="Verdana"/>
              </a:rPr>
              <a:t>et al.</a:t>
            </a:r>
            <a:r>
              <a:rPr b="0" lang="pt-BR" sz="2400" spc="-1" strike="noStrike">
                <a:solidFill>
                  <a:srgbClr val="000066"/>
                </a:solidFill>
                <a:latin typeface="Verdana"/>
              </a:rPr>
              <a:t>, 2006).</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0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5EEC-AC04-4524-A641-2A46F763703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do sistema urinário</a:t>
            </a:r>
            <a:endParaRPr b="1" lang="en-US" sz="3200" spc="-1" strike="noStrike">
              <a:solidFill>
                <a:srgbClr val="ffffff"/>
              </a:solidFill>
              <a:latin typeface="Verdana"/>
            </a:endParaRPr>
          </a:p>
        </p:txBody>
      </p:sp>
      <p:sp>
        <p:nvSpPr>
          <p:cNvPr id="210" name=""/>
          <p:cNvSpPr txBox="1"/>
          <p:nvPr/>
        </p:nvSpPr>
        <p:spPr>
          <a:xfrm>
            <a:off x="539640" y="2204640"/>
            <a:ext cx="8382240" cy="2862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uma diminuição da função renal em cerca de 50% aos 80 anos (ERMIDA, 1995).</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trofia da uretra, com enfraquecimento da musculatura pélvica associado à perda de elasticidade uretral e de colo vesical favorecem o aumento de freqüência e urgência urinária e incontinência urinária de esforço (SOUZA, 2002).</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1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CE98-22C8-4998-97C7-5016AC61740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do sistema imunológico</a:t>
            </a:r>
            <a:endParaRPr b="1" lang="en-US" sz="3200" spc="-1" strike="noStrike">
              <a:solidFill>
                <a:srgbClr val="ffffff"/>
              </a:solidFill>
              <a:latin typeface="Verdana"/>
            </a:endParaRPr>
          </a:p>
        </p:txBody>
      </p:sp>
      <p:sp>
        <p:nvSpPr>
          <p:cNvPr id="214" name=""/>
          <p:cNvSpPr txBox="1"/>
          <p:nvPr/>
        </p:nvSpPr>
        <p:spPr>
          <a:xfrm>
            <a:off x="456840" y="1268280"/>
            <a:ext cx="8381880" cy="4903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 o aumento da idade, desenvolvem-se as patologias infecciosas e alguns tipos de cânceres. E estes problemas podem estar associados com a diminuição gradual das funções do sistema imunológic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terioração da função imunitária associada ao processo de envelhecimento se denomina imunosenescência, que contribui de maneira importante a maior morbidade e mortalidade observada nos mais velhos, com maior incidência de infecções do trato respiratório e urinário (ROBINSON </a:t>
            </a:r>
            <a:r>
              <a:rPr b="0" i="1" lang="pt-BR" sz="2400" spc="-1" strike="noStrike">
                <a:solidFill>
                  <a:srgbClr val="000066"/>
                </a:solidFill>
                <a:latin typeface="Verdana"/>
              </a:rPr>
              <a:t>et al</a:t>
            </a:r>
            <a:r>
              <a:rPr b="0" lang="pt-BR" sz="2400" spc="-1" strike="noStrike">
                <a:solidFill>
                  <a:srgbClr val="000066"/>
                </a:solidFill>
                <a:latin typeface="Verdana"/>
              </a:rPr>
              <a:t>., 2001).</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1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9143-0B4E-4AA4-A689-143015B9E2C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ceito de Geriatria</a:t>
            </a:r>
            <a:endParaRPr b="1" lang="en-US" sz="3200" spc="-1" strike="noStrike">
              <a:solidFill>
                <a:srgbClr val="ffffff"/>
              </a:solidFill>
              <a:latin typeface="Verdana"/>
            </a:endParaRPr>
          </a:p>
        </p:txBody>
      </p:sp>
      <p:sp>
        <p:nvSpPr>
          <p:cNvPr id="218" name=""/>
          <p:cNvSpPr txBox="1"/>
          <p:nvPr/>
        </p:nvSpPr>
        <p:spPr>
          <a:xfrm>
            <a:off x="456840" y="1143000"/>
            <a:ext cx="838188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Geriatria é o ramo da Medicina que foca o estudo, a prevenção e o tratamento de doenças e da incapacidade em idades avançadas.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O termo deve ser distinto de Gerontologia, que é o estudo do envelhecimento em si.</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Geriatras são médicos especializados no cuidado ao idoso e têm sua formação variável em diferentes países, mas geralmente esta passa por uma formação generalista e a seguir são treinados nos aspectos específicos da saúde do idoso.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tualmente, as formações em Geriatria são multiprofissionais, portanto, você pode ser enfermeiro geriatra.</a:t>
            </a:r>
            <a:endParaRPr b="1" lang="en-US" sz="2400" spc="-1" strike="noStrike">
              <a:solidFill>
                <a:srgbClr val="000066"/>
              </a:solidFill>
              <a:latin typeface="Verdan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1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A3C1-EBF5-4EE8-921A-489B8C7E346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228240"/>
            <a:ext cx="7467480" cy="608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mportância da Geriatria</a:t>
            </a:r>
            <a:endParaRPr b="1" lang="en-US" sz="3200" spc="-1" strike="noStrike">
              <a:solidFill>
                <a:srgbClr val="ffffff"/>
              </a:solidFill>
              <a:latin typeface="Verdana"/>
            </a:endParaRPr>
          </a:p>
        </p:txBody>
      </p:sp>
      <p:sp>
        <p:nvSpPr>
          <p:cNvPr id="222" name=""/>
          <p:cNvSpPr txBox="1"/>
          <p:nvPr/>
        </p:nvSpPr>
        <p:spPr>
          <a:xfrm>
            <a:off x="456840" y="1628280"/>
            <a:ext cx="8381880" cy="45435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 Geriatria tem sua importância n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anutenção da Saúde em idades avançad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anutenção da funcion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revenção de doenç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Detecção e tratamento precoc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áximo grau de independ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uidado e apoio durante doenças termin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Tratamentos seguro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477D-8AF9-4999-91FE-091D752619C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eriatria no Mundo</a:t>
            </a:r>
            <a:endParaRPr b="1" lang="en-US" sz="3200" spc="-1" strike="noStrike">
              <a:solidFill>
                <a:srgbClr val="ffffff"/>
              </a:solidFill>
              <a:latin typeface="Verdana"/>
            </a:endParaRPr>
          </a:p>
        </p:txBody>
      </p:sp>
      <p:sp>
        <p:nvSpPr>
          <p:cNvPr id="226" name=""/>
          <p:cNvSpPr txBox="1"/>
          <p:nvPr/>
        </p:nvSpPr>
        <p:spPr>
          <a:xfrm>
            <a:off x="468000" y="1125000"/>
            <a:ext cx="8381880" cy="5040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Geriatria não é reconhecida como especialidade em vários países do mundo (exemplo, Portug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Alemanha, geriatras não são autorizados a tratar pacientes com doença de Alzheime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hina tem mais de 100 milhões de idosos e nenhum geriatr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geriatras do Paquistão e da Índia cuidam de idosos inglese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Grande número de enfermeiras polonesas preferem ser cuidadoras de idosos alemães. </a:t>
            </a:r>
            <a:endParaRPr b="1" lang="en-US" sz="2400" spc="-1" strike="noStrike">
              <a:solidFill>
                <a:srgbClr val="000066"/>
              </a:solidFill>
              <a:latin typeface="Verdana"/>
            </a:endParaRPr>
          </a:p>
        </p:txBody>
      </p:sp>
      <p:sp>
        <p:nvSpPr>
          <p:cNvPr id="22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9284-DB51-4AD8-B9EC-EA568F73E8C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1835280" y="1125360"/>
            <a:ext cx="7014960" cy="5112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o final desta sessão os estudantes deverão ser capazes 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ceituar envelhec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xplicar o processo fisiológico do envelhec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finir Geriatria e sua importâ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hecer os princípios básicos da assistência de enfermagem ao idos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screver aspectos gerais da organização e funcionamento de serviços de atenção ao idoso;</a:t>
            </a:r>
            <a:endParaRPr b="1" lang="en-US" sz="24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67D4-3027-4B1C-83D2-9B3998479F5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468360" y="2492280"/>
            <a:ext cx="1871640" cy="203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eriatria no Mundo</a:t>
            </a:r>
            <a:endParaRPr b="1" lang="en-US" sz="3200" spc="-1" strike="noStrike">
              <a:solidFill>
                <a:srgbClr val="ffffff"/>
              </a:solidFill>
              <a:latin typeface="Verdana"/>
            </a:endParaRPr>
          </a:p>
        </p:txBody>
      </p:sp>
      <p:sp>
        <p:nvSpPr>
          <p:cNvPr id="230"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s Estados Unidos a Geriatria, com exceção de alguns serviços universitários e hospitais dos veteranos, é uma especialidade ambulatorial.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e é um dos motivos para o declínio do número de médicos que procuram treinamento em Geriatria nos Estados Unidos e no Canadá.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Reino Unido, referência em Geriatria, as coisas mudaram. A estrutura básica da Medicina geriátrica, centrada no hospital, e a liderança do geriatra na equipe de reabilitação têm sido questionadas. Várias universidades, incluindo Birmingham não mais têm professor de Geriatri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F86F-5DD2-4538-B03F-0C2EA37EBD6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eriatria no Mundo</a:t>
            </a:r>
            <a:endParaRPr b="1" lang="en-US" sz="3200" spc="-1" strike="noStrike">
              <a:solidFill>
                <a:srgbClr val="ffffff"/>
              </a:solidFill>
              <a:latin typeface="Verdana"/>
            </a:endParaRPr>
          </a:p>
        </p:txBody>
      </p:sp>
      <p:sp>
        <p:nvSpPr>
          <p:cNvPr id="234" name=""/>
          <p:cNvSpPr txBox="1"/>
          <p:nvPr/>
        </p:nvSpPr>
        <p:spPr>
          <a:xfrm>
            <a:off x="456840" y="1197000"/>
            <a:ext cx="8381880" cy="4975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Medicina geriátrica teve um desenvolvimento modesto nos hospitais brasileiros, não obstante os exemplos do Hospital dos Servidores de Minas Gerais, Hospital das Clínicas da USP, o Instituto de Geriatria da PUC - Porto Alegre e o serviço de Geriatria do Hospital Santo Antônio, da Irmã Dulce, em Salvador-B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cente inauguração de um completo centro de referência para idosos ocorreu em Montes Claros, interior de Minas Gerais - o entusiasmo dos jovens geriatras e gerontólogos não está restrito às capitais. </a:t>
            </a:r>
            <a:endParaRPr b="1" lang="en-US" sz="2400" spc="-1" strike="noStrike">
              <a:solidFill>
                <a:srgbClr val="000066"/>
              </a:solidFill>
              <a:latin typeface="Verdana"/>
            </a:endParaRPr>
          </a:p>
        </p:txBody>
      </p:sp>
      <p:sp>
        <p:nvSpPr>
          <p:cNvPr id="23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2780-5DA3-4FCE-BB91-15AD6AA89B5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aúde do idoso em Moçambique</a:t>
            </a:r>
            <a:endParaRPr b="1" lang="en-US" sz="3200" spc="-1" strike="noStrike">
              <a:solidFill>
                <a:srgbClr val="ffffff"/>
              </a:solidFill>
              <a:latin typeface="Verdana"/>
            </a:endParaRPr>
          </a:p>
        </p:txBody>
      </p:sp>
      <p:sp>
        <p:nvSpPr>
          <p:cNvPr id="238" name=""/>
          <p:cNvSpPr txBox="1"/>
          <p:nvPr/>
        </p:nvSpPr>
        <p:spPr>
          <a:xfrm>
            <a:off x="456840" y="1557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Gestores de serviços de cuidados a idosos de Moçambique planeiam, gerem, coordenam e avaliam a provisão de serviços de cuidados residenciais e pessoais a indivíduos e famílias com necessidades relacionadas ao envelhecimen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Ministério da Saúde conta com a Política de Saúde do Idoso e Estratégias para sua implementação, aprovada pelo Conselho de Ministro conforme Resolução no. 84/2002.</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3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1D35-B640-4B16-8A82-7DBC18B727E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Princípios básicos e importância da assistência de enfermagem ao idoso</a:t>
            </a:r>
            <a:endParaRPr b="1" lang="en-US" sz="2800" spc="-1" strike="noStrike">
              <a:solidFill>
                <a:srgbClr val="ffffff"/>
              </a:solidFill>
              <a:latin typeface="Verdana"/>
            </a:endParaRPr>
          </a:p>
        </p:txBody>
      </p:sp>
      <p:sp>
        <p:nvSpPr>
          <p:cNvPr id="242" name=""/>
          <p:cNvSpPr txBox="1"/>
          <p:nvPr/>
        </p:nvSpPr>
        <p:spPr>
          <a:xfrm>
            <a:off x="539640" y="1413000"/>
            <a:ext cx="83822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maior desafio na atenção ao idoso é contribuir para que, apesar das progressivas limitações que possam ocorrer, este possa redescobrir possibilidades de viver sua própria vida com a máxima qualidade possíve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sas possibilidades aumentam na medida em que a sociedade considera o contexto familiar e social e consegue reconhecer as potencialidades e o valor dos idoso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ortanto, parte das dificuldades dos idosos está mais relacionada a uma cultura que os desvaloriza e limita.</a:t>
            </a:r>
            <a:endParaRPr b="1" lang="en-US" sz="2400" spc="-1" strike="noStrike">
              <a:solidFill>
                <a:srgbClr val="000066"/>
              </a:solidFill>
              <a:latin typeface="Verdana"/>
            </a:endParaRPr>
          </a:p>
        </p:txBody>
      </p:sp>
      <p:sp>
        <p:nvSpPr>
          <p:cNvPr id="2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2CF3-62F2-42B4-AAB6-68AF38438F2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250560" y="1125360"/>
            <a:ext cx="4862520" cy="5499360"/>
          </a:xfrm>
          <a:prstGeom prst="rect">
            <a:avLst/>
          </a:prstGeom>
          <a:noFill/>
          <a:ln w="0">
            <a:noFill/>
          </a:ln>
        </p:spPr>
        <p:txBody>
          <a:bodyPr anchor="t">
            <a:normAutofit/>
          </a:bodyPr>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O enfermeiro pode favorecer que o idoso, no hospital ou no asilo, se considere em casa, em local privativo e sob seu control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Deve permitir ao idoso expressar sentimentos e valores, dispor objectos pessoais, religiosos e outros de uso diário. </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A equipe de enfermagem deve zelar pela unidade do utente sem desrespeitar sua privacidade.</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46" name="Espaço Reservado para Número de Slide 3"/>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EC98-7BB4-490E-AEF8-01882158F211}" type="slidenum">
              <a:rPr b="0" lang="en-US"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47" name="Picture 6" descr="http://t3.gstatic.com/images?q=tbn:zICT4hRf-6qxlM:http://www.preceonline.com.br/ntc/fotos/ter%C3%A7o.jpg">
            <a:hlinkClick r:id="rId1"/>
          </p:cNvPr>
          <p:cNvPicPr/>
          <p:nvPr/>
        </p:nvPicPr>
        <p:blipFill>
          <a:blip r:embed="rId2"/>
          <a:stretch/>
        </p:blipFill>
        <p:spPr>
          <a:xfrm>
            <a:off x="6948360" y="1700280"/>
            <a:ext cx="2195640" cy="2193840"/>
          </a:xfrm>
          <a:prstGeom prst="rect">
            <a:avLst/>
          </a:prstGeom>
          <a:ln w="0">
            <a:noFill/>
          </a:ln>
        </p:spPr>
      </p:pic>
      <p:pic>
        <p:nvPicPr>
          <p:cNvPr id="248" name="Picture 8" descr="http://t2.gstatic.com/images?q=tbn:cfKSMGCOb67t4M:http://www.digitaldrops.com.br/drops/imagens/MagnoRadio1.jpg">
            <a:hlinkClick r:id="rId3"/>
          </p:cNvPr>
          <p:cNvPicPr/>
          <p:nvPr/>
        </p:nvPicPr>
        <p:blipFill>
          <a:blip r:embed="rId4"/>
          <a:stretch/>
        </p:blipFill>
        <p:spPr>
          <a:xfrm>
            <a:off x="5148360" y="1341360"/>
            <a:ext cx="1584360" cy="2308320"/>
          </a:xfrm>
          <a:prstGeom prst="rect">
            <a:avLst/>
          </a:prstGeom>
          <a:ln w="0">
            <a:noFill/>
          </a:ln>
        </p:spPr>
      </p:pic>
      <p:sp>
        <p:nvSpPr>
          <p:cNvPr id="249" name="Espaço Reservado para Rodapé 8"/>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50" name="PlaceHolder 1"/>
          <p:cNvSpPr>
            <a:spLocks noGrp="1"/>
          </p:cNvSpPr>
          <p:nvPr>
            <p:ph type="title"/>
          </p:nvPr>
        </p:nvSpPr>
        <p:spPr>
          <a:xfrm>
            <a:off x="1042560" y="189000"/>
            <a:ext cx="7777080" cy="914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Princípios básicos e importância da assistência de enfermagem ao idoso</a:t>
            </a:r>
            <a:endParaRPr b="1" lang="en-US" sz="2800" spc="-1" strike="noStrike">
              <a:solidFill>
                <a:srgbClr val="ffffff"/>
              </a:solidFill>
              <a:latin typeface="Verdana"/>
            </a:endParaRPr>
          </a:p>
        </p:txBody>
      </p:sp>
      <p:pic>
        <p:nvPicPr>
          <p:cNvPr id="251" name="Picture 9" descr="fichario">
            <a:hlinkClick r:id="rId5"/>
          </p:cNvPr>
          <p:cNvPicPr/>
          <p:nvPr/>
        </p:nvPicPr>
        <p:blipFill>
          <a:blip r:embed="rId6"/>
          <a:stretch/>
        </p:blipFill>
        <p:spPr>
          <a:xfrm>
            <a:off x="6372360" y="3789360"/>
            <a:ext cx="1331640" cy="135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456840" y="1197000"/>
            <a:ext cx="8435880" cy="4968720"/>
          </a:xfrm>
          <a:prstGeom prst="rect">
            <a:avLst/>
          </a:prstGeom>
          <a:noFill/>
          <a:ln w="0">
            <a:noFill/>
          </a:ln>
        </p:spPr>
        <p:txBody>
          <a:bodyPr anchor="t">
            <a:normAutofit/>
          </a:bodyPr>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Manter a cama com roupas  limpas, secas e bem esticadas (o idoso tem elevado risco para úlceras por pressã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Roupas sujas ou húmidas devem ser deitadas em recipiente para roupa suja;</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Manter o ambiente arejado e iluminado, conforme a vontade do idos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Manter arrastadeira, escarradeira, urinol, limpos e ao alcance do idos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Estar atento para as limitações de cada idoso, evitando constrangimentos durante solicitações ou ser convidada para auxiliá-l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53" name="Espaço Reservado para Número de Slide 3"/>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E83C-6BEC-4E17-98A7-F53A43601FFD}" type="slidenum">
              <a:rPr b="0" lang="en-US"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54" name="Espaço Reservado para Rodapé 6"/>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55" name="PlaceHolder 1"/>
          <p:cNvSpPr>
            <a:spLocks noGrp="1"/>
          </p:cNvSpPr>
          <p:nvPr>
            <p:ph type="title"/>
          </p:nvPr>
        </p:nvSpPr>
        <p:spPr>
          <a:xfrm>
            <a:off x="1258560" y="189000"/>
            <a:ext cx="7467480" cy="914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Princípios básicos e importância da assistência de enfermagem ao idoso</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395280" y="2492280"/>
            <a:ext cx="4897440" cy="2376720"/>
          </a:xfrm>
          <a:prstGeom prst="rect">
            <a:avLst/>
          </a:prstGeom>
          <a:noFill/>
          <a:ln w="0">
            <a:noFill/>
          </a:ln>
        </p:spPr>
        <p:txBody>
          <a:bodyPr anchor="t">
            <a:normAutofit/>
          </a:bodyPr>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77"/>
                </a:solidFill>
                <a:latin typeface="Verdana"/>
              </a:rPr>
              <a:t>Assegurar recipiente com água potável e copo ao alcance do idoso (hidratação é fundamental nessa faixa etária);</a:t>
            </a:r>
            <a:endParaRPr b="1" lang="en-US" sz="2400" spc="-1" strike="noStrike">
              <a:solidFill>
                <a:srgbClr val="000066"/>
              </a:solidFill>
              <a:latin typeface="Verdan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57" name="Espaço Reservado para Número de Slide 3"/>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0573-8561-439B-9B9F-027FDFBE4803}" type="slidenum">
              <a:rPr b="0" lang="en-US"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58" name="Picture 2" descr="http://t0.gstatic.com/images?q=tbn:N6RUBJmi0cwqzM:http://shop.hokohoko.com/images/_original/ts_np_nachttisch_weiss_02.png"/>
          <p:cNvPicPr/>
          <p:nvPr/>
        </p:nvPicPr>
        <p:blipFill>
          <a:blip r:embed="rId1"/>
          <a:stretch/>
        </p:blipFill>
        <p:spPr>
          <a:xfrm>
            <a:off x="5357880" y="1928880"/>
            <a:ext cx="1428840" cy="1714320"/>
          </a:xfrm>
          <a:prstGeom prst="rect">
            <a:avLst/>
          </a:prstGeom>
          <a:ln w="0">
            <a:noFill/>
          </a:ln>
        </p:spPr>
      </p:pic>
      <p:pic>
        <p:nvPicPr>
          <p:cNvPr id="259" name="Picture 4" descr="http://t2.gstatic.com/images?q=tbn:BL8OApVZcbHvVM:http://catalogohospitalar.com.br/img/produtos/9672/01.jpg"/>
          <p:cNvPicPr/>
          <p:nvPr/>
        </p:nvPicPr>
        <p:blipFill>
          <a:blip r:embed="rId2"/>
          <a:stretch/>
        </p:blipFill>
        <p:spPr>
          <a:xfrm>
            <a:off x="5929200" y="3429000"/>
            <a:ext cx="2071800" cy="2786040"/>
          </a:xfrm>
          <a:prstGeom prst="rect">
            <a:avLst/>
          </a:prstGeom>
          <a:ln w="0">
            <a:noFill/>
          </a:ln>
        </p:spPr>
      </p:pic>
      <p:pic>
        <p:nvPicPr>
          <p:cNvPr id="260" name="Picture 8" descr="Ver imagem em tamanho grande"/>
          <p:cNvPicPr/>
          <p:nvPr/>
        </p:nvPicPr>
        <p:blipFill>
          <a:blip r:embed="rId3"/>
          <a:stretch/>
        </p:blipFill>
        <p:spPr>
          <a:xfrm>
            <a:off x="6572160" y="2000160"/>
            <a:ext cx="1500120" cy="1690920"/>
          </a:xfrm>
          <a:prstGeom prst="rect">
            <a:avLst/>
          </a:prstGeom>
          <a:ln w="0">
            <a:noFill/>
          </a:ln>
        </p:spPr>
      </p:pic>
      <p:sp>
        <p:nvSpPr>
          <p:cNvPr id="261" name="Espaço Reservado para Rodapé 7"/>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62" name="PlaceHolder 1"/>
          <p:cNvSpPr>
            <a:spLocks noGrp="1"/>
          </p:cNvSpPr>
          <p:nvPr>
            <p:ph type="title"/>
          </p:nvPr>
        </p:nvSpPr>
        <p:spPr>
          <a:xfrm>
            <a:off x="1371240" y="304920"/>
            <a:ext cx="7467480" cy="914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Princípios básicos e importância da assistência de enfermagem ao idoso</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240" y="228240"/>
            <a:ext cx="746748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Organização e funcionamento dos serviços de atendimento ao idoso</a:t>
            </a:r>
            <a:endParaRPr b="1" lang="en-US" sz="2800" spc="-1" strike="noStrike">
              <a:solidFill>
                <a:srgbClr val="ffffff"/>
              </a:solidFill>
              <a:latin typeface="Verdana"/>
            </a:endParaRPr>
          </a:p>
        </p:txBody>
      </p:sp>
      <p:sp>
        <p:nvSpPr>
          <p:cNvPr id="264"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dependência é o maior temor nessa faixa etária e evitá-la ou postergá-la passa a ser uma função da equipe de saúde, em especial na Atenção Básic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cuidado ao idoso deve ser um trabalho conjunto entre equipe de saúde, idoso e família.</a:t>
            </a:r>
            <a:endParaRPr b="1" lang="en-US" sz="2400" spc="-1" strike="noStrike">
              <a:solidFill>
                <a:srgbClr val="000066"/>
              </a:solidFill>
              <a:latin typeface="Verdana"/>
            </a:endParaRPr>
          </a:p>
        </p:txBody>
      </p:sp>
      <p:sp>
        <p:nvSpPr>
          <p:cNvPr id="26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6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3A42-3357-48DC-9AEC-3F47EFCFD07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67" name="Imagem 5" descr="http://t1.gstatic.com/images?q=tbn:ANd9GcQeGNzVfV2MGhowg1kGbNG0CIT6ENYhr0xFaFgZAr8l5mCmjsU7"/>
          <p:cNvPicPr/>
          <p:nvPr/>
        </p:nvPicPr>
        <p:blipFill>
          <a:blip r:embed="rId1"/>
          <a:stretch/>
        </p:blipFill>
        <p:spPr>
          <a:xfrm>
            <a:off x="2916360" y="3500280"/>
            <a:ext cx="3816360" cy="2928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Organização e funcionamento dos serviços de atendimento ao idoso</a:t>
            </a:r>
            <a:endParaRPr b="1" lang="en-US" sz="2800" spc="-1" strike="noStrike">
              <a:solidFill>
                <a:srgbClr val="ffffff"/>
              </a:solidFill>
              <a:latin typeface="Verdana"/>
            </a:endParaRPr>
          </a:p>
        </p:txBody>
      </p:sp>
      <p:sp>
        <p:nvSpPr>
          <p:cNvPr id="269" name=""/>
          <p:cNvSpPr txBox="1"/>
          <p:nvPr/>
        </p:nvSpPr>
        <p:spPr>
          <a:xfrm>
            <a:off x="456840" y="1268280"/>
            <a:ext cx="8381880" cy="4903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romoção da saúde do idoso na atenção básica deve inclui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cções de promoção da alimentação saudáve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centivo a prática corporal/atividade físic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evenção e controle do tabagismo, do alcoolismo e de outras drog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dução da morbidade e da mortalidade por acidentes de trânsi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evenção da violência contra o idoso e estímulo à cultura de paz;</a:t>
            </a:r>
            <a:endParaRPr b="1" lang="en-US" sz="2400" spc="-1" strike="noStrike">
              <a:solidFill>
                <a:srgbClr val="000066"/>
              </a:solidFill>
              <a:latin typeface="Verdana"/>
            </a:endParaRPr>
          </a:p>
        </p:txBody>
      </p:sp>
      <p:sp>
        <p:nvSpPr>
          <p:cNvPr id="27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051F-FAF2-4C7F-B811-533AC84FDCD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Organização e funcionamento dos serviços de atendimento ao idoso</a:t>
            </a:r>
            <a:endParaRPr b="1" lang="en-US" sz="2800" spc="-1" strike="noStrike">
              <a:solidFill>
                <a:srgbClr val="ffffff"/>
              </a:solidFill>
              <a:latin typeface="Verdana"/>
            </a:endParaRPr>
          </a:p>
        </p:txBody>
      </p:sp>
      <p:sp>
        <p:nvSpPr>
          <p:cNvPr id="273" name=""/>
          <p:cNvSpPr txBox="1"/>
          <p:nvPr/>
        </p:nvSpPr>
        <p:spPr>
          <a:xfrm>
            <a:off x="394920" y="1341360"/>
            <a:ext cx="8381880" cy="4896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tenção à saúde do idoso na Atenção Básica, quer por demanda espontânea ou por busca activa deve tomar por base a visita domiciliária, para proporcionar um processo diagnóstico multidimension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se diagnóstico é influenciado pelos factore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mbiente onde o idoso viv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lação profissional de saúde/pessoa idosa e profissional de saúde/ familiar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istória clínica - aspectos biológicos, psíquicos, funcionais e soci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xame físico.</a:t>
            </a:r>
            <a:endParaRPr b="1" lang="en-US" sz="2400" spc="-1" strike="noStrike">
              <a:solidFill>
                <a:srgbClr val="000066"/>
              </a:solidFill>
              <a:latin typeface="Verdana"/>
            </a:endParaRPr>
          </a:p>
        </p:txBody>
      </p:sp>
      <p:sp>
        <p:nvSpPr>
          <p:cNvPr id="27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0AFE-CD62-4CA6-9588-28DD34A2A6E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03" name=""/>
          <p:cNvSpPr txBox="1"/>
          <p:nvPr/>
        </p:nvSpPr>
        <p:spPr>
          <a:xfrm>
            <a:off x="468000" y="1197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longevidade (vida longa) é um triunfo, um prêmi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 no entanto, importantes diferenças entre os países desenvolvidos e os países em desenvolv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quanto, nos primeiros, o envelhecimento ocorreu associado às melhorias nas condições gerais de vida, nos outros, esse processo acontece de forma rápida, sem tempo para uma reorganização social e da área da saúde, adequadas para atender às novas demandas emergentes do referido grupo.</a:t>
            </a:r>
            <a:endParaRPr b="1" lang="en-US" sz="2400" spc="-1" strike="noStrike">
              <a:solidFill>
                <a:srgbClr val="000066"/>
              </a:solidFill>
              <a:latin typeface="Verdana"/>
            </a:endParaRPr>
          </a:p>
        </p:txBody>
      </p:sp>
      <p:sp>
        <p:nvSpPr>
          <p:cNvPr id="10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D4FD-0F9D-4096-B956-DF61587EFC8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Organização e funcionamento dos serviços de atendimento ao idoso</a:t>
            </a:r>
            <a:endParaRPr b="1" lang="en-US" sz="2800" spc="-1" strike="noStrike">
              <a:solidFill>
                <a:srgbClr val="ffffff"/>
              </a:solidFill>
              <a:latin typeface="Verdana"/>
            </a:endParaRPr>
          </a:p>
        </p:txBody>
      </p:sp>
      <p:sp>
        <p:nvSpPr>
          <p:cNvPr id="277" name=""/>
          <p:cNvSpPr txBox="1"/>
          <p:nvPr/>
        </p:nvSpPr>
        <p:spPr>
          <a:xfrm>
            <a:off x="324000" y="1052640"/>
            <a:ext cx="882000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OMS propôs, em 2002, o projeto “</a:t>
            </a:r>
            <a:r>
              <a:rPr b="0" i="1" lang="pt-BR" sz="2400" spc="-1" strike="noStrike">
                <a:solidFill>
                  <a:srgbClr val="000066"/>
                </a:solidFill>
                <a:latin typeface="Verdana"/>
              </a:rPr>
              <a:t>Towards Age-friendly Primary Health Care</a:t>
            </a:r>
            <a:r>
              <a:rPr b="0" lang="pt-BR" sz="2400" spc="-1" strike="noStrike">
                <a:solidFill>
                  <a:srgbClr val="000066"/>
                </a:solidFill>
                <a:latin typeface="Verdana"/>
              </a:rPr>
              <a:t>”, cujo foco é a organização dos serviços para atender o idoso, através de três áreas de actuaçã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formação, Educação, Comunicação e Treinamento: busca-se melhorar as atitudes dos profissionais em avaliar e tratar as condições que afligem os idos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istema de Gestão da Assistência de Saúde: Organização da gestão da Atenção Básica, de acordo com as necessidades das pessoas idosas;</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dequação do ambiente físico: tornando-o mais acessível para as pessoas que possuam alguma limitação funcional.</a:t>
            </a:r>
            <a:endParaRPr b="1" lang="en-US" sz="2400" spc="-1" strike="noStrike">
              <a:solidFill>
                <a:srgbClr val="000066"/>
              </a:solidFill>
              <a:latin typeface="Verdana"/>
            </a:endParaRPr>
          </a:p>
        </p:txBody>
      </p:sp>
      <p:sp>
        <p:nvSpPr>
          <p:cNvPr id="27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EB14-1E2C-4682-8EC5-8FBF6CB4029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07" name=""/>
          <p:cNvSpPr txBox="1"/>
          <p:nvPr/>
        </p:nvSpPr>
        <p:spPr>
          <a:xfrm>
            <a:off x="250560" y="1125360"/>
            <a:ext cx="4033800" cy="432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Mangunde - Mozambique</a:t>
            </a:r>
            <a:endParaRPr b="1" lang="en-US" sz="20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2641-6DCE-4E0D-9A6B-EACC01160AC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10" name="Picture 14" descr="http://t0.gstatic.com/images?q=tbn:ANd9GcQ1XHDDoSeZDKuICWguDoJFi9s0gpDU6gV1JT4vWgBwujy7s-_d2g"/>
          <p:cNvPicPr/>
          <p:nvPr/>
        </p:nvPicPr>
        <p:blipFill>
          <a:blip r:embed="rId1"/>
          <a:stretch/>
        </p:blipFill>
        <p:spPr>
          <a:xfrm>
            <a:off x="250920" y="1557360"/>
            <a:ext cx="4105080" cy="3073320"/>
          </a:xfrm>
          <a:prstGeom prst="rect">
            <a:avLst/>
          </a:prstGeom>
          <a:ln w="0">
            <a:noFill/>
          </a:ln>
        </p:spPr>
      </p:pic>
      <p:sp>
        <p:nvSpPr>
          <p:cNvPr id="111" name="Retângulo 6"/>
          <p:cNvSpPr/>
          <p:nvPr/>
        </p:nvSpPr>
        <p:spPr>
          <a:xfrm>
            <a:off x="4500720" y="981000"/>
            <a:ext cx="44989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7d"/>
                </a:solidFill>
                <a:latin typeface="Verdana"/>
              </a:rPr>
              <a:t>“</a:t>
            </a:r>
            <a:r>
              <a:rPr b="0" lang="pt-BR" sz="2400" spc="-1" strike="noStrike">
                <a:solidFill>
                  <a:srgbClr val="00007d"/>
                </a:solidFill>
                <a:latin typeface="Verdana"/>
              </a:rPr>
              <a:t>A vida em Mangunde não é fácil para ninguém, porém é mais difícil para os idosos que, muitas vezes, ficam sem família, isolados e sem sustento. Quando suas cabanas são  arrebatadas pelo vento, ficam inviáveis de reparar.  O preconceito contra eles é muito forte, pois se considera que o idoso exerça a bruxaria e viva muito, porque “rouba” a vida aos mais jovens”.</a:t>
            </a:r>
            <a:endParaRPr b="0" lang="en-US" sz="2400" spc="-1" strike="noStrike">
              <a:solidFill>
                <a:srgbClr val="000000"/>
              </a:solidFill>
              <a:latin typeface="Verdana"/>
            </a:endParaRPr>
          </a:p>
        </p:txBody>
      </p:sp>
      <p:sp>
        <p:nvSpPr>
          <p:cNvPr id="112" name="CaixaDeTexto 7"/>
          <p:cNvSpPr/>
          <p:nvPr/>
        </p:nvSpPr>
        <p:spPr>
          <a:xfrm>
            <a:off x="250920" y="4869000"/>
            <a:ext cx="3960720" cy="131364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so não significa que nos países pobres ou em Moçambique todos os idosos estejam assi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14" name=""/>
          <p:cNvSpPr txBox="1"/>
          <p:nvPr/>
        </p:nvSpPr>
        <p:spPr>
          <a:xfrm>
            <a:off x="456840" y="1143000"/>
            <a:ext cx="8381880" cy="15652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2"/>
                </a:solidFill>
                <a:latin typeface="Verdana"/>
              </a:rPr>
              <a:t>Em países em desenvolvimento e, em particular Moçambique, também há iniciativas de amparo aos idosos, mas a organização social e da saúde ainda é lenta.</a:t>
            </a:r>
            <a:endParaRPr b="1" lang="en-US" sz="2400" spc="-1" strike="noStrike">
              <a:solidFill>
                <a:srgbClr val="000066"/>
              </a:solidFill>
              <a:latin typeface="Verdana"/>
            </a:endParaRPr>
          </a:p>
        </p:txBody>
      </p:sp>
      <p:sp>
        <p:nvSpPr>
          <p:cNvPr id="11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E76B-14BC-49B8-A701-D97872E81D7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17" name="Picture 6" descr="http://dream.santegidio.org/UserFiles/image/news/2011/201110/Distribuzione%20Mangunde%201%20ottobre%202011%2010.JPG"/>
          <p:cNvPicPr/>
          <p:nvPr/>
        </p:nvPicPr>
        <p:blipFill>
          <a:blip r:embed="rId1"/>
          <a:stretch/>
        </p:blipFill>
        <p:spPr>
          <a:xfrm>
            <a:off x="324000" y="2852640"/>
            <a:ext cx="3954240" cy="2965680"/>
          </a:xfrm>
          <a:prstGeom prst="rect">
            <a:avLst/>
          </a:prstGeom>
          <a:ln w="0">
            <a:noFill/>
          </a:ln>
        </p:spPr>
      </p:pic>
      <p:pic>
        <p:nvPicPr>
          <p:cNvPr id="118" name="Picture 2" descr="http://dream.santegidio.org/UserFiles/image/news/2011/201110/Distribuzione%20Mangunde%201%20ottobre%202011%2011.JPG"/>
          <p:cNvPicPr/>
          <p:nvPr/>
        </p:nvPicPr>
        <p:blipFill>
          <a:blip r:embed="rId2"/>
          <a:stretch/>
        </p:blipFill>
        <p:spPr>
          <a:xfrm>
            <a:off x="4788000" y="3141720"/>
            <a:ext cx="4032000" cy="302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20" name=""/>
          <p:cNvSpPr txBox="1"/>
          <p:nvPr/>
        </p:nvSpPr>
        <p:spPr>
          <a:xfrm>
            <a:off x="3851280" y="5084640"/>
            <a:ext cx="2233440" cy="72072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ão os países</a:t>
            </a:r>
            <a:endParaRPr b="1" lang="en-US" sz="2000" spc="-1" strike="noStrike">
              <a:solidFill>
                <a:srgbClr val="000066"/>
              </a:solidFill>
              <a:latin typeface="Verdan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desenvolvidos </a:t>
            </a:r>
            <a:endParaRPr b="1" lang="en-US" sz="2000" spc="-1" strike="noStrike">
              <a:solidFill>
                <a:srgbClr val="000066"/>
              </a:solidFill>
              <a:latin typeface="Verdan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2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E322-D114-4AF9-9E87-3E09E8E6387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3" name="Picture 2" descr="http://t0.gstatic.com/images?q=tbn:ANd9GcQ8qehW0hLzZfzAqgCHopVaIt89MtUpYawQAuV4EOTEfJS5I87h"/>
          <p:cNvPicPr/>
          <p:nvPr/>
        </p:nvPicPr>
        <p:blipFill>
          <a:blip r:embed="rId1"/>
          <a:stretch/>
        </p:blipFill>
        <p:spPr>
          <a:xfrm>
            <a:off x="395280" y="1125360"/>
            <a:ext cx="2755800" cy="2062440"/>
          </a:xfrm>
          <a:prstGeom prst="rect">
            <a:avLst/>
          </a:prstGeom>
          <a:ln w="0">
            <a:noFill/>
          </a:ln>
        </p:spPr>
      </p:pic>
      <p:pic>
        <p:nvPicPr>
          <p:cNvPr id="124" name="Picture 4" descr="http://t2.gstatic.com/images?q=tbn:ANd9GcSRij7RtCQKs9PH2mLCILy-ax-yGmliZHW7RvV6m-RZJKV84qWJDg"/>
          <p:cNvPicPr/>
          <p:nvPr/>
        </p:nvPicPr>
        <p:blipFill>
          <a:blip r:embed="rId2"/>
          <a:stretch/>
        </p:blipFill>
        <p:spPr>
          <a:xfrm>
            <a:off x="3276720" y="1052640"/>
            <a:ext cx="3317760" cy="2016000"/>
          </a:xfrm>
          <a:prstGeom prst="rect">
            <a:avLst/>
          </a:prstGeom>
          <a:ln w="0">
            <a:noFill/>
          </a:ln>
        </p:spPr>
      </p:pic>
      <p:pic>
        <p:nvPicPr>
          <p:cNvPr id="125" name="Picture 6" descr="http://t0.gstatic.com/images?q=tbn:ANd9GcSbbL5QqEL0LDPwrrvHZdk8HlLVKkM9kT4DoOdGDE2rosQ84ltc5A"/>
          <p:cNvPicPr/>
          <p:nvPr/>
        </p:nvPicPr>
        <p:blipFill>
          <a:blip r:embed="rId3"/>
          <a:stretch/>
        </p:blipFill>
        <p:spPr>
          <a:xfrm>
            <a:off x="468360" y="3933720"/>
            <a:ext cx="3136680" cy="2087640"/>
          </a:xfrm>
          <a:prstGeom prst="rect">
            <a:avLst/>
          </a:prstGeom>
          <a:ln w="0">
            <a:noFill/>
          </a:ln>
        </p:spPr>
      </p:pic>
      <p:pic>
        <p:nvPicPr>
          <p:cNvPr id="126" name="Picture 8" descr="http://t3.gstatic.com/images?q=tbn:ANd9GcRgTqXV3ycFmwWjbHUwWXk_1_CHJ85uaaGHjGENxtfOkh8PDWP04g"/>
          <p:cNvPicPr/>
          <p:nvPr/>
        </p:nvPicPr>
        <p:blipFill>
          <a:blip r:embed="rId4"/>
          <a:stretch/>
        </p:blipFill>
        <p:spPr>
          <a:xfrm>
            <a:off x="3780000" y="3213000"/>
            <a:ext cx="2457360" cy="1866960"/>
          </a:xfrm>
          <a:prstGeom prst="rect">
            <a:avLst/>
          </a:prstGeom>
          <a:ln w="0">
            <a:noFill/>
          </a:ln>
        </p:spPr>
      </p:pic>
      <p:sp>
        <p:nvSpPr>
          <p:cNvPr id="127" name="AutoShape 10"/>
          <p:cNvSpPr/>
          <p:nvPr/>
        </p:nvSpPr>
        <p:spPr>
          <a:xfrm>
            <a:off x="63360" y="-843120"/>
            <a:ext cx="2638440" cy="1733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28" name="Picture 12" descr="http://t1.gstatic.com/images?q=tbn:ANd9GcQ6XSltyztcl1V26jfx4BvAlkq043Zi-79pEH9M-SjZ6Es9N5ds"/>
          <p:cNvPicPr/>
          <p:nvPr/>
        </p:nvPicPr>
        <p:blipFill>
          <a:blip r:embed="rId5"/>
          <a:stretch/>
        </p:blipFill>
        <p:spPr>
          <a:xfrm>
            <a:off x="6588000" y="1052640"/>
            <a:ext cx="2340000" cy="2189160"/>
          </a:xfrm>
          <a:prstGeom prst="rect">
            <a:avLst/>
          </a:prstGeom>
          <a:ln w="0">
            <a:noFill/>
          </a:ln>
        </p:spPr>
      </p:pic>
      <p:pic>
        <p:nvPicPr>
          <p:cNvPr id="129" name="Picture 14" descr="http://t2.gstatic.com/images?q=tbn:ANd9GcQXfXXrqKNMRb7uXZwG0qN6W4yf19TbI8Wqjh8kr6SUXeRPt6EVXA"/>
          <p:cNvPicPr/>
          <p:nvPr/>
        </p:nvPicPr>
        <p:blipFill>
          <a:blip r:embed="rId6"/>
          <a:stretch/>
        </p:blipFill>
        <p:spPr>
          <a:xfrm>
            <a:off x="6372360" y="3933720"/>
            <a:ext cx="2504880" cy="208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3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uitos idosos são acometidos por Doenças Crônicos Não Transmissíveis (DCNT) - estados permanentes ou de longa permanência que requerem assistênc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sas condições crônicas tendem a se manifestar de forma expressiva na idade mais avançada e, freqüentemente, estão associad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dem gerar incapacidades, afetando a funcionalidade e o desempenho de suas atividades cotidianas de forma independent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inda que não sejam fatais, essas condições tendem a comprometer a qualidade de vida dos idosos.</a:t>
            </a:r>
            <a:endParaRPr b="1" lang="en-US" sz="2400" spc="-1" strike="noStrike">
              <a:solidFill>
                <a:srgbClr val="000066"/>
              </a:solidFill>
              <a:latin typeface="Verdana"/>
            </a:endParaRPr>
          </a:p>
        </p:txBody>
      </p:sp>
      <p:sp>
        <p:nvSpPr>
          <p:cNvPr id="13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B2D0-F01F-4967-BC96-A3A530E2DD9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35" name=""/>
          <p:cNvSpPr txBox="1"/>
          <p:nvPr/>
        </p:nvSpPr>
        <p:spPr>
          <a:xfrm>
            <a:off x="468000" y="981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activo e saudável deve ser o objectivo das políticas de saúde do idos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cções coletivas na comunidade, actividades de grupo, participação das redes sociais dos usuários são recursos indispensáveis para atuação nas dimensões </a:t>
            </a:r>
            <a:r>
              <a:rPr b="1" lang="pt-BR" sz="2400" spc="-1" strike="noStrike">
                <a:solidFill>
                  <a:srgbClr val="000066"/>
                </a:solidFill>
                <a:latin typeface="Verdana"/>
              </a:rPr>
              <a:t>cultural e social </a:t>
            </a:r>
            <a:r>
              <a:rPr b="0" lang="pt-BR" sz="2400" spc="-1" strike="noStrike">
                <a:solidFill>
                  <a:srgbClr val="000066"/>
                </a:solidFill>
                <a:latin typeface="Verdana"/>
              </a:rPr>
              <a:t>do idoso.</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13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07EB-D471-4294-8334-CA7672120B5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8" name="Picture 8" descr="http://dream.santegidio.org/UserFiles/image/news/2011/201110/Distribuzione%20Mangunde%201%20ottobre%202011%203.JPG"/>
          <p:cNvPicPr/>
          <p:nvPr/>
        </p:nvPicPr>
        <p:blipFill>
          <a:blip r:embed="rId1"/>
          <a:stretch/>
        </p:blipFill>
        <p:spPr>
          <a:xfrm>
            <a:off x="900000" y="3429000"/>
            <a:ext cx="3857760" cy="2894040"/>
          </a:xfrm>
          <a:prstGeom prst="rect">
            <a:avLst/>
          </a:prstGeom>
          <a:ln w="0">
            <a:noFill/>
          </a:ln>
        </p:spPr>
      </p:pic>
      <p:sp>
        <p:nvSpPr>
          <p:cNvPr id="139" name="CaixaDeTexto 6"/>
          <p:cNvSpPr/>
          <p:nvPr/>
        </p:nvSpPr>
        <p:spPr>
          <a:xfrm>
            <a:off x="4932360" y="3860640"/>
            <a:ext cx="3887640" cy="100872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Lembrem aquela questão cultural de Mangunde, citada anteriormen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0T11:10:37Z</dcterms:created>
  <dc:creator>Escolastica</dc:creator>
  <dc:description/>
  <dc:language>en-US</dc:language>
  <cp:lastModifiedBy>Mendoza</cp:lastModifiedBy>
  <dcterms:modified xsi:type="dcterms:W3CDTF">2012-01-31T14:13:05Z</dcterms:modified>
  <cp:revision>168</cp:revision>
  <dc:subject/>
  <dc:title>Epidemiologia da Saúde Mental</dc:title>
</cp:coreProperties>
</file>