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6.gif" ContentType="image/gif"/>
  <Override PartName="/ppt/media/image14.jpeg" ContentType="image/jpeg"/>
  <Override PartName="/ppt/media/image1.wmf" ContentType="image/x-wmf"/>
  <Override PartName="/ppt/media/image1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E9E6-3584-4247-A7CE-AB0D319D9DF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F876-4D75-4B89-9A16-3D141050112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1F024-190E-428F-B237-CDD2E3328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C3D26-B1D8-41E5-B442-57613AAD4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D7CD-7BDC-4B3C-9477-FE443FEAB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B698-F185-4291-B87C-72343F69B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1167D-964D-48F6-B584-161F0CB46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F5C99-FD21-4E92-B2B3-BB2C98813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0E2F8-C142-4891-A817-6402BE817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349D0-09C6-4EA4-B087-E9C1EA4D2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63906-2B2F-4DCB-A51A-93EC94D64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E4592-C936-4A7B-997A-B25A55602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9FF13-2727-4BAC-94EF-DFD23423E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AF5A6-4BEF-4EF4-96A2-FD52F1220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A2BB-4846-465B-B1B1-D9FFA9897FAE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00000" y="21337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vacina&#231;&#227;o+com+idosos+negros&amp;hl=pt-BR&amp;rlz=1W1RNQN_pt-BRBR458&amp;biw=1024&amp;bih=302&amp;tbm=isch&amp;tbnid=ujHt8R0R-KOzcM:&amp;imgrefurl=http://blogdojuazeiro.blogspot.com/2010_05_01_archive.html&amp;docid=02-4pGU9gO6PGM&amp;imgurl=http://3.bp.blogspot.com/_65qQzMrwzhQ/S_mQlDIbTsI/AAAAAAAAHt4/zWM1FuEtFGI/s1600/21-maio-2010+(16).JPG&amp;w=640&amp;h=480&amp;ei=ARf6Tv7vBdPMtgeHrpjQBg&amp;zoom=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idosos+mo&#231;ambicanos&amp;um=1&amp;hl=pt-BR&amp;rlz=1R2SNNT_pt-BRBR431&amp;biw=1093&amp;bih=400&amp;tbm=isch&amp;tbnid=Pp8hUBp_qEOs8M:&amp;imgrefurl=http://www.santegidio.org/index.php?pageID=3&amp;id=4271&amp;idLng=1066&amp;docid=0RRj7l8bSGukiM&amp;imgurl=http://www.santegidio.org/immagini/varie/20111110_kinsasha_01.JPG&amp;w=500&amp;h=310&amp;ei=EQ_-TubRL8m1twe_v6TRBg&amp;zoom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2349000"/>
            <a:ext cx="655344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nfermagem Geriátrica no Lar de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99640" y="4724280"/>
            <a:ext cx="770436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1196640"/>
            <a:ext cx="83534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aria de acordo com a condição geral de saúde-doença do idoso, bem como de suas limita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sim, esse papel poderá ser melhor delimitado após a avaliação do idoso, em que o enfermeiro fará o diagnóstico do seu grau de dependênci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dependente: o idoso é capaz de realizar as AVD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cialmente dependente: o idoso é capaz de realizar parte das AVD ou necessita de apoio em algumas del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otalmente dependente: o idoso é incapaz de realizar as AVD, estando completamente dependente dos cuidados de enfermage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E78A-74D5-4C52-B8D2-FDD16ACE422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utro aspecto a ser considerado na definição do papel do enfermeiro no cuidado ao idoso é a diversidade da equipe de saúde que presta cuidado ao mesm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profissionais que podem estar inseridos no cuidado ao idos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sicólog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rapeuta ocupaciona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isioterapeut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sistente social e outr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to mais multiprofissional for a equipa melhor se delimita o papel do enfermei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0145-1533-4BF9-8F24-36DE511E44C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700280"/>
            <a:ext cx="83818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realidade de Moçambique no cuidado ao idoso hospitalizado conta praticamente com enfermeiros, atendentes e copeiras, sendo as outras categorias profissionais apresentadas, ainda bastante escass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sse contexto, o enfermeiro acaba tendo seu papel ampliado por atribuições que deveriam ser executas por profissionais  de outras formaç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08F9-41F0-4594-9179-F2298EEB315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apel do enfermeiro pode estar voltado para cuidados nos camp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dividual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unitári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mbulatorial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entros de saú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micílio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sas geriátrica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tituições de longa permanência e hospit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8857-DCA2-49A0-BE1E-9FDBF532990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apel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 do enfermeiro no atendimento ao idoso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4000" y="1268280"/>
            <a:ext cx="86407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nter a equipa de enfermagem preparada para lidar com as peculiaridades e limitações do utente idoso, perceber a importância de envolver o familiar/cuidador na assistência; e respeitar o comportamento de cada idoso conforme seu estado de saúde-doe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andar a equipa de enfermagem nos cuidados de higiene, alimentação, hidratação, monitoramento das funções cognitivas, das eliminações, administração de medicamentos, prevenção de úlceras por pressão, mobilidade e comunicaçã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licar a Sistematização da Assistência de Enfermage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9F9C-7317-4E07-A19B-636AB6589E4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bservar e promover modificações ambientais para prevenção de quedas no domicílio e na unidade de saú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alizar ações individualizadas e/ou em grupo voltadas à informação, auto-estima, terapia ocupacional e recre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ferecer orientações posturais e estimular, com a ajuda do cuidador, treinos funcionais de marcha e equilíbr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imular as funções preservadas e desenvolver mecanismos compensatórios para as funções alterad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2BD6-B7FC-469E-91DF-BEBE4AF7C2B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628280"/>
            <a:ext cx="8381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dentificar condições pessoais, familiares e do serviço que favoreçam ou dificultem o tratamento da pessoa idosa e corrigi-l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ncaminhar o idoso para as especialidades médicas, realização de exames, reabilitação e aquisição de medicamentos, quando necessár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formar quanto a liberação de verbas para idosos, aquisição de benefícios de previdência e aposentador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alizar visita domiciliá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D1DC-196B-42EB-8BC9-DD3FDB232EA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557000"/>
            <a:ext cx="83818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estar cuidados paliativ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cuidados que objetivam a melhoria da qualidade de vida do utente e de seus familiares diante de uma doença que ameaça a vida, com baixa perspectiva de cura, através da prevenção e alivio do sofrimento, tratamento da dor e de outros problemas físicos, psicológicos e espiritu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440F-0D5F-49A2-AB21-2FA2BD98D59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em um lar de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papel do enfermeiro em um Lar de Idosos vai depender do nível de complexidade do referido La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um Lar apenas residencial, para idosos saudáveis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um Lar residencial, com sistema de enfermaria? Ou os idosos enfermos são encaminhados para algum hospital de apoio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um Lar Dia, em que os idosos passam o dia e retornam para a família à noite ou finais de semana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um Lar para idosos dependentes, acamados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BC92-E03E-48A7-8A6F-7B7FD5D5BB7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em um lar de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000" y="1196640"/>
            <a:ext cx="83818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ortanto, a depender das características do Lar de idosos, o papel do enfermeiro terá enfoques variad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ais preventiv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ais curativo e de reabilit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6DF9-F2DC-42AF-9F40-765CCE321EA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Imagem 5" descr="http://t1.gstatic.com/images?q=tbn:ANd9GcTqp90Z5g6mYnUZtHKOYQRGjuHq7DyqlSvFJWIGvuD9yKClMqZE9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3573360"/>
            <a:ext cx="374508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rg_hi" descr="http://t2.gstatic.com/images?q=tbn:ANd9GcSk9TY9GR0DmfvkDkC5mVovG2rSe7YvdiV-1ocziQcpm2pFr8dh"/>
          <p:cNvPicPr/>
          <p:nvPr/>
        </p:nvPicPr>
        <p:blipFill>
          <a:blip r:embed="rId3"/>
          <a:stretch/>
        </p:blipFill>
        <p:spPr>
          <a:xfrm>
            <a:off x="395280" y="3357720"/>
            <a:ext cx="4176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Enfermagem Geriátrica no Lar de Idoso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916280"/>
            <a:ext cx="8308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apel do enfermeiro no atendimento ao utente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apel do enfermeiro em um lar de idos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C723-A737-4F61-86E5-D4A00B15567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em um lar de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413000"/>
            <a:ext cx="83822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dependente das características do Lar de idosos, o enfermeiro deve estar preparado para lidar com as causas que levaram o idoso ao Lar, sendo este o diferencial para o seu papel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bandono familiar (a família não visita o idoso; os laços familiares do idoso são conflituoso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Zelo familiar (a família considera o Lar mais seguro para o idoso, visita-o regularmente, participa da vida do idoso, leva-o para o convívio familiar sempre que possível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EDCF-9B20-4333-8123-5E3E4EA45AA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em um lar de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oso que perdeu o contato com a família por demência, dado como desaparecido e outras situações similar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 decisão próp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E12A-8CF2-48E3-BC6B-9FD781C7AFA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Imagem 5" descr="http://t2.gstatic.com/images?q=tbn:ANd9GcQL57ci4ArAWC3NJ_n7vEskKe8XCA079LRqpBbniab7m4-0raTyKg"/>
          <p:cNvPicPr/>
          <p:nvPr/>
        </p:nvPicPr>
        <p:blipFill>
          <a:blip r:embed="rId1"/>
          <a:stretch/>
        </p:blipFill>
        <p:spPr>
          <a:xfrm>
            <a:off x="4932360" y="2708280"/>
            <a:ext cx="3384720" cy="3384720"/>
          </a:xfrm>
          <a:prstGeom prst="rect">
            <a:avLst/>
          </a:prstGeom>
          <a:ln w="0">
            <a:noFill/>
          </a:ln>
        </p:spPr>
      </p:pic>
      <p:sp>
        <p:nvSpPr>
          <p:cNvPr id="177" name="CaixaDeTexto 6"/>
          <p:cNvSpPr/>
          <p:nvPr/>
        </p:nvSpPr>
        <p:spPr>
          <a:xfrm>
            <a:off x="2916360" y="486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r de ido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moção de hábitos saudáveis pel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268280"/>
            <a:ext cx="83818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heçam várias iniciativas que fazem a diferença. Esses idosos podem ser de atendimento ambulatorial ou de Lar de idos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25D9-D404-474E-9BA5-FA9951CBD8C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" descr="http://t3.gstatic.com/images?q=tbn:ANd9GcTuOhnFK_y46BVYSJZ8UWleM-hYYpKr9otJOFWr2nZmKTyJgVGb"/>
          <p:cNvPicPr/>
          <p:nvPr/>
        </p:nvPicPr>
        <p:blipFill>
          <a:blip r:embed="rId1"/>
          <a:stretch/>
        </p:blipFill>
        <p:spPr>
          <a:xfrm>
            <a:off x="684360" y="2565360"/>
            <a:ext cx="5698800" cy="3792600"/>
          </a:xfrm>
          <a:prstGeom prst="rect">
            <a:avLst/>
          </a:prstGeom>
          <a:ln w="0">
            <a:noFill/>
          </a:ln>
        </p:spPr>
      </p:pic>
      <p:sp>
        <p:nvSpPr>
          <p:cNvPr id="183" name="CaixaDeTexto 6"/>
          <p:cNvSpPr/>
          <p:nvPr/>
        </p:nvSpPr>
        <p:spPr>
          <a:xfrm>
            <a:off x="6516720" y="2997360"/>
            <a:ext cx="24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fermeira acompanha idosos durante caminh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moção de hábitos saudáveis pel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7F91-4F8F-4AA1-9845-8794C04100F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http://t1.gstatic.com/images?q=tbn:ANd9GcT-xRfOqJxyAOPpdYODSq2_bxzpDDwQ-K3Ei16fjCXxHP3sPCBT"/>
          <p:cNvPicPr/>
          <p:nvPr/>
        </p:nvPicPr>
        <p:blipFill>
          <a:blip r:embed="rId1"/>
          <a:stretch/>
        </p:blipFill>
        <p:spPr>
          <a:xfrm>
            <a:off x="395280" y="1341360"/>
            <a:ext cx="4903920" cy="3672000"/>
          </a:xfrm>
          <a:prstGeom prst="rect">
            <a:avLst/>
          </a:prstGeom>
          <a:ln w="0">
            <a:noFill/>
          </a:ln>
        </p:spPr>
      </p:pic>
      <p:sp>
        <p:nvSpPr>
          <p:cNvPr id="188" name="CaixaDeTexto 6"/>
          <p:cNvSpPr/>
          <p:nvPr/>
        </p:nvSpPr>
        <p:spPr>
          <a:xfrm>
            <a:off x="395280" y="515772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vidade de lazer em praças; Também se aproveita para dar informações sobre vida saudável e realizar procedimentos de enfermagem (aferição da TA, glicemia e outro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http://t1.gstatic.com/images?q=tbn:ANd9GcT2_sDRPIx01CW_hHlSdDO2s1RQfiWT21wtTgpkD9Zfid_mLDGn"/>
          <p:cNvPicPr/>
          <p:nvPr/>
        </p:nvPicPr>
        <p:blipFill>
          <a:blip r:embed="rId2"/>
          <a:stretch/>
        </p:blipFill>
        <p:spPr>
          <a:xfrm>
            <a:off x="5508720" y="1341360"/>
            <a:ext cx="3343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moção de hábitos saudáveis pel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75D5-1F96-44D7-B09E-03B078CFE51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2" descr="http://t2.gstatic.com/images?q=tbn:ANd9GcSo36RC90ijGvh_xUjXJQdY7WeLGT_xXLIO58UxZ_6ch5Jy2QfX"/>
          <p:cNvPicPr/>
          <p:nvPr/>
        </p:nvPicPr>
        <p:blipFill>
          <a:blip r:embed="rId1"/>
          <a:stretch/>
        </p:blipFill>
        <p:spPr>
          <a:xfrm>
            <a:off x="468360" y="1268280"/>
            <a:ext cx="4778280" cy="3168720"/>
          </a:xfrm>
          <a:prstGeom prst="rect">
            <a:avLst/>
          </a:prstGeom>
          <a:ln w="0">
            <a:noFill/>
          </a:ln>
        </p:spPr>
      </p:pic>
      <p:sp>
        <p:nvSpPr>
          <p:cNvPr id="194" name="CaixaDeTexto 5"/>
          <p:cNvSpPr/>
          <p:nvPr/>
        </p:nvSpPr>
        <p:spPr>
          <a:xfrm>
            <a:off x="468360" y="450864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vidade de lazer em teatro, cin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4" descr="http://t1.gstatic.com/images?q=tbn:ANd9GcS03WWG5BOP7--tm4gG5uFkWTiOAlcBZSIPNzIiuVCt6BDYmFj1-w"/>
          <p:cNvPicPr/>
          <p:nvPr/>
        </p:nvPicPr>
        <p:blipFill>
          <a:blip r:embed="rId2"/>
          <a:stretch/>
        </p:blipFill>
        <p:spPr>
          <a:xfrm>
            <a:off x="5435640" y="1484280"/>
            <a:ext cx="3529080" cy="2600280"/>
          </a:xfrm>
          <a:prstGeom prst="rect">
            <a:avLst/>
          </a:prstGeom>
          <a:ln w="0">
            <a:noFill/>
          </a:ln>
        </p:spPr>
      </p:pic>
      <p:sp>
        <p:nvSpPr>
          <p:cNvPr id="196" name="CaixaDeTexto 7"/>
          <p:cNvSpPr/>
          <p:nvPr/>
        </p:nvSpPr>
        <p:spPr>
          <a:xfrm>
            <a:off x="6084720" y="429264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osos em sessão cin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moção de hábitos saudáveis pel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D35A-CDDA-409B-B4E7-059BB5196D0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2" descr="http://2.bp.blogspot.com/-gDakMN5jXXs/To7-TBZmLWI/AAAAAAAAG9o/rBnkfWbuXmA/s1600/DSC_0132.JPG"/>
          <p:cNvPicPr/>
          <p:nvPr/>
        </p:nvPicPr>
        <p:blipFill>
          <a:blip r:embed="rId1"/>
          <a:stretch/>
        </p:blipFill>
        <p:spPr>
          <a:xfrm>
            <a:off x="395280" y="1484280"/>
            <a:ext cx="4554720" cy="3024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t1.gstatic.com/images?q=tbn:ANd9GcQOM3C1dhJ8zeKX1CqQb-i54_bzB9RZW6HQ34CzFqUgcYxowR7B"/>
          <p:cNvPicPr/>
          <p:nvPr/>
        </p:nvPicPr>
        <p:blipFill>
          <a:blip r:embed="rId2"/>
          <a:stretch/>
        </p:blipFill>
        <p:spPr>
          <a:xfrm>
            <a:off x="5003640" y="1557360"/>
            <a:ext cx="3937320" cy="2951280"/>
          </a:xfrm>
          <a:prstGeom prst="rect">
            <a:avLst/>
          </a:prstGeom>
          <a:ln w="0">
            <a:noFill/>
          </a:ln>
        </p:spPr>
      </p:pic>
      <p:sp>
        <p:nvSpPr>
          <p:cNvPr id="202" name="CaixaDeTexto 6"/>
          <p:cNvSpPr/>
          <p:nvPr/>
        </p:nvSpPr>
        <p:spPr>
          <a:xfrm>
            <a:off x="395280" y="4869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lebração de datas comemorativas. Aproveita-se para estimular e informar sobre alimentação saudável e importância da hidrata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moção de hábitos saudáveis pel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A249-A8A4-4879-B7DC-45F1AC8FA93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2" descr="http://t1.gstatic.com/images?q=tbn:ANd9GcTQdNER_0OCeRFCjXixwp_Uh-r7YEjpKxsEFcwYkBBBRlep7SPW0g"/>
          <p:cNvPicPr/>
          <p:nvPr/>
        </p:nvPicPr>
        <p:blipFill>
          <a:blip r:embed="rId1"/>
          <a:stretch/>
        </p:blipFill>
        <p:spPr>
          <a:xfrm>
            <a:off x="468360" y="1484280"/>
            <a:ext cx="5859360" cy="3529080"/>
          </a:xfrm>
          <a:prstGeom prst="rect">
            <a:avLst/>
          </a:prstGeom>
          <a:ln w="0">
            <a:noFill/>
          </a:ln>
        </p:spPr>
      </p:pic>
      <p:sp>
        <p:nvSpPr>
          <p:cNvPr id="207" name="CaixaDeTexto 5"/>
          <p:cNvSpPr/>
          <p:nvPr/>
        </p:nvSpPr>
        <p:spPr>
          <a:xfrm>
            <a:off x="755640" y="501336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osos em actividades recreativas , lúdicas (jogo com garrafas recicláve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http://t1.gstatic.com/images?q=tbn:ANd9GcTrwwv94jC4XlmeTTNhmuZIgJtRgtsYgPhu3fxnhpf3iYit9Sr2"/>
          <p:cNvPicPr/>
          <p:nvPr/>
        </p:nvPicPr>
        <p:blipFill>
          <a:blip r:embed="rId2"/>
          <a:stretch/>
        </p:blipFill>
        <p:spPr>
          <a:xfrm>
            <a:off x="6732720" y="1628640"/>
            <a:ext cx="1703160" cy="3529080"/>
          </a:xfrm>
          <a:prstGeom prst="rect">
            <a:avLst/>
          </a:prstGeom>
          <a:ln w="0">
            <a:noFill/>
          </a:ln>
        </p:spPr>
      </p:pic>
      <p:sp>
        <p:nvSpPr>
          <p:cNvPr id="209" name="CaixaDeTexto 7"/>
          <p:cNvSpPr/>
          <p:nvPr/>
        </p:nvSpPr>
        <p:spPr>
          <a:xfrm>
            <a:off x="6875640" y="508464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nç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em um lar de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634920" y="2060640"/>
            <a:ext cx="3313080" cy="1008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itura dirigida: “O papel do enfermeiro num lar de idosos”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5CD1-6532-409E-888F-E7790BED38B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5" descr="j0296847"/>
          <p:cNvPicPr/>
          <p:nvPr/>
        </p:nvPicPr>
        <p:blipFill>
          <a:blip r:embed="rId1"/>
          <a:stretch/>
        </p:blipFill>
        <p:spPr>
          <a:xfrm>
            <a:off x="826920" y="1341360"/>
            <a:ext cx="285444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835280" y="1267920"/>
            <a:ext cx="698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escrever o papel do enfermeiro no atendimento a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Explicar o papel do enfermeiro em um lar de idos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D23B-B18B-4453-BAF1-7900668654C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160720"/>
            <a:ext cx="19429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s enfermeiros exercem um papel prioritário no apoio aos idosos, patológicos ou não, independentes ou não, com autonomia ou nã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ão profissionais determinantes no processo de reabilitação, promovendo uma assistência sistematizada de modo que as necessidades dos idosos sejam identificadas de maneira individualiz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s enfermeiros põem seus conhecimentos teórico-práticos à disposição do processo de envelhecimento, devendo manter-se em formação contínu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F0D1-825A-41C9-A73F-4FC4D1DE7BC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equipe de enfermagem deve zelar para que o idoso consiga aumentar os hábitos saudáveis, diminuir e compensar as limitações inerentes a idade, confortar-se com a angustia e debilidade da velhice, incluindo o processo de mor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o entanto, observa-se em muitas instituições de idosos a ausência do enfermeiro, que apesar de comprovada como indispensável acaba sendo negada por gestores que argumentam a falta de recursos financei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28D1-17F1-4368-A90E-DA6A1284F32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nfermeiro que deseja trabalhar exclusivamente com idosos pode realizar formação complementar em nível de especialização – Enfermagem Geriátr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especialização irá fornecer subsídios para uma atenção de qualidade ao idoso, direcionada para as particularidades desse grupo etário em seus diversos contextos de vid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smo não tendo a intenção de trabalhar diretamente com idosos, existe a possibilidade de o enfermeiro cuidar destes utentes em unidades básicas de saúde, enfermarias, emergências e demais setores da saúde. Portanto, devem formar uma base na sua formação ger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82DE-A653-453F-9E2C-78E87897D88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6920" y="228240"/>
            <a:ext cx="765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 sua prática, o enfermeiro deve visar sempre a promoção da autonomia do idoso, possibilitando a este a execução das AVD e AIVD que tem condições de execut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CCA0-6904-413D-98E8-08A011B3D8A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rg_hi" descr="http://t1.gstatic.com/images?q=tbn:ANd9GcTpT7FZF1JI4hMtNfZGSsgkgyVHJJV_vVvn0HBoo23jrOrFro0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781360"/>
            <a:ext cx="4597560" cy="3362400"/>
          </a:xfrm>
          <a:prstGeom prst="rect">
            <a:avLst/>
          </a:prstGeom>
          <a:ln w="0">
            <a:noFill/>
          </a:ln>
        </p:spPr>
      </p:pic>
      <p:sp>
        <p:nvSpPr>
          <p:cNvPr id="117" name="CaixaDeTexto 6"/>
          <p:cNvSpPr/>
          <p:nvPr/>
        </p:nvSpPr>
        <p:spPr>
          <a:xfrm>
            <a:off x="5724360" y="4005360"/>
            <a:ext cx="309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dosos participam de actividades colaborativas com os trabalhadores de um Lar de ido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dependente do quão pequena seja esta atividade, para o idoso é a garantia da permanência de uma relativa independênc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 o idoso tem condições de tomar banho de chuveiro, não hesite em não dar o banho no leito! Leve-o ao chuveiro, tomando os cuidados necessários para a sua segurança, e proporcione sua autonomia, independência e o menor constrangimento possíve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EB6C-7A93-4482-A8BC-0AB58DBE13E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1197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lidar com idosos, principalmente os portadores de demência, o enfermeiro nunca deve se esquecer de que está lidando com um idoso, não com uma crian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 idoso nestas condições pode ter algumas reações infantis, como chorar, demonstrar mais medo, gritar, ser ”respondão”, porém, ele não vira criança como muitos acreditam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u corpo físico continua de adulto e em sua lucidez provavelmente não gostará de ser tratado como crian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r carinhoso, mas não tratar o idoso como crianças, com palavras no diminutiv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2938-F17C-4CD4-9E66-6927B7C0A74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1:01:51Z</dcterms:created>
  <dc:creator>Escolastica</dc:creator>
  <dc:description/>
  <dc:language>en-US</dc:language>
  <cp:lastModifiedBy>Mendoza</cp:lastModifiedBy>
  <dcterms:modified xsi:type="dcterms:W3CDTF">2012-01-31T14:42:54Z</dcterms:modified>
  <cp:revision>44</cp:revision>
  <dc:subject/>
  <dc:title>Cuidados especiais a ter com idosos doentes</dc:title>
</cp:coreProperties>
</file>