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2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5B7F-50EA-465C-A534-03E3620669C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B0F6-4434-42BE-9A7D-32EA12CA4F4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357FF-6EB3-4CA9-9887-4A074B567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2D2E4-B3C7-4166-A193-D00992047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CF7F9-5D47-450D-A630-A75278036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221C1-3FB7-4075-8690-7F53166F8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EC935-0EB7-493E-B8FA-3EA04234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3A641-D092-482B-837F-A155530E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AB0C9-1115-43A2-9C78-93BA7F3A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49F3A-1EB1-48AF-BBE2-1604BA6F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F0BB8-F8AB-4AD5-9541-71510D78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500BA-BF2E-416F-81F1-274A5DD4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4CC39-A503-4B78-BF38-F06D0619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995BB-8A4C-487D-BDD5-55F5A61B6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3FE9B-15EF-4D04-B351-C2AC084E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8ACFA-2D50-4DC2-8CD0-BE2C150C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C8726-6749-4231-9103-069FB6A5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D1919-7B15-45E8-A4DF-5AC9F84B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0DE7A-E319-4A05-86EC-321B407D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E3765-9AB1-45F3-8256-30C97659F7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40054-AA55-435D-8C10-307596E80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7701-8E56-48BC-9240-387C32DD2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F2AB7-E6FE-4476-8BA3-26C00B73C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B4DB3-937E-40B4-A35B-86D87C014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A5D55-55AA-4CAA-90CB-92D5C0D4B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1A466-E531-4886-9FCE-9AE9D5B3F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254C-6AC8-4FE1-B8C4-A105F89FEF9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FE5F-D5D0-4486-B77C-6F15754A002B}" type="slidenum">
              <a:rPr b="0" lang="pt-P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3"/>
          <p:cNvSpPr/>
          <p:nvPr/>
        </p:nvSpPr>
        <p:spPr>
          <a:xfrm>
            <a:off x="900000" y="19890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6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6/Pneumonia_x-ray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47640" y="2133720"/>
            <a:ext cx="6553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 Light"/>
              </a:rPr>
              <a:t>Levantamento de necessidades do idoso: peculiaridades do exame físico (Aula 1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042560" y="4652640"/>
            <a:ext cx="75438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Módulo 11: Prática de Enfermagem IV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Enfermagem em Saúde Mental e Enfermagem Geriát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ço Reservado para Rodapé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BB96-0231-4554-8E41-FE3E6EE2C2A7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Nariz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176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s idosos têm uma rinite especial que os mantém com o nariz escorrendo (rinorréia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te mesmo sintoma aparece em algumas pessoas não idosas, especialmente quando se alimentam de comidas com temperos fortes e apimentados (rinite gustativa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utras têm obstrução nasal quando praticam esporte, o que as atrapalha muito, obrigando-as a tratar a rinite para poderem prosseguir adequadamente com o espor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E647-4F53-4C99-8B9E-8F35A313FCAD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63840" y="228240"/>
            <a:ext cx="75801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Cavidade oral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29840" y="1557360"/>
            <a:ext cx="87138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esões benignas mais encontr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fta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Úlceras bucais traumática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ecundárias a dentaduras ou restaurações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Veias varicosas na parte ventral da língua sem significado patogênico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stomatite induzida por dentaduras (inflamações localizadas sob as dentaduras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áries dentárias e/ou doença periodontal nos que mantiveram os dentes natura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http://t0.gstatic.com/images?q=tbn:ANd9GcRwETk5YAU0Thtzv20pRhDSzfeQEW1tlA4HVU0DhLsiwpBkFrRO"/>
          <p:cNvPicPr/>
          <p:nvPr/>
        </p:nvPicPr>
        <p:blipFill>
          <a:blip r:embed="rId1"/>
          <a:stretch/>
        </p:blipFill>
        <p:spPr>
          <a:xfrm>
            <a:off x="6294600" y="1052640"/>
            <a:ext cx="27399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8329-5574-4E18-B81C-E29442037A02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Exame bucal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981000"/>
            <a:ext cx="453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exame bucal deve pesquisar  às queixas do idoso (dor, sangramento, dificuldade para mastigar e deglutir, sensação de nódulo ou mass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enfermeiro poderá contribuir com esses achados ao examinar a boca do idoso no ato da higiene oral, ao alimentar idosos dependentes, e, assim, registar e inserir o idoso no devido serviç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http://t1.gstatic.com/images?q=tbn:ANd9GcSD2XsfVS5lw-mHmCOsnFcsO4ueugxT8jx9FSsMIT5hwB7vQB8E"/>
          <p:cNvPicPr/>
          <p:nvPr/>
        </p:nvPicPr>
        <p:blipFill>
          <a:blip r:embed="rId1"/>
          <a:stretch/>
        </p:blipFill>
        <p:spPr>
          <a:xfrm>
            <a:off x="5003640" y="2133720"/>
            <a:ext cx="394200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FEF1-377A-418E-BE3E-47CB717EE8B6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Pescoço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61760" y="2133360"/>
            <a:ext cx="8381880" cy="30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bócio difuso é incomum no idoso, porém, quando ocorre, deve-se à doença de Graves, tireoidite, efeito de medicamentos ou linfom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bócio multinodular é mais prevalente, usualmente secundário à doença benigna e usualmente não constitui fator de risco para malignizaçã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6503-ACF0-45EA-9757-246D78008254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Tórax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1125360"/>
            <a:ext cx="5832360" cy="49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ifose é uma curvatura fisiológica da coluna vertebral. Considera-se patológica quando está mais acentuada. É a corcun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cifose na mulher é comumente secundária a doenças degenerativas da coluna, sobretudo à osteoporose com fratur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m homens, usualmente é devida à causas secundárias, como: hipogonadismo, corticoterapia, mieloma múltiplo, metástases ósseas ou alcoolis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63360" y="-950760"/>
            <a:ext cx="1676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63360" y="-950760"/>
            <a:ext cx="1676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63360" y="-950760"/>
            <a:ext cx="1676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63360" y="-950760"/>
            <a:ext cx="1676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http://www.infoescola.com/wp-content/uploads/2010/03/cifose.gif"/>
          <p:cNvPicPr/>
          <p:nvPr/>
        </p:nvPicPr>
        <p:blipFill>
          <a:blip r:embed="rId1"/>
          <a:stretch/>
        </p:blipFill>
        <p:spPr>
          <a:xfrm>
            <a:off x="6156360" y="1773360"/>
            <a:ext cx="2762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DE2A-8CE1-4B8C-B1E0-DFDEDF6112A7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Tórax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1760" y="1483920"/>
            <a:ext cx="83818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inecomastia: pode ocorrer no envelheci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ormal, sendo desprovida de significado patogênico. No entanto, causas clássicas como tumores, hepatopatia e uso de alguns medicamentos devem ser descartad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o idoso restrito ao leito, dependente para se alimentar, a obstrução de vias aéreas pode ser devida à presença de corpo estranho (prótese dentária) ou alimen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F090-B10F-40D1-8574-9DE2DD1DBC5F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Tórax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328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usculta respiratória: é mais difícil de ser realizada em idosos, porque estes nem sempre conseguem realizar inspirações profund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ão frequentes as crepitações nas bases pulmonares desprovidas de significado clínico, particularmente quando desaparecem após a toss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ausculta pode também identificar ruídos resultantes de pneumopatias prévias, o que dificulta a sua interpretação diante de sintomas  agu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tiragem (maior esforço para respirar) constitui, em geral, obstrução de vias respiratórias, sendo comum nos portadores de Doença Pulmonar Obstrutiva Crônica (DPOC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1B25-FED3-49A8-8E74-03B7D79291D6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Tórax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1125360"/>
            <a:ext cx="4319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m caso de pneumonia os sinais identificados à ausculta, como crepitações (abertura de um velcro), nem sempre apresentam correspondência imediata com a imagem radiológica, uma vez que as alterações na radiografia de tórax podem demorar até 72 horas para se tornarem evide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Ficheiro:Pneumonia x-ra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981000"/>
            <a:ext cx="3095640" cy="5189760"/>
          </a:xfrm>
          <a:prstGeom prst="rect">
            <a:avLst/>
          </a:prstGeom>
          <a:ln w="0">
            <a:noFill/>
          </a:ln>
        </p:spPr>
      </p:pic>
      <p:sp>
        <p:nvSpPr>
          <p:cNvPr id="218" name="Retângulo 6"/>
          <p:cNvSpPr/>
          <p:nvPr/>
        </p:nvSpPr>
        <p:spPr>
          <a:xfrm>
            <a:off x="5435640" y="566100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Padrão típic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pneum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tângulo 7"/>
          <p:cNvSpPr/>
          <p:nvPr/>
        </p:nvSpPr>
        <p:spPr>
          <a:xfrm>
            <a:off x="4643280" y="162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6289-CFA9-4BBE-BA61-ABC51FB49D02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Tórax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6176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s principais alterações características do idoso relacionadas à integridade da função respiratória s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órax rígid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ulmões menos elástico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xpansão da caixa torácic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limita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5" descr="cien041"/>
          <p:cNvPicPr/>
          <p:nvPr/>
        </p:nvPicPr>
        <p:blipFill>
          <a:blip r:embed="rId1"/>
          <a:stretch/>
        </p:blipFill>
        <p:spPr>
          <a:xfrm>
            <a:off x="5940360" y="2421000"/>
            <a:ext cx="26528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79AF-4240-4C3F-8480-966194D31E09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Aparelho cardiovascula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61760" y="1125360"/>
            <a:ext cx="83818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lterações vascul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umento da rigidez das grandes artérias, alongamento e dilatação das mesmas; o enrijecimento dessas artérias promove elevação dos níveis da pressão arterial sistól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umento da espessura da parede ventricula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pressão diastólica não sofre modificações significativas com o envelheciment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Observa-se aumento de 30% na espessura da parede ventricular esquerda na 8ª década de vida, e aumento do diâmetro aórtico (aorta ascendente) de aproximadamente 9% por déca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12" descr="http://cdn-cf.aol.com/se/clip_art/gstres/objcts/heart_beating_final"/>
          <p:cNvPicPr/>
          <p:nvPr/>
        </p:nvPicPr>
        <p:blipFill>
          <a:blip r:embed="rId1"/>
          <a:stretch/>
        </p:blipFill>
        <p:spPr>
          <a:xfrm>
            <a:off x="7524720" y="836640"/>
            <a:ext cx="12146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73AB-61D5-43CF-BFF7-5615F8B9EA0D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0560" y="228600"/>
            <a:ext cx="77230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PT" sz="3300" spc="-1" strike="noStrike">
                <a:solidFill>
                  <a:srgbClr val="000000"/>
                </a:solidFill>
                <a:latin typeface="Calibri Light"/>
              </a:rPr>
              <a:t>Levantamento de necessidades do idoso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5200" y="1341000"/>
            <a:ext cx="8308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eculiaridades do exame físico no idos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://www.yesacademia.com.br/imagem/jpg19.jpg"/>
          <p:cNvPicPr/>
          <p:nvPr/>
        </p:nvPicPr>
        <p:blipFill>
          <a:blip r:embed="rId1"/>
          <a:stretch/>
        </p:blipFill>
        <p:spPr>
          <a:xfrm>
            <a:off x="2987640" y="1868400"/>
            <a:ext cx="352908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3021-A16F-48DD-B10D-8C3BFCACEF13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Aparelho cardiovascula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61760" y="1628280"/>
            <a:ext cx="8381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lterações cardía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umento das dimensões do átrio esquer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umento da rigidez ventricu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O processo natural de envelhecimento não prejudica a força de contração do coraçã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12" descr="http://cdn-cf.aol.com/se/clip_art/gstres/objcts/heart_beating_final"/>
          <p:cNvPicPr/>
          <p:nvPr/>
        </p:nvPicPr>
        <p:blipFill>
          <a:blip r:embed="rId1"/>
          <a:stretch/>
        </p:blipFill>
        <p:spPr>
          <a:xfrm>
            <a:off x="6948360" y="3716280"/>
            <a:ext cx="12146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9F78-29A4-4413-A873-1C1520D3EE6A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Aparelho cardiovascula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6176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lterações autonôm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urante o esforço físico, a frequência cardíaca dos idosos aumenta menos do que nos jove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12" descr="http://cdn-cf.aol.com/se/clip_art/gstres/objcts/heart_beating_final"/>
          <p:cNvPicPr/>
          <p:nvPr/>
        </p:nvPicPr>
        <p:blipFill>
          <a:blip r:embed="rId1"/>
          <a:stretch/>
        </p:blipFill>
        <p:spPr>
          <a:xfrm>
            <a:off x="7020000" y="3068640"/>
            <a:ext cx="12142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FA89-A4FF-4F0F-804D-2C63BED9412B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Abdôm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6176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a palpação abdominal há maior probabilidade de se encontrarem massas pulsáteis devido a aneurisma da aorta e às fez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abdômen agudo em idosos pode advir sem rigidez intensa da parede abdominal, sendo até mais comum a distensão abdominal. Essa alteração pode ser devido a fraqueza da parede abdominal e à distensão de alças intestinais verificadas na peritonit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fígado em idosos pode ser palpável devido a anormalidades da caixa torácica e não ser indicativo de insuficiência cardíaca direita ou de hepatopati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9DD8-8606-4003-89D4-C2662D0D6565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Membros Inferiores (MMII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6176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causa mais frequente de edema de MMII em idosos é a imobilidade, agravada pela drenagem venosa precá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mumente o edema de MMII é atribuído de maneira incorreta à IC nessa faixa etária. Sabe-se que mesmo quando o edema de MMII é devido a causa cardíaca, nos estágios iniciais da IC este é geralmente intermitente, de modo que nem sempre é detectado ao exame físic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edema de MMII não constitui, assim, sinal confiável de IC nos idos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3FA0-24B6-4CE1-9CF9-269AEA9EED75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MMII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6176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bservar sempre edema, varizes e úlceras nos MM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2" descr="http://t1.gstatic.com/images?q=tbn:ANd9GcSQ2G7kFG5P3v6BJy3l5xHmZcaduYELue5EwVpETxH5IZyGi9ROHQ"/>
          <p:cNvPicPr/>
          <p:nvPr/>
        </p:nvPicPr>
        <p:blipFill>
          <a:blip r:embed="rId1"/>
          <a:stretch/>
        </p:blipFill>
        <p:spPr>
          <a:xfrm>
            <a:off x="900000" y="2205000"/>
            <a:ext cx="4388040" cy="3475080"/>
          </a:xfrm>
          <a:prstGeom prst="rect">
            <a:avLst/>
          </a:prstGeom>
          <a:ln w="0">
            <a:noFill/>
          </a:ln>
        </p:spPr>
      </p:pic>
      <p:sp>
        <p:nvSpPr>
          <p:cNvPr id="253" name="CaixaDeTexto 7"/>
          <p:cNvSpPr/>
          <p:nvPr/>
        </p:nvSpPr>
        <p:spPr>
          <a:xfrm>
            <a:off x="5580000" y="2349360"/>
            <a:ext cx="3384720" cy="228852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I edemaciado com presença de varizes e úlcera em cicatriz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 as causas não forem controladas essas úlceras facilmente recidiv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8840-F0F8-40F9-8471-5DDE9D402A89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MMII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176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trofia do quadríceps: usualmente secundária a imobilidade prolongada, desnutrição ou osteoartrose dos joelhos e coxofemora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osteoartrose pode acometer uma única ou diversas áreas articulares, envolvendo mais comumente articulações que suportam peso em membros inferiores, certas articulações das mãos e as colunas cervical e lomb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adiograficamente, considerando-se todas as articulações, a osteoartrose acomete cerca de 60% dos homens e 70% das mulheres após os 65 anos e após os 85 anos essa cifra atinge 100%. Seu aumento relaciona-se ao envelhecimento da populaçã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2B42-4271-4B11-8D05-44BD5F105542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Osteoartros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5732640"/>
            <a:ext cx="48355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steoartrose de joelho com perda do alinhamento artic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http://www.medicinanet.com.br/imagens/20100813124804.jpg"/>
          <p:cNvPicPr/>
          <p:nvPr/>
        </p:nvPicPr>
        <p:blipFill>
          <a:blip r:embed="rId1"/>
          <a:stretch/>
        </p:blipFill>
        <p:spPr>
          <a:xfrm>
            <a:off x="900000" y="1197000"/>
            <a:ext cx="3419640" cy="4560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http://www.medicinanet.com.br/imagens/20100813124722.jpg"/>
          <p:cNvPicPr/>
          <p:nvPr/>
        </p:nvPicPr>
        <p:blipFill>
          <a:blip r:embed="rId2"/>
          <a:stretch/>
        </p:blipFill>
        <p:spPr>
          <a:xfrm>
            <a:off x="4500720" y="1484280"/>
            <a:ext cx="4392360" cy="3024360"/>
          </a:xfrm>
          <a:prstGeom prst="rect">
            <a:avLst/>
          </a:prstGeom>
          <a:ln w="0">
            <a:noFill/>
          </a:ln>
        </p:spPr>
      </p:pic>
      <p:sp>
        <p:nvSpPr>
          <p:cNvPr id="264" name="Espaço Reservado para Conteúdo 2"/>
          <p:cNvSpPr/>
          <p:nvPr/>
        </p:nvSpPr>
        <p:spPr>
          <a:xfrm>
            <a:off x="4500720" y="4508640"/>
            <a:ext cx="446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Calibri"/>
              </a:rPr>
              <a:t>Osteoartrose das mãos com </a:t>
            </a:r>
            <a:r>
              <a:rPr b="0" lang="pt-BR" sz="2000" spc="-1" strike="noStrike">
                <a:solidFill>
                  <a:srgbClr val="843c0c"/>
                </a:solidFill>
                <a:latin typeface="Calibri"/>
              </a:rPr>
              <a:t>Nódulos de Heberden nas interfalângicas dist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C985-9C8B-40E2-B801-3FEED083D93A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Halux Valgo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176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álux Valgo, denominação popular de joanetes, consiste no desvio lateral do grande dedo (desvio da falange proximal do hálux sobre a cabeça do primeiro metatársico)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http://www.anapaulasimoes.com.br/path/halux-valgo.jpg"/>
          <p:cNvPicPr/>
          <p:nvPr/>
        </p:nvPicPr>
        <p:blipFill>
          <a:blip r:embed="rId1"/>
          <a:stretch/>
        </p:blipFill>
        <p:spPr>
          <a:xfrm>
            <a:off x="3276720" y="3213000"/>
            <a:ext cx="300816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04AD-A335-423C-A767-B3A1A38CBA85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MMII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6176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lterações ungueais: a onicogrifose é a deformidade e espessamento acentuada da unha principalmente do hálux (dedão), indicativo de negligência física e soci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unha fica espessada pela falta de cuidados, tem crescimento rápido, encurva-se e adquire uma coloração escur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 observada bem mais em idosos, mas também pode ocorrer devido a traumatismos, alterações biomecânicas do pé, infecções (onicomicoses), défice de irrigação sanguínea e de ingestão de nutrientes, Diabetes, malformação congênita da matriz ungueal; e sífilis tard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8D4C-D8A6-4979-B04C-4B82A3FE4CDF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Onicogrifos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AutoShape 2"/>
          <p:cNvSpPr/>
          <p:nvPr/>
        </p:nvSpPr>
        <p:spPr>
          <a:xfrm>
            <a:off x="63360" y="-89676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http://www.dermis.net/bilder/CD020/550px/img0034.jpg"/>
          <p:cNvPicPr/>
          <p:nvPr/>
        </p:nvPicPr>
        <p:blipFill>
          <a:blip r:embed="rId1"/>
          <a:stretch/>
        </p:blipFill>
        <p:spPr>
          <a:xfrm>
            <a:off x="250920" y="1844640"/>
            <a:ext cx="4086000" cy="3057480"/>
          </a:xfrm>
          <a:prstGeom prst="rect">
            <a:avLst/>
          </a:prstGeom>
          <a:ln w="0">
            <a:noFill/>
          </a:ln>
        </p:spPr>
      </p:pic>
      <p:sp>
        <p:nvSpPr>
          <p:cNvPr id="279" name="Retângulo 7"/>
          <p:cNvSpPr/>
          <p:nvPr/>
        </p:nvSpPr>
        <p:spPr>
          <a:xfrm>
            <a:off x="4427640" y="1268280"/>
            <a:ext cx="4465440" cy="375156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ta afecção pode ser prevenida quando sua etiologia for higiene inadequada ou onicomicose. Após instalada, deve-se cortar as unhas de modo apropriado lixando para conferir uma estética funcional aceit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desbastamento da unha e da matriz, está indicada para pacientes com boa circul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5E8F-950C-4B28-8927-4FAB01A6A0AC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Objectivos de aprendizage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82560" y="1412640"/>
            <a:ext cx="756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o final desta sessão os estudantes deverão ser capazes 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Identificar as principais peculiaridades do exame físico em idosos nos diferentes órgãos e/ou sistemas corpora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95280" y="2276640"/>
            <a:ext cx="13478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13CE-37D0-4507-A03F-57E603A7E565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0560" y="228600"/>
            <a:ext cx="77230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Peculiaridades do exame físico no idoso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3280" y="126792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lh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tose palpebral: pode ser uni ou bilateral. As causas mais frequentes nessa faixa etária são a ptose senil e a secundária à paralisia do terceiro par cranian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ctrópio: eversão palpeb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ntrópio: inversão palpeb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O processo natural de envelhecimento associa-se à uma redução da acuidade visual devido às alterações fisiológicas das lentes oculares, défice de campo visual e doenças de retin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erca de 90% dos idosos necessitam do uso de lentes corretivas para enxergar adequadament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2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677C-AAF2-4D80-B11F-407C9ABB1F2E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91840" y="228240"/>
            <a:ext cx="76518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Olho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61760" y="1125000"/>
            <a:ext cx="838188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rco senil: consiste em um anel esbranquiçado no perímetro da córnea, sendo comum no envelhecimento normal, sem significado patológic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http://www.iridologia.com.br/ProjetoIridologia/web/arco_senil.jpg"/>
          <p:cNvPicPr/>
          <p:nvPr/>
        </p:nvPicPr>
        <p:blipFill>
          <a:blip r:embed="rId1"/>
          <a:stretch/>
        </p:blipFill>
        <p:spPr>
          <a:xfrm>
            <a:off x="3203640" y="256536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9185-EA5A-4A49-9B29-43EF9F0F0030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Olho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176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upilas: a pupila do idoso é menor, sendo frequente a presença de pequenas diferenças de tamanho entre as duas. A reação pupilar à luz está preserva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lapso da íris: pode ser encontrado ocasionalmente em idosos, em geral, secundário à complicação de cirurgia de catar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ovimentação ocular: aproximadamente um terço dos idosos apresenta anormalidades do desvio conjugado do olhar para cima, na ausência de doença neurológ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D4A5-180D-4E03-8B81-C1A24EFF2EDF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Olho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61760" y="119664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O papiledema (edema do disco óptico) tem sua detecção normalmente prejudicada no idoso pela coexistência de catarata e dilatação inadequada das pupil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ua ausência, portanto, não exclui o diagnóstico de hipertensão intracrania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http://www.hojf.com.br/imagens/doencas/papiledema.gif"/>
          <p:cNvPicPr/>
          <p:nvPr/>
        </p:nvPicPr>
        <p:blipFill>
          <a:blip r:embed="rId1"/>
          <a:stretch/>
        </p:blipFill>
        <p:spPr>
          <a:xfrm>
            <a:off x="395280" y="3933720"/>
            <a:ext cx="2808360" cy="2094120"/>
          </a:xfrm>
          <a:prstGeom prst="rect">
            <a:avLst/>
          </a:prstGeom>
          <a:ln w="0">
            <a:noFill/>
          </a:ln>
        </p:spPr>
      </p:pic>
      <p:sp>
        <p:nvSpPr>
          <p:cNvPr id="169" name="Retângulo 6"/>
          <p:cNvSpPr/>
          <p:nvPr/>
        </p:nvSpPr>
        <p:spPr>
          <a:xfrm>
            <a:off x="3348000" y="3573360"/>
            <a:ext cx="5472000" cy="222840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É uma condição bilateral, na grande maioria dos casos, com acuidade visual normal nas fases iniciais. Geralmente está associado a obscurecimento visual transitório com duração de segundos e visão dupla (diplopia). O diagnóstico pode ser realizado através do exame de fundo de olho como no exemplo ao l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D422-2AF0-4769-BEB3-865F8393976A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Ouvido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6176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principal alteração do ouvido no idoso é a diminuição da audição como um processo natur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a sua maioria essas alterações se devem à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Otosclerose: envelhecimento dos ossos que formam o sistema auditivo, afetando a audição por conduçã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Intoxicações por medicamentos: kanamicina estreptomicina, aminoglicosídeos, certos antiinflamatórios e alguns diurétic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Otite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VC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umo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idoso tem dificuldade em captar sons alt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Espaço Reservado para Rodapé 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spaço Reservado para Número de Slide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DB26-B6E4-4DC7-A9A0-D4B30F8042BD}" type="slidenum">
              <a:rPr b="0" lang="pt-PT" sz="9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Ouvido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6176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diminuição natural de audição que ocorre no idoso pode ser acompanhada de zumbido ou tinitus, o que, em geral, ocorre nos dois ouvidos e incomoda mui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zumbido piora com ansiedade, nervosismo, álcool, cafeína e uso de antiinflamatóri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Quando o zumbido é de um só lado e há diminuição auditiva acentuada, em geral, deve-se a pequenos tumores localizados no ouvid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diminuição da audição também pode ocorrer pelo acúmulo de cerúmen, o que é muito comum e de fácil tratamen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16:26Z</dcterms:created>
  <dc:creator>Escolastica</dc:creator>
  <dc:description/>
  <dc:language>en-US</dc:language>
  <cp:lastModifiedBy>ENOCK</cp:lastModifiedBy>
  <cp:lastPrinted>2020-10-14T10:08:31Z</cp:lastPrinted>
  <dcterms:modified xsi:type="dcterms:W3CDTF">2020-10-14T11:30:31Z</dcterms:modified>
  <cp:revision>199</cp:revision>
  <dc:subject/>
  <dc:title>Peculiaridades do idoso no exame físico</dc:title>
</cp:coreProperties>
</file>