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8.jpeg" ContentType="image/jpeg"/>
  <Override PartName="/ppt/media/image9.gif" ContentType="image/gi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F780-D11D-4FBB-9EF7-6F2A6AD0FCB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C20A-469D-4361-865B-523A5BF22C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D796-5322-4460-8DC8-9C3C801C018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5032-AB9F-4438-A88F-6A10C2F940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A142-1770-4464-B0FB-0548716DA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8003-0AED-469A-85B0-49D56D487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AF96-597A-45BF-9FD7-553FB1A5B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5B35-A757-440B-A068-E04D9715E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0945-1716-48FF-9898-8131021B7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4BEB-761A-48F4-A9BB-520C2AB4A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B085-FAC8-488C-A118-C3D7D1836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E2C9-1CA3-4FEF-8A82-28C242BEB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0C7F-749C-4944-9849-C2EC763AE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67C5-AFBD-42BB-A430-59C81B0AD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31B4-EF1B-47A5-920E-664098408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7925-129F-4CCC-8AD1-4EAC7F305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3A1E-ABE9-4E71-89DE-53FAD52C77DE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21337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b23-cmdt-conceicao-silva.rcts.pt/janela_solucao1.htm" TargetMode="Externa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fpa.br/dicas/wor-defi.htm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e necessidades do idoso: Entrevista/anamne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4797000"/>
            <a:ext cx="7543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11280" y="1600200"/>
            <a:ext cx="826128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Na medida em que os dados do utente são colhidos, inicia-se a interpretação pelo enfermeiro, mesmo que o quadro ainda não esteja comple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or isso é que a identificação de necessidades e o diagnóstico são etapas do Processo de Enfermagem que se sobrepõ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ítulo 1"/>
          <p:cNvSpPr/>
          <p:nvPr/>
        </p:nvSpPr>
        <p:spPr>
          <a:xfrm>
            <a:off x="1066680" y="228600"/>
            <a:ext cx="777240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de necessidades do ido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AAD9-EC38-4BA6-996F-C023A3B45D3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539640" y="1413000"/>
            <a:ext cx="82566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entrevista é um processo intencional que permite ao enfermeiro e ao utente a troca de informaçõ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enfermeiro deve enfocar  sobre a identificação das reacções do utente que podem ser tratadas por meio de intervenções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entrevista deve t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troduç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eio ou entrevista propriamente di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echa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844720" y="2781360"/>
            <a:ext cx="56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6012000" y="251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ítulo 1"/>
          <p:cNvSpPr/>
          <p:nvPr/>
        </p:nvSpPr>
        <p:spPr>
          <a:xfrm>
            <a:off x="1066680" y="228600"/>
            <a:ext cx="777240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11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408E-F7F7-4DD7-AE80-74B8EAA6EA3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Rodapé 1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539640" y="1484280"/>
            <a:ext cx="83822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rros comuns e que devem ser evitados na entrevist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ratar o idoso por nome que ele não gosta de ser tratad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adjetivos afetivo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fala infantil – “vozinho”, “vozinha”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terminologia técnica com pessoas leig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técnicas de comunicação sem prestar atenção à reação do utente. Por exemplo: tocar o idoso que não gosta de ser toc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ítulo 1"/>
          <p:cNvSpPr/>
          <p:nvPr/>
        </p:nvSpPr>
        <p:spPr>
          <a:xfrm>
            <a:off x="1066680" y="304920"/>
            <a:ext cx="7772400" cy="60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00F1-8196-483C-84FE-EFBE8270306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43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visão formal da história clínica em queixa e duração, história da doença actual e a seguir o interrogatório sobre os aparelhos nem sempre é a forma mais prática de abordar 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as vezes, é mais produtivo começar pelo último para se obter as informações de forma mais ordenada e complet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é raro que a queixa principal do idoso não esteja relacionada ao problema actual e mereça abordagem prioritár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omitir a história medicamentosa pregressa, útil para concluir sobre afecções anteriores e actuais, inclusive responsável por muitas queixas act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4412-2830-440D-814D-570E1AEA376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539640" y="11970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Introdução da entrevis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rganize-se antes, pois sabendo o que vai fazer se sentirá mais confiante e capaz de concentrar-se na pesso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epare os materiais a serem usados na entrevis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Apresente-se ao idos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ergunte de que maneira o idoso prefere ser tratad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xplique a finalidade da entrevis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Garanta privacidade ao ido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6F30-135A-4747-828C-E6BD744DACA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ítulo 1"/>
          <p:cNvSpPr/>
          <p:nvPr/>
        </p:nvSpPr>
        <p:spPr>
          <a:xfrm>
            <a:off x="1066680" y="228600"/>
            <a:ext cx="7772400" cy="53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341360"/>
            <a:ext cx="85262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trodução da entrevis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ão confie em sua memória. Tenha um plano escrito à mão que oriente sobre as perguntas a serem feitas (roteiro, formulário); Essa atitude também ajuda a evitar entrevistas longas e cansativ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entrevistas aos idosos, em geral, são similares às entrevistas realizadas com adultos, porém acrescenta-se a estas a investigação mais alargada de suas funções motoras e cognitiv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1223-15CA-4C65-9E33-4232E6A57E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68360" y="1341000"/>
            <a:ext cx="8447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urante a entrevista propriamente di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ê total atenção ao idoso; Quando necessário (por limitações do mesmo) é que o acompanhante será envolvi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Não demonstre pres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Sentem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verse sobre áreas específicas, começando pela queixa principal, abordando a seguir os aspectos necess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vite o impulso de interromper a entrevista de forma brus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267D-49EF-45A3-A924-0556D501A23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ítulo 1"/>
          <p:cNvSpPr/>
          <p:nvPr/>
        </p:nvSpPr>
        <p:spPr>
          <a:xfrm>
            <a:off x="1066680" y="304920"/>
            <a:ext cx="7772400" cy="53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0880" y="1828440"/>
            <a:ext cx="836784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echamento da entrevis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ertifique-se de que os dados estão comple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Verifique ou faça a checagem de possíveis dúvi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empre pergunte se o idoso tem algo mais a acrescent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gradeça a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speça-se e deixe-o em condição confortá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9FD4-A02E-442F-BFAC-BC99B06AB7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ítulo 1"/>
          <p:cNvSpPr/>
          <p:nvPr/>
        </p:nvSpPr>
        <p:spPr>
          <a:xfrm>
            <a:off x="1066680" y="304920"/>
            <a:ext cx="7772400" cy="60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5373720"/>
            <a:ext cx="8424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bservando esse ambiente de entrevista ao idoso, o que vocês identificam como inadequa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D6F9-F502-4271-B442-FBA11AAB3F4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2" descr="http://t1.gstatic.com/images?q=tbn:ANd9GcTwRusqscAcT3A4Rew70U5HdtY__vf0HqNnTF9OtYAa7CN-Ar9J"/>
          <p:cNvPicPr/>
          <p:nvPr/>
        </p:nvPicPr>
        <p:blipFill>
          <a:blip r:embed="rId1"/>
          <a:stretch/>
        </p:blipFill>
        <p:spPr>
          <a:xfrm>
            <a:off x="2124000" y="1052640"/>
            <a:ext cx="5616720" cy="4206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http://www.eb23-cmdt-conceicao-silva.rcts.pt/J0288870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732640"/>
            <a:ext cx="466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651800" cy="463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492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-se perguntar sobre os antecedentes patológicos do idoso, com ênfase nas doenças crônicas activas. Dada sua prevalência, devem ser investigad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ecções cardiovasculares, em especial doença hipertens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abetes e suas complic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ecções osteoarticula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éfices relacionados as grandes síndromes geriátricas (7I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uberculo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V/S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A7F7-65C8-4365-9BDB-8B00DCC4A15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844640"/>
            <a:ext cx="8308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dentificação de necessidades do idos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Entrevista/anamnes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786B-8979-4E03-A590-E0172FFF02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63360" y="-1179360"/>
            <a:ext cx="187668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63360" y="-1179360"/>
            <a:ext cx="187668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63360" y="-1165320"/>
            <a:ext cx="18766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8" descr="http://t0.gstatic.com/images?q=tbn:ANd9GcRPQjTcH6gwjC1ZG8wqNigv2srGhXaTu2c6oxfBLzQhmSlJLqyOCQ"/>
          <p:cNvPicPr/>
          <p:nvPr/>
        </p:nvPicPr>
        <p:blipFill>
          <a:blip r:embed="rId1"/>
          <a:stretch/>
        </p:blipFill>
        <p:spPr>
          <a:xfrm>
            <a:off x="2484360" y="3141720"/>
            <a:ext cx="4761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53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ça perguntas dirigidas para as grandes síndromes geriátricas (7Is)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abilidade postur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ob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ontinência esfincteria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municativ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uficiência famili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C85A-5357-484E-A0D8-39FD1A7427D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0560" y="112536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nvestigação a respeito das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ncapacidades cognitivas e motora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é feita, em geral, por meio de perguntas dirigidas as Actividades de Vida Diária (AVD), que inclue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nh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esti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r a casa de banh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biliz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ência fecal 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riná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limentar-s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3F0E-26D4-406E-8B05-8405E44F837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CaixaDeTexto 5"/>
          <p:cNvSpPr/>
          <p:nvPr/>
        </p:nvSpPr>
        <p:spPr>
          <a:xfrm>
            <a:off x="4859280" y="2637000"/>
            <a:ext cx="4033800" cy="1923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ra abordagem que ajuda o enfermeiro na investigação cognitiva do idoso é perguntar sobre as Actividades Instrumentais da Vida Diária (AIV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9" name="Conector angulado 7"/>
          <p:cNvCxnSpPr/>
          <p:nvPr/>
        </p:nvCxnSpPr>
        <p:spPr>
          <a:xfrm>
            <a:off x="6732720" y="4797000"/>
            <a:ext cx="1296000" cy="648360"/>
          </a:xfrm>
          <a:prstGeom prst="bentConnector3">
            <a:avLst>
              <a:gd name="adj1" fmla="val 49986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tividades Instrumentais da Vida Diária (AIVD)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000" y="1413000"/>
            <a:ext cx="83818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ão actividades relacionadas à participação do idoso em seu entorno social e indicam sua independente na comunidade. São el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tilizar o telefon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ar transpor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zer compr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ar seus reméd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r das própri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inanç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3133-762E-48C5-9164-1359832BAC2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" descr="http://t2.gstatic.com/images?q=tbn:ANd9GcQFBk18QMuWYSCu5gNrquLZdFWNCqbzbJGq33bO0wrsyL1lsbKT"/>
          <p:cNvPicPr/>
          <p:nvPr/>
        </p:nvPicPr>
        <p:blipFill>
          <a:blip r:embed="rId1"/>
          <a:stretch/>
        </p:blipFill>
        <p:spPr>
          <a:xfrm>
            <a:off x="4788000" y="3213000"/>
            <a:ext cx="4003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dades Instrumentais da Vida Diária (AIVD)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5280" y="1341360"/>
            <a:ext cx="424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uação AIVD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eparar as refei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r da ca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avar e pass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zer reparo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mést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4A9B-3A78-425A-8E96-43D12EB2845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Imagem 5" descr="http://t2.gstatic.com/images?q=tbn:ANd9GcTpG4tKQZ2Jf57FrwLxLINXz9OjgJZADabHLPApdzBoJHJwqOq5"/>
          <p:cNvPicPr/>
          <p:nvPr/>
        </p:nvPicPr>
        <p:blipFill>
          <a:blip r:embed="rId1"/>
          <a:stretch/>
        </p:blipFill>
        <p:spPr>
          <a:xfrm>
            <a:off x="4427640" y="1628640"/>
            <a:ext cx="4537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000" y="1052280"/>
            <a:ext cx="8505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esempenho físico e social do idoso depende da integridade das funções cognitivas. A perda de memória recente e a habilidade de cálculo são indicadores sensíveis de redução dessas fun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da perda de memória recente é a mais adequada, dado que a escolaridade pode influenciar na avaliação da habilidade de cálcu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gere-se uma primeira avaliação com o teste rápido - solicitar à pessoa idosa que repita o nome dos objetos: Mesa, Maçã e Dinheiro. Após 3 minutos, pedir que repita. Se for incapaz há necessidade de uma maior investig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D55F-EA33-4839-BE2E-49E5914DA6F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000" y="980640"/>
            <a:ext cx="849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nvestigação quanto a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nstabilidade postural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e abranger além das condições físicas do idoso (equilíbrio, força motora), o ambiente residencial, que pode aumentar o risco de que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qui a visita domiciliária torna-se imprescind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cadas, ausência de diferenciação de degraus e de corrimãos, iluminação inadequada, tapetes soltos, obstáculos (fios eléctricos, pisos mal conservados) no local de circulação, são alguns dos riscos comuns observ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 visita domiciliária, o enfermeiro poderá identificar todos esses riscos e ajudar a família a modificar o ambiente para que se torne seguro a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CFBF-2C3E-4C10-A212-C7B17BF8F06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na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mobilidade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podem ocorrer por disfunções motoras,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sensopercepção, equilíbrio ou défice cognitiv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nâmica do aparelho locomotor sofre redução na amplitude dos movimentos, tendendo a modificar a marcha, passos mais curtos e mais lentos com tendência a arrastar os pé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mplitude de movimentos dos braços também diminui, tendendo a ficar mais próxima do corp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base de sustentação se amplia e o centro de gravidade corporal tende a se adiantar, em bus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maior equilíbr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70C5-2662-438F-B0F7-3601CF1995E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vestigar presença de </a:t>
            </a:r>
            <a:r>
              <a:rPr b="1" lang="pt-BR" sz="2400" spc="-1" strike="noStrike">
                <a:solidFill>
                  <a:srgbClr val="3c3c77"/>
                </a:solidFill>
                <a:latin typeface="Verdana"/>
              </a:rPr>
              <a:t>incontinência urinária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is cerca de 30% dos idosos não institucionalizados costumam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á-la e nem sempre a referem na avaliação clínica ou por vergonha ou por acharem ser isso normal no processo de envelheci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reqüência e a importância do evento estão associadas às repercussões emocionais e so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as das causas são reversíveis - delírio, restrição de mobilidade, retenção urinária, infecção e efeito medicamentoso - e devem ser investig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8AD9-CD12-4923-A44D-A2316146938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4920" y="981000"/>
            <a:ext cx="8526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ncapacidade comunicativa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estar associada a fatores pessoais do idoso e a fatores familiares e ambientais (hospitalar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ais fatores devem ser investigados, pois a comunicação é fundamental ao bem estar do idos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tores pessoais: Dificuldade auditiva e visual, desconforto bucal ou constrangimentos relacionados a falta de dentes ou próteses má adaptadas, humor reprimi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tores familiares: conflitos, desatenção, o idoso é tomado como obstáculo à dinâmica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ais: barulho de equipamento hospitalar, falta de tempo ou desinteresse da equipe de saúde, uso de linguagem difícil pela equip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76E9-58A0-4453-BD00-EDB722EC8B4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640" y="980640"/>
            <a:ext cx="83822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c3c77"/>
                </a:solidFill>
                <a:latin typeface="Verdana"/>
              </a:rPr>
              <a:t>Iatrogenias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poderão ser evitadas com a capacitação profissional para lidar com o idoso. Contudo, uma pergunta ao idoso poderá amenizar as iatrogenias medicamentos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ergunte sobre os medicamentos em uso pelo idoso, tanto os prescritos quanto os adquiridos por si própri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olicite que, quando for à próxima consulta, o idoso traga os medicamentos que utiliz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 essa medida é possível detectar automedicação, uso de posologia incorreta e uso de mais de um medicamento para o mesmo objetivo, às vezes prescrito por profissionais difer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E2BE-F677-4D80-BFF5-93967A4EF7D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63280" y="1412640"/>
            <a:ext cx="7201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Identificar aspectos a serem levantados durante a entrevista d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mpreender a entrevista como parte da identificação de necessidades (primeira etapa do process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escrever peculiaridades da entrevista a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6D94-04E8-4313-BFEC-5D991AB3579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2852640"/>
            <a:ext cx="18730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nsuficiência familiar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rá ser detectada por meio de perguntas sobre a dinâmica familiar: com quem mora, como é a relação entre os membros da família, identificação da figura do cuidad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condições gerais do idoso também traz um pouco do que são os cuidados familiares: condições de higiene do idoso (cabelo, unhas, roupas); estado de hum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linguagem não-verbal do idoso é importante nesse sentido, pois quando a dinâmica familiar não está bem, o idoso tende a chorar com facilidade, mas também pode esconder a realidade temendo maus tra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A05B-67CA-42E9-8504-06036B54B4D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ntrevist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relação à alimentação do idoso, é importante que o enfermeiro pergunte a respeito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da autonomia para preparar os alimentos e para aliment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rda parcial ou total da visão que dificulte a seleção, preparo e consumo dos ali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rda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a autonomia financeira para comprar os ali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minuição do apetite, da sensação de sede e da percepção da temperatura dos ali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8AB2-4415-47F1-AEEC-B2B9FB9C643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ou redução da capacidade olfativa, interferindo no seu apeti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m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tivo que o faça restringir determinados tipos de alimentos, como dietas para perda de peso, diabetes,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pertensão, hipercolesterolem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de peso recen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iculdade de mastigação por lesão oral, uso de prótese dentária ou problemas digest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F986-2349-4556-B1BE-38BE0BBA212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ido a redução fisiológica da acuidade visual do idoso e o uso de lentes corretivas para enxergar adequadamente, pergunte sobre dificuldade par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alização de atividade da vida diária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(identifique risco para queimaduras e outros acidente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ir de casa e realizar alguma actividade de lazer, visitar parentes, ir ao merc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r, assistir televisão, dirigir ou executar qualquer tarefa que lhe traga motiv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014A-1977-46B1-B2B7-35FF7FC5386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udos mostram que 74% dos homens e 56% das mulheres casadas mantêm vida sexual ativa após os 60 a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dentificação de disfunção nessa área pode ser indicativa de problemas psicológicos, fisiológicos ou amb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as das alterações sexuais que ocorrem com o avançar da idade podem ser resolvidas com orient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ns problemas podem afetar o desempenho sexual: fadiga, artrites, diabetes, hipertensão e medo de infarto, efeitos colaterais de fármacos e uso de álcoo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29E1-9F95-4C23-8C1C-A3DB8C1EE60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bora a freqüência e a intensidade da atividade sexual possam mudar ao longo da vida, redução na capacidade de desfrutar prazer nas relações sexuais não devem ser considerados como parte normal do envelhecimen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m fazer parte da avaliação sistemática das pessoas idosas sexualmente ativas a investigação de DST/S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ulheres após a menopausa, principalmente, após os 60 anos, normalmente apresentam  desconforto nas relações sexuais com penetração vaginal, devido ao hipoestrogenismo e hipotrofia dos tecidos geni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598-BF5E-49DF-B9D1-96689187302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valiação funcio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000" y="2421000"/>
            <a:ext cx="83818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funcional busca verificar, de forma sistematizada, em que nível as doenças ou agravos impedem o desempenho, de forma autônoma e independente, das AVD das pessoas idosas, permitindo o desenvolvimento de um planejamento assistencial mais adequ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D909-3865-46CA-8B33-23413E22E4F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valiação funcio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000" y="1484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 grupo de pessoas idosas, os "mais idosos, muito idosos ou idosos em velhice avançada" (idade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80 anos), também vêm aumentando proporcionalmente e de forma muito mais acelerada, constituindo o segmento populacional que mais cresce nos últimos tempos - 12,8% da população idosa e 1,1% da população to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nesse contexto que a “avaliação funcional” torna-se essencial ao estabelecimento de diagnósticos adequados, que servirão de base para decisões sobre tratamentos e cuid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4BD7-EB44-4722-B2B5-4A38062BEE4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valiação funcio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funcional determinará o comprometimento funcional do idoso e sua necessidade de auxili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tentativa sistematizada de avaliar de forma objetiva os níveis no qual uma pessoa está funcionando numa variedade de áreas utilizando diferentes habilidad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maneira de medir se uma pessoa é ou não capaz de desempenhar as actividades de autocuidado. Caso não seja capaz, verificar se essa necessidade de ajuda é parcial, em maior ou menor grau, ou to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ualmente, utiliza-se a avaliação no desempenho das atividades de vida diá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70CC-6438-4547-B672-B0A83AFF190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dades complementares no L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8000" y="2204640"/>
            <a:ext cx="838188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valiação das Actividades de Vida Diária (AVD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valiação das Actividades Instrumentais da Vida Diária (AIVD); 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valiação fun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E8E5-78B0-4462-A79F-3BB2A893E0D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A identificação de necessidades do idoso constitui a primeira etapa do processo de enfermagem, em que são geradas as informações para a determinação dos diagnósticos de enfermagem (segunda etapa do process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2EDC-FE4C-424B-82A2-0645D4EDE0B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http://t1.gstatic.com/images?q=tbn:ANd9GcSOeLIVk1vkjuHyy2MSvgKVNAurLc4rYpjpmUi7333akGcCXRKY"/>
          <p:cNvPicPr/>
          <p:nvPr/>
        </p:nvPicPr>
        <p:blipFill>
          <a:blip r:embed="rId1"/>
          <a:stretch/>
        </p:blipFill>
        <p:spPr>
          <a:xfrm>
            <a:off x="5867280" y="3213000"/>
            <a:ext cx="2089440" cy="3116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alagoas24horas.com.br/legba/admin/temp/thumbs/%7Bd468x350%7D/%7Bh0%7D/b/f/%7Bbf0e01b9-5bab-4fb4-9726-2a728f84185c%7D_idosos%20acamados.jpg"/>
          <p:cNvPicPr/>
          <p:nvPr/>
        </p:nvPicPr>
        <p:blipFill>
          <a:blip r:embed="rId2"/>
          <a:stretch/>
        </p:blipFill>
        <p:spPr>
          <a:xfrm>
            <a:off x="1260360" y="3213000"/>
            <a:ext cx="41688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628280"/>
            <a:ext cx="8640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a identificação de necessidades, o enfermeiro utiliza-se da entrevista/anamnese e do exame físico (este último será tratado na próxima aula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cesso de comunicação adequado é muito importante no decorrer da entrevista e do exame físico. Portanto, revejam o conteúdo sobre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municação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m o idoso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ado em aula anteri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organograma que apresentamos a seguir ilustra todas as etapas do processo de enfermagem, porém nesta aula iremos focar na primei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DA83-AC59-4693-A0D5-23F11EBE394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o Process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Grupo 25"/>
          <p:cNvGrpSpPr/>
          <p:nvPr/>
        </p:nvGrpSpPr>
        <p:grpSpPr>
          <a:xfrm>
            <a:off x="152280" y="1295280"/>
            <a:ext cx="8991720" cy="4343400"/>
            <a:chOff x="152280" y="1295280"/>
            <a:chExt cx="8991720" cy="4343400"/>
          </a:xfrm>
        </p:grpSpPr>
        <p:sp>
          <p:nvSpPr>
            <p:cNvPr id="118" name="Oval 2"/>
            <p:cNvSpPr/>
            <p:nvPr/>
          </p:nvSpPr>
          <p:spPr>
            <a:xfrm>
              <a:off x="2514600" y="1295280"/>
              <a:ext cx="3962520" cy="19954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Oval 3"/>
            <p:cNvSpPr/>
            <p:nvPr/>
          </p:nvSpPr>
          <p:spPr>
            <a:xfrm>
              <a:off x="5486400" y="2691360"/>
              <a:ext cx="3505320" cy="201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3886200" y="4242600"/>
              <a:ext cx="3048120" cy="139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152280" y="2768760"/>
              <a:ext cx="3328920" cy="13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3276360" y="3352680"/>
              <a:ext cx="2209680" cy="703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o de Enfermag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3124080" y="1605240"/>
              <a:ext cx="3175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1. Identificação de necessidades (Entrevista/ anamnese e Exame Físico)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6194520" y="2924640"/>
              <a:ext cx="294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2. Definição do Diagnóstico de Enfermagem (uso da taxonomia da NAND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4356000" y="4581000"/>
              <a:ext cx="228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. Elaboração do 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914040" y="315684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. Avaliação do uten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Oval 5"/>
            <p:cNvSpPr/>
            <p:nvPr/>
          </p:nvSpPr>
          <p:spPr>
            <a:xfrm>
              <a:off x="380880" y="4165200"/>
              <a:ext cx="3505320" cy="135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. Implementação do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Espaço Reservado para Número de Slide 1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DD4-4394-4088-AC86-0EA3D32FB08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Rodapé 1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56BE-C7AA-4E4B-BA64-95B6425AF1F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o Explicativo 1 (Ênfase) 6"/>
          <p:cNvSpPr/>
          <p:nvPr/>
        </p:nvSpPr>
        <p:spPr>
          <a:xfrm>
            <a:off x="3124080" y="1413000"/>
            <a:ext cx="4800600" cy="155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44" y="5450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dentificação por meio de entrevista/anamn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13" descr="pc-m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068640"/>
            <a:ext cx="36864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culiaridades da entrevista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quer mais tempo e paciência por parte do enfermeiro devido as limitações que o idoso poderá apresentar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poacusia (dificuldade auditiv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vis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éfice de memór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fusão mental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ão de hum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lta de um bom informante (familiar ou acompanhante que conheça as necessidades do idos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4FA7-DB8D-4402-96F4-3A2367BFB68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12640"/>
            <a:ext cx="4681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ido as limitações que o idoso poderá apresentar e que acabamos de discutir, suas necessidades relatadas ficam quase sempre a desejar, uma vez que suas reais necessidades são bem m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figura ao lado ilustra bem essa peculiaridade do levantamento de dados com 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14CC-624F-40AB-9DBB-46DCED2DD4E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892680" cy="4032360"/>
          </a:xfrm>
          <a:prstGeom prst="rect">
            <a:avLst/>
          </a:prstGeom>
          <a:ln w="0">
            <a:noFill/>
          </a:ln>
        </p:spPr>
      </p:pic>
      <p:sp>
        <p:nvSpPr>
          <p:cNvPr id="144" name="CaixaDeTexto 6"/>
          <p:cNvSpPr/>
          <p:nvPr/>
        </p:nvSpPr>
        <p:spPr>
          <a:xfrm>
            <a:off x="5364000" y="1557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Necessidades relat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CaixaDeTexto 7"/>
          <p:cNvSpPr/>
          <p:nvPr/>
        </p:nvSpPr>
        <p:spPr>
          <a:xfrm>
            <a:off x="6516720" y="4653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Não relat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2:12:10Z</dcterms:created>
  <dc:creator>Escolastica</dc:creator>
  <dc:description/>
  <dc:language>en-US</dc:language>
  <cp:lastModifiedBy>Mendoza</cp:lastModifiedBy>
  <dcterms:modified xsi:type="dcterms:W3CDTF">2012-01-31T14:24:01Z</dcterms:modified>
  <cp:revision>152</cp:revision>
  <dc:subject/>
  <dc:title>Identificação das necessidades humana básicas do utente idoso.</dc:title>
</cp:coreProperties>
</file>