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56DF-C378-45DE-893F-CFD13E3642B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52FC-8B6A-4927-8F74-A9EF0380AB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3EFA-644F-4B00-BB6C-7EB0AC70F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613D-9F63-40D4-86C0-66990B979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83D0-D570-4611-8292-1F058991F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91BD-026C-4874-A0B2-C8104DA84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E00C-6591-4E5B-BCA0-F7E3DA90E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873C-A172-449A-AC19-770E5A77D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A574-73A6-43D0-85AD-E4B97757B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EA4C-45DB-487D-A756-36B733726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70AA-03E6-4364-9D32-8A720BECC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A957-7D62-4E7F-AA3F-416B56D69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4A24-B723-4BEF-A072-7F3B2F143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CA5B-A2DB-4446-8A0D-E1F88581F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9E1F-5D65-4396-8C09-51DC6394CF44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2060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20500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colhi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797360"/>
            <a:ext cx="754380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 utente idoso e o ambiente hospita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m geral, os utentes enfrentam dificuldades para se adaptar ao ambiente hospitalar, pois terão qu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Seguir normas e rotinas da unidade de saúde quase sempre rígidas e inflexívei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Horário para o banh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Horário das refei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Horários dos medica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Rotinas de exames laboratoriais,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11D4-39EF-47D9-B7CC-150B0AEFED7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aixaDeTexto 7"/>
          <p:cNvSpPr/>
          <p:nvPr/>
        </p:nvSpPr>
        <p:spPr>
          <a:xfrm>
            <a:off x="457200" y="4876920"/>
            <a:ext cx="838188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o utente idoso essa adaptação se torna mais difícil. Como tornar essas normas e rotinas menos rígidas aos idosos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24000" y="1267920"/>
            <a:ext cx="8640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utras dificuldades enfrentadas pelos idosos s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rientar-se no novo ambiente, principalmente se tem acuidade visual diminuí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Mudanças nos hábitos alimentares e de higien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ivacidade para fazer as eliminações: essa falta de privacidade é causa comum de obstipação intest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Mudanças nos horários de sono e repouso, local de dormir (alterações de barulho, conversa de outros paciente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30F9-54A5-4469-B1C9-DF5471C155B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 utente e o ambiente hospitalar (continuação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CaixaDeTexto 5"/>
          <p:cNvSpPr/>
          <p:nvPr/>
        </p:nvSpPr>
        <p:spPr>
          <a:xfrm>
            <a:off x="468360" y="5373720"/>
            <a:ext cx="8136000" cy="7038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anto, é fundamental que o enfermeiro ofereça uma atenção especial ao idoso, a começar na admiss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dmissão do utente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520" y="1599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O idoso, em geral, apresenta resistência, apreensão e ansiedade na admi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primeira impressão recebida é fundamental ao idoso e seus familiares, inspirando-lhes confiança no hospital e no enfermeiro que o aten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3200" indent="-273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na admissão o idoso é recebido com atenção, paciência, interesse, alegria, sua aceitação aos procedimentos, tratamento e colaboração com a equipe de saúde é sempre positiv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C661-B4DF-4992-9C86-DB34AB00E7A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523880"/>
            <a:ext cx="85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Apesar de estar doente e ser idoso, o utente tem o direito de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Participar, opinar e decidir junto com os profissionais, sobre os cuidados que irá receb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Ser informado sobre os procedimentos e tratamentos que lhe serão dispensados (benefícios e risco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Sua privacidade física e o segredo sobre as informações confidenciais que digam respeito à sua vida e seu estado de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D310-43D1-4B92-8A72-C9E988B2249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 enfermeiro deve estar preparado para a admi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28240" y="1447920"/>
            <a:ext cx="5181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Reconhecer que cada idoso é um indivíduo, com suas particularidades (modo de falar, vestir-se, hábitos de higiene e crença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Tratá-lo com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speito, gentileza, sem preconceitos ou julgamentos </a:t>
            </a: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para despertar a confiança e a segurança, tão necessár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Tratá-lo pelo nome que o mesmo gosta de ser cham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D8F4-D015-4741-9DAF-B8D31FAF8C3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" descr="C:\Documents and Settings\Administrador\Meus documentos\Mocambique 2009.1\fotos EM 2009 1\P9070010.JPG"/>
          <p:cNvPicPr/>
          <p:nvPr/>
        </p:nvPicPr>
        <p:blipFill>
          <a:blip r:embed="rId1"/>
          <a:stretch/>
        </p:blipFill>
        <p:spPr>
          <a:xfrm>
            <a:off x="5334120" y="1447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154" name="CaixaDeTexto 6"/>
          <p:cNvSpPr/>
          <p:nvPr/>
        </p:nvSpPr>
        <p:spPr>
          <a:xfrm>
            <a:off x="5486400" y="4191120"/>
            <a:ext cx="3214800" cy="192276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r o nome do utente junto a cama ajuda a equipa de saúde a tratá-lo pelo no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mo receber o idoso na admi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mo receber o idoso na admi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1341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Auxiliá-lo a familiarizar-se com a unidade de internação, equipa de saúde e utentes internados, acompanhando-o em visita às dependências da unidade, orientando-o sobre as normas e rotinas do serviço e os espaços fís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Solicitar aos familiares objectos de uso pessoal, quando necessário, bem como arrolar roupas e valores nos casos em que o idoso esteja desacompanhado ou seu estado indique a necessidade de tal proced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Dar sempre o direito de acompanhante ao idoso, prezando pela qualidade desse acompanha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7871-ADA2-4BB7-BCA5-C2A0D820252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enefícios de uma admissão adequa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1295280"/>
            <a:ext cx="57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ma boa admissão resulta 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doso seguro e confiante na equip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doso que sabe se dirigir a locais e pessoas da enfermaria para resolver suas necess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doso que conhece e colabora com o funcionamento ótimo da un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doso satisfei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37A3-571D-4037-9843-0A7BE7D5845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Imagem 6" descr="http://t2.gstatic.com/images?q=tbn:ANd9GcQiGAVUu5ERYKm1faYxwQXEBgo6QLvzJK_vsMD82WJvTZ6PhvZ1"/>
          <p:cNvPicPr/>
          <p:nvPr/>
        </p:nvPicPr>
        <p:blipFill>
          <a:blip r:embed="rId1"/>
          <a:stretch/>
        </p:blipFill>
        <p:spPr>
          <a:xfrm>
            <a:off x="6012000" y="1484280"/>
            <a:ext cx="2881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ateriais necessários ao procedimento de admi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85D-761E-4E69-AB8A-F2ACD62C575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Processo de internamento preenchido e assinado devidamente pelo méd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Diário Clín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Diário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Arquivo de Meios Auxiliares de Diagnóst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Boletim de Urgência com a Guia de Transferência agrafado (este último no caso do utente ter vindo transferido de outro serviç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Cardex preenchido pelo médico e Registos Gráf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Tabuleiro com material de avaliação dos sinais vit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olhi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844640"/>
            <a:ext cx="83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nceito  e importância de acolh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rocesso de acolhimento ao utente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dmissão do utente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mportância dos cuidados durante a admissão do utente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A821-A7D6-4071-A5FA-9F8CB947D0B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5280" y="1341360"/>
            <a:ext cx="7014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nceituar acolh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dentificar aspectos do processo de acolhimento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escrever particularidades da admissão do utente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AA69-2916-4D61-A526-DE0069F497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acolhi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90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olhimento é o modo de operar os processos de trabalho em saúde de forma a dar atenção à todos que procuram os serviços, ouvindo suas necessidades e assumindo uma postura capaz de acolher, ouvir e pactuar respostas mais adequadas junto aos usuári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D242-024A-4D40-9E54-BF6C5E6D397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Imagem 5" descr="http://t1.gstatic.com/images?q=tbn:ANd9GcRtRN-8gjw9kwqvIhPWBhvUBEB_OL7WQD6DeFALMVFtCpzSC_IX9w"/>
          <p:cNvPicPr/>
          <p:nvPr/>
        </p:nvPicPr>
        <p:blipFill>
          <a:blip r:embed="rId1"/>
          <a:stretch/>
        </p:blipFill>
        <p:spPr>
          <a:xfrm>
            <a:off x="826920" y="3213000"/>
            <a:ext cx="3816360" cy="30718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6"/>
          <p:cNvSpPr/>
          <p:nvPr/>
        </p:nvSpPr>
        <p:spPr>
          <a:xfrm>
            <a:off x="5003640" y="4581360"/>
            <a:ext cx="3745080" cy="10087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o da música para acolher idosos que chegam para uma actividade de grup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portância do acolhi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colhimento deve estar presente em todo processo de atenção e de gest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 atingir todos aqueles que participam da produção da saúde, voltando seu olhar atencioso para os utentes e para os trabalhadores d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colhimento não é um espaço ou um local específico, não pressupõe hora ou profissional para fazê-lo. É uma ação que pressupõe a mudança 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ção profissional/usuár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plica o compartilhamento de saberes, angústias, necessidades e possibilidades constantemente renov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5B0B-71CE-4430-9A14-1F1B1099D35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o de acolhi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000" y="1268280"/>
            <a:ext cx="83818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No acolhimento à pessoa idosa os profissionais de saúde devem estar atentos par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stabelecer uma relação respeitosa, considerando que, com a experiência de toda uma vida, as pessoas se tornam, em geral, mais sábias, desenvolvem maior senso de dignidade e prudência e esperam ser reconhecidas por is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artir do pressuposto de que o idoso é capaz de compreender as perguntas que lhe são feitas ou as orientações que lhe são fornecidas, nunca se dirigindo primeiramente a seu acompanha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0882-426A-4ED1-93F8-6F0CDC50E59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o de acolhi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4920" y="981000"/>
            <a:ext cx="4321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hamar o idoso pelo nome e manter contato visual, preferencialmente, face a face e em local iluminado, considerando um possível declínio visual ou auditi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ar linguagem compreensiva, evitando termos técnic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C696-DB0A-4D01-BDA1-870AB1852C2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http://2.bp.blogspot.com/_MBWIk1P01oI/TQkcFPamWmI/AAAAAAAABgo/Cjx5pdXVTYU/s1600/Leiturino151210C.JPG"/>
          <p:cNvPicPr/>
          <p:nvPr/>
        </p:nvPicPr>
        <p:blipFill>
          <a:blip r:embed="rId1"/>
          <a:stretch/>
        </p:blipFill>
        <p:spPr>
          <a:xfrm>
            <a:off x="4859280" y="1125360"/>
            <a:ext cx="4033800" cy="3025800"/>
          </a:xfrm>
          <a:prstGeom prst="rect">
            <a:avLst/>
          </a:prstGeom>
          <a:ln w="0">
            <a:noFill/>
          </a:ln>
        </p:spPr>
      </p:pic>
      <p:sp>
        <p:nvSpPr>
          <p:cNvPr id="121" name="CaixaDeTexto 6"/>
          <p:cNvSpPr/>
          <p:nvPr/>
        </p:nvSpPr>
        <p:spPr>
          <a:xfrm>
            <a:off x="4788000" y="4076640"/>
            <a:ext cx="41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atro, fantoches e outras actividades recreativas devem fazer parte do acolhimento do idoso, levando alegria, humor e descontr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o de acolhi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981000"/>
            <a:ext cx="851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 efetivação do acolhimento do idoso os profissionais de saúde devem compreender as especificidades dessa população. Para isso, dev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ar preparados para lidar com o processo de envelhec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omper com a fragmentação do processo de trabalho e interação precária nas equipes multiprofissionais, pois é preciso reconhecer a complementaridade e a integração entre a rede básica e o sistema de referênc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cilitar o acesso dos idosos aos diversos níveis de complexidade da aten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ticipar de qualificação no que se refere à saúde d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57E6-C87A-48D9-8817-649E6A8D9E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dmissão do utente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A admissão é o momento em que o utente chega para ocupar um leito hospitalar, por período igual ou maior que 24 hor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3200" indent="-2732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Momento em que o idos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320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chega ao hospital para ficar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320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de baixa devido a um quadr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320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de pneumon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6FD-B786-4910-8C63-CB7A5692B42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333684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6"/>
          <p:cNvSpPr/>
          <p:nvPr/>
        </p:nvSpPr>
        <p:spPr>
          <a:xfrm>
            <a:off x="611280" y="4869000"/>
            <a:ext cx="457200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m poderia dar outros exemplos de casos para admissã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2:02:00Z</dcterms:created>
  <dc:creator>Escolastica</dc:creator>
  <dc:description/>
  <dc:language>en-US</dc:language>
  <cp:lastModifiedBy>Mendoza</cp:lastModifiedBy>
  <dcterms:modified xsi:type="dcterms:W3CDTF">2012-01-31T14:15:33Z</dcterms:modified>
  <cp:revision>40</cp:revision>
  <dc:subject/>
  <dc:title>Acolhimento</dc:title>
</cp:coreProperties>
</file>