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A14-0D7C-4A9E-A79C-8A2308C0FA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FDC-2670-449B-B33F-E7330721F8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523A-21E7-45D3-868E-0D2D2E03F6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413D-C052-4C58-9C27-98D1DFD3AA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FAC3-CBA1-4BA0-9571-F110045948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3C0E-6245-4995-97A1-635FD6A119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93F-8C06-4D9B-970F-215F8290B8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3DF-3882-49BB-9958-A86E959531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97F8-7BEA-4C6D-8529-1CE09DB50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07D2-A84F-4DA5-83FA-2752B96F3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0AB4-5E2A-4236-8E87-900CF1CD5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3D3C7-323C-4348-A0C9-AE3307A4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362F-7F50-4E7F-B22E-0ED1AE9FF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DE90-B21C-4240-96D1-E0131E936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074B-C69A-4868-9518-245E2E011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3FE1-5067-436F-A124-AE0CA5EFA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90FE-CA37-48AB-8163-D29C1A087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5755-489C-4788-9BCB-7BD8CA3A9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515F-DAFF-4C8B-BB06-AD164CF27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0255-7F8A-4804-97E9-B2EE0D477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1FF-1889-49CD-9FB0-A0DD2B8DE53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844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iagnóstico de Enfermagem (DE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611280" y="1413000"/>
            <a:ext cx="8064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9: ENFRENTAMENTO/ TOLERÂNCIA AO ESTRE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ar com os eventos/processos de v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082-70DE-4667-AAF9-F43BDB13DF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9640" y="3357720"/>
            <a:ext cx="8064720" cy="21132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0: PRINCÍPIOS DE V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s nos quais são baseados a conduta, o pensamento e o comportamento quanto a atos, costumes ou instituições, encarados como verdadeiros ou como dotados de valor intrínse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468360" y="1125360"/>
            <a:ext cx="84484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1: SEGURANÇA/PROTE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r livre de perigo, lesão física ou dano do sistema imunológico; preservação contra perdas; e proteção da segurança e da segur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8360" y="3141720"/>
            <a:ext cx="842328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2: CONFO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ação de bem-estar ou conforto mental, físico ou soc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293E-B04B-443D-8A28-FC3781F54C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39640" y="4365720"/>
            <a:ext cx="83170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3: CRESCIMENTO/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s apropriados para a idade nas dimensões físicas e nos sistemas orgânicos e/ou a progressão através dos estágios do desenvolv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0" y="998640"/>
            <a:ext cx="77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920" y="1412640"/>
            <a:ext cx="8381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Resulta de um processo de raciocínio clínico (análise e síntese) sobre os dados levantados do utente, por meio da entrevista e do exame físic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É o julgamento clínico sobre a resposta atual ou potencial do indivíduo/ família ou comunidade a problemas de saúde/ processos vitais, que determina a base para a escolha de intervenções direcionadas a resultados pelos quais o enfermeiro é responsável (NANDA, 199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E8D-7C25-4A98-9147-6B659DAC6B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Rodapé 1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468360" y="1700280"/>
            <a:ext cx="3743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vista e exame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788000" y="1844640"/>
            <a:ext cx="2736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ção dos dados (análise e sínte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003640" y="3068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9200" y="510372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132000" y="400536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39640" y="1052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1692360" y="4508640"/>
            <a:ext cx="7056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fatores de ris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isão de problemas potenciais/ complic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recursos e de pontos for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1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7C9B-E1D0-45AC-82FE-96BE80A11F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8" name="Conector de seta reta 15"/>
          <p:cNvCxnSpPr/>
          <p:nvPr/>
        </p:nvCxnSpPr>
        <p:spPr>
          <a:xfrm>
            <a:off x="4211640" y="2491920"/>
            <a:ext cx="5054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95280" y="112536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Em 1982 foi criada a North American Nursing Diagnosis Association (NANDA)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Principais funçõ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Espaço Reservado para Rodapé 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B32-52A1-42F5-8154-7DA99560221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5"/>
          <p:cNvSpPr/>
          <p:nvPr/>
        </p:nvSpPr>
        <p:spPr>
          <a:xfrm>
            <a:off x="826920" y="2492280"/>
            <a:ext cx="72741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onar a padronização da linguagem dos diagnóstico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r a classificação dos diagnós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eta para baixo 10"/>
          <p:cNvSpPr/>
          <p:nvPr/>
        </p:nvSpPr>
        <p:spPr>
          <a:xfrm>
            <a:off x="4427640" y="4076640"/>
            <a:ext cx="504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tângulo 11"/>
          <p:cNvSpPr/>
          <p:nvPr/>
        </p:nvSpPr>
        <p:spPr>
          <a:xfrm>
            <a:off x="900000" y="4797360"/>
            <a:ext cx="7272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processo resultou em uma TAXONOM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outras taxonomias, porém esta é a mais usada e conhec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2060280"/>
            <a:ext cx="410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s 155 Diagnósticos de Enfermagem estão distribuídos por domínios, facilitando a identificaçã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A05-EB16-4E97-BED1-57A91E706C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http://www.livrosdeprogramacao.com.br/images/8536321040Gr.jpg"/>
          <p:cNvPicPr/>
          <p:nvPr/>
        </p:nvPicPr>
        <p:blipFill>
          <a:blip r:embed="rId1"/>
          <a:stretch/>
        </p:blipFill>
        <p:spPr>
          <a:xfrm>
            <a:off x="4716360" y="990720"/>
            <a:ext cx="3672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"/>
          <p:cNvSpPr/>
          <p:nvPr/>
        </p:nvSpPr>
        <p:spPr>
          <a:xfrm>
            <a:off x="0" y="350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95280" y="112536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O DE apresenta os seguintes compon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Título: termo ou frase concisa que representa um padrão de sugestões relacionad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efinição: explicita o conceito que se tem da situação expressa pela denominação do diagnós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aracterísticas definidoras: são as evidências que o enfermeiro identifica no utente a partir do levantamento de dados e que pelo seu julgamento interpreta e agrupa (sinais e sintoma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relacionados: são os elementos que contribuem para a ocorrência do diagnóstico (fatores etiológicos, do ambiente e/ou da pessoa) que favorecem a ocorrência da “resposta” expressa no diagnóstico). Servem de base para a determinação de intervençõ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719-5752-4BBF-B2D7-B9D4451A66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395280" y="2133720"/>
            <a:ext cx="856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omponentes do DE: (continuaçã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de risco: são fatores ambientais e elementos fisiológicos, psicológicos, genéticos ou químicos que aumentam a vulnerabilidade de um indivíduo, de uma família ou de uma comunidade a um evento insalu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93B-18D7-4224-A5E9-8CD103F706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964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Exemplos de 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Comunicação prejudicada relacionada às barreiras acuidade auditiva e visual prejudic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Risco para infecção relacionado a baixa imunidade d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3E3-ED8A-4603-86E2-AA26F0C196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Group 23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785440" cy="508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os que caracterizam o Diagnóstico de Enfermagem e Méd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285-5D85-4EAB-81B0-FC008CE037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as necessidades do idoso e o  Diagnósticos de Enfermagem (DE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nc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Áreas de domín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ponentes do 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ferença entre DE e diagnóstico méd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A05-164C-4EA1-ACFF-1C6CE744E88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250920" y="134136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iferenças entre  diagnósticos médico e de enfermag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ois utentes foram internados em uma unidade de terapia intensiva, com o mesmo diagnóstico médico: “Infarto agudo do miocárdi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A enfermeira avalia os utentes para estabelecer os DE e encontra: o utente 1 com dor precordial intensa, alterações do ritmo cardíaco, insegurança e medo de morrer; o utente 2 está sem dor, sem arritmias e confiante na equi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785-1880-441C-BDCD-EEF15B22A2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95280" y="4653000"/>
            <a:ext cx="8353440" cy="15570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, o tratamento médico dos utentes 1 e 2 será igual, mas a enfermeira poderá cuidá-los da mesma forma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deve levar em conta as respostas diferentes que cada pessoa deu ao mesmo problema médic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328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Diagnóstico de Enfermagem (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s áreas de domínio e os componentes do 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 diferenças essenciais entre DE e diagnóstico méd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Fazer a integração entre identificação de necessidades e DE como etapas do processo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BF32-5A4D-4CAC-BCA1-F22129F2E1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349360"/>
            <a:ext cx="1871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Uma vez identificadas as necessidades do idoso por meio da entrevista e do exame físico (primeira etapa do preocesso de enfermagem), o enfermeiro passa para a segunda etapa (Diagnóstic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3C54-BCD3-491B-B9F7-7BB76D2191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6ECC-7347-4392-93C3-9FDDA1EDA9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23640" y="981000"/>
            <a:ext cx="8597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necessidades do idoso podem ser agrupadas nas 13 áreas de domínio dos Diagnósticos de Enfermagem, de acordo com a NANDA, o que facilitará a interpretação dos achados pelo enfermeiro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A2E1-300D-42F6-93FB-1FC846BA60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3068640"/>
          <a:ext cx="8208720" cy="2766960"/>
        </p:xfrm>
        <a:graphic>
          <a:graphicData uri="http://schemas.openxmlformats.org/drawingml/2006/table">
            <a:tbl>
              <a:tblPr/>
              <a:tblGrid>
                <a:gridCol w="345600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Promoção da 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xu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Nut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Enfrentamento/ tolerância ao estr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Eliminação e tro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rincípio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Actividade/repo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gurança/prote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ercepção/ cogn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onf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Auto-percep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rescimento e desenvolv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Relacionamentos de pap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468360" y="1557360"/>
            <a:ext cx="82566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1: PROMOÇÃO DA SAÚ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ciência de bem-estar ou de normalidade da função e as estratégias utilizadas para manter sob controle  ou aumentar esse bem-estar ou normalidade da fun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68360" y="3789360"/>
            <a:ext cx="837576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2: NUTR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de ingerir, assimilar e utilizar nutrientes para fins de manutenção dos tecidos, reparação dos tecidos e produção de ener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12A-EBBA-4640-A7ED-62FB200DAD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95280" y="1052640"/>
            <a:ext cx="847260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3: ELIMINAÇÃO E TRO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ção e excreção dos produtos residuais do metabolismo do organi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2708280"/>
            <a:ext cx="845028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4: ATIVIDADE/ REPO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, conservação, gasto ou equilíbrio de recursos energ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367-F77A-4588-93B1-BFEC01C3A9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5280" y="4292640"/>
            <a:ext cx="84978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5: PERCEPÇÃO/ COGN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istema  humano de processamento de informações, incluindo atenção, orientação, sensação, percepção, cognição e comunica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468360" y="126828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6: AUTOPERCEP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ência de si me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68360" y="2565360"/>
            <a:ext cx="835164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7: RELACIONAMENTOS DE PAP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nexões ou associações positivas e negativas entre pessoas ou grupos de pessoas e os meios pelos quais essas conexões são demonstr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E70-7700-42CF-AEF4-ED2651C2020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479736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8: SEXUA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e sexual, função sexual e reprodu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48:59Z</dcterms:created>
  <dc:creator>Escolastica</dc:creator>
  <dc:description/>
  <dc:language>en-US</dc:language>
  <cp:lastModifiedBy>Mendoza</cp:lastModifiedBy>
  <dcterms:modified xsi:type="dcterms:W3CDTF">2012-01-31T14:30:13Z</dcterms:modified>
  <cp:revision>16</cp:revision>
  <dc:subject/>
  <dc:title>Identificação das necessidades humanas básicas do utente idoso.</dc:title>
</cp:coreProperties>
</file>