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1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12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5.gif" ContentType="image/gi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2723-23B7-4BD4-8224-364C72B826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2764-C705-4173-96BC-AC5307EAEB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4B45-BF48-4335-873B-9C32A990D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14F5-0713-4C4A-9B98-20550D2A2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B88B-6541-4073-AFC8-53DA9CEE0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9BD7-BCB9-4A4D-96AC-6330E9C4B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F0AA-64E7-478F-B933-0E902D62C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456C-8F36-418C-8AB5-4D1517F63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6465-C341-421B-8F21-184A4A2ED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9283-AA75-4B2E-80E0-E8FE7C06B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B729-5D62-44CC-A043-6B6E7D91B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8508-AC0E-4C9E-850A-9ABC55EB4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672A-B824-42BC-8F28-51B8C6C05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1995-AFFE-42FE-B3BF-4E827DBA0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0D43-5740-48AB-B7D5-60EB57F3A85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negros&amp;hl=pt-BR&amp;rlz=1W1RNQN_pt-BRBR458&amp;biw=1024&amp;bih=302&amp;tbm=isch&amp;tbnid=J3vy37qCh7npnM:&amp;imgrefurl=http://noticias.r7.com/saude/noticias/cientistas-testam-remedio-contra-colesterol-para-prevenir-cancer-de-intestino-e-reto-20110323.html&amp;docid=YIYm64QmS-KIqM&amp;imgurl=http://i1.r7.com/data/files/2C92/94A4/28AA/3567/0128/B25C/1BEA/58BC/idoso-remedio-g-20100519.jpg&amp;w=450&amp;h=339&amp;ei=1xL6Tu6QLcLptgeOje3QBg&amp;zoom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276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ula 1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724280"/>
            <a:ext cx="75438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gni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640" y="980640"/>
            <a:ext cx="439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gna o desempenho das funções encefálicas superiores capaz de prejudicar a funcionalidade da pesso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o estabelecimento do diagnóstico de incapacidade cognitiva é fundamental a constatação do prejuízo na funcionalidade 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ivíduo ou perda de atividades da vida d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442B-234C-43F2-8283-479029C481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2" descr="http://comps.canstockphoto.com/can-stock-photo_csp5479981.jpg"/>
          <p:cNvPicPr/>
          <p:nvPr/>
        </p:nvPicPr>
        <p:blipFill>
          <a:blip r:embed="rId1"/>
          <a:stretch/>
        </p:blipFill>
        <p:spPr>
          <a:xfrm>
            <a:off x="4816440" y="2133720"/>
            <a:ext cx="4148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gni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2640"/>
            <a:ext cx="83818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4 Ds da Incapacidade Cogni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B93F-59E9-4474-8D41-38A8B6702B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075440" cy="4316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1.bp.blogspot.com/-jVcZywqE_Oo/TsBm0EynuZI/AAAAAAAAAnk/tWIXbPmIumQ/s1600/seta_piscando.gif"/>
          <p:cNvPicPr/>
          <p:nvPr/>
        </p:nvPicPr>
        <p:blipFill>
          <a:blip r:embed="rId2"/>
          <a:stretch/>
        </p:blipFill>
        <p:spPr>
          <a:xfrm rot="16200000">
            <a:off x="547560" y="3709800"/>
            <a:ext cx="5493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erenças entre as incapacidades cognitiv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46A9-D8B6-4A0E-89D7-959A5DCFFDF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37960" y="1413000"/>
            <a:ext cx="8906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liriu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000" y="1628640"/>
            <a:ext cx="83818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elirium (estado confusional agudo) é uma síndrome neurocomportamental causada por comprometimento transitório da atividade cerebral, secundário a uma causa orgân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 início súbito que envolve a consciência, a atenção, a cognição e a percepção e que tende a variar (flutuar) ao longo do d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comparado à insuficiência cerebral aguda e, portanto, não deve ser confundido com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delírio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F7AB-1C39-4E80-B2E7-CDBB94231E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ritérios para o Diagnóstico de Deliriu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C0E-B442-4183-ABEA-AA94570B910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836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liriu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1844280"/>
            <a:ext cx="838188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idosos, devido à redução de sua reserva cerebral, são muito vulneráveis ao aparecimento de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irium, que pode se manifestar nas formas de delirium hiperativo, hipoativo e mis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Apenas o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ipo hiperativo é frequentemente diagnosticado na prática clínica, apesar de corresponder a aproximadamente 1/3 dos ca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FB0D-9008-4230-A602-1741F13D4C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ausas de Deliriu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000" y="1125360"/>
            <a:ext cx="83818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terminados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corrências clínic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italiza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767-7491-42FC-AC6A-D619420F78D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upo 8"/>
          <p:cNvGrpSpPr/>
          <p:nvPr/>
        </p:nvGrpSpPr>
        <p:grpSpPr>
          <a:xfrm>
            <a:off x="1476360" y="2997360"/>
            <a:ext cx="5975280" cy="3240000"/>
            <a:chOff x="1476360" y="2997360"/>
            <a:chExt cx="5975280" cy="3240000"/>
          </a:xfrm>
        </p:grpSpPr>
        <p:pic>
          <p:nvPicPr>
            <p:cNvPr id="165" name="Picture 4" descr="http://www.cidadeoutdoor.com.br/image/outdoor.jpg"/>
            <p:cNvPicPr/>
            <p:nvPr/>
          </p:nvPicPr>
          <p:blipFill>
            <a:blip r:embed="rId1"/>
            <a:stretch/>
          </p:blipFill>
          <p:spPr>
            <a:xfrm>
              <a:off x="1476360" y="2997360"/>
              <a:ext cx="597528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tângulo 5"/>
            <p:cNvSpPr/>
            <p:nvPr/>
          </p:nvSpPr>
          <p:spPr>
            <a:xfrm>
              <a:off x="2124000" y="3501360"/>
              <a:ext cx="4679640" cy="11912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a prevalência em pacientes com síndrome demencial é muito elevada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 Deliriu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lui medidas gerais que visam 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igir os distúrbios hidroeletrolíticos e ácido-básic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mover a nutrição adequ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irar a conten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a mobilidade e a mudança de decúb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teger a via aérea e promover a reorientação espacial e temporal do pac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específico inclui a remoção da causa básica ou fator precipitante, além do controle da sintomatolo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EE3D-7753-4C1F-B2E5-D09019AB93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emências são estruturas patológicas da personalidade, baseadas num défice adquirido e definitivo das funções psíquicas intelec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quer demência tende a se agravar de maneira progressiva e irreversível, sejam as causas de natureza orgânica ou psicogené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emência caracteriza-se por diversos défices cognitivos, entre os quais se encontra a deterioração da memó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s distúrbios amnésicos, é identificada apenas uma deterioração da memória sem outros distúrbios cogni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522-7373-4DAF-8872-1648E7335B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mências primár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endendo da origem, as demências são classificadas em primárias e secundárias. Entre as demências primárias, encontram-s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Demência senil: ocorre por lesões destrutivas do parênquima nervoso, tanto das células quanto das fibras, que sofrem atrofia e degeneraçã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Demência pré-senil: caracteriza-se por um processo de dissolução progressiva das funções instrumentais da linguagem, das práxis e dos conhecimentos, como ocorre na doença de Alzheimer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Demência arteriopática: é provocada por lesões múltiplas da massa cerebral, devidas a processos ateroscleróticos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Demência coréica: é uma demência tardia produzida por um distúrbio degenerativo de causas múltiplas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BFB-CADE-446E-81C9-84B8A787D7D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Síndromes geriátricas: 7Is da Geriatr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7C7E-D3B7-4955-8A9E-CECE90C0950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magem 5" descr="http://t2.gstatic.com/images?q=tbn:ANd9GcR9kJmpCw2g-X-h_sqsHvSlAfN09R8I5xA9LZgGj9czrBKiV1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781360"/>
            <a:ext cx="3384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mências secundár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ência tumoral: produzida por um tumor cerebral; geralmente é par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ência pós-traumática: decorrente de acidentes cranio-cereb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ência alcoólica: resultante de formas extremas de intoxicações e psicose alcoó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ência vesânica: é a fase terminal de um grupo de psicoses tais como a mania, a melancolia, a esquizofrenia e a psicose delira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AA6-A0E6-421F-B4DA-F11DA33661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primárias de demên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226-C483-47FA-A8DE-D9278F260F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0567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clínica e complementar do idoso deve ser capaz de afastar as seguintes causas de demênci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(TIME)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óxicas: uso de drogas, álcool, metais pesados, drogas psicoativ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fecciosas: neurossífilis, infecção pelo VIH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M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tabólicas: deficiência de vitamina B12 e de ácido fólico, hipotireoidismo, hiponatremia, insuficiência renal e hepátic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truturais: hidrocefalia de pressão normal, hematoma subdural e tum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153-B397-4922-B70D-655D541B387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turbação da atenção: a capacidade de concentração encontra-se ausente ou diminuí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turbação da memória: observa-se uma ausência de precisão, inexatidão e lentidão das evoca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xo das características de desagregação e deterioração da estrutura mental na linguagem mímica, verbal e escrit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cilação do humor entre a alegria e a depressão (nos casos extremos, da excitação para o estupor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cesso de decadência geral que incide nas funções somát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499A-7449-402E-BD5C-13C1C4A964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nóstico de 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imeiro sintoma que a equipe de saúde ou a família percebe é a falta de memó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iagnóstico é feito segundo uma série de perguntas, respondidas pelo próprio paciente e pelos familiares, que procuram avaliar o estado mental do me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sso pode ser complementado com testes neuropsicológicos, para determinar o grau de incapacidade e deterioração intelect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lelamente, o médico pesquisa outras possíveis causas de deterioração mental: a doença tireóidea, a alteração dos níveis dos eletrólitos no sangue, as infecções, o déficit de vitaminas, as intoxicações, a de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D60-B164-44FD-9107-1A7CA73C032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052640"/>
            <a:ext cx="865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imulação com exercícios de reabilit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ármacos para controlar o nervosismo e os ataques de ira presentes em certos estágios avançados de dem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médico deve avaliar, em cada caso, a conveniência desse tipo de medicação, devido aos graves efeitos colater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manutenção de um ambiente familiar calmo ajuda o idoso com demência a conservar-se orient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rotinas sistemáticas para o banho, a comida ou o sono fornecem sensação de estabilidade a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22FE-1161-4984-8384-4DAB3662AE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epressão é a doença psiquiátrica mais comum que leva ao suicídio e os idosos formam o grupo etário, que com mais freqüência, se suic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solamento, dificuldades nas relações pessoais, problemas de comunicação e conflitos com a família podem desencadear a depressão. As dificuldades econômicas e outros fatores de estresse da vida diária têm igual efei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abusivo de álcool pode mascarar os sintomas depressivos, agravando a depressão. Existe ainda o risco de interação do álcool com outras substâncias que podem acentuar a depressão ou gerar outros efeitos noc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B3D7-7DDA-4960-B4A6-1BBB625806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11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tuações que favorecem a depressão em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ecedentes depressivos prévi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ça incapacitante, sobretudo se há deterioração funcional implicando numa mudança brusca e ráp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ça dolorosa (neoplasia, doença osteoarticular deformante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bandono e/ou maus tra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itucionaliz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rte de cônjuge, familiar ou amigo próxi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5687-896F-4888-A5FF-39B120B495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rfil suicida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267920"/>
            <a:ext cx="81658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xo masculi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ver só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ça depressiva seve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ônia persis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quietude psicomotora importa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ça médica severa, dolorosa, incapacita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recente do cônjug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itucionalizado ou dependente de cuidados de longa dur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tili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sentimentos de culpa excess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4BB-E21B-450B-BCDC-D26D2B7BE2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98064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ntomatolog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umor deprimid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interesse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 prazer na maioria d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s (anedoni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ônia ou hiperso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anho ou perda de peso acima de 5%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ção da capacidade de concentr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itação ou lentificação psicomotor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dig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 inapropriada de menos valia ou de culp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nsamento recorrente de morte, idéia suic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233-5DB4-4162-BFD7-CE4ECA5AB3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" descr="http://t1.gstatic.com/images?q=tbn:ANd9GcTPCY9zPswJ6nwBClaTzQuXOvp0XYM_VkdO_-dXXEWcKz2fVLmT"/>
          <p:cNvPicPr/>
          <p:nvPr/>
        </p:nvPicPr>
        <p:blipFill>
          <a:blip r:embed="rId1"/>
          <a:stretch/>
        </p:blipFill>
        <p:spPr>
          <a:xfrm>
            <a:off x="5724360" y="979560"/>
            <a:ext cx="2664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os domínios da saúde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r as principai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r aspectos básicos das principais síndromes geriátric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os 4Ds da 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2741-8D01-4E9E-AB9F-CA60D97D25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42100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980640"/>
            <a:ext cx="851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gnóstic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intomatologia deve persistir por mais de duas semanas, com perturbação ou alteração da capacidade funcional e não relacionada ao abuso de alguma substância, condição médica ou lu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a presença de cinco desses sintomas, incluindo, obrigatoriamente,  humor deprimido ou anedon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menda-se que os idosos sejam avaliados, em busca do diagnóstico de depressão, tendo em vista a sua alta prevalência e a significativa repercussão dela decorr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incipal instrumento de avaliação empregado é a Escala de Depressão Geriátr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DE63-5CFC-4767-BF63-25DADFA651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4" name="Conector angulado 6"/>
          <p:cNvCxnSpPr/>
          <p:nvPr/>
        </p:nvCxnSpPr>
        <p:spPr>
          <a:xfrm>
            <a:off x="6803640" y="6165360"/>
            <a:ext cx="79308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scala de Depressão Geriátr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064C-C5B9-4AED-B629-225D5A7824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94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pressão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280" y="1483920"/>
            <a:ext cx="8209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isa a promoção da saúde e a reabilitação psicosso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evenção de recorrências, da piora de outras doenças presentes e do suicíd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melhora cognitiva e funcion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juda para que a pessoa idosa possa lidar com suas dificul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ssociação entre essas opções aumenta o potencial de res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4DB-D1E2-446C-B846-B18FDDD1F0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pressão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19700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forma geral, existem alguns recursos terapêuticos com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endimento individual (orientação, acompanhamento, psicoterapia e farmacoterapi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endimento em gru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s comunitár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endimento à famíl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6390-1E39-4E4B-B892-D2D232E824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http://dream.santegidio.org/UserFiles/image/news/2011/201110/Distribuzione%20Mangunde%201%20ottobre%202011%2010.JPG"/>
          <p:cNvPicPr/>
          <p:nvPr/>
        </p:nvPicPr>
        <p:blipFill>
          <a:blip r:embed="rId1"/>
          <a:stretch/>
        </p:blipFill>
        <p:spPr>
          <a:xfrm>
            <a:off x="4859280" y="3141720"/>
            <a:ext cx="4098960" cy="3073320"/>
          </a:xfrm>
          <a:prstGeom prst="rect">
            <a:avLst/>
          </a:prstGeom>
          <a:ln w="0">
            <a:noFill/>
          </a:ln>
        </p:spPr>
      </p:pic>
      <p:sp>
        <p:nvSpPr>
          <p:cNvPr id="238" name="CaixaDeTexto 7"/>
          <p:cNvSpPr/>
          <p:nvPr/>
        </p:nvSpPr>
        <p:spPr>
          <a:xfrm>
            <a:off x="900000" y="4724280"/>
            <a:ext cx="3888000" cy="13136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ção: “Doença Mental/Esquizofrenia” já foi estudada no Módulo Saúde  Men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aúde do idoso está estritamente relacionada com sua funcionalidade global, definida como a capacidade de gerir a própria vida ou cuidar de si me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 capacidade de funcionar sozinho é avaliada por meio da análise das atividades de vida diária, que são tarefas do cotidiano realizad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aúde do idoso é determinada pelo funcionamento harmonioso de quatro domínios: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gnição, humor, mobilidade e comunic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58BF-4F2F-45F6-B660-68142B4DFEF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omínios da saúde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gnição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é a capacidade mental de compreend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resolver os problemas do cotidia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constituída por um conjunto de funções corticais, formadas pela memória, que inclui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pacidade de armazenamento de informações; de planejamento, antecipação, sequenciamento e monitoramento de tarefas complexas; de compreensão e expressão da linguagem oral e escrita; de executar um ato motor; de reconhecimento de estímulos visuais, auditivos e táteis; de localização no espaço e percepção d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ções dos objetos entre si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0AAB-9D73-4FAC-BA2B-EA9DF3A000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omínios da saúde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Humor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é a motivação necessária para os processos men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Mobilidade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é a capacidade de deslocamento do indivíduo. Depende da postura/marcha, da capacidade aeróbica e da continência esfincteria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unicação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é a capacidade de estabelecer relacionamento produtivo com o meio (habilidade de se comunicar). Depende da visão, audição e fal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9850-AC6D-4DA8-B7CF-D6EAD5F333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tângulo 5"/>
          <p:cNvSpPr/>
          <p:nvPr/>
        </p:nvSpPr>
        <p:spPr>
          <a:xfrm>
            <a:off x="539640" y="5229360"/>
            <a:ext cx="820908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erda dessas funções resulta nas grandes síndromes geriátric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omínios de Saúde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57C-6995-4C3D-98E5-C4307F6FA31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34320" cy="509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1.bp.blogspot.com/-jVcZywqE_Oo/TsBm0EynuZI/AAAAAAAAAnk/tWIXbPmIumQ/s1600/seta_piscando.gif"/>
          <p:cNvPicPr/>
          <p:nvPr/>
        </p:nvPicPr>
        <p:blipFill>
          <a:blip r:embed="rId2"/>
          <a:stretch/>
        </p:blipFill>
        <p:spPr>
          <a:xfrm rot="16200000">
            <a:off x="414000" y="5547960"/>
            <a:ext cx="5493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índromes Geriátric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9CDE-8CAD-413B-869F-8EBB3BBE9E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o Explicativo 2 (Ênfase) 5"/>
          <p:cNvSpPr/>
          <p:nvPr/>
        </p:nvSpPr>
        <p:spPr>
          <a:xfrm>
            <a:off x="1692360" y="1268280"/>
            <a:ext cx="4824360" cy="3529080"/>
          </a:xfr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capacidade cognitiv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stabilidade postur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mobilidad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continência esfincterian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capacidade comunic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atrogeni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suficiência famili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lipse 6"/>
          <p:cNvSpPr/>
          <p:nvPr/>
        </p:nvSpPr>
        <p:spPr>
          <a:xfrm>
            <a:off x="4067280" y="4076640"/>
            <a:ext cx="4897440" cy="936720"/>
          </a:xfrm>
          <a:prstGeom prst="ellipse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s da Geriat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tângulo 7"/>
          <p:cNvSpPr/>
          <p:nvPr/>
        </p:nvSpPr>
        <p:spPr>
          <a:xfrm>
            <a:off x="539640" y="5157720"/>
            <a:ext cx="83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s síndromes geriátricas estão relacionadas ao envelhecimento dos órgãos e sistemas, e podem ser agravadas com o estilo de vida do ido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índromes Geriátric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814-375B-4C5A-9494-B4875FF73F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32520" cy="549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1.bp.blogspot.com/-jVcZywqE_Oo/TsBm0EynuZI/AAAAAAAAAnk/tWIXbPmIumQ/s1600/seta_piscando.gif"/>
          <p:cNvPicPr/>
          <p:nvPr/>
        </p:nvPicPr>
        <p:blipFill>
          <a:blip r:embed="rId2"/>
          <a:stretch/>
        </p:blipFill>
        <p:spPr>
          <a:xfrm rot="16200000">
            <a:off x="618840" y="4933800"/>
            <a:ext cx="549360" cy="708120"/>
          </a:xfrm>
          <a:prstGeom prst="rect">
            <a:avLst/>
          </a:prstGeom>
          <a:ln w="0">
            <a:noFill/>
          </a:ln>
        </p:spPr>
      </p:pic>
      <p:sp>
        <p:nvSpPr>
          <p:cNvPr id="132" name="Elipse 7"/>
          <p:cNvSpPr/>
          <p:nvPr/>
        </p:nvSpPr>
        <p:spPr>
          <a:xfrm>
            <a:off x="179280" y="5589720"/>
            <a:ext cx="1152720" cy="503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7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05:27Z</dcterms:created>
  <dc:creator>Escolastica</dc:creator>
  <dc:description/>
  <dc:language>en-US</dc:language>
  <cp:lastModifiedBy>Mendoza</cp:lastModifiedBy>
  <dcterms:modified xsi:type="dcterms:W3CDTF">2012-01-31T14:20:00Z</dcterms:modified>
  <cp:revision>121</cp:revision>
  <dc:subject/>
  <dc:title>Sindromes Geriátricas e peculiaridades do idoso no exame</dc:title>
</cp:coreProperties>
</file>