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2.gif" ContentType="image/gif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8841-F52C-4949-9DB5-4686B6772E3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B975-5040-4AC3-9A43-B74274A435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C9A3-98DB-4E63-BD25-244EE05F447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88BB-3A32-47F8-A425-2EB35DFC2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AF26F-72EB-4B13-AFC2-E84D798C1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426B3-6497-405C-A13B-12E053302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F3FA-4A83-4813-875A-244A81512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64B7-361F-48BD-A953-57B7A9DB9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40C8-119F-4444-97D5-F82399BA0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3642-C786-4271-821C-FABED76A9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0656-FA1A-4BD3-A49F-8A270677D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E7E7-1238-4ECA-A495-0DFFCFC55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85BF-55DF-4069-A0EB-5CD2DDE37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DE52-9D84-474B-9398-ABA5710A3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52A9-E9C2-4566-8745-32327B5D2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97FD-E312-4B86-BE10-49CAE8A70C8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2060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20500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limen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652640"/>
            <a:ext cx="7543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Défices  e hábitos nutricionais errôneos ao longo da vida;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000" y="1557360"/>
            <a:ext cx="83818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rincipais erros alimentares inclue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imentação rica em carboidratos e gorduras (são mais saboras e de menor cust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imentação hipersód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rários irregulares das refei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ficiência no número de refeições/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sumo exagerado de alimentos na mesma refei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ingesta de alimentos ricos em fibr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bstituição de alimentos naturais pelos alimentos industrializ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FF78-C6F2-4B1B-8C12-75F7F9BB3BC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228240"/>
            <a:ext cx="763272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 alimentar do idoso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000" y="907920"/>
            <a:ext cx="838188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quantidade de alimentos por refeição deve ser menor para facilitar a digestão, já que os processos digestivos estão mais l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ve-se evitar jejuns prolongados e excesso de alimentos em uma única refei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regularidade de horário das refeições faz-se necessária, sendo indispensáveis o desjejum, o almoço, o lanche e o jant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D5CA-AC27-43CE-9254-7BE0300E338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2" descr="http://t2.gstatic.com/images?q=tbn:ANd9GcQAYKdMEAnCG6h-z2xqmUtbHTKN3AVyCQ9iMir0a5to358cGetsMA"/>
          <p:cNvPicPr/>
          <p:nvPr/>
        </p:nvPicPr>
        <p:blipFill>
          <a:blip r:embed="rId1"/>
          <a:stretch/>
        </p:blipFill>
        <p:spPr>
          <a:xfrm>
            <a:off x="2274840" y="4005360"/>
            <a:ext cx="48592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 alimentar do idoso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25360"/>
            <a:ext cx="3241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alimentação diária deve ser bem variada (colorida), contemplando os diferentes grupos de alimentos, agradável a todos os órgãos dos sentidos, a fim de despertar o apetite e o prazer de come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2ADF-D2D5-4FE8-9395-F749E173C4B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http://www.dbsaudecirurgia.com.br/web/wp-content/uploads/2011/05/pir_alimentar.gif"/>
          <p:cNvPicPr/>
          <p:nvPr/>
        </p:nvPicPr>
        <p:blipFill>
          <a:blip r:embed="rId1"/>
          <a:stretch/>
        </p:blipFill>
        <p:spPr>
          <a:xfrm>
            <a:off x="3348000" y="1190520"/>
            <a:ext cx="56037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 alimentar do idoso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00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vem ser respeitados os hábitos e preferências do idoso, desde que não prejudiquem à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consumo de sal, açúcar, doces, gorduras, alimentos e temperos industrializados deve ser moderado, para prevenir doenças ou complicações das mesmas quando exist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B96C-E687-4A81-9A89-370E3A20419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Imagem 6" descr="http://t1.gstatic.com/images?q=tbn:ANd9GcSZLhIQveg0tjsb7M2A4wJJFyDFejRgpFGYX-Mlwh3DZpEH-zXozw"/>
          <p:cNvPicPr/>
          <p:nvPr/>
        </p:nvPicPr>
        <p:blipFill>
          <a:blip r:embed="rId1"/>
          <a:stretch/>
        </p:blipFill>
        <p:spPr>
          <a:xfrm>
            <a:off x="2916360" y="3357720"/>
            <a:ext cx="388764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 alimentar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907920"/>
            <a:ext cx="467964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sumo de alimentos ricos em fibras (Frutas, Legumes e Verduras - FLV) e cereais integrais deve ser enfatizado, pois são nutritivos e evitam a constipação intesti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so a função mastigatória esteja comprometida, a consistência das preparações deve ser em forma de papas, purês ou de alimentos bem cozi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81160" indent="-2811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5F0A-2D58-4C78-87CD-1696F1B09E2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Imagem 5" descr="http://t2.gstatic.com/images?q=tbn:ANd9GcRrtYCbzqe8meZpeFwIWhuJEgDR3HTUjWah-Ucxcv-HjmSgTSUW"/>
          <p:cNvPicPr/>
          <p:nvPr/>
        </p:nvPicPr>
        <p:blipFill>
          <a:blip r:embed="rId1"/>
          <a:stretch/>
        </p:blipFill>
        <p:spPr>
          <a:xfrm>
            <a:off x="5219640" y="1773360"/>
            <a:ext cx="36752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 alimentar do idoso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limentos ricos em cálcio, como leite e derivados, de preferência com pouca gordura, também devem ter seu consumo incentivado, assim como a atividade física e a exposição ao sol em horários apropriados e com proteção da pel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-se evitar a ingestão de bebidas adoçadas e refriger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991A-A3CA-4F22-9399-709006C63B7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2" descr="http://t2.gstatic.com/images?q=tbn:ANd9GcRmgCg8AoPSAsUZ1jniPKG3QyICp1dZXv-A9jk5f5jK_1YWYG98Cw"/>
          <p:cNvPicPr/>
          <p:nvPr/>
        </p:nvPicPr>
        <p:blipFill>
          <a:blip r:embed="rId1"/>
          <a:stretch/>
        </p:blipFill>
        <p:spPr>
          <a:xfrm>
            <a:off x="3635280" y="3573360"/>
            <a:ext cx="26575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 alimentar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42640"/>
            <a:ext cx="43308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lguns idosos com tremores, por exemplo, não conseguem levar o alimento até a bo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imeiro devem ser realizadas improvisações para que o mesmo supere essa limit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último caso, alimentá-lo com paciência, estimulando a boa mastig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025D-74A0-47F0-B82E-874CE98FC1C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2" descr="http://3.bp.blogspot.com/-e5VZtBYD7N4/Tf5lBqfheOI/AAAAAAAABX8/hOywgNmTJqk/s1600/Assembleia-para-Conselho-Municipal-do-Idoso.jpg"/>
          <p:cNvPicPr/>
          <p:nvPr/>
        </p:nvPicPr>
        <p:blipFill>
          <a:blip r:embed="rId1"/>
          <a:stretch/>
        </p:blipFill>
        <p:spPr>
          <a:xfrm>
            <a:off x="4788000" y="1989000"/>
            <a:ext cx="4128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dade da alimen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relação à alimentação saudável do idoso, sem doenças que requeiram cuidados alimentares específicos, uma orientação adequada pode ser trabalhada por meio dos "Dez Passos para uma Alimentação Saudável“, adapt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º passo: faça pelo menos 3 refeições (café da manhã, almoço e jantar) e 2 lanches saudáveis por dia. Não pule as refeições!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F0EC-D4B6-4045-B0C2-93361884C7B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dade da alimen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000" y="1341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2º passo: inclua diariamente 6 porções do grupo dos cereais (arroz, milho e trigo pães e massas), tubérculos como a batata, raízes como mandioca/ macaxeira, nas refeições. Dê preferência aos grãos integrais e aos alimentos natu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3º passo: coma diariamente pelo menos 3 porções de legumes e verduras como parte das refeições e 3 porções ou mais de frutas nas sobremesas e lanch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4º passo: coma feijão com arroz todos os dias ou, pelo menos, 5 vezes por semana. Esse prato brasileiro é uma combinação completa de proteínas e bom para a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CA83-8166-43A1-B383-9C9C9F84D96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467480" cy="93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dade da alimen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000" y="1341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5º passo: consuma diariamente 3 porções de leite e derivados e 1 porção de carnes, aves, peixes ou ovos. Retirar a gordura aparente das carnes e a pele das aves antes da preparação torna esses alimentos mais saudáveis!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6º passo: consuma, no máximo, 1 porção por dia de óleos vegetais, azeite, manteiga ou margarin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7º passo: evite refrigerantes e sucos industrializados, bolos, biscoitos doces e recheados, sobremesas doces e outras guloseimas como regra da alimentação. Coma-os, no máximo, 2 vezes por seman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FCCC-0391-415F-B53C-1132716249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imen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773360"/>
            <a:ext cx="8308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Factores que afectam os hábitos alimentares nesta faixa etá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éfices  e hábitos nutricionais errôneos cometidos ao longo da v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Qualidade da alimentação oferecida ao utente idos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Hidratação do utente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E096-40FF-4F93-8BBD-6E938063158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dade da alimen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000" y="1412640"/>
            <a:ext cx="8381880" cy="34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8º passo: diminua a quantidade de sal na comida e retire o saleiro da me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9º passo: beba pelo menos 2 litros (6 a 8 copos) de água por dia. Dê preferência ao consumo de água nos intervalos das refei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0º passo: torne sua vida mais saudável. Pratique pelo menos 30 minutos de atividade física todos os dias e evite as bebidas alcoólicas e o fum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1BAA-FC81-40D4-BE9B-548A8E43F19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que favorecem a hidra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125360"/>
            <a:ext cx="8526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ferecendo e estimulando a ingestão de pelo menos 6 copos de 200 ml de água, ou, 12 copos de 100 ml ao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recusa à água, substituir por chá de frutas (chá de ervas pode interagir com medicament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ferecer suco natural, fruta amassada, picada,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quidificada ou cozida (a fruta é rica em líquid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ferecer leite (o idoso costuma aceitar b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o idoso apresentar disfagia (dificuldade de deglutição) e necessitar de líquidos espessados, acrescente banana , mamão ou abacate aos suco de frutas natural ou leite (vitamina). Ofereça na consistência de crem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8695-54E9-4F51-B48B-A7250D551CA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dra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000" y="98100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água é fundamental à saúde e à vida; 90% do corpo do RN é constituído de água; 70% do corpo do adolescente; 60% do corpo do adulto; e 50% do corpo do idoso (60 anos). Isso faz parte do processo natural de envelhec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sangue, que é responsável pelo transporte de nutrientes até as células,ou seja, vital para o funcionamento do corpo, é líquido, consequentemente, riquíssimo em águ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to ao consumo de líquidos, é importante o idoso beber em média de 6 a 8 copos de água ou outros líquidos por dia, para manter uma boa hidratação e evitar quadros de desidratação e de constipação intesti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A1D4-91E1-460C-B608-F1E549B5C52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dra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ó há uma via de “entrada” de água no corpo: a bo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ser ingerida,  a água é absorvida pelo intestino e enviada para todas as partes do corpo; entretanto, há várias formas de saída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pós a filtração dos rins, pela urin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 bolo fecal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elo suor, a respir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odas essa vias de “saída” são constantes, daí a necessidade de beber 1,5 a 2 litros de água por dia, ou, para ser mais específico em idosos, 30 ml de líquidos por quilo de pe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3819-EF45-4632-B703-547153CED57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dra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9640" y="105264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f. Arnaldo Lichtenstein afirm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mpre que dou aula de Clínica Médica a estudantes do quarto ano de Medicina, lanço a pergunta: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“Quais as causas que mais fazem o idoso ter confusão mental?”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ns arriscam: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“Tumor na cabeça”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u digo: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 “Não”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s apostam: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“Mal de Alzheimer”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pondo, novamente: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 “Não”.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A cada negativa a turma espanta-se. E fica ainda mais boquiaberta quando enumero as três causas mais comuns: diabetes descontrolado; infecção urinária; desidratação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E88E-E138-4BEB-A83C-6B50A9CD738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dra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gue o Prof. Arnaldo Lichtenstein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amília passou um dia inteiro fora, enquanto os idosos ficaram em casa. Parece brincadeira, mas não é. Constantemente vovô e vovó, sem sentir sede, deixam de tomar líquidos. Quando falta gente em casa para lembrá-los, desidratam-se com rapidez. A desidratação tende a ser grave e afeta todo o organismo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causar confusão mental abrupta, queda de pressão arterial, aumento dos batimentos cardíacos (“batedeira”), angina (dor no peito), coma e até morte. Insisto: não é brincadeira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3C80-7401-4328-B3B3-98F541FAE07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dra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4920" y="119664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 idoso, a desidratação se faz presente mais frequentemente, pois o mecanismo da sede está, muitas vezes, defici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fato de não sentir sede, mesmo desidratados, faz com que idosos não procurem beber águ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sa deficiência na sensação de sede pode dar impressão de que o idoso não precisa de tanta água como quando era jovem, isso não é verdade, não há uma diminuição da necessidade da água com o avançar da 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6E58-9E59-4CF8-B71C-D18FAB7695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dra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 sensores de água em várias partes do corpo. Estes verificam a adequação do n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o nível de água cai, aciona-se automaticamente um “alarme”, pois pouca água significa menor quantidade de sangue, de oxigênio e de sais minerais em nossas artérias e veias. Por isso, o corpo “pede” água. A informação é passada ao cérebro, a pessoa sente sede e busca tomar líquidos. Nos idosos, porém, esses mecanismos são menos efici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4D46-6654-4222-A3A6-CDBE07CA006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dratação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idosos desidratam-se facilmente não apenas porque possuem reserva hídrica menor, mas também porque percebem menos a falta de água em seu corp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ém disso, para a desidratação ser grave, eles não precisam de grandes perdas de água, como diarréias, vômitos ou exposição intensa ao sol. Basta o dia estar quente ou a humidade do ar baixar muito. Nessas situações, o idoso perde mais água pela respiração e pelo suor, merecendo cuid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555F-C8AD-4EB7-B7CA-8F0ED52B2C9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5280" y="1125360"/>
            <a:ext cx="70149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tar fatores que afetam os hábitos alimentares de idos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hábitos nutricionais errôneos ao longo da vida para 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rever os passos da qualidade da alimentação para 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reender as particularidades da hidratação n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5DEF-6533-412C-8217-AB5AEF1871A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492280"/>
            <a:ext cx="1871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alimentação do idoso deve atender aos mesmos objectivos que na vida adulta; No entanto, esta adquire especial importância nesta etapa de vida, porque o envelhecimento, apesar de ser um processo normal e fisiológico, acarreta alterações no organismo que podem modificar as necessidades nutricionais e o estado nutricional (JACOB, 1998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tacam-se neste grupo, duas questões relevantes: de um lado a presença de magreza e, de outro, o excesso de peso, ambos podendo estar associados às carências nutricion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3306-7469-4054-A948-048197FB1B3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actores que afectam os hábitos alimentar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1268280"/>
            <a:ext cx="460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mastigação e a deglutição podem estar comprometidas devido a alterações na cavidade bucal, ausência parcial ou total dos dentes, uso de próteses e diminuição da das papilas gustativas e da secreção saliv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3F7B-0AF1-4B72-8DD5-B8BC0F5146C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8" descr="http://colunas.epoca.globo.com/viajologia/files/2010/01/DSC7739.jpg"/>
          <p:cNvPicPr/>
          <p:nvPr/>
        </p:nvPicPr>
        <p:blipFill>
          <a:blip r:embed="rId1"/>
          <a:stretch/>
        </p:blipFill>
        <p:spPr>
          <a:xfrm>
            <a:off x="4859280" y="1413000"/>
            <a:ext cx="3995640" cy="2655720"/>
          </a:xfrm>
          <a:prstGeom prst="rect">
            <a:avLst/>
          </a:prstGeom>
          <a:ln w="0">
            <a:noFill/>
          </a:ln>
        </p:spPr>
      </p:pic>
      <p:cxnSp>
        <p:nvCxnSpPr>
          <p:cNvPr id="111" name="Conector angulado 8"/>
          <p:cNvCxnSpPr/>
          <p:nvPr/>
        </p:nvCxnSpPr>
        <p:spPr>
          <a:xfrm flipH="1" flipV="1" rot="5400000">
            <a:off x="5614560" y="3392640"/>
            <a:ext cx="1224720" cy="864360"/>
          </a:xfrm>
          <a:prstGeom prst="bentConnector3">
            <a:avLst>
              <a:gd name="adj1" fmla="val 49985"/>
            </a:avLst>
          </a:prstGeom>
          <a:ln w="126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2" name="Retângulo 9"/>
          <p:cNvSpPr/>
          <p:nvPr/>
        </p:nvSpPr>
        <p:spPr>
          <a:xfrm>
            <a:off x="468360" y="4869000"/>
            <a:ext cx="8496360" cy="13136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is alterações podem diminuir o consumo de certos tipos de alimentos, como carnes, frutas, legumes e verduras crus, o que poderia gerar uma ingestão inadequada de fibras, vitaminas e minera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CaixaDeTexto 12"/>
          <p:cNvSpPr/>
          <p:nvPr/>
        </p:nvSpPr>
        <p:spPr>
          <a:xfrm>
            <a:off x="6084720" y="4076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úde oral precá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actores que afectam os hábitos alimentar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na visão, paladar, olfato, audição e tato podem estar presentes levando à perda de apetite e contribuindo para uma ingestão menor de alimen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gestão também pode ser prejudicada pela diminuição dos movimentos peristálticos, da secreção de ácido clorídrico, de enzimas digestivas, do fator intrínseco e de sais biliares, principalmente de gorduras, dificultando a absorção de nutri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2988-7E13-4D2F-ABB0-9E5B8728EF9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actores que afectam os hábitos alimentar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to aos aspectos sociais e psicológicos, destacam-se a viuvez, a solidão, a pobreza ou dificuldade financeira, que, somadas às dificuldades de movimento ou de locomoção, podem interferir na compra e no preparo de alimentos e, conseqüentemente, no seu consum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31C5-21AB-4A75-9702-172F06CBAF8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http://dream.santegidio.org/UserFiles/image/news/2011/201110/Distribuzione%20Mangunde%201%20ottobre%202011%2013.JPG"/>
          <p:cNvPicPr/>
          <p:nvPr/>
        </p:nvPicPr>
        <p:blipFill>
          <a:blip r:embed="rId1"/>
          <a:stretch/>
        </p:blipFill>
        <p:spPr>
          <a:xfrm>
            <a:off x="755640" y="357336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3" name="CaixaDeTexto 6"/>
          <p:cNvSpPr/>
          <p:nvPr/>
        </p:nvSpPr>
        <p:spPr>
          <a:xfrm>
            <a:off x="4716360" y="4292640"/>
            <a:ext cx="4248360" cy="825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se aspecto é relevante em Moçambiq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actores que afectam os hábitos alimentar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000" y="1268280"/>
            <a:ext cx="8381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erda de papéis sociais, associada à perda do poder aquisitivo, em que parte dos recursos é utilizada para a compra de medicamentos, devido à presença simultânea de diversas doenças, pode levar à aquisição de alimentos mais baratos e de mais fácil preparo, geralmente ricos em carboidratos e gordur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A531-B5DF-416C-A91B-C068920F68F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2" descr="http://t0.gstatic.com/images?q=tbn:ANd9GcT6HeQTB3doRlNUBSR09TQylDB9TOqtNCw5YizwomPemC1aRrtG7w"/>
          <p:cNvPicPr/>
          <p:nvPr/>
        </p:nvPicPr>
        <p:blipFill>
          <a:blip r:embed="rId1"/>
          <a:stretch/>
        </p:blipFill>
        <p:spPr>
          <a:xfrm>
            <a:off x="468360" y="3933720"/>
            <a:ext cx="331632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t2.gstatic.com/images?q=tbn:ANd9GcTwHYw6XOxUpikAYr8BV3jRmGyjv4hZ851gnJLl1TMwcpewyUeAvQ"/>
          <p:cNvPicPr/>
          <p:nvPr/>
        </p:nvPicPr>
        <p:blipFill>
          <a:blip r:embed="rId2"/>
          <a:stretch/>
        </p:blipFill>
        <p:spPr>
          <a:xfrm>
            <a:off x="3924360" y="4005360"/>
            <a:ext cx="3136680" cy="20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t1.gstatic.com/images?q=tbn:ANd9GcSNuybYGi0-QXNKJnpgWNa4j0lTp0AQMsh_DuLXgwN0ot8inB6GyQ"/>
          <p:cNvPicPr/>
          <p:nvPr/>
        </p:nvPicPr>
        <p:blipFill>
          <a:blip r:embed="rId3"/>
          <a:stretch/>
        </p:blipFill>
        <p:spPr>
          <a:xfrm>
            <a:off x="7308720" y="3213000"/>
            <a:ext cx="18352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actores que afectam os hábitos alimentar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4920" y="1125000"/>
            <a:ext cx="8381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ão da composição corporal associada à diminuição da atividade física leva à diminuição das necessidades energét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assa magra declina com o envelhecimento, principalmente depois de 65 anos para homens e 75 para mulheres, havendo proporcional aumento da massa gorda (TAVARES, 1997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4E3F-BD87-4305-9BCC-146E1B1473D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" descr="http://t2.gstatic.com/images?q=tbn:ANd9GcTBhAI1plzpvAHPl3wm7AIghs_tGqiAs2-sAXpq-W4k2JbeSQb5"/>
          <p:cNvPicPr/>
          <p:nvPr/>
        </p:nvPicPr>
        <p:blipFill>
          <a:blip r:embed="rId1"/>
          <a:stretch/>
        </p:blipFill>
        <p:spPr>
          <a:xfrm>
            <a:off x="1116000" y="3860640"/>
            <a:ext cx="3246480" cy="2554560"/>
          </a:xfrm>
          <a:prstGeom prst="rect">
            <a:avLst/>
          </a:prstGeom>
          <a:ln w="0">
            <a:noFill/>
          </a:ln>
        </p:spPr>
      </p:pic>
      <p:sp>
        <p:nvSpPr>
          <p:cNvPr id="136" name="CaixaDeTexto 6"/>
          <p:cNvSpPr/>
          <p:nvPr/>
        </p:nvSpPr>
        <p:spPr>
          <a:xfrm>
            <a:off x="4427640" y="4653000"/>
            <a:ext cx="417672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actividade física é indispensável à saúde do ido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23:59:10Z</dcterms:created>
  <dc:creator>Escolastica</dc:creator>
  <dc:description/>
  <dc:language>en-US</dc:language>
  <cp:lastModifiedBy>Mendoza</cp:lastModifiedBy>
  <dcterms:modified xsi:type="dcterms:W3CDTF">2012-01-31T14:37:27Z</dcterms:modified>
  <cp:revision>46</cp:revision>
  <dc:subject/>
  <dc:title>Alimentação do idoso</dc:title>
</cp:coreProperties>
</file>