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8.jpeg" ContentType="image/jpeg"/>
  <Override PartName="/ppt/media/image7.png" ContentType="image/png"/>
  <Override PartName="/ppt/media/image17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E771-486B-4A02-A828-9C136180E2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BA2-CE45-4D18-982B-D43178AA40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D28A-0787-4921-A48F-C1F9DC9DE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E9FC-7846-4E06-8AFF-C2458FA18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DEA0-1689-463D-A4AC-811289DA8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4544-B174-4F0C-A525-37A9DAD34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26B4-121A-4A64-96AC-31D18354B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E133-940C-4C34-B4A6-E26D60ED7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A81E-B542-485F-90EB-CC12BBF01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B5DA-F1CE-433E-B676-BABF7829F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A71D-9D76-4F45-BA03-65034E3FC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4347-3824-45D9-8B7A-F681052DF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84A1-7AE6-47C9-A394-A325C4877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21AE-2482-4ECF-AD22-6AEE84A2A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050-C981-4E63-819B-59BA01C74F2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: peculiaridades do exame físico 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mascul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ejo sexual: Ocorre diminuição de testosterona, de dopamina (neurotransmissor importante na resposta sexual) e um aumento de prolactina que bloqueia o desejo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itação: As áreas erógenas ficam concentradas nos genitais externos, a ereção é menos rígida e o tempo para ter uma ereção é mais longo; após o orgasmo para repeti-la é quase im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gasmo: Há diminuição do volume e do jato do esperma. Pode perder a sensação da vinda do orgasmo, ou seja, pode “gozar” sem sentir e não consegue segur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081-54BB-4651-A55A-453883A4A41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femin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197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udanças sexuais são mais lentas e progressivas pela diminuição na produção de hormônios femininos. Efetivamente, a resposta sexual sofre alterações, mas não desaparec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ejo: mitos levam a mulher a pensar que não precisa mais ter sexo e afasta-se do parceiro. Pela diminuição da testosterona diminui a lib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itação: as áreas erógenas também se concentram na região genital. A lubrificação da vagina diminui e a mucosa interna afina e resseca; ocorre enfraquecimento da musculatura perineal devido a um processo gradual de atrofia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6C2D-C1F4-41B5-86C2-1383DAAC74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femin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483920"/>
            <a:ext cx="4392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mamas há diminuição do tecido glandular que é substituído por tecido gorduroso que mais tarde desaparece e estas ficam flác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gasmo: o número de contrações orgásticas são menores, mudando a sua sens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381-FD49-468D-997A-782DF6BA99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rg_hi" descr="http://t1.gstatic.com/images?q=tbn:ANd9GcSyvUJO_UtcpJry5lMTRcxylxAVV1Y6-bWioIgLLJblepiUPGlG"/>
          <p:cNvPicPr/>
          <p:nvPr/>
        </p:nvPicPr>
        <p:blipFill>
          <a:blip r:embed="rId1"/>
          <a:stretch/>
        </p:blipFill>
        <p:spPr>
          <a:xfrm>
            <a:off x="4932360" y="1125360"/>
            <a:ext cx="4067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udo, não há limite de idade para o namo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74D5-8A5B-4DB6-8440-6CDAB6D603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http://t3.gstatic.com/images?q=tbn:ANd9GcSZQMzrBlGFtKE1qf2U0R5OSZJqnQcYA6l6Jbph-mo_1IBTgSwj"/>
          <p:cNvPicPr/>
          <p:nvPr/>
        </p:nvPicPr>
        <p:blipFill>
          <a:blip r:embed="rId1"/>
          <a:stretch/>
        </p:blipFill>
        <p:spPr>
          <a:xfrm>
            <a:off x="1763640" y="4076640"/>
            <a:ext cx="2737080" cy="235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2.gstatic.com/images?q=tbn:ANd9GcT2-2aLpg8bWeObdTQLwMWVhm4fdvrXdYNKdbus4h7p0kC765HWKQ"/>
          <p:cNvPicPr/>
          <p:nvPr/>
        </p:nvPicPr>
        <p:blipFill>
          <a:blip r:embed="rId2"/>
          <a:stretch/>
        </p:blipFill>
        <p:spPr>
          <a:xfrm>
            <a:off x="5292720" y="1413000"/>
            <a:ext cx="3146400" cy="25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2.bp.blogspot.com/_w-23NxdlAU8/TKE4GnT23XI/AAAAAAAAAAY/KKwylvTfsIw/s1600/namorados_idosos.jpg"/>
          <p:cNvPicPr/>
          <p:nvPr/>
        </p:nvPicPr>
        <p:blipFill>
          <a:blip r:embed="rId3"/>
          <a:stretch/>
        </p:blipFill>
        <p:spPr>
          <a:xfrm>
            <a:off x="4716360" y="4076640"/>
            <a:ext cx="4211640" cy="21621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/>
          <p:cNvSpPr/>
          <p:nvPr/>
        </p:nvSpPr>
        <p:spPr>
          <a:xfrm>
            <a:off x="63360" y="-11476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63360" y="-11476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http://t2.gstatic.com/images?q=tbn:ANd9GcQTCtHmc1OORGK4da5vdiT3GmsjoJGE7eEqPeZhhr_MhxMQ6xHX"/>
          <p:cNvPicPr/>
          <p:nvPr/>
        </p:nvPicPr>
        <p:blipFill>
          <a:blip r:embed="rId4"/>
          <a:stretch/>
        </p:blipFill>
        <p:spPr>
          <a:xfrm>
            <a:off x="971640" y="1413000"/>
            <a:ext cx="4133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elhecimento cutâneo é evidenciado pela diminuição das secreções endócrinas e estreitamento das arteríolas cutâneas, afetando as reações enzimáticas do tecido conjuntivo e estruturas epiteliais, interferindo com a nutrição tissular e com o metabolismo do colágeno (elástico dos vasos, do tecido adiposo e dos múscul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a perda da elasticidade, os músculos enfraquecem e ficam frouxos, o coxim subcutâneo dissolve-se e a pele perde o apoio formando as rugas. O tempo e a intensidade das rugas variam de pessoa para pessoa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A65-11CD-4D12-B250-B87D2D9DC8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557360"/>
            <a:ext cx="43196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nchas senis: com a idade, há uma progressiva redução do número de melanócitos da pele com conseqüente formação de manchas hipocrôm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mais visíveis nas pessoas de pele cla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E98E-7332-4E47-AAFE-0F751788254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2.gstatic.com/images?q=tbn:ANd9GcTUvao4sk2gHKRPQNCHBuwAeBx9FczwBAhs6ih6oldrMJJdFW25"/>
          <p:cNvPicPr/>
          <p:nvPr/>
        </p:nvPicPr>
        <p:blipFill>
          <a:blip r:embed="rId1"/>
          <a:stretch/>
        </p:blipFill>
        <p:spPr>
          <a:xfrm>
            <a:off x="5003640" y="2178000"/>
            <a:ext cx="3961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413000"/>
            <a:ext cx="4762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rdas (pequenas manchas castanhas) que surgem no rosto e no corpo de certos idosos, sobretudo nos de pele clara, devido ao aumento da deposição de melan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rgem também melanoses (pigmentos pretos),  pelo depósito abundante de melan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595A-32B1-46F9-8BB1-8C75A5803D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http://dream.santegidio.org/UserFiles/image/news/2008/200811/20081201_Storia_Joana_4%20(Small).jpg"/>
          <p:cNvPicPr/>
          <p:nvPr/>
        </p:nvPicPr>
        <p:blipFill>
          <a:blip r:embed="rId1"/>
          <a:stretch/>
        </p:blipFill>
        <p:spPr>
          <a:xfrm>
            <a:off x="5651640" y="1484280"/>
            <a:ext cx="32414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êl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364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ais frequentes são o embranquecimento e a que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mbranquecimento inicia-se 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ade que depende da raça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ereditarie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abelos ficam brancos porqu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elanócitos, localizados junto ao bulbo capilar, na raiz dos fios, perde a capacidade de produzir melanina. Esse pigmento é o responsável pela coloração natural do cabe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abelo branco, por si só, não é expressão de pré-senescência, podendo estar presente em indivíduos de pouca 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D9C-A331-49A7-8EC8-F58E9CB3A6E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2" descr="http://t0.gstatic.com/images?q=tbn:ANd9GcTmsbVgQNfRhAIJDAvQwgv10ume3CVnUDD6dgntw7UzyKUKa4-l"/>
          <p:cNvPicPr/>
          <p:nvPr/>
        </p:nvPicPr>
        <p:blipFill>
          <a:blip r:embed="rId1"/>
          <a:stretch/>
        </p:blipFill>
        <p:spPr>
          <a:xfrm>
            <a:off x="6443640" y="907920"/>
            <a:ext cx="25210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êl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queda de cabelo se processa de maneira difusa e há uma mudança gradual na espessura. Primeiro diminuem os pêlos corporais, seguidos dos pêlos do púbis e das axil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ima dos 60 anos, grande parte das mulheres não tem pêlos axilares e apresentam declínio acentuado dos pubi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êlos das pernas também diminuem, em número e volum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doxalmente, aparecem pêlos terminais faciais, com aumento da espessura e comprimento devido a fatores horm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A897-5376-4A87-94C4-F9B43D5DCDD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stema imun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decorrentes do processo fisiológico do envelhecimento terão repercussão nos mecanismos homeostáticos do idoso e em sua resposta orgânica, diminuindo sua capacidade de reserva, de defesa e de adaptação, o que o torna mais vulnerável a quaisquer estímulos (traumático, infeccioso ou psicológico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sa forma, as doenças podem ser desencadeadas mais facilmente e serem mais duradouras e seve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239E-4A0D-4306-8C2B-C2A2247A05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eculiaridades do exame físico e dos sinais vitais n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8EEC-7B06-416D-92FC-EEA8EC90983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www.yesacademia.com.br/imagem/jpg19.jpg"/>
          <p:cNvPicPr/>
          <p:nvPr/>
        </p:nvPicPr>
        <p:blipFill>
          <a:blip r:embed="rId1"/>
          <a:stretch/>
        </p:blipFill>
        <p:spPr>
          <a:xfrm>
            <a:off x="2987640" y="2060640"/>
            <a:ext cx="352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Vitais em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3640" y="1413000"/>
            <a:ext cx="8597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peratu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uma deterioração dos mecanismos de regulação da temperatura dos idosos devido 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nor quantidade do tecido subcutâneo,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tividade da glândula sudorípar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metab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isso, os idosos sentem mais frio, apresentam temperaturas mais baixas que os adultos e estão mais expostos a hipotermia (redução de 1 a 2º.C na temperatura corporal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43DD-DDB9-495F-A561-7B6F328AEF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era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628640"/>
            <a:ext cx="838188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ebre é um sinal importante de doença em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emperatura de 37,0 °C é comumente aceita como média da medição retal, enquanto 36,8 °C ± 0,7 °C é o considerado normal para medições na boca ou axil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podem ter diminuição da capacidade de gerar calor corporal durante uma infecção, então mesmo febre baixa pode ser um sinal de condição grave de saúde nessa faixa et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8E1-244D-45C6-9C63-51F5C1ABB9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era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lores normais para a temperatura (são os mesmos para adulto)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5D2-0C7D-497D-ABB3-19B905AABE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tângulo 5"/>
          <p:cNvSpPr/>
          <p:nvPr/>
        </p:nvSpPr>
        <p:spPr>
          <a:xfrm>
            <a:off x="1187280" y="2276640"/>
            <a:ext cx="712980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axilar: 35,8ºC - 37,0º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oral: 36,3ºC - 37,4º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retal: 37ºC - 38º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CaixaDeTexto 9"/>
          <p:cNvSpPr/>
          <p:nvPr/>
        </p:nvSpPr>
        <p:spPr>
          <a:xfrm>
            <a:off x="4284720" y="4437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uso do termômetro digital irá facilitar a leitura pel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http://www.onofre.com.br/onofre/upload/produtos/ia/318388.jpg"/>
          <p:cNvPicPr/>
          <p:nvPr/>
        </p:nvPicPr>
        <p:blipFill>
          <a:blip r:embed="rId1"/>
          <a:stretch/>
        </p:blipFill>
        <p:spPr>
          <a:xfrm>
            <a:off x="147636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ir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143000"/>
            <a:ext cx="849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frequência respiratória oscila conforme a idade. Frequência e padrão respiratório no idoso tem particular significado semiológico quando superior a 26 movimentos respiratórios por minuto (mpm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eqüência respiratória normal, pela ida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ém-nascidos: 44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ebês: 20 a 40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é-escolar: 20 a 30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anças mais velhas: 16 a 25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dultos: 14 a 18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: 19 a 26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0A7F-91B8-4FBF-A3E7-1DC2379E0C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" descr="http://4.bp.blogspot.com/-JCpCj0D-8YE/Tdev25_SacI/AAAAAAAAAOk/4wWQTFirRI8/s1600/gif+animado+pulm%25C3%25B5es.gif"/>
          <p:cNvPicPr/>
          <p:nvPr/>
        </p:nvPicPr>
        <p:blipFill>
          <a:blip r:embed="rId1"/>
          <a:stretch/>
        </p:blipFill>
        <p:spPr>
          <a:xfrm>
            <a:off x="7524720" y="3068640"/>
            <a:ext cx="9493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ir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000" y="14130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sculatura da respiração enfraquece com o progredir da idade, assim como os músculos esqueléticos em geral, o que, somado ao enrijecimento da parede torácica, resulta na redução das pressões máximas inspiratórias e expiratórias com um grau de dificuldade maior para executar a dinâmica respirató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único músculo que parece não ser afetado pelo envelhecimento é o diafragma que, no idoso, apresenta a mesma massa muscular que indivíduos mai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9707-B284-4228-B7BF-0F20F26543C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nsão Arterial (T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cardiovasculares são certas no idoso, em que a aorta e grandes artérias apresentam paredes muito elásticas que se distendem com a sístole e e continua na diásto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 elasticidade dos vasos mantém a pressão sistólica em níveis normais, e a perda dessa capacidade contribui para a elevação dos níveis pressóricos na idade mais avanç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687-A732-4D2A-AEBA-39A9D66ABC5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t0.gstatic.com/images?q=tbn:ANd9GcToiIS1VwqxFaCt5zS5-e5TJHLEVQQyJERqeLItDBvqwRTLf3On"/>
          <p:cNvPicPr/>
          <p:nvPr/>
        </p:nvPicPr>
        <p:blipFill>
          <a:blip r:embed="rId1"/>
          <a:stretch/>
        </p:blipFill>
        <p:spPr>
          <a:xfrm>
            <a:off x="3132000" y="4149720"/>
            <a:ext cx="34848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052640"/>
            <a:ext cx="84549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são necessárias várias mensurações da TA, em posição sentada e ortotástica;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menda-se mensurar a TA em ambos os braços. Se variação entre as medidas considerar o valor mais alto, visto que o valor mais baixo resulta de eventos ateroscleróticos que mascaram a TA re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hiato auscultatório (desaparecimento dos sons na deflação do manguito) pode subestimar a Tensão Arterial Sistólica-TAS ou superestimar a Tensão Arterial Diastólica-TAD. Evita-se esse erro insuflando o manguito até níveis de TAS nos quais há o desaparecimento do pulso à palp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801-D9BE-47A7-B36B-7CC69C404E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eudo-hipertensão decorre do endurecimento das paredes das artérias periféricas, que promove falsa estimativa da TA à esfigmomanomet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 diagnóstico é sugerido para idosos com níveis pressóricos elevados e ausência de lesão em órgãos-alvo e que apresentam artérias dos braços calcificadas, que podem ser identificadas à palpação e/ou ao exame radiológ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inal de Osler consiste na detecção de artérias palpáveis quando o esfigmomanômetro encontra-se insuflado em nível superior ao da P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AEBC-0EDA-4235-8003-62306DA77D2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4920" y="1413000"/>
            <a:ext cx="8381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ores médios de tensão arterial considerados ideais de acordo com a ida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04 anos – 85/60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06 anos – 95/62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0 anos – 100/65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2 anos – 108/67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6 anos – 118/75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dultos – 120/80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– 140 a 160/90 a 100 mmHg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269-4D47-41E0-A82C-1FA90D5AC28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0.gstatic.com/images?q=tbn:ANd9GcQVnuG0LyQhgrMOG75yM-Foq1eRP_wyjHt7PSbotwoIQ6Xt3wGH"/>
          <p:cNvPicPr/>
          <p:nvPr/>
        </p:nvPicPr>
        <p:blipFill>
          <a:blip r:embed="rId1"/>
          <a:stretch/>
        </p:blipFill>
        <p:spPr>
          <a:xfrm>
            <a:off x="5580000" y="2133720"/>
            <a:ext cx="341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ulso arteri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000" y="1267920"/>
            <a:ext cx="8381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ulso arterial: em idosos, o puls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parvus et tardus,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contrado nos casos de estenose aórtica, é mascarado pelo endurecimento das paredes arteriais e pela presença de fibrilação atrial. Ao contrário, os sinais periféricos da insuficiência aórtica são de fácil recon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reqüência cardíaca geralmente encontra-se dentro dos limites da normalidade, com tendência a freqüências mais baixas que as dos adul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apresenta redução da resposta de elevação da freqüência cardíaca ao esforço ou outro estímu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C0F-623C-4522-AF29-B8CA0CD4D2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3280" y="1412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as principais peculiaridades do exame físico em idosos nos diferentes órgãos e/ou sistemas corp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onhecer peculiaridades dos sinais vitais em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D409-5A22-4756-A66E-54A02489C7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276640"/>
            <a:ext cx="13478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vitais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e a pena assinalar mais uma vez o quanto é frequente receber um idoso em uso de vários medicamentos e que estes podem alterar os sinais vitais, como, por exempl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térmicos (queda da temperatur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beta-bloqueadores (redução da freqüência cardíac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-hipertensivos alfa-bloqueadores (hipotensão postural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7AF0-C683-4739-BED9-195EFDFBDF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eculiaridades do exame físico no idoso - 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2ª. Aul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0AD-9640-4400-8ADA-A8E03C2A3E9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t2.gstatic.com/images?q=tbn:ANd9GcTKX2dyFDclLOdzIitphdBsiOk1zNsWMvze60poRipq-Co-YT2Ohg"/>
          <p:cNvPicPr/>
          <p:nvPr/>
        </p:nvPicPr>
        <p:blipFill>
          <a:blip r:embed="rId1"/>
          <a:stretch/>
        </p:blipFill>
        <p:spPr>
          <a:xfrm>
            <a:off x="395280" y="1989000"/>
            <a:ext cx="469728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5"/>
          <p:cNvSpPr/>
          <p:nvPr/>
        </p:nvSpPr>
        <p:spPr>
          <a:xfrm>
            <a:off x="5219640" y="234936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enfermeiro e a equipe de saúde como um todo deve ter como foco o próprio idoso. Quando o mesmo apresentar limitações cognitivas e funcionais, o familiar ou acompanhante deve ser envolv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neur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tricidade: o idoso tende a apresentar declínio da motricidade, com perda da força e da velocidade dos movimentos, de maneira simétr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otoras assimétricas são quase sempre patológ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tonia (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Gegenhalten):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chado frequente n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com demência e sugere disfunção bilater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s lobos frontais. Verifica-se aumento da resistência de maneira progressiva e irregular a qualquer movimento. A hipertonia, nesse caso, é proporcional à força empregada e aumenta quando se pede ao paciente que relax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979B-501F-4AA7-95C9-10258EAE377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neur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nsibilidade: os testes de sensibilidade no idoso são prejudicados particularmente pela limitação de cooperação e da função cognitiva do pac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xos tendíneos: são pesquisados com o uso de um martelo neurológico, de baixo custo e fácil aces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05E-70B2-4C14-8282-573D91C30C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www.hu.ufsc.br/~grumad/exame_neurologico_arquivos/image010.jpg"/>
          <p:cNvPicPr/>
          <p:nvPr/>
        </p:nvPicPr>
        <p:blipFill>
          <a:blip r:embed="rId1"/>
          <a:stretch/>
        </p:blipFill>
        <p:spPr>
          <a:xfrm>
            <a:off x="2700360" y="3357720"/>
            <a:ext cx="40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flexo Aquile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836280"/>
            <a:ext cx="8526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</a:t>
            </a: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orre quando o tendão de Aquiles ou tendão calcâneo é percutido enquanto o pé está em flexão dorsal. Um resultado positivo ocorre quando o pé se move em direção à sua superfície plant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A080-1662-406F-B68B-97AC47482A1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3487680" cy="269856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Conteúdo 2"/>
          <p:cNvSpPr/>
          <p:nvPr/>
        </p:nvSpPr>
        <p:spPr>
          <a:xfrm>
            <a:off x="4788000" y="3429000"/>
            <a:ext cx="368280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squisa do reflexo de Aqu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tângulo 7"/>
          <p:cNvSpPr/>
          <p:nvPr/>
        </p:nvSpPr>
        <p:spPr>
          <a:xfrm>
            <a:off x="250920" y="5157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c3c77"/>
                </a:solidFill>
                <a:latin typeface="Verdana"/>
              </a:rPr>
              <a:t>O reflexo checa se as raízes nervosas S1 e S2 estão intactas; pode ser indicativo de patologia do nervo isquiático; é retardado no hipotireoidismo; está ausente em hérnias de disco L5-S1; sua redução também pode representar neuropatia perifé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4" name="Conector angulado 9"/>
          <p:cNvCxnSpPr/>
          <p:nvPr/>
        </p:nvCxnSpPr>
        <p:spPr>
          <a:xfrm flipV="1" rot="10800000">
            <a:off x="4931640" y="4075560"/>
            <a:ext cx="864360" cy="648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flexo pate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B5FC-1B1F-4288-9F98-EDB39E6DE14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72880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2798640" cy="2124000"/>
          </a:xfrm>
          <a:prstGeom prst="rect">
            <a:avLst/>
          </a:prstGeom>
          <a:ln w="0">
            <a:noFill/>
          </a:ln>
        </p:spPr>
      </p:pic>
      <p:sp>
        <p:nvSpPr>
          <p:cNvPr id="130" name="Espaço Reservado para Conteúdo 2"/>
          <p:cNvSpPr/>
          <p:nvPr/>
        </p:nvSpPr>
        <p:spPr>
          <a:xfrm rot="16200000">
            <a:off x="-1058400" y="3154320"/>
            <a:ext cx="3682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squisa do reflexo pate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40360" y="98100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obscurecido na osteoartrose dos joelhos.</a:t>
            </a: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Quando há lesão grave no encéfalo ou na medula, o reflexo é nega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195480" indent="-195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2" name="Picture 6" descr="http://upload.wikimedia.org/wikipedia/commons/thumb/f/fe/Patelar.JPG/220px-Patelar.JPG"/>
          <p:cNvPicPr/>
          <p:nvPr/>
        </p:nvPicPr>
        <p:blipFill>
          <a:blip r:embed="rId3"/>
          <a:stretch/>
        </p:blipFill>
        <p:spPr>
          <a:xfrm>
            <a:off x="4643280" y="2924280"/>
            <a:ext cx="3384720" cy="257004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12"/>
          <p:cNvSpPr/>
          <p:nvPr/>
        </p:nvSpPr>
        <p:spPr>
          <a:xfrm>
            <a:off x="4284720" y="5516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ositivo quando a patela é percutida e o utente eleva a per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flexos abdomin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699920"/>
            <a:ext cx="83818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equentemente se apresentam hipoativos em decorrência de alterações tróficas da musculatura abdom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reto e ânus são observadas alterações com espessamento e alterações do colágeno e redução de força muscular, que diminuem a capacidade de retenção fecal volumosa. A isso se acrescem alterações de elasticidade retal e da sensibilidade à sua distensão (FERRIOLI,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et al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,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505F-D193-405F-B139-0AA4FA187C8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2:36:23Z</dcterms:created>
  <dc:creator>Escolastica</dc:creator>
  <dc:description/>
  <dc:language>en-US</dc:language>
  <cp:lastModifiedBy>Mendoza</cp:lastModifiedBy>
  <dcterms:modified xsi:type="dcterms:W3CDTF">2012-01-31T14:28:11Z</dcterms:modified>
  <cp:revision>8</cp:revision>
  <dc:subject/>
  <dc:title>Levantamento de necessidades do idoso: peculiaridades do exame físico (Aula 2)</dc:title>
</cp:coreProperties>
</file>