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29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12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4.jpeg" ContentType="image/jpeg"/>
  <Override PartName="/ppt/media/image1.wmf" ContentType="image/x-wmf"/>
  <Override PartName="/ppt/media/image28.jpeg" ContentType="image/jpeg"/>
  <Override PartName="/ppt/media/image15.gif" ContentType="image/gif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D36A6-8EC6-4172-B7DA-FFB67375B3B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9146C-E119-405C-8062-9966CAD8858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95696-5678-4978-AADE-0CA578CF7C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4DEF5-386F-4DA2-A14B-3BF96BDB2D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77B48-1CD7-48B0-9C16-6D182779BF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B3D01-838D-4D99-8875-5F22F709FE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41211-06CD-4096-B38C-EA272F4751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5F454-7ABB-471A-923C-64D2A404BC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7FD71-C18A-4380-969A-BBFBA3A624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49037-7858-4DB5-82AF-618F716F5D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79CE0-1648-4432-9A82-8E96162924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A0CD5-AB55-4207-92DA-B51257875C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55408-484D-4A57-B420-0291EF80CB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BD554-D9C1-4306-9C99-BD311321B9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0D8B5-360A-472D-BE41-23231624E4A3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3"/>
          <p:cNvSpPr/>
          <p:nvPr/>
        </p:nvSpPr>
        <p:spPr>
          <a:xfrm>
            <a:off x="755640" y="184464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7"/>
          <p:cNvSpPr/>
          <p:nvPr/>
        </p:nvSpPr>
        <p:spPr>
          <a:xfrm>
            <a:off x="2971800" y="1676520"/>
            <a:ext cx="5029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Times New Roman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03280" y="1988640"/>
            <a:ext cx="6553440" cy="221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Cuidados especiais a ter com idosos doentes</a:t>
            </a:r>
            <a:br>
              <a:rPr sz="3200"/>
            </a:b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(Aula 1)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99640" y="4436640"/>
            <a:ext cx="7543800" cy="12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Verdana"/>
              </a:rPr>
              <a:t>Módulo 11: Prática de Enfermagem IV -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Verdana"/>
              </a:rPr>
              <a:t>Enfermagem em Saúde Mental e Enfermagem Geriátrica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2" name="Espaço Reservado para Rodapé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uidados de Enfermagem na prevenção de úlcera por pressão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80880" y="1523880"/>
            <a:ext cx="838224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Diminuir os fatores ambientais que levam ao ressecamento da pele, como a exposição ao frio, pois leva ao ressecamento e descamação. A pele deve ser hidratada com creme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Evitar massagens nas proeminências ósseas. Acreditava-se que a massagem em regiões com hiperemia auxiliavam a melhorar o fluxo sanguíneo. As evidências atuais sugerem que massagem pode causar mais danos 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16CEA-E99A-4295-B784-BB503B828EBF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56840" y="1599840"/>
            <a:ext cx="8381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Monitorar as condições predisponentes controláveis, como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Tabagism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Desnutrição ou obesidad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Uso de esteróide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Tensão na ferid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Nível glicêmico em utentes diabétic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Nível tensional em utentes hipertens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E58A9-A1EC-46C1-85FF-42051B266256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uidados de Enfermagem na prevenção de úlcera por pressão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6840" y="129492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Quando indivíduos aparentemente bem nutridos desenvolvem uma ingestão inadequada de proteínas ou calorias, os profissionais devem tentar descobrir os fatores que estão comprometendo a ingestão e então oferecer uma ajuda na alimentação. Às vezes outros suplementos nutricionais podem ser necessários.  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Se a ingestão dietética continuar inadequada, intervenções nutricionais como alimentação parenteral ou enteral devem ser considerada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Para indivíduos comprometidos nutricionalmente um plano de suplementação nutricional deve ser implementad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BD680-3198-4225-A43A-2A7D9D6145E8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uidados de Enfermagem na prevenção de úlcera por pressão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456840" y="12952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Uso de colchões para o alívio da pressã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9" name="Espaço Reservado para Rodapé 3"/>
          <p:cNvSpPr/>
          <p:nvPr/>
        </p:nvSpPr>
        <p:spPr>
          <a:xfrm>
            <a:off x="2514600" y="6248520"/>
            <a:ext cx="47242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186B1-DF4C-4B29-8D4C-2945FCD32EB5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olchões indicados para prevenção de úlcera por pressão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AutoShape 4"/>
          <p:cNvSpPr/>
          <p:nvPr/>
        </p:nvSpPr>
        <p:spPr>
          <a:xfrm>
            <a:off x="76320" y="-731880"/>
            <a:ext cx="15811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AutoShape 6"/>
          <p:cNvSpPr/>
          <p:nvPr/>
        </p:nvSpPr>
        <p:spPr>
          <a:xfrm>
            <a:off x="76320" y="-731880"/>
            <a:ext cx="15811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76320" y="-731880"/>
            <a:ext cx="15811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12" descr="http://www.fisiomed.com.br/images/product/938_g.jpg"/>
          <p:cNvPicPr/>
          <p:nvPr/>
        </p:nvPicPr>
        <p:blipFill>
          <a:blip r:embed="rId1"/>
          <a:stretch/>
        </p:blipFill>
        <p:spPr>
          <a:xfrm>
            <a:off x="5791320" y="1752480"/>
            <a:ext cx="2438280" cy="2438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4" descr="http://www.souzalins.com.br/images/colchao%20D%20agua.jpg"/>
          <p:cNvPicPr/>
          <p:nvPr/>
        </p:nvPicPr>
        <p:blipFill>
          <a:blip r:embed="rId2"/>
          <a:stretch/>
        </p:blipFill>
        <p:spPr>
          <a:xfrm>
            <a:off x="5257800" y="3886200"/>
            <a:ext cx="2895480" cy="217188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16"/>
          <p:cNvSpPr/>
          <p:nvPr/>
        </p:nvSpPr>
        <p:spPr>
          <a:xfrm>
            <a:off x="76320" y="-738360"/>
            <a:ext cx="2057400" cy="15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AutoShape 18"/>
          <p:cNvSpPr/>
          <p:nvPr/>
        </p:nvSpPr>
        <p:spPr>
          <a:xfrm>
            <a:off x="0" y="-771480"/>
            <a:ext cx="2057400" cy="15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Picture 20" descr="http://www.lenilson.com.br/wp-content/uploads/2010/10/casca.jpg"/>
          <p:cNvPicPr/>
          <p:nvPr/>
        </p:nvPicPr>
        <p:blipFill>
          <a:blip r:embed="rId3"/>
          <a:stretch/>
        </p:blipFill>
        <p:spPr>
          <a:xfrm>
            <a:off x="380880" y="2057400"/>
            <a:ext cx="4470480" cy="3352680"/>
          </a:xfrm>
          <a:prstGeom prst="rect">
            <a:avLst/>
          </a:prstGeom>
          <a:ln w="0">
            <a:noFill/>
          </a:ln>
        </p:spPr>
      </p:pic>
      <p:sp>
        <p:nvSpPr>
          <p:cNvPr id="160" name="CaixaDeTexto 16"/>
          <p:cNvSpPr/>
          <p:nvPr/>
        </p:nvSpPr>
        <p:spPr>
          <a:xfrm>
            <a:off x="685800" y="54100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lchão caixa de ov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CaixaDeTexto 18"/>
          <p:cNvSpPr/>
          <p:nvPr/>
        </p:nvSpPr>
        <p:spPr>
          <a:xfrm>
            <a:off x="5334120" y="56386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Colchão d’águ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CaixaDeTexto 19"/>
          <p:cNvSpPr/>
          <p:nvPr/>
        </p:nvSpPr>
        <p:spPr>
          <a:xfrm>
            <a:off x="5562720" y="39625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Colchão inflá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456840" y="11430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Uso de almofadas anti-úlceras por pressão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E63D2-900C-4D05-9BBE-D5E9C5560B60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6" name="Picture 2" descr="http://2.bp.blogspot.com/_HopVoRhiIBk/SoXx-AUq5cI/AAAAAAAAAL0/Z2_SGPUKFPs/s320/zz+almofadas+AE.jpg"/>
          <p:cNvPicPr/>
          <p:nvPr/>
        </p:nvPicPr>
        <p:blipFill>
          <a:blip r:embed="rId1"/>
          <a:stretch/>
        </p:blipFill>
        <p:spPr>
          <a:xfrm>
            <a:off x="1447920" y="1630440"/>
            <a:ext cx="6095880" cy="468612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Artefatos para prevenção de úlcera por pressã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56840" y="1142640"/>
            <a:ext cx="83818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Uso de protector para o calcanhar e cotovelos. Podem ser improvisados com luva de procedimento cheia de água ou uma almofada feita com algodão e compress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AC7EF-A4AC-4485-8134-CCABEBB5DABA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1" name="Picture 2" descr="http://4.bp.blogspot.com/_HopVoRhiIBk/SoX0km0aGEI/AAAAAAAAAMM/7qws1Il7pKk/s320/zz+calcanheiras.bmp"/>
          <p:cNvPicPr/>
          <p:nvPr/>
        </p:nvPicPr>
        <p:blipFill>
          <a:blip r:embed="rId1"/>
          <a:stretch/>
        </p:blipFill>
        <p:spPr>
          <a:xfrm>
            <a:off x="762120" y="2895480"/>
            <a:ext cx="3446280" cy="34290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uidados de Enfermagem na prevenção de úlcera por pressão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AutoShape 4"/>
          <p:cNvSpPr/>
          <p:nvPr/>
        </p:nvSpPr>
        <p:spPr>
          <a:xfrm>
            <a:off x="76320" y="-563400"/>
            <a:ext cx="1181160" cy="11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AutoShape 6"/>
          <p:cNvSpPr/>
          <p:nvPr/>
        </p:nvSpPr>
        <p:spPr>
          <a:xfrm>
            <a:off x="76320" y="-563400"/>
            <a:ext cx="1181160" cy="11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AutoShape 8"/>
          <p:cNvSpPr/>
          <p:nvPr/>
        </p:nvSpPr>
        <p:spPr>
          <a:xfrm>
            <a:off x="76320" y="-563400"/>
            <a:ext cx="1181160" cy="11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AutoShape 10"/>
          <p:cNvSpPr/>
          <p:nvPr/>
        </p:nvSpPr>
        <p:spPr>
          <a:xfrm>
            <a:off x="76320" y="-563400"/>
            <a:ext cx="1181160" cy="11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Picture 12" descr="http://www.fisiostore.com.br/images/product/SALV-09402_298.jpg"/>
          <p:cNvPicPr/>
          <p:nvPr/>
        </p:nvPicPr>
        <p:blipFill>
          <a:blip r:embed="rId2"/>
          <a:stretch/>
        </p:blipFill>
        <p:spPr>
          <a:xfrm>
            <a:off x="4896000" y="2819520"/>
            <a:ext cx="327636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761976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rientações aos utentes, acompanhantes e familiar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6840" y="1676160"/>
            <a:ext cx="8381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Todo serviço que admite utente com risco para formação de úlcera por pressão deve ter um programa de educação do utente, acompanhante e familiar  voltado para prevenção deste agrav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É bem mais fácil prevenir do que tratar a úlcera por pressão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Quando há o envolvimento de todos a prevenção é mais eficaz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997FF-8E4C-4CA2-AA13-2A221D34C9BD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533160" y="137124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Observar diariamente a pele do utente para detectar possíveis áreas comprometidas (áreas de coloração esbranquiçada, manchas roxas ou bolhas) e comunicar ao enfermeir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Identificadas no início, o problema é resolvido eliminando-se a pressão exercida na pele provocada pelo peso do corpo ao nível da saliência óssea; 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Hidratar a pele com creme hidratante: região glútea, face posterior das coxas, pés e artelhos. 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Evitar massagens nas áreas comprometidas ou com sinais iniciais de úlcera, pois vai causar mais danos que benefícios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6B47B-1396-4CDB-B3A4-EDDF9A3F5F41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761976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rientações aos utentes, acompanhantes  e familiar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160" y="137124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Usar protetores nas áreas de maior risco (proeminências ósseas)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Os joelhos devem ser mantidos afastados de contato direto um com o outr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Os calcanhares também devem ser protegidos com almofadas. Essas almofadas são necessárias não somente na fase preventiva como também no tratamento das escaras já existentes; 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 </a:t>
            </a: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Usar colchão anti-úlcera que apóiam o corpo de forma suave e uniforme, sem causar pressão excessiva nas áreas mais vulneráveis. 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48E34-5AC2-439C-9EA5-0840089C9A8D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761976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rientações aos utentes, acompanhantes  e familiar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56840" y="13712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Quando deitado, o utente deve mudar de posição a, pelo menos, cada duas horas, sendo conveniente registar o horário para evitar esqueciment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Autores preconizam mudanças de decúbitos de 4 em 4 horas desde que o utente seja mantido em colchão anti-úlcera e haja observação cuidadosa da pele para identificar alterações precoce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Recomenda-se evitar o lado que esteja com áreas comprometidas, ou seja, se o utente tiver uma mancha roxa na região coxofemoral direita, não deve permanecer em decúbito lateral direito; </a:t>
            </a:r>
            <a:r>
              <a:rPr b="1" lang="pt-BR" sz="2800" spc="-1" strike="noStrike">
                <a:solidFill>
                  <a:srgbClr val="3c3c77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1AC13-DE54-4CFE-9235-9692E809581F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761976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rientações aos utentes, acompanhantes e familiar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15640" y="228600"/>
            <a:ext cx="77230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Verdana"/>
              </a:rPr>
              <a:t>Cuidados especiais a ter com idosos doentes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8360" y="1341000"/>
            <a:ext cx="83088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Cuidados de enfermagem a ter nas seguintes patologias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Úlceras por pressão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Colostomia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Doença de Alzheimer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Doença de Parkinson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AVC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Câncer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Diabetes mellitus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CCF3D-74B6-46EA-9A01-E0AFBBD16AE3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456840" y="1752480"/>
            <a:ext cx="838188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Quando sentado em cadeira de rodas ou poltrona o utente deve usar almofadas para aliviar a pressã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 </a:t>
            </a: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Manter o utente fora do leito sempre que possível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Manter a cama sempre limpa com os lençóis bem esticados, sem dobra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Evitar cruzar os membros do utente para não obstruir o fluxo sanguíneo desses segmentos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 </a:t>
            </a: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Exercitar o utente, fazendo movimentos passivos nas articulações das mãos, braços, pés e perna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B0265-9E0A-41FA-B37B-42046D760227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761976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rientações aos utentes, acompanhantes e familiar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456840" y="15998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Não arrastar o utente na cama ou cadeir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O utente deve ingerir em torno de dois litros de líquidos por di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A alimentação deve ser diversificada (colorida), cinco a seis vêzes ao di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Se possível proporcionar banho de sol nas primeiras horas da manhã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Combater o cigarro, caso o utente fum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Lavar as mãos com água e sabão ou fricção com álcool glicerinado antes e depois de realizar qualquer cuidado com o utente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938EF-5BAB-484A-86FB-A16BCBD570FE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761976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rientações aos utentes, acompanhantes e familiar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533160" y="1904760"/>
            <a:ext cx="83055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Em geral, o enfermeiro irá precisar de luvas de procedimento e máscar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Nos casos em que o utente represente risco de contato com secreções, cabe ao enfermeiro o bom senso e adotar outros EPI como  óculos, avental de plástico e barret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Oferecer EPI ao acompanhante ou familiar que participe do cuidad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48391-2FCE-40E4-866D-26359056AD19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15640" y="228600"/>
            <a:ext cx="7723080" cy="1039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PI necessários aos cuidados de  úlcera por pressã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Registos de Enfermage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6840" y="10663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Todas as medidas de prevenção de úlceras por pressão realizadas devem ser registadas no processo do utente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Educação ou orientação do utente, acompanhante ou familiar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Inspeção de pele com enfoque nas proeminências ósseas e descrição da condição encontrad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Mudança de decúbito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Higiene e hidratação da pel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Aplicação de almofadas de alívi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Ingestão hídrica diári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Redução do tabagismo e outr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EF3AB-477B-4755-BF88-4EDC459D79B1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eitura em cas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635280" y="2637000"/>
            <a:ext cx="4176720" cy="1079280"/>
          </a:xfrm>
          <a:prstGeom prst="rect">
            <a:avLst/>
          </a:prstGeom>
          <a:gradFill rotWithShape="0">
            <a:gsLst>
              <a:gs pos="0">
                <a:srgbClr val="a9a9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uião dos procedimentos básicos de enfermagem páginas 70 a 72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7E228-5CE0-4B0B-93FC-B836537EBD81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4" name="Picture 5" descr="j0296847"/>
          <p:cNvPicPr/>
          <p:nvPr/>
        </p:nvPicPr>
        <p:blipFill>
          <a:blip r:embed="rId1"/>
          <a:stretch/>
        </p:blipFill>
        <p:spPr>
          <a:xfrm>
            <a:off x="900000" y="1989000"/>
            <a:ext cx="25844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IDOSO COM COLOSTOMIA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CUIDADOS DE ENFERMAGEM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A36A7-C522-4DBC-8454-314744C5522B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15640" y="228600"/>
            <a:ext cx="77230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Cuidados de Enfermagem ao idoso com colostom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68000" y="1267920"/>
            <a:ext cx="8381880" cy="475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estoma é uma abertura cirúrgica no abdômen, por onde o conteúdo dos intestinos é expelido e coletado numa bolsa extern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colostomia expõe uma parte do intestino no abdômen que se comunica com o estoma que, por sua vez, dá passagem para a bolsa coletor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911A7-308F-4084-B9F2-255000CF6DF0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2" descr="http://www.gastronet.com.br/images/nutricolon.jpg"/>
          <p:cNvPicPr/>
          <p:nvPr/>
        </p:nvPicPr>
        <p:blipFill>
          <a:blip r:embed="rId1"/>
          <a:stretch/>
        </p:blipFill>
        <p:spPr>
          <a:xfrm>
            <a:off x="2556000" y="3645000"/>
            <a:ext cx="43592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Duração da colostom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68000" y="1557360"/>
            <a:ext cx="838188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colostomia pode ser permanente ou temporária e a consistência das fezes varia de acordo com a porção do intestino que foi exteriorizad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ortanto, as colostomias são identificadas pela porção do cólon que é trazida para fora do estoma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D8403-FE12-4008-BBCC-8CD006EED84A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Tipos de colostom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6840" y="1341000"/>
            <a:ext cx="83818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scendente: o estoma é feito na alça ascendente, no lado direito do abdômen. As fezes têm consistência semi-líquid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Transversa: o estoma é feito no intestino transverso, no lado esquerdo ou direito do abdômen. As fezes têm consistência pastos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escendente: o estoma é feito na alça descendente, no lado esquerdo do abdômen. As fezes têm consistência semi-sólid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igmóide: uma colostomia sigmóide envolve o cólon sigmóide. As fezes são firmes e sólidas. </a:t>
            </a:r>
            <a:br>
              <a:rPr sz="2400"/>
            </a:b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9B984-5E5C-4546-9B15-D34A14AA2050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228240"/>
            <a:ext cx="792180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Realidade do utente colostomizad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Uma vez que o estoma não pode ser controlado voluntariamente, o paciente precisa de uma bolsa de coleta de feze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epois da cirurgia, um dos maiores problemas para os ostomizados é a adaptação à vida normal, pois o paciente terá que conviver com algumas situações novas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odor, os ruídos, as freqüentes idas a casa de banho e o tratamento da pele à volta do estom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Reintegração social e profissional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nfrentamento de possíveis constrangimentos durante a atividade sexual.</a:t>
            </a:r>
            <a:br>
              <a:rPr sz="2400"/>
            </a:b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819FD-C4C3-41C7-A1FC-6D0227F567DA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bjectivos de aprendizage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971280" y="2060640"/>
            <a:ext cx="799308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o final desta sessão os estudantes deverão ser capazes de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dentificar cuidados de enfermagem a pessoas idosas com ú</a:t>
            </a: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lceras por pressão, colostomia, Doença de Alzheimer, Doença de Parkinson, AVC, câncer e diabetes mellitu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1CFB3-E5BA-452F-86F4-B09ECB9EAF75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15" descr="http://www.estudiantes.info/images/estudiantes/maripo.gif"/>
          <p:cNvPicPr/>
          <p:nvPr/>
        </p:nvPicPr>
        <p:blipFill>
          <a:blip r:embed="rId1"/>
          <a:stretch/>
        </p:blipFill>
        <p:spPr>
          <a:xfrm>
            <a:off x="324000" y="2997360"/>
            <a:ext cx="1203120" cy="13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ara a boa adaptação do utent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6840" y="1628280"/>
            <a:ext cx="838188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ara uma boa adaptação física, mental, emocional, psicológica, social e profissional, é imprescindível que o utente esteja bem informado e conte com o apoio dos seus familiares e amigos e de profissionais de saúde especializad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sses utentes devem participar de grupos e associações de pessoas vivendo com a colostomia, pois receberão apoio mútuo;</a:t>
            </a:r>
            <a:br>
              <a:rPr sz="2400"/>
            </a:br>
            <a:br>
              <a:rPr sz="2400"/>
            </a:b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9B202-7EA3-484A-9BCB-E24BE2C532D1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Complicações precoces da colostom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angramento: pode ocorrer nas primeiras horas após a confecção do estoma; originário de pequenas veias cutâneas do mesentério ou parede abdominal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dema: causado pela infiltração de líquido nos tecidos e mobilização da alça intestinal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squemia: deficiência da circulação sanguínea do estom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Retração: é a penetração, total ou parcial, da alça intestinal na cavidade abdominal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escolamento muco cutâneo: é a ruptura da linha de sutura entre o estoma e a parede abdominal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85E8C-A4DB-4AFA-BBA4-BF9B2E74AAE6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79616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Complicações tardias da colostom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94920" y="1341360"/>
            <a:ext cx="838188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ermatite: é a irritação da pele causada pelo contato com o fluído intestinal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stenose: diminuição do orifício externo do estom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Hérnia: é a saída de vísceras abdominais pelo trajeto do estoma, formando um abaulamento em torno do estom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rolapso: é a saída parcial ou total da alça intestinal pelo estom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FC49E-0373-4D08-BFCA-0ACFB1D2A8BC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CaixaDeTexto 5"/>
          <p:cNvSpPr/>
          <p:nvPr/>
        </p:nvSpPr>
        <p:spPr>
          <a:xfrm>
            <a:off x="684360" y="5084640"/>
            <a:ext cx="8135640" cy="1191240"/>
          </a:xfrm>
          <a:prstGeom prst="rect">
            <a:avLst/>
          </a:prstGeom>
          <a:gradFill rotWithShape="0">
            <a:gsLst>
              <a:gs pos="0">
                <a:srgbClr val="a9a9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 qualquer sinal de complicação com a colostomia (precoce ou tardia) o enfermeiro deve registar no processo do utente e comunicar ao médic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Orientação ao utente com colostom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16280"/>
            <a:ext cx="8507520" cy="42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vitar carregar peso excessivo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vitar praticar esportes que exijam muito esforço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vitar o uso de cintos, fivelas ou de outros artigos que possam apertar ou comprimir o estom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vitar alimentos que produzam gases ou odores forte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nsumir legumes, frutas e beber muito líquid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Mastigar bem os aliment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47487-E2F0-482A-A889-68EF42824090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Orientações ao utente com colostom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6840" y="1484280"/>
            <a:ext cx="83818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Lavar a pele ao redor do estoma delicadamente com sabonete líquido neutro, retirando bem o excesso. Pode ser feito no chuveir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ão utilizar esponjas, pois poderá causar traumas e sangramentos, já que o estoma é insensível ao toqu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ecar com material macio (algodão, toalha), delicadament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s pelos devem ser aparados com tesoura. Não usar lâmina, pois pode contribuir para infecçõe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44CCB-63F8-4803-ABDC-97CE692FA6FD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24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Orientações ao utente com colostom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68000" y="1125360"/>
            <a:ext cx="838188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bservar o estoma regularmente: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estoma apresenta-se vermelho vivo, pois é bem vascularizado. Por isso é normal pequeno sangramento durante a higien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pele à sua volta deve estar húmida e lisa (pela presença do muco intestinal), insensível ao toque, sem ferida e coceir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A0071-3B02-4CA1-8C1D-621AC4541345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1" name="Picture 2" descr="http://t0.gstatic.com/images?q=tbn:ANd9GcQp2oQR6Ps_Zd0kQB44hsnj44jOnnuW_5KDaa7DWo73GqRYAVSY_g"/>
          <p:cNvPicPr/>
          <p:nvPr/>
        </p:nvPicPr>
        <p:blipFill>
          <a:blip r:embed="rId1"/>
          <a:stretch/>
        </p:blipFill>
        <p:spPr>
          <a:xfrm>
            <a:off x="3780000" y="4008600"/>
            <a:ext cx="2447640" cy="2417760"/>
          </a:xfrm>
          <a:prstGeom prst="rect">
            <a:avLst/>
          </a:prstGeom>
          <a:ln w="0">
            <a:noFill/>
          </a:ln>
        </p:spPr>
      </p:pic>
      <p:sp>
        <p:nvSpPr>
          <p:cNvPr id="262" name="CaixaDeTexto 6"/>
          <p:cNvSpPr/>
          <p:nvPr/>
        </p:nvSpPr>
        <p:spPr>
          <a:xfrm>
            <a:off x="6372360" y="4508640"/>
            <a:ext cx="216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stoma em excelente condi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Bolsas de colostom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6840" y="1142640"/>
            <a:ext cx="8381880" cy="91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aciente recebe informações sobre as bolsas para colostomi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77996-AFED-4663-BBCD-97386BE7B40D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7" name="Picture 4" descr="http://t1.gstatic.com/images?q=tbn:ANd9GcR2WtQsn6rQkzxjfqVLXbQWEw136-NHLoZqfZlik0SPshmKEXDK0w"/>
          <p:cNvPicPr/>
          <p:nvPr/>
        </p:nvPicPr>
        <p:blipFill>
          <a:blip r:embed="rId1"/>
          <a:stretch/>
        </p:blipFill>
        <p:spPr>
          <a:xfrm>
            <a:off x="1149480" y="2133720"/>
            <a:ext cx="61848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Cuidados com a bolsa coletor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1143000"/>
            <a:ext cx="8640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Fixar bem o dispositivo ao estoma, impedindo que a fezes entrem em contato com a pele periestoma;</a:t>
            </a:r>
            <a:br>
              <a:rPr sz="2400"/>
            </a:b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ara tanto, deixar no mínimo 2 cm de resina sintética entre o estoma e a flange para garantir uma vedação segur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esvaziamento da bolsa deve ser realizado sempre que o conteúdo atingir em terço de sua capacidad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troca deverá ser efetuada quando ocorrer infiltração do conteúdo. Evitar trocas desnecessárias (geralmente o sistema de duas peças tem duração de até sete dias, e o sistema uma peça de três dias);</a:t>
            </a:r>
            <a:br>
              <a:rPr sz="2400"/>
            </a:br>
            <a:br>
              <a:rPr sz="2400"/>
            </a:br>
            <a:r>
              <a:rPr b="0" i="1" lang="pt-BR" sz="24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7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F2675-7372-435A-9062-DE4A3C17A6B0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Cuidados com a bolsa coletor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68000" y="1341360"/>
            <a:ext cx="8381880" cy="47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gendar a troca para o horário em que o intestino estiver menos ativo, geralmente no início da manhã (antes do café da manhã), duas a quatro horas após as refeições e antes de dormir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Retirar a placa com gaze ou compressa humedecida com água morna ou embaixo do chuveir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egurar a pele para evitas trauma na retirada na base adesiv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Lavar as mãos antes e após o procediment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7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90802-926D-428A-980B-2D71A51CBECC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Colostomia e o utente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23640" y="981000"/>
            <a:ext cx="8381880" cy="32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lguns idosos poderão apresentar boas condições gerais para cuidar da colostomia. Aqueles com limitações visuais, táteis, cognitivas precisam de cuidador e este deve ser treinado pelo enfermeir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enfermeiro convoca um familiar ou cuidador para observar uma troca de bolsa coletora e oferece todas as informações que possam auxiliar no cuidado diário da colostomi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7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36563-483D-4FB3-909A-FAFB1E2839BE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0" name="Picture 2" descr="http://t3.gstatic.com/images?q=tbn:ANd9GcTGImwHQdG0CIOfTcsYmdLC0IRnkGcxGf97ZK-g9ALKwzigxTj8"/>
          <p:cNvPicPr/>
          <p:nvPr/>
        </p:nvPicPr>
        <p:blipFill>
          <a:blip r:embed="rId1"/>
          <a:stretch/>
        </p:blipFill>
        <p:spPr>
          <a:xfrm>
            <a:off x="2484360" y="4076640"/>
            <a:ext cx="3043440" cy="2279880"/>
          </a:xfrm>
          <a:prstGeom prst="rect">
            <a:avLst/>
          </a:prstGeom>
          <a:ln w="0">
            <a:noFill/>
          </a:ln>
        </p:spPr>
      </p:pic>
      <p:sp>
        <p:nvSpPr>
          <p:cNvPr id="281" name="CaixaDeTexto 6"/>
          <p:cNvSpPr/>
          <p:nvPr/>
        </p:nvSpPr>
        <p:spPr>
          <a:xfrm>
            <a:off x="5580000" y="4724280"/>
            <a:ext cx="324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Familiar realizando os cuidados na utente com colostom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15640" y="228600"/>
            <a:ext cx="77230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idados de Enfermagem na prevenção de úlcera por pressã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23640" y="1915920"/>
            <a:ext cx="8537400" cy="37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A pele deve ser limpa no momento que sujar para minimizar a exposição à humidade devido a incontinência urinária, fecal, perspiração ou drenagem de ferida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Quando essas fontes de humidade não podem ser controladas, usar fraldas descartáveis ou forros feitos de materiais que absorvam a humidade e que mantenham seca a superfície em contato com a pele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4" name="Espaço Reservado para Rodapé 2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Espaço Reservado para Número de Slide 3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C094D-8358-4F82-8752-25C0275A457C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DOENÇA DE ALZHEIMER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CUIDADOS DE ENFERMAGEM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F7EAD-5127-444C-A67D-B2D410EA948A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42560" y="228240"/>
            <a:ext cx="792180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Verdana"/>
              </a:rPr>
              <a:t>Cuidados de Enfermagem ao idoso com Doença de Alzheimer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6840" y="1268280"/>
            <a:ext cx="838188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s objetivos do cuidado de enfermagem ao idoso com Doença de Alzheimer (DA) são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revenir complicações advindas do comprometimento funcional e cognitivo do utent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liviar o sofrimento do utente e de sua família por meio de uma interação colaborativa, com reciprocidade, ausência de hierarquia, investigação sobre o conhecimento que a família tem sobre o manejo da doença e a identificação dos recursos internos e externos de que dispõe o cuidador/familiar, traçando um perfil de sua vulnerabilidade ao adoeciment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91BB2-DA9B-45C5-A6D2-73BD8CB9E4AF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15640" y="228240"/>
            <a:ext cx="7723080" cy="824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Verdana"/>
              </a:rPr>
              <a:t>Cuidados de Enfermagem ao idoso com Doença de Alzheimer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6840" y="1341000"/>
            <a:ext cx="83818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ntinuação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2" marL="743040" indent="-343080"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romover o aprendizado de familiares sobre aspectos básicos da doença para que lidem adequadamente com o utent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2" marL="743040" indent="-343080"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ntribuir para prevenção do agravamento da intensidade da doenç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2" marL="743040" indent="-343080"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reparar cuidadores para lidar com utentes portadores da D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9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C037E-BA42-4303-9898-CBE295C11C56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796160" cy="824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uidados de Enfermagem – Fase inicial da DA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6840" y="1341000"/>
            <a:ext cx="83818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m geral, o utente e familiar relatam desorientação temporal e espacial, perda de memória e das funções executivas, dificuldade de tomar decisões e planificar suas AVD. É importante orientar a família/idoso quanto à necessidade de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vitar estímulos para resgatar informações esquecidas, procurando estabelecer rotinas e atividades repetitivas, preservando a capacidade do utente e mantendo a independência pelo maior tempo possível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9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D3167-7F62-4372-BB9E-7BAF8FAD50E4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24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uidados de Enfermagem – Fase inicial da DA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539640" y="1628640"/>
            <a:ext cx="838224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ntinuação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valiar as atividades do utente que precisam ser restringidas ou modificadas, considerando o grau de risco que elas podem oferecer à manutenção da integridade física e psíquica do utente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partir desta avaliação, é possível planificar atividades diárias de acordo com as habilidades do indivíduo e de sua capacidade em eleger estratégias compensatória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B6DE8-1DFC-4ADC-8557-FC7CF985EE81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24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uidados de Enfermagem – Fase inicial da DA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Disponibilizar relógios e calendários pelo ambiente doméstico e utilizar cadernetas de anotações são estratégias que estimulam a orientação temporal do utente e seu comprometimento da memória para fatos recente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4ECA6-AF47-489A-832A-C415686E5950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6" name="Picture 8" descr="http://t1.gstatic.com/images?q=tbn:ANd9GcSOQM5OhPiLgCRK0Hr4PKiFPCeYQD1AXyMGrBaXdRiVn-J-eksv"/>
          <p:cNvPicPr/>
          <p:nvPr/>
        </p:nvPicPr>
        <p:blipFill>
          <a:blip r:embed="rId1"/>
          <a:stretch/>
        </p:blipFill>
        <p:spPr>
          <a:xfrm>
            <a:off x="324000" y="3357720"/>
            <a:ext cx="3311280" cy="27352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0" descr="http://t0.gstatic.com/images?q=tbn:ANd9GcRBBYsLPcKs09y96L246tyery71Xh3tezjDcUteB9p_X3W4mPh0"/>
          <p:cNvPicPr/>
          <p:nvPr/>
        </p:nvPicPr>
        <p:blipFill>
          <a:blip r:embed="rId2"/>
          <a:stretch/>
        </p:blipFill>
        <p:spPr>
          <a:xfrm>
            <a:off x="3419640" y="3645000"/>
            <a:ext cx="2143080" cy="213336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12" descr="http://t0.gstatic.com/images?q=tbn:ANd9GcT1ARwywOn1fygQ8WA1wMhv1Bftn3deD8wHYqHNzHFC8IH240tF"/>
          <p:cNvPicPr/>
          <p:nvPr/>
        </p:nvPicPr>
        <p:blipFill>
          <a:blip r:embed="rId3"/>
          <a:stretch/>
        </p:blipFill>
        <p:spPr>
          <a:xfrm>
            <a:off x="5724360" y="3284640"/>
            <a:ext cx="3135600" cy="26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24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uidados de Enfermagem – Fase moderada da DA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6840" y="1341000"/>
            <a:ext cx="83818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aracterizada pela crescente perda de memória, confusão, atenção reduzida e início de déficits motores, aumentando-se o risco para queda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ssim, é necessário que o enfermeiro direcione suas ações à organização de um ambiente seguro, orientando à família para retirar mobílias dos espaços de maior trânsito do utente, manter móveis e objetos sempre no mesmo lugar, evitar tapetes, escadas, proporcionar luminosidade constante aos ambientes e corredores da cas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EEB10-B2B1-4B5E-8A07-609EDFA31089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24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uidados de Enfermagem – Fase moderada da DA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ntinuação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Barras de apoio podem ser necessárias em alguns lugares como casa de banho, quartos e arredores das escada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essa fase, geralmente acentuam-se as alterações de humor e comportamento, nas quais o utente pode expressar idéias fixas que não são reais, podendo ver e ouvir coisas inexistentes e apresentar indiscrições sexuai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É importante que a família tenha conhecimento de que evitar conflitos com o utente diante de comportamentos estranhos ameniza sua intensidad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55B2F-6681-4F35-8CE6-FC6C5AD09CB2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24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uidados de Enfermagem – Fase moderada da DA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6840" y="2060280"/>
            <a:ext cx="8381880" cy="41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ntinuação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habilidade de julgamento do indivíduo está comprometida e, portanto, ainda que o cuidador/familiar tente convencê-lo a cerca da veracidade de uma dada situação, este não será capaz de apreendê-la, o que torna a discussão inútil e  estressante para amb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B6181-1C54-41B1-9E61-1D9A5CAD36F3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8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edidas de ambiente segur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AD8CE-5DCD-4CDD-8891-5156CFFDA3C6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4" name="Picture 10" descr="http://t0.gstatic.com/images?q=tbn:ANd9GcTKHor3ZD08uVsKuesiEQ26ClH8z0Jl_Eq3lTA9IWbNoYMTcYhw"/>
          <p:cNvPicPr/>
          <p:nvPr/>
        </p:nvPicPr>
        <p:blipFill>
          <a:blip r:embed="rId1"/>
          <a:stretch/>
        </p:blipFill>
        <p:spPr>
          <a:xfrm>
            <a:off x="6012000" y="1341360"/>
            <a:ext cx="2927160" cy="17398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" descr="http://t1.gstatic.com/images?q=tbn:ANd9GcTGIfrRFd7j8r2WWwDwErjhKyORLJjLpERQxIgh-_EpfXK0LB6haQ"/>
          <p:cNvPicPr/>
          <p:nvPr/>
        </p:nvPicPr>
        <p:blipFill>
          <a:blip r:embed="rId2"/>
          <a:stretch/>
        </p:blipFill>
        <p:spPr>
          <a:xfrm>
            <a:off x="4140360" y="1628640"/>
            <a:ext cx="1839600" cy="41040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4" descr="http://t0.gstatic.com/images?q=tbn:ANd9GcQuZ6Bp1LFjv70RXw5sB2migrcaJx35kMyR1OgddycXLS_JY5R9"/>
          <p:cNvPicPr/>
          <p:nvPr/>
        </p:nvPicPr>
        <p:blipFill>
          <a:blip r:embed="rId3"/>
          <a:stretch/>
        </p:blipFill>
        <p:spPr>
          <a:xfrm>
            <a:off x="539640" y="2205000"/>
            <a:ext cx="3390840" cy="21607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6" descr="http://t1.gstatic.com/images?q=tbn:ANd9GcSf3VOIvQGRk98GN01glLFPVr6v6E4mEz3K0MvUgi8qsSpfBGhLSg"/>
          <p:cNvPicPr/>
          <p:nvPr/>
        </p:nvPicPr>
        <p:blipFill>
          <a:blip r:embed="rId4"/>
          <a:stretch/>
        </p:blipFill>
        <p:spPr>
          <a:xfrm>
            <a:off x="6218280" y="4581360"/>
            <a:ext cx="2749680" cy="1122480"/>
          </a:xfrm>
          <a:prstGeom prst="rect">
            <a:avLst/>
          </a:prstGeom>
          <a:ln w="0">
            <a:noFill/>
          </a:ln>
        </p:spPr>
      </p:pic>
      <p:sp>
        <p:nvSpPr>
          <p:cNvPr id="328" name="CaixaDeTexto 9"/>
          <p:cNvSpPr/>
          <p:nvPr/>
        </p:nvSpPr>
        <p:spPr>
          <a:xfrm>
            <a:off x="6227640" y="3213000"/>
            <a:ext cx="273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Remover tapetes soltos, fios e outros objetos espalhados na casa do idos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15640" y="228600"/>
            <a:ext cx="77230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idados de Enfermagem na prevenção de úlcera por pressã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8000" y="1916280"/>
            <a:ext cx="8381880" cy="30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Agentes tópicos que agem como barreira para humidade como cremes, películas protetoras ou óleos também podem ser usad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A freqüência de limpeza da pele deve ser individualizada de acordo com a necessidade do utente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Evitar friccionar a pele ou aplicar movimento brusco que venha a causar qualquer tipo de traum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238EC-133A-46AF-8475-309D9AFCA532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edidas de ambiente segur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68000" y="1125360"/>
            <a:ext cx="838188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 acessibilidade é um direito do idos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F5F04-35A8-46CB-BB51-9B1204F59A5B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3" name="Picture 2" descr="http://t1.gstatic.com/images?q=tbn:ANd9GcQ4Z7m8gYpUiI3e2kiR18GDe-fqJ0DmDC4Yv-0elf7Jm0ieNfc8"/>
          <p:cNvPicPr/>
          <p:nvPr/>
        </p:nvPicPr>
        <p:blipFill>
          <a:blip r:embed="rId1"/>
          <a:stretch/>
        </p:blipFill>
        <p:spPr>
          <a:xfrm>
            <a:off x="684360" y="1844640"/>
            <a:ext cx="2592360" cy="2674800"/>
          </a:xfrm>
          <a:prstGeom prst="rect">
            <a:avLst/>
          </a:prstGeom>
          <a:ln w="0">
            <a:noFill/>
          </a:ln>
        </p:spPr>
      </p:pic>
      <p:sp>
        <p:nvSpPr>
          <p:cNvPr id="334" name="CaixaDeTexto 6"/>
          <p:cNvSpPr/>
          <p:nvPr/>
        </p:nvSpPr>
        <p:spPr>
          <a:xfrm>
            <a:off x="395280" y="4581360"/>
            <a:ext cx="30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lives com barras laterais de apo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Picture 4" descr="http://t1.gstatic.com/images?q=tbn:ANd9GcRztsY1EDr0mYUOND_jjZ92KRYlygROOs2Xh6DXerDGa5gjV5ow"/>
          <p:cNvPicPr/>
          <p:nvPr/>
        </p:nvPicPr>
        <p:blipFill>
          <a:blip r:embed="rId2"/>
          <a:stretch/>
        </p:blipFill>
        <p:spPr>
          <a:xfrm>
            <a:off x="3708360" y="1773360"/>
            <a:ext cx="2016000" cy="2800080"/>
          </a:xfrm>
          <a:prstGeom prst="rect">
            <a:avLst/>
          </a:prstGeom>
          <a:ln w="0">
            <a:noFill/>
          </a:ln>
        </p:spPr>
      </p:pic>
      <p:sp>
        <p:nvSpPr>
          <p:cNvPr id="336" name="CaixaDeTexto 8"/>
          <p:cNvSpPr/>
          <p:nvPr/>
        </p:nvSpPr>
        <p:spPr>
          <a:xfrm>
            <a:off x="3419640" y="4221000"/>
            <a:ext cx="302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oios nas casas de banho e pisos antiderrapan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Picture 8" descr="http://t0.gstatic.com/images?q=tbn:ANd9GcTMqBJrVM-nk-qkRbnbmWka0YtL5BpYP2lNoxHgWe-OqhuLzRia"/>
          <p:cNvPicPr/>
          <p:nvPr/>
        </p:nvPicPr>
        <p:blipFill>
          <a:blip r:embed="rId3"/>
          <a:stretch/>
        </p:blipFill>
        <p:spPr>
          <a:xfrm>
            <a:off x="6372360" y="1773360"/>
            <a:ext cx="2447640" cy="2570040"/>
          </a:xfrm>
          <a:prstGeom prst="rect">
            <a:avLst/>
          </a:prstGeom>
          <a:ln w="0">
            <a:noFill/>
          </a:ln>
        </p:spPr>
      </p:pic>
      <p:sp>
        <p:nvSpPr>
          <p:cNvPr id="338" name="CaixaDeTexto 12"/>
          <p:cNvSpPr/>
          <p:nvPr/>
        </p:nvSpPr>
        <p:spPr>
          <a:xfrm>
            <a:off x="6372360" y="45813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oios nas sanit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24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uidados de Enfermagem – Fase moderada da DA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323640" y="1341000"/>
            <a:ext cx="85150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família precisa ser orientada quanto à possibilidade de intervenções farmacológicas e não-farmacológicas no controle das alterações de comportament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dificuldade em lidar com as oscilações de humor do utente contribui fortemente para o desenvolvimento da sobrecarga emocional do cuidador/familiar. Desta forma, é imprescindível que o enfermeiro esteja atento à identificação de sinais de sofrimento e exaustão física e psíquica no familiar responsável pelo cuidado.</a:t>
            </a:r>
            <a:br>
              <a:rPr sz="2000"/>
            </a:br>
            <a:r>
              <a:rPr b="0" lang="pt-BR" sz="20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4C6B3-D882-4823-A06F-EADF28C251B0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24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uidados de Enfermagem – Fase moderada da DA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24000" y="1197000"/>
            <a:ext cx="864072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ntervenções farmacológicas: compete ao enfermeiro administrar medicamentos; orientar o familiar/cuidador sobre o uso correto dos mesm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ntervenções não-farmacológicas: compete ao enfermeiro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Realizar ou encaminhar o utente para actividade de estimulação sensorial (técnicas de relaxamento, massagem, música, dança)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stimular encontro do utente com pessoas significativas; companhia de animais de estimaçã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dentificação de fatores que alteram o comportamento do utent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8653A-DB28-4D17-A684-947925D45F0B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24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uidados de Enfermagem – Fase grave da DA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68000" y="1267920"/>
            <a:ext cx="83818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utente torna-se incapaz de reconhecer a si e a sua família e sua dependência é global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presenta dificuldade em se expressar, entender o que acontece a sua volta, alimentar-se, caminhar até evoluir para imobilidade física completa e perda do controle esfincterian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É necessária avaliação constante da condição física do utente, com atenção especial para sinais de desidratação e desnutrição, que comprometem sua competência imunológica e manutenção da integridade da pele, tornando-o vulnerável a infecções e lesões cutâneas potencializadas pela imobilidade físic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3D817-490B-4BCF-8A58-FD07E702ED30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24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uidados de Enfermagem – Fase grave da DA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6840" y="1268280"/>
            <a:ext cx="838188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cuidador/familiar deve ser orientado quanto aos cuidados com a alimentação do utente, prevenção de complicações respiratórias, urinárias, e desenvolvimento de úlceras por pressã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lgumas adaptações no espaço físico podem ser necessárias para facilitar o cuidado sem prejudicar a rotina habitual do familiar. Estas orientações e mudanças no meio devem ser oferecidas ao familiar responsável pelo cuidado e construídas com ele, considerando a disponibilidade real de seus recursos externos (físicos, humanos e financeiros) e internos (disposição física e emocional)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5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47FC8-5ADA-456D-B429-7F80779BECC1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24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uidados de Enfermagem – Fase grave da DA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484280"/>
            <a:ext cx="83818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iante do aumento da intensidade das demandas físicas para manter o cuidado do utente, o familiar pode se encontrar em uma situação de esgotamento, na qual seus recursos internos de enfrentamento estão comprometid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este momento, é imprescindível avaliação freqüente da condição física e emocional do cuidador/familiar, do estresse e da capacidade de adaptação à situação, com o objetivo de elaborar estratégias de suporte e apoio a sua condição física e emocional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5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51946-B75C-49D6-BDDC-9CCE6F4380FA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56840" y="1295280"/>
            <a:ext cx="83818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Danos causados pela fricção também podem ser reduzidos pelo uso de lubrificantes (como cremes e óleos), películas protetoras (como curativos transparentes e selantes para a pele ) e curativos protetores (como hidrocolóides extra-finos)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383E4-E436-44A4-8219-AA47139E009B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uidados de Enfermagem na prevenção de úlcera por pressão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4" name="Picture 2" descr="http://t2.gstatic.com/images?q=tbn:ANd9GcRY49AjP2cvklzwgYvglqWjtUVss-wppfAEU1AhasHJs9FLeiv01Q"/>
          <p:cNvPicPr/>
          <p:nvPr/>
        </p:nvPicPr>
        <p:blipFill>
          <a:blip r:embed="rId1"/>
          <a:stretch/>
        </p:blipFill>
        <p:spPr>
          <a:xfrm>
            <a:off x="457200" y="3286080"/>
            <a:ext cx="2209680" cy="2209680"/>
          </a:xfrm>
          <a:prstGeom prst="rect">
            <a:avLst/>
          </a:prstGeom>
          <a:ln w="0">
            <a:noFill/>
          </a:ln>
        </p:spPr>
      </p:pic>
      <p:sp>
        <p:nvSpPr>
          <p:cNvPr id="115" name="CaixaDeTexto 7"/>
          <p:cNvSpPr/>
          <p:nvPr/>
        </p:nvSpPr>
        <p:spPr>
          <a:xfrm>
            <a:off x="457200" y="5410080"/>
            <a:ext cx="2438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Cremes e óleos a base de Ácido Graxo Essencial (AG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Picture 4" descr="http://t0.gstatic.com/images?q=tbn:ANd9GcRhVZqJKN8X396VusR3SML0_RwSr8-1hUFys4wXTRM5ayGyjeiP"/>
          <p:cNvPicPr/>
          <p:nvPr/>
        </p:nvPicPr>
        <p:blipFill>
          <a:blip r:embed="rId2"/>
          <a:stretch/>
        </p:blipFill>
        <p:spPr>
          <a:xfrm>
            <a:off x="3200400" y="342900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117" name="CaixaDeTexto 9"/>
          <p:cNvSpPr/>
          <p:nvPr/>
        </p:nvSpPr>
        <p:spPr>
          <a:xfrm>
            <a:off x="3276720" y="563868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lme transpar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CaixaDeTexto 10"/>
          <p:cNvSpPr/>
          <p:nvPr/>
        </p:nvSpPr>
        <p:spPr>
          <a:xfrm>
            <a:off x="6477120" y="525780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Hidrocolói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Picture 6" descr="http://www.lojadocurativo.com.br/produtos/foto1/pequena/797.jpg"/>
          <p:cNvPicPr/>
          <p:nvPr/>
        </p:nvPicPr>
        <p:blipFill>
          <a:blip r:embed="rId3"/>
          <a:stretch/>
        </p:blipFill>
        <p:spPr>
          <a:xfrm>
            <a:off x="6324480" y="3276720"/>
            <a:ext cx="1930680" cy="20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57200" y="1142640"/>
            <a:ext cx="37339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Utente em uso de filme transparente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FF380-D27A-4894-8BD0-139DDD122F58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Picture 2" descr="http://www.proac.uff.br/esai2/sites/default/files/enfermagem_5.jpg"/>
          <p:cNvPicPr/>
          <p:nvPr/>
        </p:nvPicPr>
        <p:blipFill>
          <a:blip r:embed="rId1"/>
          <a:stretch/>
        </p:blipFill>
        <p:spPr>
          <a:xfrm>
            <a:off x="380880" y="2057400"/>
            <a:ext cx="3886200" cy="34448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uidados de Enfermagem na  prevenção de úlcera por pressão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5" name="Picture 4" descr="http://www.proac.uff.br/esai2/sites/default/files/enfermagem_6.jpg"/>
          <p:cNvPicPr/>
          <p:nvPr/>
        </p:nvPicPr>
        <p:blipFill>
          <a:blip r:embed="rId2"/>
          <a:stretch/>
        </p:blipFill>
        <p:spPr>
          <a:xfrm>
            <a:off x="4495680" y="2971800"/>
            <a:ext cx="4484880" cy="2895480"/>
          </a:xfrm>
          <a:prstGeom prst="rect">
            <a:avLst/>
          </a:prstGeom>
          <a:ln w="0">
            <a:noFill/>
          </a:ln>
        </p:spPr>
      </p:pic>
      <p:sp>
        <p:nvSpPr>
          <p:cNvPr id="126" name="Espaço Reservado para Conteúdo 2"/>
          <p:cNvSpPr/>
          <p:nvPr/>
        </p:nvSpPr>
        <p:spPr>
          <a:xfrm>
            <a:off x="4876920" y="2209680"/>
            <a:ext cx="3733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Verdana"/>
                <a:ea typeface="Arial"/>
              </a:rPr>
              <a:t>Utente em uso de hidrocolói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D02DA-E773-4E73-84C0-7B7DE1FC8124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odutos utilizados em úlceras por pressã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28600" y="1295280"/>
          <a:ext cx="8763120" cy="5353200"/>
        </p:xfrm>
        <a:graphic>
          <a:graphicData uri="http://schemas.openxmlformats.org/drawingml/2006/table">
            <a:tbl>
              <a:tblPr/>
              <a:tblGrid>
                <a:gridCol w="1407960"/>
                <a:gridCol w="2478240"/>
                <a:gridCol w="2666880"/>
                <a:gridCol w="22100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dica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do de us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120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ntem o leito da ferida húmido e acelera o processo de granulaçã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sões abertas não infectadas e profilaxia de úlceras por press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licar utilizando uma compressa embebida. Trocar a cada 12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lme transpa-ren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ntém o leito da ferida húmido e apresenta permeabilidade seletiva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bertura de incisões cirúrgicas; prevenção de úlceras por pressão e fixação de catéter vascula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erir sobre a área. Troca em média a cada sete dias ou quando suj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idroco-lói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rreira protetora, isolamento térmico, meio húmido, promove desbridamento autolítico, granulação e epiteliza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ridas limpas, prevenção de úlcera por pressão,</a:t>
                      </a:r>
                      <a:br>
                        <a:rPr sz="1800"/>
                      </a:b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eimadura de segundo grau, suturas cirúrgicas e feridas cavitária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erir sobre a área. Troca com a saturação do produto em média no 5º ou 6º 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228600" y="1219320"/>
            <a:ext cx="45720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Lesões da pele devido a fricção e força de cisalhamento (arrastão) devem ser minimizadas através do posicionamento adequado para transferência e mudança de decúbito do utent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c3c77"/>
                </a:solidFill>
                <a:latin typeface="Verdana"/>
              </a:rPr>
              <a:t>Recomenda-se que os utentes não sejam "arrastados" durante a movimentação, mas que sejam "erguidos" utilizando-se o lençol móvel .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31DE0-A8E6-4120-A586-160CB19C722D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Picture 2" descr="http://3.bp.blogspot.com/_ovvF2ZTWNI8/S6ZQk1U3khI/AAAAAAAAAN0/pFGwh9uZXsQ/s320/tracado+para+mudar+de+decubito.jpg"/>
          <p:cNvPicPr/>
          <p:nvPr/>
        </p:nvPicPr>
        <p:blipFill>
          <a:blip r:embed="rId1"/>
          <a:stretch/>
        </p:blipFill>
        <p:spPr>
          <a:xfrm>
            <a:off x="4842000" y="1828800"/>
            <a:ext cx="4157640" cy="37339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uidados de Enfermagem na prevenção de úlcera por pressão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7T23:00:54Z</dcterms:created>
  <dc:creator>Escolastica</dc:creator>
  <dc:description/>
  <dc:language>en-US</dc:language>
  <cp:lastModifiedBy>Mendoza</cp:lastModifiedBy>
  <dcterms:modified xsi:type="dcterms:W3CDTF">2012-01-31T14:39:08Z</dcterms:modified>
  <cp:revision>104</cp:revision>
  <dc:subject/>
  <dc:title>Cuidados especiais a ter com idosos doentes</dc:title>
</cp:coreProperties>
</file>