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603B-C94F-4297-B7F3-9F095792DA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662-9898-4DE2-86E1-0584FE6E36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6EFF-E757-4C7C-B636-FD941C710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2378-228D-41BE-83C7-6059D2D46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FC4C-B992-416F-991E-503C835BA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470A-D2A1-4AFF-B1E2-F8A234555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FA96-D224-4FBF-9F42-D95AE6379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DD52-7B80-4D2B-8DFC-3EB7EBB46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E3DD-9A15-4066-862C-01055F574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76AB-ED51-4A0B-A049-B706014B9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FDF1-920D-4DC6-A936-D906EF752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6CBD-D96F-49B5-B218-CA94383F4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F5FE-652A-42A9-A104-683039008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4BB0-F3DB-46F2-B9C6-8FD8E5524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5BF-79BD-4BD4-B93F-5DD730E54BC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negros&amp;hl=pt-BR&amp;rlz=1W1RNQN_pt-BRBR458&amp;biw=1024&amp;bih=302&amp;tbm=isch&amp;tbnid=J3vy37qCh7npnM:&amp;imgrefurl=http://noticias.r7.com/saude/noticias/cientistas-testam-remedio-contra-colesterol-para-prevenir-cancer-de-intestino-e-reto-20110323.html&amp;docid=YIYm64QmS-KIqM&amp;imgurl=http://i1.r7.com/data/files/2C92/94A4/28AA/3567/0128/B25C/1BEA/58BC/idoso-remedio-g-20100519.jpg&amp;w=450&amp;h=339&amp;ei=1xL6Tu6QLcLptgeOje3QBg&amp;zoom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ula 2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724280"/>
            <a:ext cx="747252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90792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conceito de imobilidade é variável, associando-se ao movimento ou deslocamento no espaço, possibilitando a independência do indivídu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imobilidade entende-se qualquer limitação do movimento. Representa causa importante de comprometimento d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pectro de gravidade é variável e, quase sempre, progress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1BFE-B510-463D-B82D-8604C52F2E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2" descr="http://3.bp.blogspot.com/_a3HvZzMCzQw/TJZmetaU2sI/AAAAAAAAAPs/zTOoMhP2IsY/s1600/1.jpg"/>
          <p:cNvPicPr/>
          <p:nvPr/>
        </p:nvPicPr>
        <p:blipFill>
          <a:blip r:embed="rId1"/>
          <a:stretch/>
        </p:blipFill>
        <p:spPr>
          <a:xfrm>
            <a:off x="3203640" y="4037040"/>
            <a:ext cx="4176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grau máximo de imobilidade, conhecido como síndrome de imobilização ou da imobilidade completa, o idoso é dependente complet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éfice cognitivo avançado, rigidez e contraturas generalizadas e múltiplas, afasia, disfagia, incontinência urinária e fecal,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necessita de cuidador em tempo integ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B51-6945-485B-98A7-A56A389665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E47F-1313-4FF2-8ADE-BB06C099F8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upo 7"/>
          <p:cNvGrpSpPr/>
          <p:nvPr/>
        </p:nvGrpSpPr>
        <p:grpSpPr>
          <a:xfrm>
            <a:off x="395280" y="2133720"/>
            <a:ext cx="8424720" cy="3063600"/>
            <a:chOff x="395280" y="2133720"/>
            <a:chExt cx="8424720" cy="3063600"/>
          </a:xfrm>
        </p:grpSpPr>
        <p:pic>
          <p:nvPicPr>
            <p:cNvPr id="142" name="Picture 2" descr="http://blog.phelippdeavila.com/wp-content/uploads/2011/03/outdoor_cap.jpg"/>
            <p:cNvPicPr/>
            <p:nvPr/>
          </p:nvPicPr>
          <p:blipFill>
            <a:blip r:embed="rId1"/>
            <a:stretch/>
          </p:blipFill>
          <p:spPr>
            <a:xfrm>
              <a:off x="395280" y="2133720"/>
              <a:ext cx="842472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tângulo 6"/>
            <p:cNvSpPr/>
            <p:nvPr/>
          </p:nvSpPr>
          <p:spPr>
            <a:xfrm>
              <a:off x="1187280" y="2853360"/>
              <a:ext cx="6984720" cy="100872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imobilidade pode associar-se a todas as síndromes geriátricas, inclusive a própria imobilidade agrava ainda mais o grau de imobilidade prév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ontinência Uriná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3000"/>
            <a:ext cx="4114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blema mais comum de saúde da pessoa idosa é a incontinência urin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a pessoa idosa sadia tende a urinar com mais freqüência e em maior grau de u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65A-597E-4F0E-B565-8DB6080766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\\Info02\administrador\Meus documentos\Minhas imagens\aparelhourinario.jpg"/>
          <p:cNvPicPr/>
          <p:nvPr/>
        </p:nvPicPr>
        <p:blipFill>
          <a:blip r:embed="rId1"/>
          <a:stretch/>
        </p:blipFill>
        <p:spPr>
          <a:xfrm>
            <a:off x="5148360" y="1197000"/>
            <a:ext cx="3628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ontinência Urinária (IU) é definida como a queixa de qualquer perda involuntári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variar desde um escape ocasional até uma incapacidade total para segurar qualquer quantidade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U não comparece à consulta por esse problema, nem dá essa informação de maneira voluntária. Isso se deve à vergonha sentida e à crença de ser esta condição uma conseqüência inevitável do envel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CE7-1B0F-405D-B852-923D2710C3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907920"/>
            <a:ext cx="8381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ta a independência do indivíduo, comprometendo, indiretamente, a função mobi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ncontinência esfincteriana sofre limitação de sua participação social, em virtude da insegurança gerada pela perda do controle miccional, tendendo ao isol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D43-354F-41BB-AAB7-9952408115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2" descr="http://t3.gstatic.com/images?q=tbn:ANd9GcTF3pcg9JzDc6FFjnSaIuDvesoLfRgm7GK3sI33QC3o6ZhcpwgZ5w"/>
          <p:cNvPicPr/>
          <p:nvPr/>
        </p:nvPicPr>
        <p:blipFill>
          <a:blip r:embed="rId1"/>
          <a:stretch/>
        </p:blipFill>
        <p:spPr>
          <a:xfrm>
            <a:off x="4859280" y="3716280"/>
            <a:ext cx="3673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estresse: caracterizada pela perda involuntária de urina sincrônica ao esforço, espirro ou tosse. Pode ser causada, em mulheres, pela fraqueza do assoalho pélvico e, em homens, após prostatectomia radic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urgência: caracterizada pela perda involuntária de urina, associada ou imediatamente precedida de urgência mic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, em geral, queixa associada de polaciúria e noctúria. Corresponde, frequentemente, à queixa de diminuição da complacência vesical ou de bexiga hipersen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EEF-D69D-499E-9018-9D9F3721EF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sta: caracterizada pela perda involuntária de urina concomitante à urgência miccional e a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transbordamento (bexiga hiperativa, síndrome de urgência, síndrome de urgência-frequência): caracterizada pelo gotejamento e/ou perda contínua de urina associados ao esvaziamento vesical incompleto, devido à contração deficiente do músculo detrusor da bexiga e/ou obstrução na via de saída vesic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6B0-463F-4C92-9387-3B0EA911F51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amnese pode revelar situações que induzem perda de urina, como história obstétrica ou cirúrgica, doenças pregressas e uso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xame físico deve ser geral, associado ao exame genital, incluindo ginecológico e prostático. Devem ser observadas as condições gerais do paciente, sua capacidade de locomoção e se existem condições clínicas que predispõem ou agrav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ulheres, deve ser avaliada a existência de prolapso, mobilidade do colo vesical, trofismo das mucosas e contração da musculatura do assoalho pélv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50C-4C3D-44F6-82AD-11402EDF63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idosos com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zir a ingestão hídrica notur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onsumo de cafeína e bebidas alcoól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omper o 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r adequadamente quadros de obstipação intestinal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adequado de medicações prescritas, como diuréticos, beta-bloqueadores, antiespasmódicos, antidepressivos, anti-histamínicos e medicamentos para tosse/grip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A75-A7A0-4A8C-B756-4F5E2A9B7D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Síndromes geriátricas: 7Is da Geriatr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587-2B3B-4279-9209-29C401CF0D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magem 5" descr="http://t2.gstatic.com/images?q=tbn:ANd9GcR9kJmpCw2g-X-h_sqsHvSlAfN09R8I5xA9LZgGj9czrBKiV1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781360"/>
            <a:ext cx="3384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opedêutica inicial requer a realização de exame de urina de rotina e urocultura, já que a infecção do trato urinário pode simular toda a sintomatolo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das comportamentais têm sido utilizadas para o tratamento da IU por décadas e devem ser a sua primeira forma de tratamento específ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bjetivo da abordagem não-farmacológica é melhorar o controle vesical do paciente mudando-lhe os hábitos urinários e ensinando-lhe técnicas para evitar a perd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1C6-57C0-4A7C-B9A4-EFC472402E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étodos comportamentais incluem o treinamento vesical, os exercícios para fortalecimento da musculatura pélv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einamento vesical consiste na micção com hora marcada, com aumento de 15 a 30 minutos por semana, à medida que não haja a ocorrência de episódios de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xercícios de fortalecimento da musculatura pélvica parecem ser efetivos no tratamento de mulheres com IU de estresse e mista. Os exercícios podem reduzir a IU e aumentar a pressão vag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146-CC5E-4D74-835E-626F4DBE02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farmacológico é baseado no mecanismo presumido da forma de apresentaç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o mais comumente usado na IU de estres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IU de urgência e mista, os medicamentos podem ser associados às medidas comporta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, em geral, não eliminam a hiperatividade detrusora, entretanto, melhor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 anticolinérgicas são as mais prescritas apesar dos seus efeitos colate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C396-5D9C-4D7A-B2FF-964E0717FC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é indicada para o tratamento da IU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resse quando o tratamento conservador falh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tentada na IU de estresse ou por transbord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na IU por transbordamento está voltada para a correção da obstrução, como a causada pela hipertrofia prostá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oferece altas taxas de cura, apesar de ser invasiva e poder gerar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31D-7934-4F27-BD30-CD5EB94235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erência de caso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000" y="980640"/>
            <a:ext cx="8381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deverá ser encaminhado a um especialista (urologista ou geriatra), quando as medidas para tratar a incontinência urinária temporária fracassarem ou se a incontinência crônica não melhora com as medidas ini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4F2-B6DC-47BA-82DB-EFE3195607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Grupo 7"/>
          <p:cNvGrpSpPr/>
          <p:nvPr/>
        </p:nvGrpSpPr>
        <p:grpSpPr>
          <a:xfrm>
            <a:off x="250920" y="2924280"/>
            <a:ext cx="8569080" cy="3352680"/>
            <a:chOff x="250920" y="2924280"/>
            <a:chExt cx="8569080" cy="3352680"/>
          </a:xfrm>
        </p:grpSpPr>
        <p:pic>
          <p:nvPicPr>
            <p:cNvPr id="195" name="Picture 2" descr="http://www.ataliba.eti.br/files/u1/outdoor4-10102007.jpg"/>
            <p:cNvPicPr/>
            <p:nvPr/>
          </p:nvPicPr>
          <p:blipFill>
            <a:blip r:embed="rId1"/>
            <a:stretch/>
          </p:blipFill>
          <p:spPr>
            <a:xfrm>
              <a:off x="250920" y="2924280"/>
              <a:ext cx="85690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tângulo 5"/>
            <p:cNvSpPr/>
            <p:nvPr/>
          </p:nvSpPr>
          <p:spPr>
            <a:xfrm rot="21403200">
              <a:off x="650160" y="3219840"/>
              <a:ext cx="7885800" cy="161856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39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retenção aguda de urina é uma emergência real, que pode se manifestar como incontinência urinária, delirium ou défice funcional, ainda que sem presença de dor, e deve ser tratada por meio de sondagem vesical, encaminhando-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imediatamente ao serviço de emergênc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é a atividade primordial do ser humano. A possibilidade de estabelecer relacionamento produtivo com o meio, trocar informações, manifestar desejos, idéias, sentimentos está intimamente relacionada à habilidade de se comunic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artir dela que o indivíduo compreende e expressa seu mundo. Problemas de comunicação podem resultar em perda de independência e sentimento de desconexão com o mundo, sendo um dos mais frustrantes aspectos dos problemas causados pela idade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F29-D8B2-4388-9D5A-77C24536F3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apacidade comunicativa pode ser consider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portante causa de perda ou restrição da participação social (funcionalidade), comprometendo a capacidade de execução das decisões tomadas, afetando diretamente a independência do indivídu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habilidades comunicativas compreendem quatro áreas distint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nguagem, audição, motricidade oral e voz (fal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são pode ser incluída como a quinta função comunicativa, atuando como função compensatória, na ausência das outras habilidades da comunicação oral-verb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1EE-B474-4CF0-8376-59EC6477EA6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1844640"/>
            <a:ext cx="83822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nifica qualquer alteração patogênica provoc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a prática da equipe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evitar iatrogenia em idosos devido à sua vulnerabilidade mais acentuada às reações adversas associadas às drogas, às intervenções não-medicamentosas, decorrentes da senescência, do risco de polipatogenia e de polifarmácia, além de incapac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3AF-705C-4CA9-8DBE-256404F0B6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ulta da presença de uma ou mais das situaçõe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farmacogenia: decorrente do uso de medicamentos, de polifarmácia, da interação medicamentosa e do desconhecimento das alterações farmacocinéticas e farmacodinâmicas associadas a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nação hospitalar: que pode potencializar os riscos decorrentes do declínio funcional, da subnutrição, da imobilidade, da úlcera de pressão e da infecção hospital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a palavra: associada ao desconhecimento de técnicas de comunicação de más notí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654-31BB-4030-99E4-820558EB28A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981000"/>
            <a:ext cx="852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o silêncio: que decorre da dificuldade de ouvir adequadamente o paciente e sua famíl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bdiagnóstico: pela tendência a atribuir todas as queixas apresentadas pelo idoso ao fenômeno “da idade”, o que pode resultar grave er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cata propedêutica: em que a solicitação de exames é feita de forma desnecessária, extensiva, sem indicação preci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tanásia: caracterizada pelo prolongamento artificial da vida sem perspectiva de reversão, com sofrimento para o paciente e su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C6B-DC25-4C9F-83FA-F319873729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os domínios da saúd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r as principai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r aspectos básicos das principais síndromes geriátric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os 4Ds da 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95C-D78E-4777-8D86-963DDD9B16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42100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3640" y="981000"/>
            <a:ext cx="8381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rescrição de intervenções sem comprovação científica: que impõem ao paciente risco desnecessári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Iatrogenia do excesso de intervenções reabilitadoras: o excesso de “equipe interdisciplinar” pode trazer consequências desfavoráveis ao paciente, assim como o faz a polifarmá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1F11-0E3E-40BE-98C9-105D1E6E60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upo 7"/>
          <p:cNvGrpSpPr/>
          <p:nvPr/>
        </p:nvGrpSpPr>
        <p:grpSpPr>
          <a:xfrm>
            <a:off x="395280" y="3500280"/>
            <a:ext cx="8569440" cy="2743200"/>
            <a:chOff x="395280" y="3500280"/>
            <a:chExt cx="8569440" cy="2743200"/>
          </a:xfrm>
        </p:grpSpPr>
        <p:pic>
          <p:nvPicPr>
            <p:cNvPr id="222" name="Picture 2" descr="http://gbcreative.com.br/blog/wp-content/uploads/2009/08/netsimples_outdoor.jpg"/>
            <p:cNvPicPr/>
            <p:nvPr/>
          </p:nvPicPr>
          <p:blipFill>
            <a:blip r:embed="rId1"/>
            <a:stretch/>
          </p:blipFill>
          <p:spPr>
            <a:xfrm>
              <a:off x="395280" y="3500280"/>
              <a:ext cx="8569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tângulo 5"/>
            <p:cNvSpPr/>
            <p:nvPr/>
          </p:nvSpPr>
          <p:spPr>
            <a:xfrm rot="156600">
              <a:off x="712080" y="4072680"/>
              <a:ext cx="5154840" cy="11912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44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A maior parte da iatrogenia resulta da falta de  conhecimento profissional sobre a fisiologia do envelhecimento e das peculiaridades de abordagem ao idoso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836280"/>
            <a:ext cx="856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ensão sociofamiliar é fundamental na avaliação multidimensional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constitui-se na principal instituição cuidadora dos idosos frágeis, devendo ser privilegiada nessa sua função. Contudo, a transição demográfica atinge diretamente essa “entidade”, reduzindo drasticamente a sua capacidade de prestar apoio aos seus membr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3218-9E10-47A3-9F0D-7D1156CC92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Grupo 7"/>
          <p:cNvGrpSpPr/>
          <p:nvPr/>
        </p:nvGrpSpPr>
        <p:grpSpPr>
          <a:xfrm>
            <a:off x="539640" y="4005360"/>
            <a:ext cx="7993080" cy="2217600"/>
            <a:chOff x="539640" y="4005360"/>
            <a:chExt cx="7993080" cy="2217600"/>
          </a:xfrm>
        </p:grpSpPr>
        <p:pic>
          <p:nvPicPr>
            <p:cNvPr id="229" name="Picture 2" descr="http://t3.gstatic.com/images?q=tbn:ANd9GcQelGAWAzJscK4JLT0akutTw_sBme3cFkgqNKHwDLeq8aADBV-8vw"/>
            <p:cNvPicPr/>
            <p:nvPr/>
          </p:nvPicPr>
          <p:blipFill>
            <a:blip r:embed="rId1"/>
            <a:stretch/>
          </p:blipFill>
          <p:spPr>
            <a:xfrm>
              <a:off x="539640" y="4005360"/>
              <a:ext cx="799308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CaixaDeTexto 5"/>
            <p:cNvSpPr/>
            <p:nvPr/>
          </p:nvSpPr>
          <p:spPr>
            <a:xfrm rot="164400">
              <a:off x="1575720" y="4375800"/>
              <a:ext cx="6483240" cy="13136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3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o contrário de o idoso ser cuidado pela família é este, muitas vezes, que se torna o cuidador dos netos, dos doentes e de pessoas deficientes da famíl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981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dução da taxa de fecundidade trouxe profundas modificações na estrutura familiar: o número de filhos está cada vez menor e as demandas familiares são crescentes, limitando a disponibilidade dos pais de cuidarem de seus filhos, ficando estes sob os cuidados dos avós ido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8065-71EC-456E-B475-CCBFF457FC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2" descr="http://t3.gstatic.com/images?q=tbn:ANd9GcT1NO-UVhSqnn4iLh5nsGHaw_dAlXwzmPmgwQ1H9KC7MMgnDQKX"/>
          <p:cNvPicPr/>
          <p:nvPr/>
        </p:nvPicPr>
        <p:blipFill>
          <a:blip r:embed="rId1"/>
          <a:stretch/>
        </p:blipFill>
        <p:spPr>
          <a:xfrm>
            <a:off x="900000" y="3357720"/>
            <a:ext cx="3924360" cy="29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t1.gstatic.com/images?q=tbn:ANd9GcSPcXJyRLcbXt5AcZLu2zmFUIdADBXbn5l-rOoQgNIrQ200uCvrUg"/>
          <p:cNvPicPr/>
          <p:nvPr/>
        </p:nvPicPr>
        <p:blipFill>
          <a:blip r:embed="rId2"/>
          <a:stretch/>
        </p:blipFill>
        <p:spPr>
          <a:xfrm>
            <a:off x="5651640" y="3429000"/>
            <a:ext cx="2160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980640"/>
            <a:ext cx="5041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Aumento da participação feminina no mercado de trabalho, valorização do individualismo e conflitos intergeracionais também contribuem para as modificações nos arranjos domiciliares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Portanto, essas mudanças sociodemográficas e culturais na família têm repercussões importantes na capacidade de acolhida aos idosos, que historicamente dependiam de apoio e cuidado familiar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32F-F20D-475F-A5AF-F42CEC5CCF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http://t2.gstatic.com/images?q=tbn:ANd9GcRV5jmkK0nDNYeFTCu4WExErextWFSEVi69qsEGu7q1RPQW4PMJ_A"/>
          <p:cNvPicPr/>
          <p:nvPr/>
        </p:nvPicPr>
        <p:blipFill>
          <a:blip r:embed="rId1"/>
          <a:stretch/>
        </p:blipFill>
        <p:spPr>
          <a:xfrm>
            <a:off x="5003640" y="1341360"/>
            <a:ext cx="39643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índromes Geriátrica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Par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7DD-15AE-42E1-BB3E-C80C7B4300C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rg_hi" descr="http://t3.gstatic.com/images?q=tbn:ANd9GcRZ2ze-Tm8OxVw-5_4eQPk4Y8Wxcl0qs_7u8Es6DlnnHpTrRwDk"/>
          <p:cNvPicPr/>
          <p:nvPr/>
        </p:nvPicPr>
        <p:blipFill>
          <a:blip r:embed="rId1"/>
          <a:stretch/>
        </p:blipFill>
        <p:spPr>
          <a:xfrm>
            <a:off x="1835280" y="1341360"/>
            <a:ext cx="6192720" cy="41752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8"/>
          <p:cNvSpPr/>
          <p:nvPr/>
        </p:nvSpPr>
        <p:spPr>
          <a:xfrm>
            <a:off x="755640" y="5516640"/>
            <a:ext cx="81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participando de actividades ocupacionais de estimulação fun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stabilidade postural leva o idoso à queda, o que representa um dos maiores temores em Geria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conhecer as condições que a predispuseram, como ocorreu, quais os sinais e sintomas que a antecederam, a existência de co-morbidades, se o idoso conseguiu se levantar sozinho e se houve fratu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B4F-496D-48B2-BA50-8F9B0B61B9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plicação mais frequente da queda é o medo de cair novamente, o que, muitas vezes, impede o idoso de deambular normalmente, deixando-o restrito ao leito ou à cadeira, aumentando o seu descondicionamento fís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6570-7715-4A7C-8BD8-6E2A6675F2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agem 5" descr="http://t2.gstatic.com/images?q=tbn:ANd9GcSeFBk_p51mrF9qX4ZUX01pq0Yd01EL7PjfNs8hm3JPqkOj05S86Q"/>
          <p:cNvPicPr/>
          <p:nvPr/>
        </p:nvPicPr>
        <p:blipFill>
          <a:blip r:embed="rId1"/>
          <a:stretch/>
        </p:blipFill>
        <p:spPr>
          <a:xfrm>
            <a:off x="2843280" y="3357720"/>
            <a:ext cx="360036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úsculo-esqueléticas comuns nos idosos podem prejudicar significativamente o equilíbrio e favorecer o apareciment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be-se que uma das alterações relacionadas ao envelhecimento é o declínio da força muscular. A fraqueza é muito comum nas extremidades inferiores do idoso, especialmente nos tornoze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úsculos efetores destinados à ação de se equilibrar podem perder a capacidade de responder apropriadamente aos distúrbios na estabilidade postural, devido ao tempo mais longo de re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BFB5-E040-4438-A7E6-0FBD25EF9DF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informações visuais que corroboram o equilíbri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ização e distância de objetos no ambiente, o tipo de superfície onde se dará o movimento e a posição das partes corporais, uma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ção à outra e ao amb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omponentes do sistema visual considerados críticos para o equilíbrio são 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uidade estática e dinâm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 ao contras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cepção de profund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perifér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546B-F131-4AA2-81F7-3CB46D9FB7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1700280"/>
            <a:ext cx="8381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sponsabilização pelas quedas nos idosos decorre, especialmente, da falta de condições clínicas ou de ambiente insegu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velhecimento por si só não é causa de quedas, apesar das alterações fisiológicas decorrentes do envelhecimento favorecerem o seu apar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valiação da marcha e do risco de quedas deve ser realizada com todos 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4B74-FF1B-4E06-8B16-72227191DB4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35:32Z</dcterms:created>
  <dc:creator>Escolastica</dc:creator>
  <dc:description/>
  <dc:language>en-US</dc:language>
  <cp:lastModifiedBy>Mendoza</cp:lastModifiedBy>
  <dcterms:modified xsi:type="dcterms:W3CDTF">2012-01-31T14:22:07Z</dcterms:modified>
  <cp:revision>3</cp:revision>
  <dc:subject/>
  <dc:title>Sindromes Geriátricas Aula 2</dc:title>
</cp:coreProperties>
</file>