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1.wmf" ContentType="image/x-wm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EEC7-61AA-46A3-97A7-FDFB6CF5E5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7DAC-3703-40E6-8DBB-A5F2B3516C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9ABE-57B7-4ADB-9DB8-6D4BE541C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F93F-E10A-459A-8080-67CCAFF8E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FB03-C0D0-4F3A-8AB1-02C56B2DA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8F09-C534-4FAF-BB18-78E2B06B5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94C9-D645-4007-A807-2DC7578DC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30C0-79F3-43EE-B2DC-224A8F9C4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80C3-49CF-4ECA-8A03-F7599A122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E8C9-EB45-4F43-967D-06CC8CC78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654B-87F7-4BA8-B02E-7C26687FE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CCCC-BC6F-444C-B21B-72EA2BBD9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3465-D456-4B50-BD7A-7567AFCE3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62B6-BE64-4546-A78B-512D66127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419-2710-4E43-B529-0BD2C369C70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igiene do idoso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581360"/>
            <a:ext cx="74725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mpeza dos olhos deve ser feita com gaze, utilizando o soro fisiológico para a retirada das secreções. Usar uma compressa para cada olh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uma gaze embebida em soro fisiológico, passar no olho de dentro para fora, a fim de limpar as secreções existen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petir o procedimento no outro olho, utilizando nova gaz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o o paciente esteja em coma ou semi consciente, é recomendado deixar uma gaze com soro fisiológico sobre o olho, para manter a humidade das pálpebras, prevenindo contra  úlceras na córne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EFA-456F-4050-BF14-3A5985249AB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igiene  da cavidade buc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FB6-3B0F-4AA3-AE72-172B11D823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2050920" y="1125360"/>
            <a:ext cx="6345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igiene  da cavidade buc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828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higiene oral reduz a colonização local, sendo importante para prevenir e controlar infecções, diminuir a incidência de cáries dentárias, manter a integridade da mucosa bucal, evitar ou reduzir a halit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feita pela manhã, após as refeições e antes de deit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9423-1D13-4E6B-8EE3-7D480AA228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idoso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628640"/>
            <a:ext cx="838188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realizada pelo própri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deve solicitar o material aos famili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roveitar a estadia do idoso no hospital para observar a escovação, ensinando a técnica correta quando necessário e a importância da troca de escova a pelo menos cada 2/3 mês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9D4F-4D2E-4C84-BD58-78991A841F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idoso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2640"/>
            <a:ext cx="83818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rientações dadas pelo enfermei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Escove as superfícies voltadas para a bochecha dos dentes superiores e, depois, dos inferiores (1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Escove as superfícies internas dos dentes superiores e, depois, dos inferiores (2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Em seguida, escove as superfícies de mastigaçã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Para ter hálito puro, escove também a língua, local onde muitas bactérias ficam alojadas (3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313-8984-438F-9B13-D8B0A836DE2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http://www.colgate.com.br/Colgate/BR/OC/Information/Images/ArticleImages/OHB/GoodOralHygiene/BrushingAndFlossing/brush1.jpg"/>
          <p:cNvPicPr/>
          <p:nvPr/>
        </p:nvPicPr>
        <p:blipFill>
          <a:blip r:embed="rId1"/>
          <a:stretch/>
        </p:blipFill>
        <p:spPr>
          <a:xfrm>
            <a:off x="1116000" y="4076640"/>
            <a:ext cx="216072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colgate.com.br/Colgate/BR/OC/Information/Images/ArticleImages/OHB/GoodOralHygiene/BrushingAndFlossing/brush2.jpg"/>
          <p:cNvPicPr/>
          <p:nvPr/>
        </p:nvPicPr>
        <p:blipFill>
          <a:blip r:embed="rId2"/>
          <a:stretch/>
        </p:blipFill>
        <p:spPr>
          <a:xfrm>
            <a:off x="3635280" y="4076640"/>
            <a:ext cx="2183040" cy="224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colgate.com.br/Colgate/BR/OC/Information/Images/ArticleImages/OHB/GoodOralHygiene/BrushingAndFlossing/brush3.jpg"/>
          <p:cNvPicPr/>
          <p:nvPr/>
        </p:nvPicPr>
        <p:blipFill>
          <a:blip r:embed="rId3"/>
          <a:stretch/>
        </p:blipFill>
        <p:spPr>
          <a:xfrm>
            <a:off x="6089760" y="4056120"/>
            <a:ext cx="2193840" cy="2252520"/>
          </a:xfrm>
          <a:prstGeom prst="rect">
            <a:avLst/>
          </a:prstGeom>
          <a:ln w="0">
            <a:noFill/>
          </a:ln>
        </p:spPr>
      </p:pic>
      <p:sp>
        <p:nvSpPr>
          <p:cNvPr id="153" name="CaixaDeTexto 8"/>
          <p:cNvSpPr/>
          <p:nvPr/>
        </p:nvSpPr>
        <p:spPr>
          <a:xfrm>
            <a:off x="2987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ixaDeTexto 9"/>
          <p:cNvSpPr/>
          <p:nvPr/>
        </p:nvSpPr>
        <p:spPr>
          <a:xfrm>
            <a:off x="7956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aixaDeTexto 10"/>
          <p:cNvSpPr/>
          <p:nvPr/>
        </p:nvSpPr>
        <p:spPr>
          <a:xfrm>
            <a:off x="5508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oral do idoso com limitaçõ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acompanhante pode ser orientado para realizar a higiene oral, desde que o utente esteja consci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e deve ser preparado para o procedimento correcto, inclusive o uso de EPI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deve observar os primeiros procedimentos até certificar as condições de realização pelo acompanh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aso a higiene oral seja realizada pelo acompanhante, o enfermeiro não deve deixar de tomar conhecimento sobre os horários de realização, as condições da mucosa oral do utente, ressecamento dos lábios, sangramento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F7A-0C6D-41B4-BFC3-505DAA7B76C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oral do idoso inconsci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773000"/>
            <a:ext cx="83818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idosos inconscientes compete ao enfermeiro lavar-lhe os dentes, gengivas, bochechas, língua e lábios com o auxílio de uma espátula envolvida em gaze umedecida em solução dentifrícia ou solução de bicarbona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ós verificação, se necessário, aplicar um lubrificante nos lábios para prevenir rachaduras que facilitam a penetração de microrganismos, infecção e dificultam a alimen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9E2-3A55-48EE-9E04-641C2BE39E8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oral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terial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po com ág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cova de dentes ou espátula montadacom algodão ou com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sta dentíf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uvete ou copo descartá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oalha de ros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aselina (protecção dos lábio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FBA-FFE2-4DD8-B14C-0DDA40EFDF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inet.sitepac.pt/CopoAgua.jpg"/>
          <p:cNvPicPr/>
          <p:nvPr/>
        </p:nvPicPr>
        <p:blipFill>
          <a:blip r:embed="rId1"/>
          <a:stretch/>
        </p:blipFill>
        <p:spPr>
          <a:xfrm>
            <a:off x="4952880" y="1143000"/>
            <a:ext cx="1524240" cy="1695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t3.gstatic.com/images?q=tbn:ANd9GcRN_eFqwe9sZ1_I3BGaqMd-eZzrNqAY1LUJ5YZTxn_HrICVfsHT"/>
          <p:cNvPicPr/>
          <p:nvPr/>
        </p:nvPicPr>
        <p:blipFill>
          <a:blip r:embed="rId2"/>
          <a:stretch/>
        </p:blipFill>
        <p:spPr>
          <a:xfrm>
            <a:off x="6400800" y="990720"/>
            <a:ext cx="2266920" cy="200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t1.gstatic.com/images?q=tbn:ANd9GcRW0guKNthBe69PH7klad4_YdrEswPI-62I0IowuzUKAvFAhKpNxg"/>
          <p:cNvPicPr/>
          <p:nvPr/>
        </p:nvPicPr>
        <p:blipFill>
          <a:blip r:embed="rId3"/>
          <a:stretch/>
        </p:blipFill>
        <p:spPr>
          <a:xfrm>
            <a:off x="4419720" y="316692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t1.gstatic.com/images?q=tbn:ANd9GcSiAqlaeJQDXk8ydGXEMlqqayuLphpHPy38CJmZJkP6feoVDrTiGw"/>
          <p:cNvPicPr/>
          <p:nvPr/>
        </p:nvPicPr>
        <p:blipFill>
          <a:blip r:embed="rId4"/>
          <a:stretch/>
        </p:blipFill>
        <p:spPr>
          <a:xfrm>
            <a:off x="6858000" y="2971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t1.gstatic.com/images?q=tbn:ANd9GcRtJ9aOnzmhHSQKN8OmfxghurI9Ue5oGU7c7NZ5PT_waT50-3ds"/>
          <p:cNvPicPr/>
          <p:nvPr/>
        </p:nvPicPr>
        <p:blipFill>
          <a:blip r:embed="rId5"/>
          <a:stretch/>
        </p:blipFill>
        <p:spPr>
          <a:xfrm>
            <a:off x="4648320" y="449568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t0.gstatic.com/images?q=tbn:ANd9GcTKJR3TqixI-5y8xM1-ah2QjqBfoPcGX-CFDATAkJo5xjcal-sF8Q"/>
          <p:cNvPicPr/>
          <p:nvPr/>
        </p:nvPicPr>
        <p:blipFill>
          <a:blip r:embed="rId6"/>
          <a:stretch/>
        </p:blipFill>
        <p:spPr>
          <a:xfrm>
            <a:off x="7010280" y="4557600"/>
            <a:ext cx="15876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oral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PI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Luvas de procedimento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Máscar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Óculo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77"/>
                </a:solidFill>
                <a:latin typeface="Verdana"/>
              </a:rPr>
              <a:t>Avental plástic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B95-98FB-49CB-AA7A-27E49A57DD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4087800" y="2286000"/>
            <a:ext cx="4680000" cy="3505320"/>
          </a:xfrm>
          <a:prstGeom prst="rect">
            <a:avLst/>
          </a:prstGeom>
          <a:ln w="0">
            <a:noFill/>
          </a:ln>
        </p:spPr>
      </p:pic>
      <p:sp>
        <p:nvSpPr>
          <p:cNvPr id="179" name="CaixaDeTexto 6"/>
          <p:cNvSpPr/>
          <p:nvPr/>
        </p:nvSpPr>
        <p:spPr>
          <a:xfrm rot="20153400">
            <a:off x="651960" y="35074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gorro também é importante para evitar salpicos no cabelo do trabalh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ós a higiene oral, o enfermeiro deve registar no processo do utente o proced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crescentar registos sobre as condições da mucosa oral, gengivas, cáries, vermelhidão, sangramento, ressecamento dos lábios, dificuldade de mastigação, condição de prótese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9A2-517D-4586-B103-95B834F7DC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3704760" y="3925800"/>
            <a:ext cx="18828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Higiene do utente ido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483920"/>
            <a:ext cx="8308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higiene co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 pele, cabelos e couro cabelu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ãos e unh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olh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avidade bucal (dentes, prótese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genit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 unidade onde está instalado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C3C-F0F2-4DDF-98CC-2B1FE92E43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íntim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realizada diariamente, e sempre que for necessária: após a evacuação, antes de passar sonda vesical e cada vez que mudar a fralda do idoso incontin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a mulher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sicioná-la em decúbito dorsal, com as pernas flexion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impar grandes e pequenos lábios e vulva, com água, sabão e uma gaze, de frente para trá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xaguar a área até retirar todo o sab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licar anti-séptico de mucosas (aquos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car bem, dando ênfase às pregas para que a humidade não provoque assadura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AF04-8F75-4A1E-9D4E-7239AE5569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íntim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000" y="1341360"/>
            <a:ext cx="8381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o hom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sicioná-lo em decúbito dors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avar bem testículos e pênis com água e sab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xaguar até remover todo o sabão, e secar suave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Baixar o prepúcio para que não apareça edema na glan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849A-423B-4571-91D8-98F8AD9A49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111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unidade em que está instalado 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higiene do ambiente deve ser diária, com reforço semanal mais cuida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bservar a presença de insetos e providenciar o contro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ão deixar restos de alimentos na unidade do utente ou na cozinha (tratando-se do domicíli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janelas e portas abertas sempre que possível e livres de poei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avar frutas e verduras com água e sab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Água potável: filtrada, fervida ou mine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limentação equilibrada, natural (se possível) e que se encontrem em condições de conserv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0CA-E3E8-4A26-B173-4E0589FAC8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214200"/>
            <a:ext cx="7495920" cy="982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unidade em que está instalado 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520" y="18288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pode observar se a enfermaria está livre de poeira, sujidade em geral e odores desagradáveis e providenciar e orientar a limpez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ntes de realizar qualquer procedimento o enfermeiro deve dispor de recipiente para o lixo comum, lixo infeccioso e perfuro-cort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quanto trabalha, manter a área a sua volta limpa e organ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caso de derramamento de secreções, excreções, isolar a área e providenciar a limp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B8C-9266-4FEA-A54B-D1A3B1DB0F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unidade em que está instalado 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000" y="1915920"/>
            <a:ext cx="8381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 enfermeiro pode desenvolver um plano de educação para utentes, acompanhantes e visitantes no sentido de não sujar a 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É importante disponibilizar recipientes para lixo nos quartos, áreas de passagem, casas de banho, área de procedimentos e que estejam sin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C85E-8800-4544-B490-56D9725DD9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 unidade em que está instalado 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eve acompanhar se o plano e a rotina de limpeza de sua unidade estão sendo cumpri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 plano indica para cada dia da semana o responsável pela limpeza, quais os sectores a serem limpos e tipos de limpeza conforme as áreas de baixo e de alto ris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 rotina da limpeza deve estar afixada em local visível e ser do conhecimento de toda a equip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ED99-B3E6-4C03-8A70-B604F0D7FE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699920"/>
            <a:ext cx="70149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cuidados específicos relacionados a higien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itar aspectos referentes a higiene da unidade onde está instalado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FC6E-C193-4B98-8DBD-E0A0A90FE0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écnic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s mãos constitui importante fonte de disseminação de microorganismos, sendo as unhas zonas de acúmulo de numerosas bacté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ssim, todo indivíduo deve lavar as mãos ao sair da casa de banho, antes e depois das refeições, antes de tomar medicamentos, antes de se deitar e de acordo com as suas necess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s mãos devem ser lavadas com sabão neutro, incluindo os espaços interdigitais, palmas e costas das mãos e embaixo das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Enxaguar e secar em toalha de uso pessoal ou papel toalh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As unhas devem ser aparadas e r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4FE-0B36-462E-8C0D-F491230541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álcool glicerinado pode estar ao alcance do idoso para a higiene das mã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e substitui a lavagem das mãos com água e sabão desde que as mãos não estejam visivelmente su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itar cerca de 5ml do produto na palma de uma das mãos e friccionar na regi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lmar e dorsal das mãos, espaç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terdigital, dedos,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D36-6FAF-4ACC-8A30-FC08A0BD62B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http://i110.twenga.com/suprimentos/alcool-gel/alcool-gel-70-glicerinado-tp_7057287750995622154b.png"/>
          <p:cNvPicPr/>
          <p:nvPr/>
        </p:nvPicPr>
        <p:blipFill>
          <a:blip r:embed="rId1"/>
          <a:stretch/>
        </p:blipFill>
        <p:spPr>
          <a:xfrm>
            <a:off x="6216480" y="378936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s mãos e das unh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628280"/>
            <a:ext cx="83818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vitar levar as unhas na boca, nariz, olhos e ouvidos; Fazer a limpeza dessas área na casa de banh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ão roer as unh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spirrar ou tossir protegendo a boca e o nariz com a mão em concha; Em seguida lavar as mã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A9C-E2EE-47FE-B7DB-66221098E4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as mãos e das unh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70028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ações comuns aos idosos, como acuidade visual diminuída, tremores, mobilidade prejudicada, falta de hábito da lavagem das mãos, poderão dificultar sua adesão a referida higiene, bem como aparar as unh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esse contexto, cabe ao enfermeiro orientar e estimular, realizar pelo idoso e envolver a família nesses cuid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A3F-547C-48C8-81EB-86491C6FAE5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773000"/>
            <a:ext cx="8381880" cy="30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À noite, lavar o rosto, de preferência com sabonete neutro e suav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xaguar os cabelos sempre com a cabeça inclinada para trás, jamais para fr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os cílios com uma gota de xampu neutro para tirar qualquer resíduo prejudicial aos olh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ar compressas geladas, em caso de irrit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A2C-38A7-4622-A3E5-F171E32F3D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giene dos 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2205000"/>
            <a:ext cx="83818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ar lágrimas artificiais para lubrificar bem o cristalin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mover as lentes de contato para dormir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ar óculos escuros sempre que estiver ao ar livr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levar as mãos aos olhos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F39-AA8E-4720-99C8-0B7D9C15F03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10:31Z</dcterms:created>
  <dc:creator>Escolastica</dc:creator>
  <dc:description/>
  <dc:language>en-US</dc:language>
  <cp:lastModifiedBy>Mendoza</cp:lastModifiedBy>
  <dcterms:modified xsi:type="dcterms:W3CDTF">2012-01-31T14:35:51Z</dcterms:modified>
  <cp:revision>2</cp:revision>
  <dc:subject/>
  <dc:title>Higiene do idoso  (Aula 2)</dc:title>
</cp:coreProperties>
</file>