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DC24-7194-4B11-ABEB-1EF6C8B992A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B8D8-8B15-4D6C-8681-ECFB98F090E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ço Reservado para Cabeçalho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ço Reservado para Data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Espaço Reservado para Rodapé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Espaço Reservado para Número de Slid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37AC-353C-4237-B41C-52AC43AFB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6FCE-6186-42B0-94C8-94B5ADC8A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E93E-8178-446C-A3F7-C0FF83C67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0A63A-3747-4899-A7F5-5B8939E20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8690-D4DA-4E8D-BAC2-9DD95BF2C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3D6E-CD4E-4153-8984-19378370F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044C-3D2F-4766-BD45-D1F0B93A9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CD4A-437F-4247-9C1C-F3B4ADBAB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78977-F16A-4129-9681-FC71FD248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AF666-3326-44FF-BB4D-F438D096F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6276-E010-4D7E-B643-F5E48911A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E912-635D-42D8-8FBF-FF9AFC611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E136-FDB2-4B30-A2FF-64ACBAC60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8F87-2B56-4E79-BDBD-E4BB45CD593D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9890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fpa.br/dicas/treina.htm" TargetMode="Externa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ufpa.br/dicas/treina.htm" TargetMode="Externa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2133720"/>
            <a:ext cx="65530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Higiene do idoso 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(Aula 1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4581000"/>
            <a:ext cx="7543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ndo o idoso se mostrar resistente ao banh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enfermeiro deve buscar a causa, perguntando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medo da temperatura da água? Ou medo de cair?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te dificuldades para caminhar até a casa de banho?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utente pode estar deprimido, ter alguma infecção que o faz se sentir com mal estar, pode sentir dor e ter tontur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á com vergonha de se expor a equipe de enfermagem ou ao seu acompanhante especialmente se este for do sexo opos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F253-26DA-4BAE-BE8D-1C716A50A2F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ndo o idoso se mostrar resistente ao banh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142640"/>
            <a:ext cx="838188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ertas culturas evitam o banho durante doenças, pois acreditam que “o banho faz mal”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pecto importante a ser respeitado pelo enfermeiro é que o idoso apresenta deterioração dos mecanismos de regulação da temperatura devido a menor quantidade do tecido subcutâneo,  baixa atividade da glândula sudorípara e diminuição do metaboli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 isso, os idosos sentem mais frio, apresentam temperaturas mais baixas que os adultos e estão mais expostos a hipotermia, sendo motivo de recusa do banh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D8C3-FBA1-41B4-94C9-5AF807D6498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CaixaDeTexto 5"/>
          <p:cNvSpPr/>
          <p:nvPr/>
        </p:nvSpPr>
        <p:spPr>
          <a:xfrm>
            <a:off x="971640" y="5805360"/>
            <a:ext cx="7056360" cy="45972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erecer água morna para o banho do ido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anho no lei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142640"/>
            <a:ext cx="8381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banho no leito é somente para os utentes acamados que não apresentam condições para o banho de chuv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85A3-5F59-4A77-8AE9-14F4768B6DE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" descr="http://4.bp.blogspot.com/-QplmbhWGP0k/TZKlp296mcI/AAAAAAAAAAQ/RtEmqIzdZP0/s1600/danilo+proibindo+banho.jpg"/>
          <p:cNvPicPr/>
          <p:nvPr/>
        </p:nvPicPr>
        <p:blipFill>
          <a:blip r:embed="rId1"/>
          <a:stretch/>
        </p:blipFill>
        <p:spPr>
          <a:xfrm>
            <a:off x="2362320" y="3214800"/>
            <a:ext cx="43434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anho no lei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484280"/>
            <a:ext cx="83822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erial necessári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pa para mudar (dois lençóis, uma fronha), toalha de banho e pijam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mbo, saco para roupa suj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ia, balde com água morna, balde para água suja, sabão (peça o de uso do utente), compressas, arrastadeira ou urino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tos pessoais: hidratante, desodorizante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E664-9679-4500-992A-9C8E10FA3CE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anho no lei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4920" y="990360"/>
            <a:ext cx="5040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Já existe o “Kit Banho no Leito”, com excelente aprovação pela equipe de enfermagem por facilitar o banho ao acama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1600" indent="-2916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kit: 1 lavatório anatômico (capacidade-5 litros), 1 rede de proteção para o lavatório de modo que os cabelos não fiquem imersos na água, 1 chuveiro térmico portátil com capacidade para 3,5 litros e 1 lençol impermeável para manter o leito sec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91D8-E1AC-4F78-AD7E-E46CFE9EAC1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2" descr="http://1.bp.blogspot.com/-L84FgHpscu4/Tc77w9dtL0I/AAAAAAAAAgM/KHG8v_7xax4/s1600/t_41021732_1.jpg"/>
          <p:cNvPicPr/>
          <p:nvPr/>
        </p:nvPicPr>
        <p:blipFill>
          <a:blip r:embed="rId1"/>
          <a:stretch/>
        </p:blipFill>
        <p:spPr>
          <a:xfrm>
            <a:off x="5580000" y="1052640"/>
            <a:ext cx="3340080" cy="2504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2.bp.blogspot.com/-T-wfoMXssec/Tc77_jqjwDI/AAAAAAAAAgU/S9l3T0WwsWg/s1600/t_41021732_2.jpg"/>
          <p:cNvPicPr/>
          <p:nvPr/>
        </p:nvPicPr>
        <p:blipFill>
          <a:blip r:embed="rId2"/>
          <a:stretch/>
        </p:blipFill>
        <p:spPr>
          <a:xfrm>
            <a:off x="5580000" y="3645000"/>
            <a:ext cx="334008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anho no Lei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3640" y="98064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I necessári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uvas de procedi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ásca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Ócul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ntal plástic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8B1C-7E8B-4234-9EC9-5C5629B5C5B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aixaDeTexto 6"/>
          <p:cNvSpPr/>
          <p:nvPr/>
        </p:nvSpPr>
        <p:spPr>
          <a:xfrm rot="20153400">
            <a:off x="684720" y="358200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gorro também é importante para evitar salpicos no cabelo do trabalhad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2" descr="C:\Documents and Settings\Administrador\Meus documentos\Moçambique GERAL\enfermaria modelo\fotos enfermaria modelo jan fev 2008\serv 4 jan 2008.JPG"/>
          <p:cNvPicPr/>
          <p:nvPr/>
        </p:nvPicPr>
        <p:blipFill>
          <a:blip r:embed="rId1"/>
          <a:stretch/>
        </p:blipFill>
        <p:spPr>
          <a:xfrm>
            <a:off x="3886200" y="21337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gistos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12536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pós o banho no leito o enfermeiro deve registar o procedimento no processo d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alizar registos sobr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aceitação do idoso ao banh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dições do cabelo e do couro cabelu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dições da face (olho, nariz, ouvido, boca, lábio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dições da pele (ressecamento, fissuras, sinais de dermatite, de pressão ou escara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dições das unh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igiene íntima: corrimento, vermelhidão, perdas involuntárias de urina ou fez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D105-475A-47C8-B4D6-8C47FD41009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9" descr="fichario">
            <a:hlinkClick r:id="rId1"/>
          </p:cNvPr>
          <p:cNvPicPr/>
          <p:nvPr/>
        </p:nvPicPr>
        <p:blipFill>
          <a:blip r:embed="rId2"/>
          <a:stretch/>
        </p:blipFill>
        <p:spPr>
          <a:xfrm rot="1300200">
            <a:off x="7583040" y="4679640"/>
            <a:ext cx="134316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dos cabelos e do couro cabelu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56F3-1312-4F1D-9F1C-D6CFA0FDF19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2" descr="http://images.quebarato.com.br/photos/big/F/3/3299F3_1.jpg"/>
          <p:cNvPicPr/>
          <p:nvPr/>
        </p:nvPicPr>
        <p:blipFill>
          <a:blip r:embed="rId1"/>
          <a:stretch/>
        </p:blipFill>
        <p:spPr>
          <a:xfrm>
            <a:off x="1905120" y="1295280"/>
            <a:ext cx="6395760" cy="4797720"/>
          </a:xfrm>
          <a:prstGeom prst="rect">
            <a:avLst/>
          </a:prstGeom>
          <a:ln w="0">
            <a:noFill/>
          </a:ln>
        </p:spPr>
      </p:pic>
      <p:sp>
        <p:nvSpPr>
          <p:cNvPr id="167" name="Espaço Reservado para Rodapé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ger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341000"/>
            <a:ext cx="8435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couro cabeludo é a pele que reveste o crânio e que possui cabel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diferente das demais peles por dois motivos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baixo desta pele existe uma estrutura muito vasculariz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Grandes sangramentos ocorrem em ferimentos neste local, que devem necessariamente ser suturados para evitar a formação de hematom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7AF6-1463-42D3-9B49-174F754C31D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ger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143000"/>
            <a:ext cx="838188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uma no couro cabeludo com necessidade de sutur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0999-47AA-4A7D-BADF-1B368BECB23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2" descr="http://t2.gstatic.com/images?q=tbn:ANd9GcRTQx9V0gd4lxegeZoy-4h0rOoqVwgb51c3hL5yCXJAlR42NBUlFQ"/>
          <p:cNvPicPr/>
          <p:nvPr/>
        </p:nvPicPr>
        <p:blipFill>
          <a:blip r:embed="rId1"/>
          <a:stretch/>
        </p:blipFill>
        <p:spPr>
          <a:xfrm>
            <a:off x="2075040" y="2259000"/>
            <a:ext cx="50227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Higiene do utente idos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483920"/>
            <a:ext cx="8308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uidados de higiene com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A pele, cabelos e couro cabelu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ãos e unh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Os olh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avidade bucal (dentes, prótese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Os genitai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A unidade onde está instalado o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137A-6ECE-43AC-9F66-BDEFB057B72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ger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39640" y="1844280"/>
            <a:ext cx="5616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tecido do couro cabeludo fino, friável e altamente vascularizado é chamado de Gále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ferimentos contusos apresentam grandes hematom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62E7-F335-446A-9158-7D9F761CB53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CaixaDeTexto 5"/>
          <p:cNvSpPr/>
          <p:nvPr/>
        </p:nvSpPr>
        <p:spPr>
          <a:xfrm>
            <a:off x="611280" y="4941720"/>
            <a:ext cx="8281800" cy="11912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tanto, a lavagem dos cabelos e do couro cabeludo do idoso deve ser cuidadosa, com o utente bem posicionado para evitar quedas e traum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6" descr="http://2.bp.blogspot.com/_6x87rIx8LHg/S_iLh_kE5CI/AAAAAAAAAMc/_2ZjntpmUGA/s1600/Acute_Subdural_hematoma550_ab%5B1%5D.jpg"/>
          <p:cNvPicPr/>
          <p:nvPr/>
        </p:nvPicPr>
        <p:blipFill>
          <a:blip r:embed="rId1"/>
          <a:stretch/>
        </p:blipFill>
        <p:spPr>
          <a:xfrm>
            <a:off x="6300720" y="1773360"/>
            <a:ext cx="2479680" cy="2952720"/>
          </a:xfrm>
          <a:prstGeom prst="rect">
            <a:avLst/>
          </a:prstGeom>
          <a:ln w="0">
            <a:noFill/>
          </a:ln>
        </p:spPr>
      </p:pic>
      <p:sp>
        <p:nvSpPr>
          <p:cNvPr id="183" name="Espaço Reservado para Conteúdo 2"/>
          <p:cNvSpPr/>
          <p:nvPr/>
        </p:nvSpPr>
        <p:spPr>
          <a:xfrm>
            <a:off x="6516720" y="1052640"/>
            <a:ext cx="2158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mato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39640" y="1628640"/>
            <a:ext cx="8305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siste na lavagem dos cabelos e do couro cabeludo, promovendo a limpeza, o relaxamento e a sensação de conforto do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higiene do couro cabeludo é necessária para prevenir lesões, estimular a circulação sanguínea e evitar o aparecimento de pedícul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m geral, é realizada 2 a 3 vezes por semana, pois o acúmulo de seborréia e caspa causa prurido e desconforto n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2B87-AF98-4C45-A366-A45A4828B92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46784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dos cabelos e do couro cabelu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331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ntes de iniciar o procedimento, certifique-se de que não exista contra-indicações ou prescrição de cuidados especiais, como nos casos de idosos graves, submetidos a cirurgias de cabeça e pescoço ou com traumatismo raquimedul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eviamente à lavagem, proteger os ouvidos do utente com algodão para evitar entrada de águ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ra facilitar o procedimento e evitar a fadiga, o idoso deve ser posto em decúbito dorsal, com um travesseiro ou coxim sob os ombros; a cama deve estar forrada com oleado impermeável e toalha, e a bacia mantida sob a cabeç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699D-23CB-404B-BD82-EE15C10A38A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46784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dos cabelos e do couro cabelu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6840" y="1752480"/>
            <a:ext cx="838188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o intuito de propiciar conforto ao idoso, moderar a quantidade de água no enxágüe, mas cuidar para que todo o shampoo seja removido. Este é oferecido pelo utente ou famili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alizar movimentos de fricção do couro cabeludo com a ponta dos dedos (nunca com as unhas) para estimular a circul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pós a lavagem, retirar o excesso de água dos cabelos com a toalha e providenciar a secag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entear, quando o utente estiver impossibilit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3716-07DD-47FF-8E4D-67F8BE116C5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46784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dos cabelos e do couro cabelu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gistos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pós a lavagem dos cabelos e couro cabeludo registar o procedimento no processo d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crescentar registos sobr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eda de cabel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arefação de áreas (sugestivo de micoses, cicatrize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esença de pediculose (tratar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esença de seborréia ou caspa excessiv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C6AC-472E-4971-87E7-DFE1E801114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9" descr="fichario">
            <a:hlinkClick r:id="rId1"/>
          </p:cNvPr>
          <p:cNvPicPr/>
          <p:nvPr/>
        </p:nvPicPr>
        <p:blipFill>
          <a:blip r:embed="rId2"/>
          <a:stretch/>
        </p:blipFill>
        <p:spPr>
          <a:xfrm rot="1300200">
            <a:off x="3057120" y="4284720"/>
            <a:ext cx="18828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35280" y="1699920"/>
            <a:ext cx="70149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escrever cuidados específicos relacionados a higiene d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itar aspectos referentes a higiene da unidade onde está instalado o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51F1-68C1-4984-8A63-FF0DAB3721E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492280"/>
            <a:ext cx="18716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 de higien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1196640"/>
            <a:ext cx="620388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palavra higiene é de origem grega, que significa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hygeinos -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o que é saudável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derivada de Hígia - Deusa Grega da saúde, limpeza e sanitarie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ornou-se um ramo das ciências da saúde que visa �a prevenção de doenç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um conjunto de conhecimentos e técnicas para prevenir doenças infecciosas usando métodos de limpez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E859-17A0-4853-8B4C-0F80DE08AA8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2" descr="http://bp0.blogger.com/_7FKxjVJQZM4/SFPjVS-mjNI/AAAAAAAAADE/-kFM77vVqxo/s320/deusa+higia.jpg"/>
          <p:cNvPicPr/>
          <p:nvPr/>
        </p:nvPicPr>
        <p:blipFill>
          <a:blip r:embed="rId1"/>
          <a:stretch/>
        </p:blipFill>
        <p:spPr>
          <a:xfrm>
            <a:off x="6659640" y="981000"/>
            <a:ext cx="1944720" cy="460872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6"/>
          <p:cNvSpPr/>
          <p:nvPr/>
        </p:nvSpPr>
        <p:spPr>
          <a:xfrm>
            <a:off x="6264360" y="551664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Hígia Deusa grega da saúde, limpeza e sanitarieda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7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Benefícios da higien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000" y="1557360"/>
            <a:ext cx="838188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roporciona a sensação de conforto e bem-est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Estimula a circulação sanguíne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Mantém o utente com uma aparência saudáve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Auxilia na prevenção de escaras por decúbi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revine o aparecimento e a propagação de infec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F9C1-905A-4F6E-91FA-31002F87E57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da pele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773000"/>
            <a:ext cx="83818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pele é constituída por células que se renovam e descamam continuamente. Por isso, diversos tipos de sujidades  aderem a pele com facilidade. Assim, os microorganismos se multiplicam intensamente em toda a sua superfíci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rtanto, ao assegurar a higiene e a integridade  da pele e da mucosa do utente é favorecido que estas funcionem como barreiras mecânicas protectoras contra os microorganism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CF3E-FD97-4167-92ED-0D257A27AA7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da pele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caso do utente idoso, a descamação, principalmente das extremidades, aumenta, devido a diminuição da secreção sebácea por mudanças nos lipídios, associadas a menor quantidade de água, predispondo a pele a maior ressecamento e presença de fissuras, com resistência diminuída às agressõ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durante a higiene da pele (banho no leito, por exemplo), cabe ao enfermeiro observar junto a atendente a leveza nos movimentos, no sentido de prevenir irritação ou agressão à pele do ido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4066-D5A2-483F-A8CC-9919A95C4F6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anho no lei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4A66-5055-4C7E-ADD8-4AA7C8B11EB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2" descr="C:\Documents and Settings\Administrador\Meus documentos\Moçambique GERAL\enfermaria modelo\fotos enfermaria modelo jan fev 2008\serv 4 jan 2008.JPG"/>
          <p:cNvPicPr/>
          <p:nvPr/>
        </p:nvPicPr>
        <p:blipFill>
          <a:blip r:embed="rId1"/>
          <a:stretch/>
        </p:blipFill>
        <p:spPr>
          <a:xfrm>
            <a:off x="2362320" y="1066680"/>
            <a:ext cx="5333760" cy="4000680"/>
          </a:xfrm>
          <a:prstGeom prst="rect">
            <a:avLst/>
          </a:prstGeom>
          <a:ln w="0">
            <a:noFill/>
          </a:ln>
        </p:spPr>
      </p:pic>
      <p:sp>
        <p:nvSpPr>
          <p:cNvPr id="123" name="Espaço Reservado para Rodapé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50288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Consiste na remoção da sujidade da pele do utente a fim de proporcionar conforto, estimular boa circulação e manter a aparência saudá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enefícios do banh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banho é um fator importante para o utente na sua recuperação, no seu conforto, no seu bem-estar, ajuda na circulação e, também, limpa a sujeira da pele como o suor, urina, fezes, secreç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o banho o utente fica mais exposto, assim com sutileza, o enfermeiro avalia condições da pele, cabelos, unhas e da higiene or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observação da pele inclui a cor, temperatura, hidratação, edema e vermelhidão, que podem ser indicativos de aparecimento de futuras úlceras por press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BA0F-659B-4D0A-800F-24B98A068B1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2:16:42Z</dcterms:created>
  <dc:creator>Escolastica</dc:creator>
  <dc:description/>
  <dc:language>en-US</dc:language>
  <cp:lastModifiedBy>Mendoza</cp:lastModifiedBy>
  <dcterms:modified xsi:type="dcterms:W3CDTF">2012-01-31T14:34:04Z</dcterms:modified>
  <cp:revision>48</cp:revision>
  <dc:subject/>
  <dc:title>Elaboração e implementação do plano de cuidados ao utente idoso</dc:title>
</cp:coreProperties>
</file>