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3F5F-9271-43CB-B5A2-04FD6B0B9B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11C-7B18-4FF7-8CA3-B9AF8E59A8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8A5F-82BF-4FB1-95B6-B8AFBE2AAB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424-8BB7-4027-A328-E7485DD0F8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D04F-4494-4F06-ABAA-BFE01FE2C0C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D990-7A88-4C1B-B1A7-57B841D06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3FC1-B23A-4059-9D97-297823089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6625-2267-4823-8C7E-DB057D43A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B1F1-4551-4DFE-8D52-E01219078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9024-61CC-4310-8BDA-A5D5259AC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CA76-40B8-43C1-B614-D4CA4632A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3CBC-15AA-44E3-9E2D-005EF73BE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4D08-818D-4E93-9B39-37B61F209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4C14-987A-4549-9579-1B1FB3A59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BA6E-5C3A-4668-A9F5-245B9C89A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8882-3F2C-4063-8241-31F79B311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E33C-399F-460A-9BC6-7F48DB990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2BE9-44BE-44E3-9519-11CA0DE0F7D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e implementação do plano de cuidados a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58100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468360" y="1484280"/>
            <a:ext cx="835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 enfermeiro deve decidir entre os diferentes tipos de problemas do utente com base nos seguintes parâmet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exigem atenção imediata (urgência e emergência) e aqueles que podem espera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são de sua responsabilidade e aqueles que precisa encaminha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irá lidar usando planos de cuidados padronizado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buClr>
                <a:srgbClr val="3c3c7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ítulo 10"/>
          <p:cNvSpPr/>
          <p:nvPr/>
        </p:nvSpPr>
        <p:spPr>
          <a:xfrm>
            <a:off x="1371600" y="228600"/>
            <a:ext cx="7467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iorização das necessidades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C1FE-5CD9-4C8F-B4E4-BF20038340A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nalidades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1915920"/>
            <a:ext cx="83818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mover a comunicação entre os membros da equip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ireccionar o cuidado para as necessidades prioritária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riar um registo capaz de ser usado para avaliação, pesquisa e defesa leg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porcionar documentação das necessidades de cuidado de saúde com finalidades de reembol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7B7-7630-44F9-9CDF-1BD5847F8F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erven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ceito: é todo cuidado, procedimento ou acção prescrita pelo enfermeiro baseado no julgamento e no conhecimento clínico realizado para melhorar os resultados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 intervenções de enfermagem são prescritas, em geral, de acordo com o saber individual de cada enfermeiro. Todavia com a </a:t>
            </a:r>
            <a:r>
              <a:rPr b="0" i="1" lang="pt-BR" sz="2400" spc="-1" strike="noStrike">
                <a:solidFill>
                  <a:srgbClr val="3c3c77"/>
                </a:solidFill>
                <a:latin typeface="Verdana"/>
              </a:rPr>
              <a:t>Nursing Intervention Classification (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IC) esse comportamento caminha para mudanç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NIC reúne actualmente 514 intervenções na sua 4ª. edição (2008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83A5-A9EF-49CA-97D6-9EAB6D8F7E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ortância da NI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05264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droniza e define a base dos conhecimentos para a prática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seleção adequada de uma interven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comunicação dos tratamentos de enfermagem  a outros enferm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tomada de decisão clínica pelos enfermei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FE3-18A5-436E-B15C-B7A6B0A40A0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Livro - Classificação das Intervenções de Enfermagem (NIC) - 4ª Edição"/>
          <p:cNvPicPr/>
          <p:nvPr/>
        </p:nvPicPr>
        <p:blipFill>
          <a:blip r:embed="rId1"/>
          <a:stretch/>
        </p:blipFill>
        <p:spPr>
          <a:xfrm>
            <a:off x="43815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7"/>
          <p:cNvSpPr/>
          <p:nvPr/>
        </p:nvSpPr>
        <p:spPr>
          <a:xfrm>
            <a:off x="395280" y="2060640"/>
            <a:ext cx="8352000" cy="133200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47760" y="159372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Resultados esperados ou desejados (NO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258920" y="227664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resultados você espera do utente e em que praz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826920" y="3933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Problemas reais e de risco (possíve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179280" y="4365720"/>
            <a:ext cx="8713800" cy="172872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900000" y="4653000"/>
            <a:ext cx="74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os DE e os problemas reais e possíveis que precisam ser focalizados para assegurar um cuidado seguro e efic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es de um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Espaço Reservado para Número de Slide 8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101F-BEFD-420B-943B-269526F70BF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Rodapé 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3"/>
          <p:cNvSpPr/>
          <p:nvPr/>
        </p:nvSpPr>
        <p:spPr>
          <a:xfrm>
            <a:off x="324000" y="14842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Intervenções específicas (N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468360" y="2060640"/>
            <a:ext cx="8351640" cy="158436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47760" y="2349360"/>
            <a:ext cx="87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que será feito para prevenir e controla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problemas principais e para alcançar 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ados esperad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4000" y="40766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Avaliação/registos de evolu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250920" y="4653000"/>
            <a:ext cx="8569080" cy="151272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042920" y="5013360"/>
            <a:ext cx="75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ção dos resultados que comprovam que a pessoa está reagindo ao plano de cuid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ítulo 10"/>
          <p:cNvSpPr/>
          <p:nvPr/>
        </p:nvSpPr>
        <p:spPr>
          <a:xfrm>
            <a:off x="1371600" y="228600"/>
            <a:ext cx="7467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ítulo 10"/>
          <p:cNvSpPr/>
          <p:nvPr/>
        </p:nvSpPr>
        <p:spPr>
          <a:xfrm>
            <a:off x="1187280" y="189000"/>
            <a:ext cx="74678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es de um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Espaço Reservado para Número de Slide 10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1BBD-FB2A-4661-86CE-264489B05C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Rodapé 1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000" y="2204640"/>
            <a:ext cx="838188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plano de cuidados deve ser escri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cuidados ou intervenções de enfermagem podem ser independentes e interdependentes (colaborativas com relação a outros profissionais da equipe de saúd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9AB6-FCE9-4532-83E4-3EF781F48ED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324000" y="1700280"/>
            <a:ext cx="8496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ropósitos dos result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ão elementos de medida do plano de cuidados: mede-se o sucesso da plano determinando se os resultados esperados foram alcançados ou n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irecionam as intervenções: saber o que se está tentando alcançar antes de decidir como alcançá-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lação entre plano de cuidados e resultados esper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34DA-8019-4842-9D8C-7FC39AE02C4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24000" y="105264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siste na decisão do enfermeiro acerca das intervenções a serem implementadas, objetivando uma assistência individualizada e de qual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ter como subsídio a evolução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feita em impresso próprio, dando seqüência à evolução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feita diariamente para todos os utentes, exclusivamente pelo enfermeir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em no máximo 24 horas de validade, devendo ser alterada sempre que necessário, precedida de uma  evolu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ser datada e assinada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ituação especial: Consulta de enfermag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560A-32EF-47B1-B41C-95709562EC2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468360" y="1052640"/>
            <a:ext cx="835164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incluir verbos precisos de a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definir: quem, o quê, onde, quando, como e com que freqüência ocorrer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abranger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troles de diurese, peso, secreções, drenos e sond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limentação (administração e aceitação da diet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giene (cuidados especiai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inais e sintomas (observação dos sinais e sintomas relativos ou não à doença, bem como comportamento, adaptação e outr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D40-A011-4350-BE48-F943542EED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laboração e implementação do plano de cuidados ao utente ido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280" y="2349360"/>
            <a:ext cx="8310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efinir plano de cuidados (intervenções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Elementos que constituem o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omo implementar um plano de cuidados a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4FAB-9A1F-4192-B395-FF7832BC013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468360" y="1808280"/>
            <a:ext cx="8424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abranger (continuaçã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ratamentos (cuidados especiais com sondas, feridas, preparo para exame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rientações (exames, tratamentos, educação para o autocuidado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sistência às necessidades psicossocioespirituai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ncaminhamento para outros profissionais quando necessá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194-7922-4D1C-B25C-56137983C5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rresponde à fase de execução do plano,  considerando custo e conveni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mplementação, sempre que possível, deve respeitar os desejos do idoso e de sua família quanto a serviços e enfermei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companhamento do cuidado deve incluir, de forma organizada e coordenada, acções formais e informais por parte do enfermeiro – é um processo contínuo, de si e com relação a equipa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D2D3-A376-416B-B5DC-0C323FC198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companhamento do cuidado resulta na observação contínua da execução do plano de cuidados, estabelecido de forma a garantir as adequações necessárias e sua execução com alto padrão de qual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serviços prestados devem ser flexíveis e adaptáveis às mudanças observadas entre os utentes e suas famíl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ECC7-A86B-4EEF-BAFB-40EC741989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dos resultados obtidos deve ser periódica e deve propiciar a adequação da planificação inicialmente estabelec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bora simples e exeqüível, tal cuidado exige o repensar do plano vigente adequando-o às novas demandas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3B1-D2C4-491D-A922-0FACFF6C773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1557360"/>
            <a:ext cx="701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intervenção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itar os elementos que constituem um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hecer aspectos importantes do processo de implementação do plano de cuid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5D5B-5325-44A4-9820-62137F86B6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Uma vez identificadas as necessidades do idoso por meio da entrevista e do exame físico (primeira etapa do processo de enfermagem) e terem sido estabelecidos os Diagnósticos de Enfermagem, o enfermeiro passa a elaboração do Plano de cuidados (terceir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Porém, lembremos que essa separação é mais didática, pois na medida em que o enfermeiro coleta os dados do utente, seu raciocínio crítico já se inicia, culminando no DE e, consequentemente, nos principais cuidados relacionados ao me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BA70-8758-4DB4-A59D-8A00CB5065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0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9B7A-CAF0-4ED9-BC11-4E41D1DCB5A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349360"/>
            <a:ext cx="8382240" cy="22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lano de cuidados corresponde ao conjunto de intervenções de enfermagem estabelecidas para atender as necessidades prioritária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1A9F-10EF-4B3C-B848-CA15B50B3A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1628280"/>
            <a:ext cx="8381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lano é elaborado a partir da avaliação do utente, devendo estar voltado para o atendimento das necessidades identificadas, tendo por base os recursos potenciais do mesmo, de sua família e da comun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laboração do plano de cuidados promove a integração de diferentes áreas do sector saúde e serviços sociais, uma vez que as necessidades do utente pode estar inserida em diversos camp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3883-FD82-45A5-9F49-F48C068E82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980640"/>
            <a:ext cx="85075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laboração do plano pode ser estruturada nas seguintes etap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stagem das necessidades d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lista geral de necessidades do utente passa por uma priorização pelo enfermeiro, que verifica com o idoso se o mesmo está de acordo. Modificações podem ocorrer nesse mo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abelecimento de met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etas são estabelecidas para curto, médio e longo prazo. São metas mensuráveis a serem desenvolvidas pelo idoso, pelo cuidador/familiar ou pela equipe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EB20-ECD4-4A2E-86CE-0AA572A124E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3000"/>
            <a:ext cx="838188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35480" indent="-3394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ganização dos cuidados a serem prestados: especificando tipo e quantidad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35480" indent="-3394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emplos: número de visitas domiciliares, número de trocas de pensos, número de lavagens de aspirações, número de esvaziamento do colector de urina,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78FE-8D62-4210-9E62-77D19DE4D74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tângulo 5"/>
          <p:cNvSpPr/>
          <p:nvPr/>
        </p:nvSpPr>
        <p:spPr>
          <a:xfrm>
            <a:off x="611280" y="4653000"/>
            <a:ext cx="820872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nificação do cuidado deve ser continuamente revisado, pois tende a se modificar conforme a evolução do quadro de saúde do uten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3:26:54Z</dcterms:created>
  <dc:creator>Escolastica</dc:creator>
  <dc:description/>
  <dc:language>en-US</dc:language>
  <cp:lastModifiedBy>Mendoza</cp:lastModifiedBy>
  <dcterms:modified xsi:type="dcterms:W3CDTF">2012-01-31T14:31:53Z</dcterms:modified>
  <cp:revision>28</cp:revision>
  <dc:subject/>
  <dc:title>Elaboração e implementação do plano de cuidados ao utente idoso</dc:title>
</cp:coreProperties>
</file>