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F6F-6B48-4682-B70B-7E29869836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3C1-9E1D-49F1-9198-84847134AE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DE8-A0D1-468D-A1CE-FAC4764950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3852-D7C2-4282-A31A-7308B37C8A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A8D-348A-4C48-9AF7-AA22FA98F0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CAE2-6031-462A-A2C4-E8F5B9CF32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5BA-58DD-4449-BF72-BE6B5A0EB5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BB27-5B6E-462B-A626-2DD76DA6BE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3636-37FD-4E34-8862-3D9BB5134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9FEA-F837-46EC-AD95-351A5582C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8D31-8417-4FB5-8AB8-5B661BC95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7482-0882-4E58-B2D7-9883DE102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A9BF-A577-46B4-93D7-8E4EBB84D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B2E0-1EB7-4E73-80DD-7FA71855D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4CBC-998C-4009-A216-843CC05B0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4248-66B2-4D84-B095-52BEF9EBD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1D8A-01F3-4575-949E-E0B55D4BA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92A4-A904-498E-87C0-C3DEC49AB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0D4B-C2A0-408E-AF9E-4F058BCAD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70F3-EE9B-457E-8F24-6DB8DDA71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77BF-40E1-42B3-8DC2-5E56BBD27AE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844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iagnóstico de Enfermagem (DE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611280" y="1413000"/>
            <a:ext cx="8064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9: ENFRENTAMENTO/ TOLERÂNCIA AO ESTRE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dar com os eventos/processos de v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4191-7B2A-44AB-BCF5-24B24AEDCF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9640" y="3357720"/>
            <a:ext cx="8064720" cy="21132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0: PRINCÍPIOS DE V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s nos quais são baseados a conduta, o pensamento e o comportamento quanto a atos, costumes ou instituições, encarados como verdadeiros ou como dotados de valor intrínse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7"/>
          <p:cNvSpPr/>
          <p:nvPr/>
        </p:nvSpPr>
        <p:spPr>
          <a:xfrm>
            <a:off x="468360" y="1125360"/>
            <a:ext cx="84484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11: SEGURANÇA/PROTE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r livre de perigo, lesão física ou dano do sistema imunológico; preservação contra perdas; e proteção da segurança e da segur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68360" y="3141720"/>
            <a:ext cx="842328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2: CONFOR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ação de bem-estar ou conforto mental, físico ou soc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9BF8-C43C-4D3F-B61B-5FB44655D4D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39640" y="4365720"/>
            <a:ext cx="831708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13: CRESCIMENTO/DESENVOLV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s apropriados para a idade nas dimensões físicas e nos sistemas orgânicos e/ou a progressão através dos estágios do desenvolv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0" y="998640"/>
            <a:ext cx="774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920" y="1412640"/>
            <a:ext cx="8381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Resulta de um processo de raciocínio clínico (análise e síntese) sobre os dados levantados do utente, por meio da entrevista e do exame físic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É o julgamento clínico sobre a resposta atual ou potencial do indivíduo/ família ou comunidade a problemas de saúde/ processos vitais, que determina a base para a escolha de intervenções direcionadas a resultados pelos quais o enfermeiro é responsável (NANDA, 1991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F69-8749-4362-9B90-CC79DDBAC23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Rodapé 1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468360" y="1700280"/>
            <a:ext cx="3743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vista e exame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ã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o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788000" y="1844640"/>
            <a:ext cx="2736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ção dos dados (análise e sínte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003640" y="306864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9200" y="510372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132000" y="400536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39640" y="1052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1692360" y="4508640"/>
            <a:ext cx="7056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necess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fatores de ris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isão de problemas potenciais/ complicaçõ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recursos e de pontos for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1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7D0B-3ECB-45F1-865D-A95243CF861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8" name="Conector de seta reta 15"/>
          <p:cNvCxnSpPr/>
          <p:nvPr/>
        </p:nvCxnSpPr>
        <p:spPr>
          <a:xfrm>
            <a:off x="4211640" y="2491920"/>
            <a:ext cx="50544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95280" y="112536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Em 1982 foi criada a North American Nursing Diagnosis Association (NANDA)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Principais funçõ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Espaço Reservado para Rodapé 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179-A1E4-4D97-B47E-5F82C44563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5"/>
          <p:cNvSpPr/>
          <p:nvPr/>
        </p:nvSpPr>
        <p:spPr>
          <a:xfrm>
            <a:off x="826920" y="2492280"/>
            <a:ext cx="72741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cionar a padronização da linguagem dos diagnóstico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r a classificação dos diagnós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eta para baixo 10"/>
          <p:cNvSpPr/>
          <p:nvPr/>
        </p:nvSpPr>
        <p:spPr>
          <a:xfrm>
            <a:off x="4427640" y="4076640"/>
            <a:ext cx="504720" cy="50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tângulo 11"/>
          <p:cNvSpPr/>
          <p:nvPr/>
        </p:nvSpPr>
        <p:spPr>
          <a:xfrm>
            <a:off x="900000" y="4797360"/>
            <a:ext cx="727236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processo resultou em uma TAXONOM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outras taxonomias, porém esta é a mais usada e conhec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2060280"/>
            <a:ext cx="410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s 155 Diagnósticos de Enfermagem estão distribuídos por domínios, facilitando a identificação pelo enfermei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0B5-4424-4B76-B2C4-D0D3FB46EB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2" descr="http://www.livrosdeprogramacao.com.br/images/8536321040Gr.jpg"/>
          <p:cNvPicPr/>
          <p:nvPr/>
        </p:nvPicPr>
        <p:blipFill>
          <a:blip r:embed="rId1"/>
          <a:stretch/>
        </p:blipFill>
        <p:spPr>
          <a:xfrm>
            <a:off x="4716360" y="990720"/>
            <a:ext cx="36720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"/>
          <p:cNvSpPr/>
          <p:nvPr/>
        </p:nvSpPr>
        <p:spPr>
          <a:xfrm>
            <a:off x="0" y="350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95280" y="112536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O DE apresenta os seguintes compon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Título: termo ou frase concisa que representa um padrão de sugestões relacionad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efinição: explicita o conceito que se tem da situação expressa pela denominação do diagnóst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aracterísticas definidoras: são as evidências que o enfermeiro identifica no utente a partir do levantamento de dados e que pelo seu julgamento interpreta e agrupa (sinais e sintoma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relacionados: são os elementos que contribuem para a ocorrência do diagnóstico (fatores etiológicos, do ambiente e/ou da pessoa) que favorecem a ocorrência da “resposta” expressa no diagnóstico). Servem de base para a determinação de intervençõ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95EE-2773-46F4-95E6-6CC184F8B2B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395280" y="2133720"/>
            <a:ext cx="856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Componentes do DE: (continuaçã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Fatores de risco: são fatores ambientais e elementos fisiológicos, psicológicos, genéticos ou químicos que aumentam a vulnerabilidade de um indivíduo, de uma família ou de uma comunidade a um evento insalub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CE57-86DC-4CC6-956C-BC06C136D0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964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Exemplos de 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Comunicação prejudicada relacionada às barreiras acuidade auditiva e visual prejudic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Arial"/>
              </a:rPr>
              <a:t>Risco para infecção relacionado a baixa imunidade d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EB5-ADFD-4097-9E17-50A7F168CAE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Group 23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785440" cy="508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os que caracterizam o Diagnóstico de Enfermagem e Méd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73FE-F81F-4294-BF9A-1CECD6AC156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as necessidades do idoso e o  Diagnósticos de Enfermagem (DE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nc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Áreas de domín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ponentes do 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ferença entre DE e diagnóstico méd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904D-1A63-4828-A3EF-A9930E44B5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250920" y="134136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iferenças entre  diagnósticos médico e de enfermag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Dois utentes foram internados em uma unidade de terapia intensiva, com o mesmo diagnóstico médico: “Infarto agudo do miocárdi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Arial"/>
              </a:rPr>
              <a:t>A enfermeira avalia os utentes para estabelecer os DE e encontra: o utente 1 com dor precordial intensa, alterações do ritmo cardíaco, insegurança e medo de morrer; o utente 2 está sem dor, sem arritmias e confiante na equi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E144-999D-4AAF-B483-FB2B2499D53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042920" y="260280"/>
            <a:ext cx="77058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óstico de Enfermag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95280" y="4653000"/>
            <a:ext cx="8353440" cy="155700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, o tratamento médico dos utentes 1 e 2 será igual, mas a enfermeira poderá cuidá-los da mesma forma?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deve levar em conta as respostas diferentes que cada pessoa deu ao mesmo problema médic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328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Diagnóstico de Enfermagem (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s áreas de domínio e os componentes do 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 diferenças essenciais entre DE e diagnóstico méd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Fazer a integração entre identificação de necessidades e DE como etapas do processo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2D3-2267-4180-A1D2-FA452010DE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349360"/>
            <a:ext cx="1871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as necessidades do idoso e o 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Uma vez identificadas as necessidades do idoso por meio da entrevista e do exame físico (primeira etapa do preocesso de enfermagem), o enfermeiro passa para a segunda etapa (Diagnóstic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C32-EED3-4883-A872-2BEFA91C72F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24D-31D0-43EE-A42F-C806E5E0B9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23640" y="981000"/>
            <a:ext cx="8597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necessidades do idoso podem ser agrupadas nas 13 áreas de domínio dos Diagnósticos de Enfermagem, de acordo com a NANDA, o que facilitará a interpretação dos achados pelo enfermeiro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F0E-B568-422C-9D28-6069951C647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3068640"/>
          <a:ext cx="8208720" cy="2766960"/>
        </p:xfrm>
        <a:graphic>
          <a:graphicData uri="http://schemas.openxmlformats.org/drawingml/2006/table">
            <a:tbl>
              <a:tblPr/>
              <a:tblGrid>
                <a:gridCol w="345600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Promoção da 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xu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Nutr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Enfrentamento/ tolerância ao estr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Eliminação e tro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rincípio de 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Actividade/repo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Segurança/prote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Percepção/ cogn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onfor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Auto-percep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Crescimento e desenvolv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c3c77"/>
                          </a:solidFill>
                          <a:latin typeface="Arial"/>
                        </a:rPr>
                        <a:t>Relacionamentos de pap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nóstic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468360" y="1557360"/>
            <a:ext cx="82566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1: PROMOÇÃO DA SAÚ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ciência de bem-estar ou de normalidade da função e as estratégias utilizadas para manter sob controle  ou aumentar esse bem-estar ou normalidade da fun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68360" y="3789360"/>
            <a:ext cx="837576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 2: NUTR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de ingerir, assimilar e utilizar nutrientes para fins de manutenção dos tecidos, reparação dos tecidos e produção de energ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D8FB-E53B-48E2-8A55-8DFD3A3BC1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395280" y="1052640"/>
            <a:ext cx="847260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3: ELIMINAÇÃO E TRO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ção e excreção dos produtos residuais do metabolismo do organi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2708280"/>
            <a:ext cx="8450280" cy="138168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4: ATIVIDADE/ REPO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ção, conservação, gasto ou equilíbrio de recursos energétic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D52-264A-4BDB-A1B6-49B50F1D0E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5280" y="4292640"/>
            <a:ext cx="849780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5: PERCEPÇÃO/ COGNI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istema  humano de processamento de informações, incluindo atenção, orientação, sensação, percepção, cognição e comunica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468360" y="126828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6: AUTOPERCEP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ência de si mes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68360" y="2565360"/>
            <a:ext cx="8351640" cy="17474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7: RELACIONAMENTOS DE PAP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onexões ou associações positivas e negativas entre pessoas ou grupos de pessoas e os meios pelos quais essas conexões são demonstr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ção dos domíni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7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6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0A0-FCDC-4C40-8147-56EA35EFFB9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8360" y="4797360"/>
            <a:ext cx="8351640" cy="10159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ÍNIO 8: SEXUALID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e sexual, função sexual e reprodu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48:59Z</dcterms:created>
  <dc:creator>Escolastica</dc:creator>
  <dc:description/>
  <dc:language>en-US</dc:language>
  <cp:lastModifiedBy>Mendoza</cp:lastModifiedBy>
  <dcterms:modified xsi:type="dcterms:W3CDTF">2012-01-31T14:30:13Z</dcterms:modified>
  <cp:revision>16</cp:revision>
  <dc:subject/>
  <dc:title>Identificação das necessidades humanas básicas do utente idoso.</dc:title>
</cp:coreProperties>
</file>