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CB18-0BA1-4631-8CA1-7A19EDDC53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D02C-CDD1-4859-B385-FC3218C6B7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DCC9-5282-454E-87B1-63248963B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84A6-3DF9-4F82-B120-C97E46DA5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F34F-E059-438D-9B20-BD8121912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D658-DE2F-4D13-BF46-B4E991F62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69A4-5919-436E-B511-561CA86B8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F0F3-D79F-43D7-995F-2BC6CF6AF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1E32-11E0-4EC0-8BB9-EE4BD66D2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CFE0-D23A-44B0-B100-E2CAD50E9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9D09-0252-4C08-B0FA-D2B838595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E249-623E-4FF7-B8CA-9679BDF25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0882-3A9C-4EDA-8039-C50189489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188C-9BF6-4BFC-BD5C-BEFD01F51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FD34-F5BD-4730-AF58-DB3579F80C0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CIDENTE VASCULAR CEREBRAL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D3B-E2EB-42D6-AEEA-F33BA64233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AV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57360"/>
            <a:ext cx="8381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dar dinamismo às aulas, este conteúdo será desenvolvido por meio de estudo dirigido em pequenos grup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ssamos a leitura do artig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uação do enfermeiro ao paciente com acidente vascular cer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983B-D29B-42BF-B175-7F2200CAF7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CaixaDeTexto 5"/>
          <p:cNvSpPr/>
          <p:nvPr/>
        </p:nvSpPr>
        <p:spPr>
          <a:xfrm>
            <a:off x="1547640" y="4292640"/>
            <a:ext cx="655344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r com atenção, sublinhando os pontos relevantes, anotando comentários do grupo e eventuais dúvidas. Destaquem as particularidades do AVC em pessoas neg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ÂNC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1EDE-61E6-4AC3-8292-AF48CBEBC0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consenso na literatura oncológica mundial de que a idade acima de 65 anos consiste num dos principais fatores de risco para o desenvolvimento do câncer (BALDUCCI,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de envelhecimento correlaciona-se à carcinogênese em razão das células senescentes apresentarem acúmulo de mutações no DNA nuclear e mitocondrial induzidas por agentes ambientais ou por radicais livres, entretanto, são providas de menores atividades dos mecanismos fisiológicos de reparo do DNA (GIGLIO et al., 2002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9BC5-BEA1-4D8C-8A9F-ACE5E4C405D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erentes aspectos relacionados ao envelhecimento impactam no cuidado ao idoso com cânce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 envelhecimento resulta na diminuição da reserva homeostática, ou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ja, no declínio da reserva fisiológica dos sistemas orgân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 declínio está relacionado à exposição ao tempo e não é resultado de processos patológicos, entretanto, predispõem o idoso com câncer ao aumento da vulnerabi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46D-0562-4A15-96C5-7252274272A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dução da reserva fisiológica da medula óssea com o envelhecimento, evidencia o aumento da taxa de neutropenia entre os idosos tratados com regime quimioterápico completo. Assim, a diminuição da reserva homeostática reduz a habilidade dos idosos com câncer a tolerar os tratamentos oncológicos sem eventos adversos ou complic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885-D7C6-4CE3-8C38-1F6EE69E1BE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rmacocinética é alterada pelo processo de envelhecimento em que a absorção dos medicamentos está reduzida por causa da diminuição da motilidade intestinal, diminuição das enzimas gástricas e atrofia da muc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serva de gordura aumenta e a de água diminui no idoso, logo a distribuição das drogas solúveis em gordura é maior que aquelas solúveis em água, alterando o pico de concentração e o tempo de meia vida dos fárma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99A8-ED57-47C7-9717-52D046E9261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xcreção de medicamentos é afetada pela redução da taxa de filtração glomerular n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o envelhecimento também há alteração da farmacodinâmica que corresponde à alteração da sensibilidade, provocando efeitos adver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virtude da alteração na farmacocinética e farmacodinâmica, o princípio do tratamento oncológico no idoso corresponde a baixas doses e avanço lento da dosagem. Contudo, as baixas doses de quimioterapia podem reduzir os benefícios desejados pelo tratamento e minimizar a toxicidade (WHITE; COHEN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51A8-5855-4083-92A9-0ED792B658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ssociação entre câncer e envelhecimento possui três principais caus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cinogênese lenta: corresponde ao fato da carcinogênese ser um processo longo que dura anos; logo, quanto mais a pessoa vive mais exposta ao desenvolvimento do cânc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ior risco tecidual: é que os tecidos idosos são mais sujeitos que os tecidos jovens à carcinogênese ambiental. Nessa perspectiva, há evidências que os tecidos cutâneos, linfáticos e nervosos dos idosos são mais suscetíveis ao desenvolvimento do câncer quando exposto aos fatores cancerígenos que o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C7F8-B74E-45D8-B0E2-4C9BE0FAE3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velhecimento e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dições ambientais: são condições que favorecem o desenvolvimento do câncer, como a proliferação senescente, ou seja, a perda de habilidade de proliferação da célula idosa, estando associada à secreção de enzimas que favorecem a metástase do câncer e os fatores de crescimento, estimuladores da proliferação das células cancerígenas. E ainda, a imunosenescência que representa a progressiva perda da imunidade celular mediata com o envelhecimento, favorecendo o desenvolvimento de alguns cânceres (BALDUCCI, 2000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811-4859-48C4-824C-D42FB93AA4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enfermagem a ter nas seguintes patolog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lostom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Alzheim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Parkins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VC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ânc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betes mellitu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5E99-600F-4778-A202-3CE7319B0B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âncer no idos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posicionamento da Sociedade de Enfermagem Oncológica e da Sociedade de Oncologia Geriátrica, a respeito do cuidado ao idoso com câncer, enfatiza a necessidade da atuação de equipes interdisciplinares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estratégias de avaliação geriátrica a fim de otimizar o planejamento do tratamento, o acesso ao cuidado e os resultados durante a trajetória do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do oncológico (Oncology Nursing Society and Geriatric Oncology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ortium-ONS 200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24EC-29A1-45EA-B4F9-D513012F5A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nfermeira compõe a equipe multidisciplinar que em conjunto supre as necessidades dos idosos com câncer no panorama de prevenção e detecção precoce do câncer, no cuidado durante a hospitalização, no tratamento oncológico, no manejo de problemas especiais relacionados ao envelhecimento e no cuidado domiciliar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B456-DAE1-4895-81A2-3EC4FA28709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nfermeira deve educar o idoso e familiares quanto aos sinais de alerta mais comuns do câncer, sinais normais e anormais do envelhecimento, do aumento do risco de desenvolver câncer com o avanço da idade, das práticas para manter boa saúde, dos benefícios da detecção precoce relacionada à redução da morbidade e mortalidade, do recurso de avaliação disponível na comunidade para detecção precoce e assistência (COLUSSI et al.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59D5-AED9-4604-939B-282DCA46643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413000"/>
            <a:ext cx="86407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a hospitalização do idoso com câncer é responsabilidade da enfermeira manter a autonomia do cliente em relação às atividades de vida diária e seu papel no círculo famili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bservação cautelosa na admissão permite ao enfermeiro avaliar não apenas as condições físicas gerais, mas também o estado psicológico do idoso, atentando-se às deficiências auditivas e visuais para conseguir comunicar-se efetiv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B2E0-000E-4099-91B8-E6F2CE45AA0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tectar as inúmeras comorbidades presentes no idoso, não subestimando sinais e sintomas e referenciando a necessidade do tratamento delas pelo oncologista que, comumente, foca-se apenas no tratamento do cânc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 oncogeriátrico inclui monitorar, intervir, educar e prevenir complicações hospitalares relacionadas ao envelhecimento como: confusão mental e demência, queda, síndrome do imobilismo, úlcera por pressão e problemas nutricionais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CE0-1B01-42C7-B256-C7E24A97373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4842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tratamento cirúrgico, o cuidado da enfermagem oncogeriátrica deve estar focado na prevenção de complicações, buscando identificar e corrigir anormalidades fisiológicas, mobilizar precocemente o cliente, preservar sua função pulmonar, controlar a dor, educar o idoso e seu familiar em relação ao planejamento de alta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62F-C9B9-4B11-97EE-EF23D619BD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4000" y="1196640"/>
            <a:ext cx="8640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alta hospitalar do idoso com câncer, a enfermeira, por intermédio das orientações, garante o cuidado adequado, direcionando os serviços domiciliares e so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registos  de alta devem incluir diagnóstico, tratamento, presença de feridas e ostomias, complicações durante a hospitalização, medicações em uso, efeitos adversos do tratamento, instruções relacionadas à alimentação parenteral e presença de cateter venoso central. Além disso, a enfermeira deve avaliar individualmente a situação dos familiares, pois são os responsáveis pelo cuidado ao idoso (COLUSSI et al.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526-505D-4988-AFF4-7C82274AFE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a radioterapia é papel da enfermeira organizar o suporte psicossocial do idoso com câncer para garantir aderência às sessões sequen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bre a quimioterapia, a enfermeira deve reconhecer precocemente os sinais de toxicidade e manejar imediatamente, educando o idoso e familiar em relação aos possíveis efeitos adversos e medidas para minimizá-los. Nos cuidados paliativos, a enfermeira deve saber avaliar e manejar sintomas como dor, fadiga, dispnéia, entre outros, objetivando o conforto do idoso com câncer (COLUSSI et al., 200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8020-2BFF-40FA-B2B5-AE740DFB4DD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cânc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idosos com câncer possuem problemas complexos que exigem suporte fisiológico e psicossocial para manter a homeóstase ao stress da doença oncológica e do tra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versidade de demandas da população oncogeriátrica exige programas de tratamento individualizados baseados na avaliação multidisciplinar do paciente, em que a enfermeira Oncológica é uma parte importante desse time (COLUSSI et al. 2001)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D44-2183-41BB-9D6E-1ACC9C11F8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IABETES MELLITU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EC50-A02A-439E-A3B5-C20E30D1D73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280" y="2060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cuidados de enfermagem a pessoas idosas com ú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lceras por pressão, colostomia, Doença de Alzheimer, Doença de Parkinson, AVC, câncer e diabetes mellitu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4C92-511F-4C73-BF5E-9CBBD811AC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99736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iabetes Mellitus (DM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3640" y="1268280"/>
            <a:ext cx="85150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dade de pico de incidência de novos casos de DM é de 60 a 70 anos de idade, com sintomatologia clássica geralmente ausente n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 integral ao idoso com DM e suas complicações é um desafio para a equipe de enfermagem, especialmente no sentido de ajudar a pessoa a conviver com essa doença crônica, qu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mudanças no modo de viver, envolvendo a vida de seus familiares e amigos, na casa e n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 de trabalh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s poucos, o idoso deverá aprender a gerenciar sua vida com DM em um processo contínuo, que vise qualidade de vida e auton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9F2-0829-46B2-BDBA-133368C4391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M é uma doença comum e de incidência crescente que aumenta com a idade. Apresenta alta morbidade e mortalidade, com perda importante na qualidade de vida do idoso. É uma das principais causas de mortalidade, insuficiência renal, amputação de membros inferiores, cegueira e doença cardiovasc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doença metabólica caracterizada por hiperglicemia associada a complicações, disfunções e insuficiência de vários órgãos, especialm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lhos, rins, nervos, cérebro, coração e vasos sangüíneos. Pode resultar de defeitos 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reção e/ou ação da insul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8908-5F91-4048-9132-55356A97AA8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idosa, a forma mais freqüente de DM é de um achado casual devido a uma doença intercorrente (habitualmente infecções); uma manifestação de complicação típica do diabetes a longo prazo (doença cerebrovascular, infarto 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iocárdio, arteriopatia periférica); um exame de saúde ou um exame de glicemia não diretamente relacionado com a suspeita de diabe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as formas de apresentação são aumento da sede (polidipsia), aumento da micção (poliúria), aumento do apetite, fadiga, visão turva, infecções que curam lentamente, impotência em hom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BCAA-93C8-4C72-B538-6852CD169AA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alguns casos o diagnóstico se estabelece pela primeira vez por um descontrole hiperosmolar precipitado, devido a uma infecção aguda, habitualmente uma pneumonia, em que o estado de consciência alterado e a desidratação, contribuem para o desenvolvimento do quad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a redução da taxa de filtração glomerular no idoso, há redução da diurese osmótica e, conseqüentemente, diminuição das perdas de água e sal normalmente associadas à hiperglice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16B-D8B0-437E-A81B-4A076FDE15B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fato a destacar é que, se a poliúria está presente no idoso, muitas vezes n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pensada como sendo causada por DM, mas, freqüentemente, por hipertrofia prostática,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stites e incontinência urinária, entre outras caus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pessoas idosas raramente desenvolvem cetoacidose, mas podem entrar em estado de hiperosmolaridade e fazer sua apresentação inicial com confusão, coma ou sinais neurológicos foc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B005-6082-4B17-83E7-5512B035DF8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ainda apresentar queixas inespecíficas como: fraqueza, fadiga, perda da vitalidade ou infecções menos importantes da pele e tecidos moles, como a monilíase vulvo-vag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regra, na presença de prurido vulvar pense em monilíase; na presença de monilíase, pense em diabe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nfermeiros devem ficar atentos, pois freqüentemente os sintomas iniciais de DM são anormalidades neurológicas ou neuropatias, tanto cranianas quanto perifér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2133-2CEE-432F-98A9-F9ECA92BEE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independente: a autovigilância dos sintomas e da glicemia é tão importante quanto em qualquer outra 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dependente, o trabalho de vigilância deve ser assumido pelo cuidad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m tais condições, sempre se deve avaliar a qualidade da ajuda em casa.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odos os casos, as prioridades são nesta ord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bilizar a glicose sérica e evitar complicações da doença, tanto sobre a morbidade e mortalidade quanto sobre as fun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ole dos outros fatores de risco (sobretudo a hipertensão), para prevenir complicações macrovascular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40B-7251-4CCA-A742-C28A1F294F9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M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térios de control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ceitável: glicemia de jejum: 100-120mg/dl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Glicemia pós-prandial &lt;180 mg/dl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A961-F45D-4AB7-B9DF-E47BB27B0E6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http://t1.gstatic.com/images?q=tbn:ANd9GcSS5pXLO5x-v3q72e3eBylRnpVbcLDqHPElG4svKpVvEaT58gs8Rg"/>
          <p:cNvPicPr/>
          <p:nvPr/>
        </p:nvPicPr>
        <p:blipFill>
          <a:blip r:embed="rId1"/>
          <a:stretch/>
        </p:blipFill>
        <p:spPr>
          <a:xfrm>
            <a:off x="611280" y="2492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t0.gstatic.com/images?q=tbn:ANd9GcRa-e_1Pjgtw7LnhSH5PIzaX-F9MFLFNx5uA7iwb8PE0i84BGOU"/>
          <p:cNvPicPr/>
          <p:nvPr/>
        </p:nvPicPr>
        <p:blipFill>
          <a:blip r:embed="rId2"/>
          <a:stretch/>
        </p:blipFill>
        <p:spPr>
          <a:xfrm>
            <a:off x="4932360" y="2565360"/>
            <a:ext cx="3703680" cy="3024360"/>
          </a:xfrm>
          <a:prstGeom prst="rect">
            <a:avLst/>
          </a:prstGeom>
          <a:ln w="0">
            <a:noFill/>
          </a:ln>
        </p:spPr>
      </p:pic>
      <p:sp>
        <p:nvSpPr>
          <p:cNvPr id="241" name="CaixaDeTexto 7"/>
          <p:cNvSpPr/>
          <p:nvPr/>
        </p:nvSpPr>
        <p:spPr>
          <a:xfrm>
            <a:off x="539640" y="5300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e familiares devem ser treinados para realização do teste de glicem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97000"/>
            <a:ext cx="8381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, em geral, semelhante ao proposto para outras idades. Inicialmente, recomenda-se dieta e exercício, e somente se isso não for suficiente cogita-se o uso de medic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recomendações nutricionais específicas devem ser adaptadas para cada individuo, mas, há normas que são amplamente aplicáve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strição calórica moderada de 250 a 500 kcal a menos que a ingestão diária habitual, só está indicada em casos de sobrepe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nos de 30% das calorias devem vir do consumo de gordu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8E1-3CB8-425D-A1EC-0747750636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ambém se recomenda que as refeições, especialmente a ingestão de carboidratos, sejam fracionadas ao longo do dia para evitar grandes cargas calór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1A1-F27A-4EF4-BBAA-B8A206DD30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OENÇA DE PARKINSO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A8D2-5CED-4102-AB7A-B80FBB9B3E2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ao idoso com D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m ser individualizados os programas de atividade física e levar em con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isco de hipoglicemia, sobretudo nos que usam insuli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acerbação de doença cardiovascular preexis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iora das complicações crôn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F7C0-6323-4D25-A9B4-2E5A8822913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especiais com hipoglicemia na pessoa id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consciente ou com a ajuda de amigo ou famili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gerir 10 a 20g de carboidrato de absorção rápida; repetir em 10 a 15 minutos se necessá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própria pessoa não conseguir engolir, não forçar: injetar glucagon 1mg SC ou IM. Se não for disponível, colocar açúcar ou mel embaixo da língua ou entre a gengiva e a bochecha e levar a pessoa imediatamente a um serviço de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0709-B4E4-476E-84F7-1DA95ED7B32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especiais com hipoglicemia na pessoa id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essoa inconsci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forçar ingestão oral. Dar 20ml de glicose a 50% EV e/ ou 1 mg de Glucagon IM ou SC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caminhar ao hospital. O quadro pode se repetir e ser prolongado, especialmente, em idosos, quando causado por uma sulfoniluré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ntomas neuroglicopênicos podem persistir por horas após a correção metabó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60C0-A9A3-483A-A56C-8B398C1EBCE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doença de Parkinson a maioria das acções está voltada para o ensino do doente e família, pelo que aqui apenas se abordará essa ver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sino ao doente/famíli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parar, com eficiência, o doente e a família para os desafios do autocuidado no domicíl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ente e família têm de conhecer profundamente o processo de doença, as estratégias adequadas de autocuidado e os sinais indicadores de insuficiência ou toxicidade medicamento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542-ACFE-4DA6-B786-EB22C0E1D9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as as intervenções têm por finalidade manter o utente o mais autónomo possível face ao declínio funcional progressi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mover actividades e exercícios que proporcionem a autonomia e reduzam o risco de lesões e complic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centivar o utente e a família a consultar um fisioterapeuta (sempre que possível) a fim de estabelecer um plano de exercícios de mobiliz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B5D-AB18-4978-97AA-23BBE0B0440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13000"/>
            <a:ext cx="850752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massagens e orientar para alongamentos dos músculos e articulações para reduzir a rigidez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sinar estratégias para controlar alterações de marcha e evitar lesões durante a deambul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rcha de pés afastados ajuda a manter o equilíbrio na deambul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ãos cruzadas atrás das costas, ao andar, ajuda o utente a manter a coluna erecta e compensar os problemas criados pelos braços, rígidos e pendentes, ao longo do corp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entuar a importância de uma postura correc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D960-2D49-49F2-93E5-39776C4F89B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itar-se em colchão rígido, sem almofada, ajuda a impedir a flexão da coluna para a frente, o mesmo acontecendo se o utente se deitar em decúbito ventral, periodic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tilizar dispositivos auxiliares, para prevenir lesões e dar apoio na 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a atenuar os tremores, o utente em repouso, pode prender um objecto com as mãos ou, quando sentado, apoiar as mãos e fazer força nos braços de uma cadei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76FA-5BFC-4DB5-A265-0B3B4C4B0E6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Doença d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arkins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268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judar o utente e a família a avaliar riscos de quedas e acidentes no domicíl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mbrar ao utente que deve mudar de posição com frequência, evitando estar sentado na mesma posição por longos perío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tente e família necessitam de apoio constante, pois a sobrecarga inerente à prestação de cuidados aumenta na medida em que o utente se agra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quanto a importância da adesão do utente a intervenção farmacológ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olar o peso, semanal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936-B8E7-4859-ACDA-6222388C1D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5:42:13Z</dcterms:created>
  <dc:creator>Escolastica</dc:creator>
  <dc:description/>
  <dc:language>en-US</dc:language>
  <cp:lastModifiedBy>Mendoza</cp:lastModifiedBy>
  <dcterms:modified xsi:type="dcterms:W3CDTF">2012-01-31T14:40:55Z</dcterms:modified>
  <cp:revision>2</cp:revision>
  <dc:subject/>
  <dc:title>Cuidados especiais a ter com idosos doentes (Aula 2)</dc:title>
</cp:coreProperties>
</file>