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66F-57E4-4736-8844-77FA4DB5E4A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D45-6E05-4302-BED2-622D2B7E69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983B-1B54-4A09-9484-CB8FB74BE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6A24-0493-4B1E-A82F-8CCEA8E84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EF46-3BBF-4A02-9F4D-2DEE76F2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5551-7BB9-4DDC-AC31-EABA2284D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EDE1-9412-4E0B-9402-9C1BE9D03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701F-6D5C-4384-B73B-A35D52EC1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E355-3FA4-4022-B779-1A52FFEEF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A8D1-2EDF-4A2D-BB19-E7AA66C5E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1814-7ADF-4E0A-B1AE-CE7F1C393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CC86-0F29-4256-8E17-CB4150D8C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9CF8-702E-45A4-A384-CA31D1788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B68F-3588-4301-AD57-9970F1F1E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8C90-5553-4747-B225-B5054F2C450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989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6/Pneumonia_x-ray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: peculiaridades do exame físico (Aula 1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652640"/>
            <a:ext cx="7543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ariz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idosos têm uma rinite especial que os mantém com o nariz escorrendo (rinorréi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mesmo sintoma aparece em algumas pessoas não idosas, especialmente quando se alimentam de comidas com temperos fortes e apimentados (rinite gustativ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as têm obstrução nasal quando praticam esporte, o que as atrapalha muito, obrigando-as a tratar a rinite para poderem prosseguir adequadamente com o espor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7A2F-200F-4945-9995-D4996853AE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228240"/>
            <a:ext cx="758016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vidade o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1557360"/>
            <a:ext cx="87138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sões benignas mais encontrad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Úlceras bucais traumátic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cundárias a dentaduras ou restauraçõ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eias varicosas na parte ventral da língua sem significado patogênic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omatite induzida por dentaduras (inflamações localizadas sob as dentadura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áries dentárias e/ou doença periodontal nos que mantiveram os dentes natu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252-88BE-4634-991F-4F2D42055D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http://t0.gstatic.com/images?q=tbn:ANd9GcRwETk5YAU0Thtzv20pRhDSzfeQEW1tlA4HVU0DhLsiwpBkFrRO"/>
          <p:cNvPicPr/>
          <p:nvPr/>
        </p:nvPicPr>
        <p:blipFill>
          <a:blip r:embed="rId1"/>
          <a:stretch/>
        </p:blipFill>
        <p:spPr>
          <a:xfrm>
            <a:off x="6294600" y="1052640"/>
            <a:ext cx="2739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ame buc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981000"/>
            <a:ext cx="4535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xame bucal deve pesquisar  às queixas do idoso (dor, sangramento, dificuldade para mastigar e deglutir, sensação de nódulo ou mass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poderá contribuir com esses achados ao examinar a boca do idoso no ato da higiene oral, ao alimentar idosos dependentes, e, assim, registar e inserir o idoso no devido serviç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6B1-CFFA-4357-BAC6-AF4A8FEE799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http://t1.gstatic.com/images?q=tbn:ANd9GcSD2XsfVS5lw-mHmCOsnFcsO4ueugxT8jx9FSsMIT5hwB7vQB8E"/>
          <p:cNvPicPr/>
          <p:nvPr/>
        </p:nvPicPr>
        <p:blipFill>
          <a:blip r:embed="rId1"/>
          <a:stretch/>
        </p:blipFill>
        <p:spPr>
          <a:xfrm>
            <a:off x="5003640" y="2133720"/>
            <a:ext cx="3942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scoç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640" y="2133360"/>
            <a:ext cx="8382240" cy="30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bócio difuso é incomum no idoso, porém, quando ocorre, deve-se à doença de Graves, tireoidite, efeito de medicamentos ou linfo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bócio multinodular é mais prevalente, usualmente secundário à doença benigna e usualmente não constitui fator de risco para maligniz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805E-00E2-40A8-8794-25798CA744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25360"/>
            <a:ext cx="583236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fose é uma curvatura fisiológica da coluna vertebral. Considera-se patológica quando está mais acentuada. É a corcun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fose na mulher é comumente secundária a doenças degenerativas da coluna, sobretudo à osteoporose com fratur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homens, usualmente é devida à causas secundárias, como: hipogonadismo, corticoterapia, mieloma múltiplo, metástases ósseas ou alcoolism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E68-485C-4F0C-9A20-81D9C70A7E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2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3360" y="-950760"/>
            <a:ext cx="1676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0" descr="http://www.infoescola.com/wp-content/uploads/2010/03/cifose.gif"/>
          <p:cNvPicPr/>
          <p:nvPr/>
        </p:nvPicPr>
        <p:blipFill>
          <a:blip r:embed="rId1"/>
          <a:stretch/>
        </p:blipFill>
        <p:spPr>
          <a:xfrm>
            <a:off x="6156360" y="1773360"/>
            <a:ext cx="2762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48392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inecomastia: pode ocorrer no envelheciment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rmal, sendo desprovida de significado patogênico. No entanto, causas clássicas como tumores, hepatopatia e uso de alguns medicamentos devem ser descart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idoso restrito ao leito, dependente para se alimentar, a obstrução de vias aéreas pode ser devida à presença de corpo estranho (prótese dentária) ou al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F861-993D-4CC7-89E7-0579BE9450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culta respiratória: é mais difícil de ser realizada em idosos, porque estes nem sempre conseguem realizar inspirações profun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frequentes as crepitações nas bases pulmonares desprovidas de significado clínico, particularmente quando desaparecem após a tos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usculta pode também identificar ruídos resultantes de pneumopatias prévias, o que dificulta a sua interpretação diante de sintomas  agu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iragem (maior esforço para respirar) constitui, em geral, obstrução de vias respiratórias, sendo comum nos portadores de Doença Pulmonar Obstrutiva Crônica (DPOC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456D-F071-41C5-AAC8-A0828A9287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125360"/>
            <a:ext cx="4319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caso de pneumonia os sinais identificados à ausculta, como crepitações (abertura de um velcro), nem sempre apresentam correspondência imediata com a imagem radiológica, uma vez que as alterações na radiografia de tórax podem demorar até 72 horas para se tornarem ev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10FB-A969-4211-9D9A-8548340D1EE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Ficheiro:Pneumonia x-r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981000"/>
            <a:ext cx="3095640" cy="5189760"/>
          </a:xfrm>
          <a:prstGeom prst="rect">
            <a:avLst/>
          </a:prstGeom>
          <a:ln w="0">
            <a:noFill/>
          </a:ln>
        </p:spPr>
      </p:pic>
      <p:sp>
        <p:nvSpPr>
          <p:cNvPr id="174" name="Retângulo 6"/>
          <p:cNvSpPr/>
          <p:nvPr/>
        </p:nvSpPr>
        <p:spPr>
          <a:xfrm>
            <a:off x="543564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drão típico 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tângulo 7"/>
          <p:cNvSpPr/>
          <p:nvPr/>
        </p:nvSpPr>
        <p:spPr>
          <a:xfrm>
            <a:off x="4643280" y="162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ór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principais alterações características do idoso relacionadas à integridade da função respiratória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órax ríg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mões menos elás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ansão da caixa torácic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mit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273C-9B1D-41EA-AEDA-FCC9B77360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cien041"/>
          <p:cNvPicPr/>
          <p:nvPr/>
        </p:nvPicPr>
        <p:blipFill>
          <a:blip r:embed="rId1"/>
          <a:stretch/>
        </p:blipFill>
        <p:spPr>
          <a:xfrm>
            <a:off x="5940360" y="2421000"/>
            <a:ext cx="2652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000" y="112536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vascular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rigidez das grandes artérias, alongamento e dilatação das mesmas; o enrijecimento dessas artérias promove elevação dos níveis da pressão arterial sistó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espessura da parede ventricul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são diastólica não sofre modificações significativas com o envelhec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-se aumento de 30% na espessura da parede ventricular esquerda na 8ª década de vida, e aumento do diâmetro aórtico (aorta ascendente) de aproximadamente 9% por déc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4E59-4C9B-421F-96D1-351C0E1AAD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524720" y="83664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evantament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1341000"/>
            <a:ext cx="8308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eculiaridades do exame físico n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2D7-FC76-4D9B-BD34-95A3E6BE62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www.yesacademia.com.br/imagem/jpg19.jpg"/>
          <p:cNvPicPr/>
          <p:nvPr/>
        </p:nvPicPr>
        <p:blipFill>
          <a:blip r:embed="rId1"/>
          <a:stretch/>
        </p:blipFill>
        <p:spPr>
          <a:xfrm>
            <a:off x="2987640" y="1868400"/>
            <a:ext cx="35290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cardíac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s dimensões do átrio esquer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a rigidez ventricu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natural de envelhecimento não prejudica a força de contração do cor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E04-32C5-4B7F-95C6-2FE5B828536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6948360" y="371628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parelho cardiovascu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autonômic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o esforço físico, a frequência cardíaca dos idosos aumenta menos do que nos jov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F8D-E7C0-4660-88BF-0563043EEE6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12" descr="http://cdn-cf.aol.com/se/clip_art/gstres/objcts/heart_beating_final"/>
          <p:cNvPicPr/>
          <p:nvPr/>
        </p:nvPicPr>
        <p:blipFill>
          <a:blip r:embed="rId1"/>
          <a:stretch/>
        </p:blipFill>
        <p:spPr>
          <a:xfrm>
            <a:off x="7020000" y="306864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bdôme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alpação abdominal há maior probabilidade de se encontrarem massas pulsáteis devido a aneurisma da aorta e às fez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bdômen agudo em idosos pode advir sem rigidez intensa da parede abdominal, sendo até mais comum a distensão abdominal. Essa alteração pode ser devido a fraqueza da parede abdominal e à distensão de alças intestinais verificadas na peritoni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fígado em idosos pode ser palpável devido a anormalidades da caixa torácica e não ser indicativo de insuficiência cardíaca direita ou de hepatopat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B629-9890-41EC-A611-4CCC2B2092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mbros Inferiores (MMII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ausa mais frequente de edema de MMII em idosos é a imobilidade, agravada pela drenagem venosa prec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mente o edema de MMII é atribuído de maneira incorreta à IC nessa faixa etária. Sabe-se que mesmo quando o edema de MMII é devido a causa cardíaca, nos estágios iniciais da IC este é geralmente intermitente, de modo que nem sempre é detectado ao exame fís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dema de MMII não constitui, assim, sinal confiável de IC n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541D-7CB3-4687-B184-AE18228321D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bservar sempre edema, varizes e úlceras nos MMI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B2E0-7242-451A-A04F-D3E75A5AB7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2" descr="http://t1.gstatic.com/images?q=tbn:ANd9GcSQ2G7kFG5P3v6BJy3l5xHmZcaduYELue5EwVpETxH5IZyGi9ROHQ"/>
          <p:cNvPicPr/>
          <p:nvPr/>
        </p:nvPicPr>
        <p:blipFill>
          <a:blip r:embed="rId1"/>
          <a:stretch/>
        </p:blipFill>
        <p:spPr>
          <a:xfrm>
            <a:off x="900000" y="2205000"/>
            <a:ext cx="4388040" cy="347508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7"/>
          <p:cNvSpPr/>
          <p:nvPr/>
        </p:nvSpPr>
        <p:spPr>
          <a:xfrm>
            <a:off x="5580000" y="2349360"/>
            <a:ext cx="3384720" cy="3020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I edemaciado com presença de varizes e úlcera em cicatriz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e as causas não forem controladas essas úlceras facilmente recidiv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rofia do quadríceps: usualmente secundária a imobilidade prolongada, desnutrição ou osteoartrose dos joelhos e coxofem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steoartrose pode acometer uma única ou diversas áreas articulares, envolvendo mais comumente articulações que suportam peso em membros inferiores, certas articulações das mãos e as colunas cervical e lomb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adiograficamente, considerando-se todas as articulações, a osteoartrose acomete cerca de 60% dos homens e 70% das mulheres após os 65 anos e após os 85 anos essa cifra atinge 100%. Seu aumento relaciona-se ao envelhecimento da popul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2F7A-0171-4E86-9792-583B622B1A3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steoartro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5732640"/>
            <a:ext cx="48355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steoartrose de joelho com perda do alinhamento articular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467-2A25-414E-B315-C2B48957B5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2" descr="http://www.medicinanet.com.br/imagens/20100813124804.jpg"/>
          <p:cNvPicPr/>
          <p:nvPr/>
        </p:nvPicPr>
        <p:blipFill>
          <a:blip r:embed="rId1"/>
          <a:stretch/>
        </p:blipFill>
        <p:spPr>
          <a:xfrm>
            <a:off x="900000" y="1197000"/>
            <a:ext cx="3419640" cy="4560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medicinanet.com.br/imagens/20100813124722.jpg"/>
          <p:cNvPicPr/>
          <p:nvPr/>
        </p:nvPicPr>
        <p:blipFill>
          <a:blip r:embed="rId2"/>
          <a:stretch/>
        </p:blipFill>
        <p:spPr>
          <a:xfrm>
            <a:off x="4500720" y="1484280"/>
            <a:ext cx="4392360" cy="3024360"/>
          </a:xfrm>
          <a:prstGeom prst="rect">
            <a:avLst/>
          </a:prstGeom>
          <a:ln w="0">
            <a:noFill/>
          </a:ln>
        </p:spPr>
      </p:pic>
      <p:sp>
        <p:nvSpPr>
          <p:cNvPr id="220" name="Espaço Reservado para Conteúdo 2"/>
          <p:cNvSpPr/>
          <p:nvPr/>
        </p:nvSpPr>
        <p:spPr>
          <a:xfrm>
            <a:off x="4500720" y="4508640"/>
            <a:ext cx="446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steoartrose das mãos com </a:t>
            </a:r>
            <a:r>
              <a:rPr b="0" lang="pt-BR" sz="2000" spc="-1" strike="noStrike">
                <a:solidFill>
                  <a:srgbClr val="3c3c77"/>
                </a:solidFill>
                <a:latin typeface="Verdana"/>
              </a:rPr>
              <a:t>Nódulos de Heberden nas interfalângicas dist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alux Valg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lux Valgo, denominação popular de joanetes, consiste no desvio lateral do grande dedo (desvio da falange proximal do hálux sobre a cabeça do primeiro metatársico)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FC14-CC33-42FA-914A-F4F659DEB6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http://www.anapaulasimoes.com.br/path/halux-valgo.jpg"/>
          <p:cNvPicPr/>
          <p:nvPr/>
        </p:nvPicPr>
        <p:blipFill>
          <a:blip r:embed="rId1"/>
          <a:stretch/>
        </p:blipFill>
        <p:spPr>
          <a:xfrm>
            <a:off x="3276720" y="3213000"/>
            <a:ext cx="30081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MII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ungueais: a onicogrifose é a deformidade e espessamento acentuada da unha principalmente do hálux (dedão), indicativo de negligência física e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unha fica espessada pela falta de cuidados, tem crescimento rápido, encurva-se e adquire uma coloração escu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 observada bem mais em idosos, mas também pode ocorrer devido a traumatismos, alterações biomecânicas do pé, infecções (onicomicoses), défice de irrigação sanguínea e de ingestão de nutrientes, Diabetes, malformação congênita da matriz ungueal; e sífilis tard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3388-41C4-4B0A-8CD8-4F1F45EA53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nicogrifo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D006-712D-413A-8B65-FA2542B2BA7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3360" y="-89676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" descr="http://www.dermis.net/bilder/CD020/550px/img0034.jpg"/>
          <p:cNvPicPr/>
          <p:nvPr/>
        </p:nvPicPr>
        <p:blipFill>
          <a:blip r:embed="rId1"/>
          <a:stretch/>
        </p:blipFill>
        <p:spPr>
          <a:xfrm>
            <a:off x="250920" y="1844640"/>
            <a:ext cx="4086000" cy="3057480"/>
          </a:xfrm>
          <a:prstGeom prst="rect">
            <a:avLst/>
          </a:prstGeom>
          <a:ln w="0">
            <a:noFill/>
          </a:ln>
        </p:spPr>
      </p:pic>
      <p:sp>
        <p:nvSpPr>
          <p:cNvPr id="235" name="Retângulo 7"/>
          <p:cNvSpPr/>
          <p:nvPr/>
        </p:nvSpPr>
        <p:spPr>
          <a:xfrm>
            <a:off x="4427640" y="1268280"/>
            <a:ext cx="4465440" cy="48488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 afecção pode ser prevenida quando sua etiologia for higiene inadequada ou onicomicose. Após instalada, deve-se cortar as unhas de modo apropriado lixando para conferir uma estética funcional aceitáv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desbastamento da unha e da matriz, está indicada para pacientes com boa circul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03280" y="141264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entificar as principais peculiaridades do exame físico em idosos nos diferentes órgãos e/ou sistemas corpo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B535-1C66-4DF0-9314-62ED5C5F6B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276640"/>
            <a:ext cx="13478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culiaridades do exame físico n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lh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tose palpebral: pode ser uni ou bilateral. As causas mais frequentes nessa faixa etária são a ptose senil e a secundária à paralisia do terceiro par crani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ctrópio: eversão palp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ópio: inversão palpeb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natural de envelhecimento associa-se à uma redução da acuidade visual devido às alterações fisiológicas das lentes oculares, défice de campo visual e doenças de ret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erca de 90% dos idosos necessitam do uso de lentes corretivas para enxergar adequadam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314-5E8B-4D53-B186-35D770F328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63360" y="-10414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765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125000"/>
            <a:ext cx="8381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rco senil: consiste em um anel esbranquiçado no perímetro da córnea, sendo comum no envelhecimento normal, sem significado patológ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815-514D-45C3-B3D0-32A6ED3C34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http://www.iridologia.com.br/ProjetoIridologia/web/arco_senil.jpg"/>
          <p:cNvPicPr/>
          <p:nvPr/>
        </p:nvPicPr>
        <p:blipFill>
          <a:blip r:embed="rId1"/>
          <a:stretch/>
        </p:blipFill>
        <p:spPr>
          <a:xfrm>
            <a:off x="3203640" y="256536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upilas: a pupila do idoso é menor, sendo frequente a presença de pequenas diferenças de tamanho entre as duas. A reação pupilar à luz está preserv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lapso da íris: pode ser encontrado ocasionalmente em idosos, em geral, secundário à complicação de cirurgia de catara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vimentação ocular: aproximadamente um terço dos idosos apresenta anormalidades do desvio conjugado do olhar para cima, na ausência de doença neurológ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379-C25C-47CD-B01B-ED5D7778D8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lh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492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piledema (edema do disco óptico) tem sua detecção normalmente prejudicada no idoso pela coexistência de catarata e dilatação inadequada das pupil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a ausência, portanto, não exclui o diagnóstico de hipertensão intracrania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C9A1-6013-4A69-95C9-F7B55D0E935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2" descr="http://www.hojf.com.br/imagens/doencas/papiledema.gif"/>
          <p:cNvPicPr/>
          <p:nvPr/>
        </p:nvPicPr>
        <p:blipFill>
          <a:blip r:embed="rId1"/>
          <a:stretch/>
        </p:blipFill>
        <p:spPr>
          <a:xfrm>
            <a:off x="395280" y="3933720"/>
            <a:ext cx="2808360" cy="2094120"/>
          </a:xfrm>
          <a:prstGeom prst="rect">
            <a:avLst/>
          </a:prstGeom>
          <a:ln w="0">
            <a:noFill/>
          </a:ln>
        </p:spPr>
      </p:pic>
      <p:sp>
        <p:nvSpPr>
          <p:cNvPr id="125" name="Retângulo 6"/>
          <p:cNvSpPr/>
          <p:nvPr/>
        </p:nvSpPr>
        <p:spPr>
          <a:xfrm>
            <a:off x="3348000" y="3573360"/>
            <a:ext cx="5472000" cy="25333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uma condição bilateral, na grande maioria dos casos, com acuidade visual normal nas fases iniciais. Geralmente está associado a obscurecimento visual transitório com duração de segundos e visão dupla (diplopia). O diagnóstico pode ser realizado através do exame de fundo de olho como no exemplo ao l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v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incipal alteração do ouvido no idoso é a diminuição da audição como um processo natur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sua maioria essas alterações se devem à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osclerose: envelhecimento dos ossos que formam o sistema auditivo, afetando a audição por condu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oxicações por medicamentos: kanamicina estreptomicina, aminoglicosídeos, certos antiinflamatórios e alguns diuréticos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i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VC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m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tem dificuldade em captar sons al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66C-76AD-4ACD-BEDF-EEA9C064218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v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inuição natural de audição que ocorre no idoso pode ser acompanhada de zumbido ou tinitus, o que, em geral, ocorre nos dois ouvidos e incomoda mui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zumbido piora com ansiedade, nervosismo, álcool, cafeína e uso de antiinflamatóri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zumbido é de um só lado e há diminuição auditiva acentuada, em geral, deve-se a pequenos tumores localizados no ouv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inuição da audição também pode ocorrer pelo acúmulo de cerúmen, o que é muito comum e de fácil trata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877-8ECE-4943-AC6F-5ABDCE102D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16:26Z</dcterms:created>
  <dc:creator>Escolastica</dc:creator>
  <dc:description/>
  <dc:language>en-US</dc:language>
  <cp:lastModifiedBy>Mendoza</cp:lastModifiedBy>
  <dcterms:modified xsi:type="dcterms:W3CDTF">2012-01-31T14:25:51Z</dcterms:modified>
  <cp:revision>197</cp:revision>
  <dc:subject/>
  <dc:title>Peculiaridades do idoso no exame físico</dc:title>
</cp:coreProperties>
</file>