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gif" ContentType="image/gif"/>
  <Override PartName="/ppt/media/image7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8.jpeg" ContentType="image/jpeg"/>
  <Override PartName="/ppt/media/image9.gif" ContentType="image/gif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2F5D-952D-4E6D-8394-99364875268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CB3C-BA4A-4FFB-BD12-1A24DE47357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4DF9-4F37-4C24-95B7-5BB9B804B80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23E4-941A-4A0F-95F2-95210FB99B3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A8DA8-C2D9-4FB6-BA30-B21B8023F5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42B7D-8E7E-4E29-886F-C3ACEBCC17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690AB-92AF-43CC-9769-5D6EDAEFEA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0430F-4FD9-4B73-9891-93FD6421BE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7D9D3-7E4C-4A7F-BE85-37D5F96E89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83BE1-D08B-4400-BAAA-BD97068A5D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3F6B8-A1D0-4FE9-B9EF-DFAC1BC460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4A694-3A1D-403C-B560-188DA58206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4AACA-2E6A-4406-BDB9-59C00531AF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E62B1-B493-4079-A755-98426BE755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ECAED-7EFD-45C9-AC0A-57AA1CF552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9143D-CB8F-4B30-954B-6D3A1028A0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47D6-43C2-425F-B970-D011B4A851B1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900000" y="21337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Times New Roman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b23-cmdt-conceicao-silva.rcts.pt/janela_solucao1.htm" TargetMode="External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ufpa.br/dicas/wor-defi.htm" TargetMode="Externa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47640" y="2276640"/>
            <a:ext cx="65534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Identificação de necessidades do idoso: Entrevista/anamnes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71280" y="4797000"/>
            <a:ext cx="75438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611280" y="1600200"/>
            <a:ext cx="8261280" cy="30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Na medida em que os dados do utente são colhidos, inicia-se a interpretação pelo enfermeiro, mesmo que o quadro ainda não esteja comple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Por isso é que a identificação de necessidades e o diagnóstico são etapas do Processo de Enfermagem que se sobrepõ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ítulo 1"/>
          <p:cNvSpPr/>
          <p:nvPr/>
        </p:nvSpPr>
        <p:spPr>
          <a:xfrm>
            <a:off x="1066680" y="228600"/>
            <a:ext cx="777240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dentificação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de necessidades do ido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3ED9-255E-4B7B-8A33-60D41B200C4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Espaço Reservado para Rodapé 5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5"/>
          <p:cNvSpPr/>
          <p:nvPr/>
        </p:nvSpPr>
        <p:spPr>
          <a:xfrm>
            <a:off x="539640" y="1413000"/>
            <a:ext cx="825660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 entrevista é um processo intencional que permite ao enfermeiro e ao utente a troca de informaçõe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 enfermeiro deve enfocar  sobre a identificação das reacções do utente que podem ser tratadas por meio de intervenções de enfermagem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 entrevista deve te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Introduçã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Meio ou entrevista propriamente dita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Fechamen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2844720" y="2781360"/>
            <a:ext cx="5664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Line 15"/>
          <p:cNvSpPr/>
          <p:nvPr/>
        </p:nvSpPr>
        <p:spPr>
          <a:xfrm>
            <a:off x="6012000" y="251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ítulo 1"/>
          <p:cNvSpPr/>
          <p:nvPr/>
        </p:nvSpPr>
        <p:spPr>
          <a:xfrm>
            <a:off x="1066680" y="228600"/>
            <a:ext cx="7772400" cy="608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Entrevis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Espaço Reservado para Número de Slide 11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BC54-8447-4550-A4F4-C65B19A41DB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Espaço Reservado para Rodapé 12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539640" y="1484280"/>
            <a:ext cx="8382240" cy="37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Erros comuns e que devem ser evitados na entrevista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Tratar o idoso por nome que ele não gosta de ser tratad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Usar adjetivos afetivo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Usar fala infantil – “vozinho”, “vozinha”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Usar terminologia técnica com pessoas leiga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Usar técnicas de comunicação sem prestar atenção à reação do utente. Por exemplo: tocar o idoso que não gosta de ser tocad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ítulo 1"/>
          <p:cNvSpPr/>
          <p:nvPr/>
        </p:nvSpPr>
        <p:spPr>
          <a:xfrm>
            <a:off x="1066680" y="304920"/>
            <a:ext cx="7772400" cy="60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Entrevis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2EB9-6A60-44E8-A326-5ACD1882FAB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Espaço Reservado para Rodapé 5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trevis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143000"/>
            <a:ext cx="8507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divisão formal da história clínica em queixa e duração, história da doença actual e a seguir o interrogatório sobre os aparelhos nem sempre é a forma mais prática de abordar o idos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uitas vezes, é mais produtivo começar pelo último para se obter as informações de forma mais ordenada e complet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ão é raro que a queixa principal do idoso não esteja relacionada ao problema actual e mereça abordagem prioritári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ão omitir a história medicamentosa pregressa, útil para concluir sobre afecções anteriores e actuais, inclusive responsável por muitas queixas actua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Espaço Reservado para Rodapé 1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Espaço Reservado para Número de Slide 2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A66F-03D7-4AEA-B1FA-2A513BC67F5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539640" y="119700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Introdução da entrevist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Organize-se antes, pois sabendo o que vai fazer se sentirá mais confiante e capaz de concentrar-se na pessoa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Prepare os materiais a serem usados na entrevista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Apresente-se ao idos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Pergunte de que maneira o idoso prefere ser tratad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Explique a finalidade da entrevista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Garanta privacidade ao ido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Espaço Reservado para Número de Slide 5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E25E-AE88-4400-9658-6193B1692AE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Espaço Reservado para Rodapé 6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ítulo 1"/>
          <p:cNvSpPr/>
          <p:nvPr/>
        </p:nvSpPr>
        <p:spPr>
          <a:xfrm>
            <a:off x="1066680" y="228600"/>
            <a:ext cx="7772400" cy="536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Entrevis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trevis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4000" y="1341360"/>
            <a:ext cx="85262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ntrodução da entrevista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Não confie em sua memória. Tenha um plano escrito à mão que oriente sobre as perguntas a serem feitas (roteiro, formulário); Essa atitude também ajuda a evitar entrevistas longas e cansativ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s entrevistas aos idosos, em geral, são similares às entrevistas realizadas com adultos, porém acrescenta-se a estas a investigação mais alargada de suas funções motoras e cognitiv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FA09-2CBD-4C66-90E5-E6288FABDE0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68360" y="1341000"/>
            <a:ext cx="8447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Durante a entrevista propriamente dita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Dê total atenção ao idoso; Quando necessário (por limitações do mesmo) é que o acompanhante será envolvid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Não demonstre press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Sentem-s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Converse sobre áreas específicas, começando pela queixa principal, abordando a seguir os aspectos necessári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Evite o impulso de interromper a entrevista de forma brusc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3" name="Espaço Reservado para Rodapé 5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FDCF-111C-4672-BD80-7E46D282746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ítulo 1"/>
          <p:cNvSpPr/>
          <p:nvPr/>
        </p:nvSpPr>
        <p:spPr>
          <a:xfrm>
            <a:off x="1066680" y="304920"/>
            <a:ext cx="7772400" cy="531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Entrevis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0880" y="1828440"/>
            <a:ext cx="836784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Fechamento da entrevista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Certifique-se de que os dados estão complet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Verifique ou faça a checagem de possíveis dúvid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Sempre pergunte se o idoso tem algo mais a acrescenta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gradeça ao idos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Despeça-se e deixe-o em condição confortáve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528A-FA69-4578-90ED-17F7A6F8F13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ítulo 1"/>
          <p:cNvSpPr/>
          <p:nvPr/>
        </p:nvSpPr>
        <p:spPr>
          <a:xfrm>
            <a:off x="1066680" y="304920"/>
            <a:ext cx="7772400" cy="60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Entrevist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trevis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4000" y="5373720"/>
            <a:ext cx="8424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bservando esse ambiente de entrevista ao idoso, o que vocês identificam como inadequad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1CE8-9156-4942-8555-2F152CC84AE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Picture 2" descr="http://t1.gstatic.com/images?q=tbn:ANd9GcTwRusqscAcT3A4Rew70U5HdtY__vf0HqNnTF9OtYAa7CN-Ar9J"/>
          <p:cNvPicPr/>
          <p:nvPr/>
        </p:nvPicPr>
        <p:blipFill>
          <a:blip r:embed="rId1"/>
          <a:stretch/>
        </p:blipFill>
        <p:spPr>
          <a:xfrm>
            <a:off x="2124000" y="1052640"/>
            <a:ext cx="5616720" cy="4206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9" descr="http://www.eb23-cmdt-conceicao-silva.rcts.pt/J0288870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36000" y="5732640"/>
            <a:ext cx="46656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86920" y="228600"/>
            <a:ext cx="7651800" cy="463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trevis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94920" y="105264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ve-se perguntar sobre os antecedentes patológicos do idoso, com ênfase nas doenças crônicas activas. Dada sua prevalência, devem ser investigada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fecções cardiovasculares, em especial doença hipertensiv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iabetes e suas complicaçõ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fecções osteoarticular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éfices relacionados as grandes síndromes geriátricas (7Is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uberculos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IV/Sid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8104-9C89-43DA-9F0A-76B96BC385F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Identificação de necessidades d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1844640"/>
            <a:ext cx="83088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Identificação de necessidades do idos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Entrevista/anamnes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CBF3-B9CE-4F4A-A11F-DE20C76A3E8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AutoShape 2"/>
          <p:cNvSpPr/>
          <p:nvPr/>
        </p:nvSpPr>
        <p:spPr>
          <a:xfrm>
            <a:off x="63360" y="-1179360"/>
            <a:ext cx="1876680" cy="24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63360" y="-1179360"/>
            <a:ext cx="1876680" cy="24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63360" y="-1165320"/>
            <a:ext cx="18766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8" descr="http://t0.gstatic.com/images?q=tbn:ANd9GcRPQjTcH6gwjC1ZG8wqNigv2srGhXaTu2c6oxfBLzQhmSlJLqyOCQ"/>
          <p:cNvPicPr/>
          <p:nvPr/>
        </p:nvPicPr>
        <p:blipFill>
          <a:blip r:embed="rId1"/>
          <a:stretch/>
        </p:blipFill>
        <p:spPr>
          <a:xfrm>
            <a:off x="2484360" y="3141720"/>
            <a:ext cx="476100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536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trevis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aça perguntas dirigidas para as grandes síndromes geriátricas (7Is)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capacidade cognitiv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stabilidade postur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mobilidad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continência esfincterian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capacidade comunicativ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atrogen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suficiência familia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398D-4AF4-4CA6-BF33-AD316EE6C2D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trevis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50560" y="1125360"/>
            <a:ext cx="8497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investigação a respeito das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incapacidades cognitivas e motoras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é feita, em geral, por meio de perguntas dirigidas as Actividades de Vida Diária (AVD), que incluem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Banhar-s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Vestir-s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r a casa de banh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Mobilizar-s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ntinência fecal 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urinár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limentar-s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1D85-27D5-4F77-9D8B-70FF1675B69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CaixaDeTexto 5"/>
          <p:cNvSpPr/>
          <p:nvPr/>
        </p:nvSpPr>
        <p:spPr>
          <a:xfrm>
            <a:off x="4859280" y="2637000"/>
            <a:ext cx="4033800" cy="192348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ra abordagem que ajuda o enfermeiro na investigação cognitiva do idoso é perguntar sobre as Actividades Instrumentais da Vida Diária (AIVD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99" name="Conector angulado 7"/>
          <p:cNvCxnSpPr/>
          <p:nvPr/>
        </p:nvCxnSpPr>
        <p:spPr>
          <a:xfrm>
            <a:off x="6732720" y="4797000"/>
            <a:ext cx="1296000" cy="648360"/>
          </a:xfrm>
          <a:prstGeom prst="bentConnector3">
            <a:avLst>
              <a:gd name="adj1" fmla="val 49986"/>
            </a:avLst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ctividades Instrumentais da Vida Diária (AIVD)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68000" y="1413000"/>
            <a:ext cx="838188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ão actividades relacionadas à participação do idoso em seu entorno social e indicam sua independente na comunidade. São ela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Utilizar o telefon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Usar transport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Fazer compr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Usar seus remédi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uidar das próprias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finanç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D7CA-0E63-4E29-A5B5-580D9FE6E60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Picture 2" descr="http://t2.gstatic.com/images?q=tbn:ANd9GcQFBk18QMuWYSCu5gNrquLZdFWNCqbzbJGq33bO0wrsyL1lsbKT"/>
          <p:cNvPicPr/>
          <p:nvPr/>
        </p:nvPicPr>
        <p:blipFill>
          <a:blip r:embed="rId1"/>
          <a:stretch/>
        </p:blipFill>
        <p:spPr>
          <a:xfrm>
            <a:off x="4788000" y="3213000"/>
            <a:ext cx="40035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dades Instrumentais da Vida Diária (AIVD)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95280" y="1341360"/>
            <a:ext cx="4248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ntinuação AIVD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reparar as refeiçõ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uidar da cas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Lavar e passa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Fazer reparos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oméstic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1CBA-2136-4C57-B731-94123B29A62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Imagem 5" descr="http://t2.gstatic.com/images?q=tbn:ANd9GcTpG4tKQZ2Jf57FrwLxLINXz9OjgJZADabHLPApdzBoJHJwqOq5"/>
          <p:cNvPicPr/>
          <p:nvPr/>
        </p:nvPicPr>
        <p:blipFill>
          <a:blip r:embed="rId1"/>
          <a:stretch/>
        </p:blipFill>
        <p:spPr>
          <a:xfrm>
            <a:off x="4427640" y="1628640"/>
            <a:ext cx="45370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608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trevis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68000" y="1052280"/>
            <a:ext cx="8505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desempenho físico e social do idoso depende da integridade das funções cognitivas. A perda de memória recente e a habilidade de cálculo são indicadores sensíveis de redução dessas funçõ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avaliação da perda de memória recente é a mais adequada, dado que a escolaridade pode influenciar na avaliação da habilidade de cálcul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ugere-se uma primeira avaliação com o teste rápido - solicitar à pessoa idosa que repita o nome dos objetos: Mesa, Maçã e Dinheiro. Após 3 minutos, pedir que repita. Se for incapaz há necessidade de uma maior investiga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8CBE-8BF6-4BF5-BEFA-239BB3A457A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trevis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8000" y="980640"/>
            <a:ext cx="84963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investigação quanto a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instabilidade postural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ve abranger além das condições físicas do idoso (equilíbrio, força motora), o ambiente residencial, que pode aumentar o risco de qued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qui a visita domiciliária torna-se imprescindíve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scadas, ausência de diferenciação de degraus e de corrimãos, iluminação inadequada, tapetes soltos, obstáculos (fios eléctricos, pisos mal conservados) no local de circulação, são alguns dos riscos comuns observad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Na visita domiciliária, o enfermeiro poderá identificar todos esses riscos e ajudar a família a modificar o ambiente para que se torne seguro ao idos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094F-ACC0-443E-A82A-510E3E1D1EC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trevis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alterações na </a:t>
            </a: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mobilidade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podem ocorrer por disfunções motoras,</a:t>
            </a: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 sensopercepção, equilíbrio ou défice cognitiv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dinâmica do aparelho locomotor sofre redução na amplitude dos movimentos, tendendo a modificar a marcha, passos mais curtos e mais lentos com tendência a arrastar os pé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amplitude de movimentos dos braços também diminui, tendendo a ficar mais próxima do corp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base de sustentação se amplia e o centro de gravidade corporal tende a se adiantar, em bus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 maior equilíbri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D0EE-CB34-48E7-A764-DBA14A9DC3C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8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trevis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Investigar presença de </a:t>
            </a:r>
            <a:r>
              <a:rPr b="1" lang="pt-BR" sz="2400" spc="-1" strike="noStrike">
                <a:solidFill>
                  <a:srgbClr val="3c3c77"/>
                </a:solidFill>
                <a:latin typeface="Verdana"/>
              </a:rPr>
              <a:t>incontinência urinária 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pois cerca de 30% dos idosos não institucionalizados costumam 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presentá-la e nem sempre a referem na avaliação clínica ou por vergonha ou por acharem ser isso normal no processo de envelheciment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freqüência e a importância do evento estão associadas às repercussões emocionais e socia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uitas das causas são reversíveis - delírio, restrição de mobilidade, retenção urinária, infecção e efeito medicamentoso - e devem ser investigad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18FF-71A7-4175-8B8D-F4A363992D1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trevista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94920" y="981000"/>
            <a:ext cx="8526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</a:t>
            </a: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incapacidade comunicativa 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de estar associada a fatores pessoais do idoso e a fatores familiares e ambientais (hospitalar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ais fatores devem ser investigados, pois a comunicação é fundamental ao bem estar do idos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13160" indent="-27432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atores pessoais: Dificuldade auditiva e visual, desconforto bucal ou constrangimentos relacionados a falta de dentes ou próteses má adaptadas, humor reprimid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13160" indent="-27432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atores familiares: conflitos, desatenção, o idoso é tomado como obstáculo à dinâmica familia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13160" indent="-27432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mbientais: barulho de equipamento hospitalar, falta de tempo ou desinteresse da equipe de saúde, uso de linguagem difícil pela equip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56A0-0C8D-4784-92FD-0D2AA0E48A7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8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trevis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9640" y="980640"/>
            <a:ext cx="83822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c3c77"/>
                </a:solidFill>
                <a:latin typeface="Verdana"/>
              </a:rPr>
              <a:t>Iatrogenias</a:t>
            </a: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 poderão ser evitadas com a capacitação profissional para lidar com o idoso. Contudo, uma pergunta ao idoso poderá amenizar as iatrogenias medicamentosa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Pergunte sobre os medicamentos em uso pelo idoso, tanto os prescritos quanto os adquiridos por si própri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Solicite que, quando for à próxima consulta, o idoso traga os medicamentos que utiliz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Com essa medida é possível detectar automedicação, uso de posologia incorreta e uso de mais de um medicamento para o mesmo objetivo, às vezes prescrito por profissionais diferen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457E-5246-4F9D-ACC1-39E10FEA08C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63280" y="1412640"/>
            <a:ext cx="7201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Identificar aspectos a serem levantados durante a entrevista do idos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Compreender a entrevista como parte da identificação de necessidades (primeira etapa do processo de enfermagem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Descrever peculiaridades da entrevista ao idos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BF8D-293E-490A-9839-A799BF48DDB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395280" y="2852640"/>
            <a:ext cx="187308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trevista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</a:t>
            </a: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Insuficiência familiar 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derá ser detectada por meio de perguntas sobre a dinâmica familiar: com quem mora, como é a relação entre os membros da família, identificação da figura do cuidado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condições gerais do idoso também traz um pouco do que são os cuidados familiares: condições de higiene do idoso (cabelo, unhas, roupas); estado de humo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linguagem não-verbal do idoso é importante nesse sentido, pois quando a dinâmica familiar não está bem, o idoso tende a chorar com facilidade, mas também pode esconder a realidade temendo maus trat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9BBB-4896-46E7-A5FE-36419AAA0D6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79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Entrevista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 relação à alimentação do idoso, é importante que o enfermeiro pergunte a respeito d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erda da autonomia para preparar os alimentos e para alimentar-s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erda parcial ou total da visão que dificulte a seleção, preparo e consumo dos aliment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erda 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a autonomia financeira para comprar os aliment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iminuição do apetite, da sensação de sede e da percepção da temperatura dos aliment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253E-E016-40C6-B291-C9B041C6487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8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trevis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tinuaç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erda ou redução da capacidade olfativa, interferindo no seu apeti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lgum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otivo que o faça restringir determinados tipos de alimentos, como dietas para perda de peso, diabetes, 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ipertensão, hipercolesterolem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lterações de peso recent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ificuldade de mastigação por lesão oral, uso de prótese dentária ou problemas digestiv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1398-B90B-4702-B749-44DC4F3F349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8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trevis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Devido a redução fisiológica da acuidade visual do idoso e o uso de lentes corretivas para enxergar adequadamente, pergunte sobre dificuldade para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Realização de atividade da vida diária 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(identifique risco para queimaduras e outros acidentes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air de casa e realizar alguma actividade de lazer, visitar parentes, ir ao mercad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Ler, assistir televisão, dirigir ou executar qualquer tarefa que lhe traga motiva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F412-87E6-4C64-BDBC-8E3602DD69E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8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trevis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6840" y="1268280"/>
            <a:ext cx="83818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tudos mostram que 74% dos homens e 56% das mulheres casadas mantêm vida sexual ativa após os 60 an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identificação de disfunção nessa área pode ser indicativa de problemas psicológicos, fisiológicos ou amb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uitas das alterações sexuais que ocorrem com o avançar da idade podem ser resolvidas com orientaçã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lguns problemas podem afetar o desempenho sexual: fadiga, artrites, diabetes, hipertensão e medo de infarto, efeitos colaterais de fármacos e uso de álcoo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D539-E486-4A6A-B675-DDFE46716E7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8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trevist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bora a freqüência e a intensidade da atividade sexual possam mudar ao longo da vida, redução na capacidade de desfrutar prazer nas relações sexuais não devem ser considerados como parte normal do envelheciment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vem fazer parte da avaliação sistemática das pessoas idosas sexualmente ativas a investigação de DST/Sid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mulheres após a menopausa, principalmente, após os 60 anos, normalmente apresentam  desconforto nas relações sexuais com penetração vaginal, devido ao hipoestrogenismo e hipotrofia dos tecidos genita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76D9-CD74-4476-9272-6C62E4D7C85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valiação funcion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68000" y="2421000"/>
            <a:ext cx="838188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avaliação funcional busca verificar, de forma sistematizada, em que nível as doenças ou agravos impedem o desempenho, de forma autônoma e independente, das AVD das pessoas idosas, permitindo o desenvolvimento de um planejamento assistencial mais adequad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FA10-43D5-4D0D-8F19-8A578146577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valiação funcion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8000" y="14842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No grupo de pessoas idosas, os "mais idosos, muito idosos ou idosos em velhice avançada" (idade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80 anos), também vêm aumentando proporcionalmente e de forma muito mais acelerada, constituindo o segmento populacional que mais cresce nos últimos tempos - 12,8% da população idosa e 1,1% da população tot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É nesse contexto que a “avaliação funcional” torna-se essencial ao estabelecimento de diagnósticos adequados, que servirão de base para decisões sobre tratamentos e cuidad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D495-E3CA-4C3E-9C50-0CE1DC13489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valiação funcion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8000" y="105264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avaliação funcional determinará o comprometimento funcional do idoso e sua necessidade de auxili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uma tentativa sistematizada de avaliar de forma objetiva os níveis no qual uma pessoa está funcionando numa variedade de áreas utilizando diferentes habilidad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uma maneira de medir se uma pessoa é ou não capaz de desempenhar as actividades de autocuidado. Caso não seja capaz, verificar se essa necessidade de ajuda é parcial, em maior ou menor grau, ou tot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Usualmente, utiliza-se a avaliação no desempenho das atividades de vida diár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342C-A237-4279-B8FD-0431C4623D0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dades complementares no LH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68000" y="2204640"/>
            <a:ext cx="8381880" cy="19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valiação das Actividades de Vida Diária (AVD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valiação das Actividades Instrumentais da Vida Diária (AIVD); e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valiação funcion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65D6-2927-4495-87F8-C430BB764D0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dentificação de necessidades d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A identificação de necessidades do idoso constitui a primeira etapa do processo de enfermagem, em que são geradas as informações para a determinação dos diagnósticos de enfermagem (segunda etapa do processo de enfermagem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4EAC-97E6-4F62-8515-65C63C06A2F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2" descr="http://t1.gstatic.com/images?q=tbn:ANd9GcSOeLIVk1vkjuHyy2MSvgKVNAurLc4rYpjpmUi7333akGcCXRKY"/>
          <p:cNvPicPr/>
          <p:nvPr/>
        </p:nvPicPr>
        <p:blipFill>
          <a:blip r:embed="rId1"/>
          <a:stretch/>
        </p:blipFill>
        <p:spPr>
          <a:xfrm>
            <a:off x="5867280" y="3213000"/>
            <a:ext cx="2089440" cy="3116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ttp://www.alagoas24horas.com.br/legba/admin/temp/thumbs/%7Bd468x350%7D/%7Bh0%7D/b/f/%7Bbf0e01b9-5bab-4fb4-9726-2a728f84185c%7D_idosos%20acamados.jpg"/>
          <p:cNvPicPr/>
          <p:nvPr/>
        </p:nvPicPr>
        <p:blipFill>
          <a:blip r:embed="rId2"/>
          <a:stretch/>
        </p:blipFill>
        <p:spPr>
          <a:xfrm>
            <a:off x="1260360" y="3213000"/>
            <a:ext cx="416880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dentificação de necessidades d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628280"/>
            <a:ext cx="864072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ra a identificação de necessidades, o enfermeiro utiliza-se da entrevista/anamnese e do exame físico (este último será tratado na próxima aula)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processo de comunicação adequado é muito importante no decorrer da entrevista e do exame físico. Portanto, revejam o conteúdo sobre </a:t>
            </a: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comunicação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com o idoso 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ado em aula anterio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organograma que apresentamos a seguir ilustra todas as etapas do processo de enfermagem, porém nesta aula iremos focar na primeir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6101-3E5E-4B37-AED8-9520C4928A8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as do Processo de Enferm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7" name="Grupo 25"/>
          <p:cNvGrpSpPr/>
          <p:nvPr/>
        </p:nvGrpSpPr>
        <p:grpSpPr>
          <a:xfrm>
            <a:off x="152280" y="1295280"/>
            <a:ext cx="8991720" cy="4343400"/>
            <a:chOff x="152280" y="1295280"/>
            <a:chExt cx="8991720" cy="4343400"/>
          </a:xfrm>
        </p:grpSpPr>
        <p:sp>
          <p:nvSpPr>
            <p:cNvPr id="118" name="Oval 2"/>
            <p:cNvSpPr/>
            <p:nvPr/>
          </p:nvSpPr>
          <p:spPr>
            <a:xfrm>
              <a:off x="2514600" y="1295280"/>
              <a:ext cx="3962520" cy="19954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Oval 3"/>
            <p:cNvSpPr/>
            <p:nvPr/>
          </p:nvSpPr>
          <p:spPr>
            <a:xfrm>
              <a:off x="5486400" y="2691360"/>
              <a:ext cx="3505320" cy="201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Oval 5"/>
            <p:cNvSpPr/>
            <p:nvPr/>
          </p:nvSpPr>
          <p:spPr>
            <a:xfrm>
              <a:off x="3886200" y="4242600"/>
              <a:ext cx="3048120" cy="1396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Oval 6"/>
            <p:cNvSpPr/>
            <p:nvPr/>
          </p:nvSpPr>
          <p:spPr>
            <a:xfrm>
              <a:off x="152280" y="2768760"/>
              <a:ext cx="3328920" cy="138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Text Box 8"/>
            <p:cNvSpPr/>
            <p:nvPr/>
          </p:nvSpPr>
          <p:spPr>
            <a:xfrm>
              <a:off x="3276360" y="3352680"/>
              <a:ext cx="2209680" cy="7038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sso de Enfermagem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Text Box 9"/>
            <p:cNvSpPr/>
            <p:nvPr/>
          </p:nvSpPr>
          <p:spPr>
            <a:xfrm>
              <a:off x="3124080" y="1605240"/>
              <a:ext cx="31759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Verdana"/>
                </a:rPr>
                <a:t>1. Identificação de necessidades (Entrevista/ anamnese e Exame Físico)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Text Box 11"/>
            <p:cNvSpPr/>
            <p:nvPr/>
          </p:nvSpPr>
          <p:spPr>
            <a:xfrm>
              <a:off x="6194520" y="2924640"/>
              <a:ext cx="29494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Verdana"/>
                </a:rPr>
                <a:t>2. Definição do Diagnóstico de Enfermagem (uso da taxonomia da NANDA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Text Box 12"/>
            <p:cNvSpPr/>
            <p:nvPr/>
          </p:nvSpPr>
          <p:spPr>
            <a:xfrm>
              <a:off x="4356000" y="4581000"/>
              <a:ext cx="2286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3. Elaboração do plano de cuidado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Text Box 13"/>
            <p:cNvSpPr/>
            <p:nvPr/>
          </p:nvSpPr>
          <p:spPr>
            <a:xfrm>
              <a:off x="914040" y="3156840"/>
              <a:ext cx="2073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5. Avaliação do utent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Oval 5"/>
            <p:cNvSpPr/>
            <p:nvPr/>
          </p:nvSpPr>
          <p:spPr>
            <a:xfrm>
              <a:off x="380880" y="4165200"/>
              <a:ext cx="3505320" cy="135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4. Implementação do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lano de cuidado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8" name="Espaço Reservado para Número de Slide 1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DE0E-A5E1-4D52-93C2-34295EE72A5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Espaço Reservado para Rodapé 1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6000" y="228240"/>
            <a:ext cx="784872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dentificação de necessidades d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26F1-E9A6-4077-8170-7219963812D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o Explicativo 1 (Ênfase) 6"/>
          <p:cNvSpPr/>
          <p:nvPr/>
        </p:nvSpPr>
        <p:spPr>
          <a:xfrm>
            <a:off x="3124080" y="1413000"/>
            <a:ext cx="4800600" cy="1558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644" y="54501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9999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dentificação por meio de entrevista/anamne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13" descr="pc-man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3068640"/>
            <a:ext cx="368640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eculiaridades da entrevista a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quer mais tempo e paciência por parte do enfermeiro devido as limitações que o idoso poderá apresentar, com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ipoacusia (dificuldade auditiva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Baixa visã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éfice de memória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fusão mental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lteração de humo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alta de um bom informante (familiar ou acompanhante que conheça as necessidades do idoso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DF56-9000-4573-9DC2-987D6032D8D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dentificação de necessidades do idos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920" y="1412640"/>
            <a:ext cx="46814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vido as limitações que o idoso poderá apresentar e que acabamos de discutir, suas necessidades relatadas ficam quase sempre a desejar, uma vez que suas reais necessidades são bem ma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figura ao lado ilustra bem essa peculiaridade do levantamento de dados com o idos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2F6B-3677-4EE4-9C4D-7362C922540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3892680" cy="4032360"/>
          </a:xfrm>
          <a:prstGeom prst="rect">
            <a:avLst/>
          </a:prstGeom>
          <a:ln w="0">
            <a:noFill/>
          </a:ln>
        </p:spPr>
      </p:pic>
      <p:sp>
        <p:nvSpPr>
          <p:cNvPr id="144" name="CaixaDeTexto 6"/>
          <p:cNvSpPr/>
          <p:nvPr/>
        </p:nvSpPr>
        <p:spPr>
          <a:xfrm>
            <a:off x="5364000" y="155736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Verdana"/>
              </a:rPr>
              <a:t>Necessidades relatad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CaixaDeTexto 7"/>
          <p:cNvSpPr/>
          <p:nvPr/>
        </p:nvSpPr>
        <p:spPr>
          <a:xfrm>
            <a:off x="6516720" y="4653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Verdana"/>
              </a:rPr>
              <a:t>Não relatad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6T12:12:10Z</dcterms:created>
  <dc:creator>Escolastica</dc:creator>
  <dc:description/>
  <dc:language>en-US</dc:language>
  <cp:lastModifiedBy>Mendoza</cp:lastModifiedBy>
  <dcterms:modified xsi:type="dcterms:W3CDTF">2012-01-31T14:24:01Z</dcterms:modified>
  <cp:revision>152</cp:revision>
  <dc:subject/>
  <dc:title>Identificação das necessidades humana básicas do utente idoso.</dc:title>
</cp:coreProperties>
</file>