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9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4.jpeg" ContentType="image/jpeg"/>
  <Override PartName="/ppt/media/image1.wmf" ContentType="image/x-wmf"/>
  <Override PartName="/ppt/media/image28.jpeg" ContentType="image/jpeg"/>
  <Override PartName="/ppt/media/image15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6FBC-D844-4E0E-B517-3AA521A44D0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BBCD-091C-4458-9A3D-6978A2DD824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B979C-35B3-44F4-B7A8-2928E7D0B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ABA2-53DB-4369-96A9-8E84E05B2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2C269-C81D-41A9-8999-2A8835287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BE313-9B48-45FC-BA5A-FF670E97E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2277C-202D-40B1-8F92-6C5EB441A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332B-2E38-48DE-9AD0-931AE2496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9D38-54B1-4C07-BB3B-668C25FC6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B8CA-E8C5-49A1-8D9D-723B1FBAC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404EA-5978-44FD-91E4-E2E39A45C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7193D-E955-4B89-9EE8-C7253FD52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1205-0815-40B2-AD60-015AE16D8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4202-C8D1-40C5-B3EA-847FF3E1E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D1AF-1474-4601-8FE5-B725110C54DC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844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655344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uidados especiais a ter com idosos doentes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(Aula 1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4436640"/>
            <a:ext cx="75438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523880"/>
            <a:ext cx="83822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iminuir os fatores ambientais que levam ao ressecamento da pele, como a exposição ao frio, pois leva ao ressecamento e descamação. A pele deve ser hidratada com crem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vitar massagens nas proeminências ósseas. Acreditava-se que a massagem em regiões com hiperemia auxiliavam a melhorar o fluxo sanguíneo. As evidências atuais sugerem que massagem pode causar mais danos 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43A6-B62C-494B-87D8-C22C73DEAD2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15998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onitorar as condições predisponentes controláveis, com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abagism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snutrição ou obes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o de esteróid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ensão na feri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ível glicêmico em utentes diabéti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ível tensional em utentes hiperten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D5F4-1AC6-4CED-B3F7-3559A04652E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ando indivíduos aparentemente bem nutridos desenvolvem uma ingestão inadequada de proteínas ou calorias, os profissionais devem tentar descobrir os fatores que estão comprometendo a ingestão e então oferecer uma ajuda na alimentação. Às vezes outros suplementos nutricionais podem ser necessários. 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e a ingestão dietética continuar inadequada, intervenções nutricionais como alimentação parenteral ou enteral devem ser considera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ra indivíduos comprometidos nutricionalmente um plano de suplementação nutricional deve ser implement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BC27-CAC3-4BE3-AF6D-9F2A5DA6F4E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6840" y="12952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so de colchões para o alívio da press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2514600" y="624852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4FA1-35A8-4D68-B7CA-B3EE3F141F9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lchões indicados par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6320" y="-731880"/>
            <a:ext cx="1581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76320" y="-731880"/>
            <a:ext cx="1581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76320" y="-731880"/>
            <a:ext cx="1581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2" descr="http://www.fisiomed.com.br/images/product/938_g.jpg"/>
          <p:cNvPicPr/>
          <p:nvPr/>
        </p:nvPicPr>
        <p:blipFill>
          <a:blip r:embed="rId1"/>
          <a:stretch/>
        </p:blipFill>
        <p:spPr>
          <a:xfrm>
            <a:off x="5791320" y="17524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http://www.souzalins.com.br/images/colchao%20D%20agua.jpg"/>
          <p:cNvPicPr/>
          <p:nvPr/>
        </p:nvPicPr>
        <p:blipFill>
          <a:blip r:embed="rId2"/>
          <a:stretch/>
        </p:blipFill>
        <p:spPr>
          <a:xfrm>
            <a:off x="5257800" y="38862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6"/>
          <p:cNvSpPr/>
          <p:nvPr/>
        </p:nvSpPr>
        <p:spPr>
          <a:xfrm>
            <a:off x="76320" y="-738360"/>
            <a:ext cx="20574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18"/>
          <p:cNvSpPr/>
          <p:nvPr/>
        </p:nvSpPr>
        <p:spPr>
          <a:xfrm>
            <a:off x="0" y="-771480"/>
            <a:ext cx="20574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20" descr="http://www.lenilson.com.br/wp-content/uploads/2010/10/casca.jpg"/>
          <p:cNvPicPr/>
          <p:nvPr/>
        </p:nvPicPr>
        <p:blipFill>
          <a:blip r:embed="rId3"/>
          <a:stretch/>
        </p:blipFill>
        <p:spPr>
          <a:xfrm>
            <a:off x="380880" y="2057400"/>
            <a:ext cx="4470480" cy="3352680"/>
          </a:xfrm>
          <a:prstGeom prst="rect">
            <a:avLst/>
          </a:prstGeom>
          <a:ln w="0">
            <a:noFill/>
          </a:ln>
        </p:spPr>
      </p:pic>
      <p:sp>
        <p:nvSpPr>
          <p:cNvPr id="160" name="CaixaDeTexto 16"/>
          <p:cNvSpPr/>
          <p:nvPr/>
        </p:nvSpPr>
        <p:spPr>
          <a:xfrm>
            <a:off x="685800" y="5410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chão caixa de o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CaixaDeTexto 18"/>
          <p:cNvSpPr/>
          <p:nvPr/>
        </p:nvSpPr>
        <p:spPr>
          <a:xfrm>
            <a:off x="533412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lchão d’águ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CaixaDeTexto 19"/>
          <p:cNvSpPr/>
          <p:nvPr/>
        </p:nvSpPr>
        <p:spPr>
          <a:xfrm>
            <a:off x="556272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lchão inflá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11430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so de almofadas anti-úlceras por press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C846-FA5C-477B-8183-470C7775D39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2" descr="http://2.bp.blogspot.com/_HopVoRhiIBk/SoXx-AUq5cI/AAAAAAAAAL0/Z2_SGPUKFPs/s320/zz+almofadas+AE.jpg"/>
          <p:cNvPicPr/>
          <p:nvPr/>
        </p:nvPicPr>
        <p:blipFill>
          <a:blip r:embed="rId1"/>
          <a:stretch/>
        </p:blipFill>
        <p:spPr>
          <a:xfrm>
            <a:off x="1447920" y="1630440"/>
            <a:ext cx="6095880" cy="4686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rtefatos para prevenção de úlcera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6840" y="11426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Uso de protector para o calcanhar e cotovelos. Podem ser improvisados com luva de procedimento cheia de água ou uma almofada feita com algodão e compres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F7E4-A4CC-4226-B8F5-632673C64DD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2" descr="http://4.bp.blogspot.com/_HopVoRhiIBk/SoX0km0aGEI/AAAAAAAAAMM/7qws1Il7pKk/s320/zz+calcanheiras.bmp"/>
          <p:cNvPicPr/>
          <p:nvPr/>
        </p:nvPicPr>
        <p:blipFill>
          <a:blip r:embed="rId1"/>
          <a:stretch/>
        </p:blipFill>
        <p:spPr>
          <a:xfrm>
            <a:off x="762120" y="2895480"/>
            <a:ext cx="3446280" cy="3429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76320" y="-563400"/>
            <a:ext cx="1181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2" descr="http://www.fisiostore.com.br/images/product/SALV-09402_298.jpg"/>
          <p:cNvPicPr/>
          <p:nvPr/>
        </p:nvPicPr>
        <p:blipFill>
          <a:blip r:embed="rId2"/>
          <a:stretch/>
        </p:blipFill>
        <p:spPr>
          <a:xfrm>
            <a:off x="4896000" y="28195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6761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Todo serviço que admite utente com risco para formação de úlcera por pressão deve ter um programa de educação do utente, acompanhante e familiar  voltado para prevenção deste agrav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É bem mais fácil prevenir do que tratar a úlcera por press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Quando há o envolvimento de todos a prevenção é mais eficaz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05F6-D191-4A93-868D-3CB66DEDDBF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331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bservar diariamente a pele do utente para detectar possíveis áreas comprometidas (áreas de coloração esbranquiçada, manchas roxas ou bolhas) e comunicar ao enferm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dentificadas no início, o problema é resolvido eliminando-se a pressão exercida na pele provocada pelo peso do corpo ao nível da saliência óssea;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Hidratar a pele com creme hidratante: região glútea, face posterior das coxas, pés e artelhos.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vitar massagens nas áreas comprometidas ou com sinais iniciais de úlcera, pois vai causar mais danos que benefício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26C1-8BFF-4A5E-85F9-E7C1B109C07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1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protetores nas áreas de maior risco (proeminências óssea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joelhos devem ser mantidos afastados de contato direto um com o outr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calcanhares também devem ser protegidos com almofadas. Essas almofadas são necessárias não somente na fase preventiva como também no tratamento das escaras já existentes;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 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colchão anti-úlcera que apóiam o corpo de forma suave e uniforme, sem causar pressão excessiva nas áreas mais vulneráveis. 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4ECB-56C0-4275-BF08-69D95EB5085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ando deitado, o utente deve mudar de posição a, pelo menos, cada duas horas, sendo conveniente registar o horário para evitar esqueci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utores preconizam mudanças de decúbitos de 4 em 4 horas desde que o utente seja mantido em colchão anti-úlcera e haja observação cuidadosa da pele para identificar alterações precoc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Recomenda-se evitar o lado que esteja com áreas comprometidas, ou seja, se o utente tiver uma mancha roxa na região coxofemoral direita, não deve permanecer em decúbito lateral direito; </a:t>
            </a:r>
            <a:r>
              <a:rPr b="1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E650-1466-4E29-8B53-7AE11FD0502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Cuidados especiais a ter com idosos doent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341000"/>
            <a:ext cx="8308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uidados de enfermagem a ter nas seguintes patologi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Úlceras por press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lostom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oença de Alzheime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oença de Parkinson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AVC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ânce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iabetes mellitu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4CFB-D2FF-441F-9A6B-5598A9FFFEE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6840" y="1752480"/>
            <a:ext cx="838188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ando sentado em cadeira de rodas ou poltrona o utente deve usar almofadas para aliviar a press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anter o utente fora do leito sempre que possíve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anter a cama sempre limpa com os lençóis bem esticados, sem dobr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vitar cruzar os membros do utente para não obstruir o fluxo sanguíneo desses segmento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 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xercitar o utente, fazendo movimentos passivos nas articulações das mãos, braços, pés e pern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3C10-859B-43E7-BDED-07A6A8A2D0B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ão arrastar o utente na cama ou cadei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utente deve ingerir em torno de dois litros de líquidos por d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alimentação deve ser diversificada (colorida), cinco a seis vêzes ao d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e possível proporcionar banho de sol nas primeiras horas da manhã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mbater o cigarro, caso o utente fum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Lavar as mãos com água e sabão ou fricção com álcool glicerinado antes e depois de realizar qualquer cuidado com o utent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01D2-72D8-4610-BA24-2879385B439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utentes, acompanhantes e famili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33160" y="190476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m geral, o enfermeiro irá precisar de luvas de procedimento e másca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os casos em que o utente represente risco de contato com secreções, cabe ao enfermeiro o bom senso e adotar outros EPI como  óculos, avental de plástico e barre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ferecer EPI ao acompanhante ou familiar que participe do cuid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FDAF-C09E-42AC-981F-87EB2370F5B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PI necessários aos cuidados de  úlcera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gistos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odas as medidas de prevenção de úlceras por pressão realizadas devem ser registadas no processo do ut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ducação ou orientação do utente, acompanhante ou famili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nspeção de pele com enfoque nas proeminências ósseas e descrição da condição encontr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udança de decúbi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Higiene e hidratação da pel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plicação de almofadas de alív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ngestão hídrica diár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Redução do tabagismo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9B1E-4EE0-4120-9DB8-67DFA9ACD60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eitura em ca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635280" y="2637000"/>
            <a:ext cx="4176720" cy="10792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ão dos procedimentos básicos de enfermagem páginas 70 a 72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917F-A2BA-4045-B3AF-9142A19AF86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5" descr="j0296847"/>
          <p:cNvPicPr/>
          <p:nvPr/>
        </p:nvPicPr>
        <p:blipFill>
          <a:blip r:embed="rId1"/>
          <a:stretch/>
        </p:blipFill>
        <p:spPr>
          <a:xfrm>
            <a:off x="900000" y="1989000"/>
            <a:ext cx="2584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DOSO COM COLOSTOMIA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7D6D-F42F-4A0A-A138-B0E75A22A98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de Enfermagem ao idoso com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8000" y="1267920"/>
            <a:ext cx="838188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stoma é uma abertura cirúrgica no abdômen, por onde o conteúdo dos intestinos é expelido e coletado numa bolsa exter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lostomia expõe uma parte do intestino no abdômen que se comunica com o estoma que, por sua vez, dá passagem para a bolsa coletor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5B30-BE13-4DCF-AA7F-A7EEC5BE0E1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http://www.gastronet.com.br/images/nutricolon.jpg"/>
          <p:cNvPicPr/>
          <p:nvPr/>
        </p:nvPicPr>
        <p:blipFill>
          <a:blip r:embed="rId1"/>
          <a:stretch/>
        </p:blipFill>
        <p:spPr>
          <a:xfrm>
            <a:off x="2556000" y="3645000"/>
            <a:ext cx="4359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uração da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000" y="1557360"/>
            <a:ext cx="83818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lostomia pode ser permanente ou temporária e a consistência das fezes varia de acordo com a porção do intestino que foi exterioriz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as colostomias são identificadas pela porção do cólon que é trazida para fora do estom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EA30-A6DA-423F-B106-49450139D03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cendente: o estoma é feito na alça ascendente, no lado direito do abdômen. As fezes têm consistência semi-líqui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nsversa: o estoma é feito no intestino transverso, no lado esquerdo ou direito do abdômen. As fezes têm consistência pastos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cendente: o estoma é feito na alça descendente, no lado esquerdo do abdômen. As fezes têm consistência semi-sóli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igmóide: uma colostomia sigmóide envolve o cólon sigmóide. As fezes são firmes e sólidas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10E8-709C-4BE2-ACC5-C14A70F12FC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Realidade do utente colostomiza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a vez que o estoma não pode ser controlado voluntariamente, o paciente precisa de uma bolsa de coleta de fez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pois da cirurgia, um dos maiores problemas para os ostomizados é a adaptação à vida normal, pois o paciente terá que conviver com algumas situações nov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odor, os ruídos, as freqüentes idas a casa de banho e o tratamento da pele à volta do esto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integração social e profissio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frentamento de possíveis constrangimentos durante a atividade sexual.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CF14-4719-484C-871D-885E702AEE7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71280" y="2060640"/>
            <a:ext cx="7993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car cuidados de enfermagem a pessoas idosas com ú</a:t>
            </a: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lceras por pressão, colostomia, Doença de Alzheimer, Doença de Parkinson, AVC, câncer e diabetes mellitu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B3A6-9064-4969-8F3C-687F3CEE688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24000" y="2997360"/>
            <a:ext cx="120312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a a boa adaptaçã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uma boa adaptação física, mental, emocional, psicológica, social e profissional, é imprescindível que o utente esteja bem informado e conte com o apoio dos seus familiares e amigos e de profissionais de saúde especializ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es utentes devem participar de grupos e associações de pessoas vivendo com a colostomia, pois receberão apoio mútuo;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4593-D0BF-458D-9938-2B963F84809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mplicações precoces da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angramento: pode ocorrer nas primeiras horas após a confecção do estoma; originário de pequenas veias cutâneas do mesentério ou parede abdomi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dema: causado pela infiltração de líquido nos tecidos e mobilização da alça intesti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squemia: deficiência da circulação sanguínea do esto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tração: é a penetração, total ou parcial, da alça intestinal na cavidade abdomi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colamento muco cutâneo: é a ruptura da linha de sutura entre o estoma e a parede abdomi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B3D3-04E3-45C1-8408-68A32528511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mplicações tardias da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94920" y="1341360"/>
            <a:ext cx="83818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rmatite: é a irritação da pele causada pelo contato com o fluído intesti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enose: diminuição do orifício externo do esto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érnia: é a saída de vísceras abdominais pelo trajeto do estoma, formando um abaulamento em torno do estom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lapso: é a saída parcial ou total da alça intestinal pelo estom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D79C-60D4-4B5A-B1D8-7F4BFE5C6A9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CaixaDeTexto 5"/>
          <p:cNvSpPr/>
          <p:nvPr/>
        </p:nvSpPr>
        <p:spPr>
          <a:xfrm>
            <a:off x="684360" y="5084640"/>
            <a:ext cx="813564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qualquer sinal de complicação com a colostomia (precoce ou tardia) o enfermeiro deve registar no processo do utente e comunicar ao méd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ão ao utente com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16280"/>
            <a:ext cx="850752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carregar peso excessiv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praticar esportes que exijam muito esforç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o uso de cintos, fivelas ou de outros artigos que possam apertar ou comprimir o estom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alimentos que produzam gases ou odores fort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sumir legumes, frutas e beber muito líqui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stigar bem os ali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4D6A-9600-423C-AF53-BD10449AA20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 utente com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avar a pele ao redor do estoma delicadamente com sabonete líquido neutro, retirando bem o excesso. Pode ser feito no chuv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utilizar esponjas, pois poderá causar traumas e sangramentos, já que o estoma é insensível ao toqu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car com material macio (algodão, toalha), delicadam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elos devem ser aparados com tesoura. Não usar lâmina, pois pode contribuir para infec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3F38-BEA7-40C6-BD24-2B9300A65CE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rientações ao utente com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000" y="1125360"/>
            <a:ext cx="8381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bservar o estoma regularmente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stoma apresenta-se vermelho vivo, pois é bem vascularizado. Por isso é normal pequeno sangramento durante a higien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ele à sua volta deve estar húmida e lisa (pela presença do muco intestinal), insensível ao toque, sem ferida e coceir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DC44-3415-4F93-BEB5-F909C4DAE95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2" descr="http://t0.gstatic.com/images?q=tbn:ANd9GcQp2oQR6Ps_Zd0kQB44hsnj44jOnnuW_5KDaa7DWo73GqRYAVSY_g"/>
          <p:cNvPicPr/>
          <p:nvPr/>
        </p:nvPicPr>
        <p:blipFill>
          <a:blip r:embed="rId1"/>
          <a:stretch/>
        </p:blipFill>
        <p:spPr>
          <a:xfrm>
            <a:off x="3780000" y="4008600"/>
            <a:ext cx="2447640" cy="2417760"/>
          </a:xfrm>
          <a:prstGeom prst="rect">
            <a:avLst/>
          </a:prstGeom>
          <a:ln w="0">
            <a:noFill/>
          </a:ln>
        </p:spPr>
      </p:pic>
      <p:sp>
        <p:nvSpPr>
          <p:cNvPr id="262" name="CaixaDeTexto 6"/>
          <p:cNvSpPr/>
          <p:nvPr/>
        </p:nvSpPr>
        <p:spPr>
          <a:xfrm>
            <a:off x="6372360" y="450864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oma em excelente condi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Bolsas de colosto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142640"/>
            <a:ext cx="838188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ciente recebe informações sobre as bolsas para colostom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2E37-34FB-418A-A815-4C1BF587E79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4" descr="http://t1.gstatic.com/images?q=tbn:ANd9GcR2WtQsn6rQkzxjfqVLXbQWEw136-NHLoZqfZlik0SPshmKEXDK0w"/>
          <p:cNvPicPr/>
          <p:nvPr/>
        </p:nvPicPr>
        <p:blipFill>
          <a:blip r:embed="rId1"/>
          <a:stretch/>
        </p:blipFill>
        <p:spPr>
          <a:xfrm>
            <a:off x="1149480" y="2133720"/>
            <a:ext cx="6184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com a bolsa coletor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ixar bem o dispositivo ao estoma, impedindo que a fezes entrem em contato com a pele periestoma;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tanto, deixar no mínimo 2 cm de resina sintética entre o estoma e a flange para garantir uma vedação segu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svaziamento da bolsa deve ser realizado sempre que o conteúdo atingir em terço de sua capac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roca deverá ser efetuada quando ocorrer infiltração do conteúdo. Evitar trocas desnecessárias (geralmente o sistema de duas peças tem duração de até sete dias, e o sistema uma peça de três dias);</a:t>
            </a:r>
            <a:br>
              <a:rPr sz="2400"/>
            </a:br>
            <a:br>
              <a:rPr sz="2400"/>
            </a:b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5D9B-3557-448C-AE1D-6B5AB61ED9F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uidados com a bolsa coletor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8000" y="134136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gendar a troca para o horário em que o intestino estiver menos ativo, geralmente no início da manhã (antes do café da manhã), duas a quatro horas após as refeições e antes de dormi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tirar a placa com gaze ou compressa humedecida com água morna ou embaixo do chuveir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gurar a pele para evitas trauma na retirada na base ades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avar as mãos antes e após o proced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E4B5-22DA-42BF-8DB1-AD1268EEB1B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lostomia e o utente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3640" y="981000"/>
            <a:ext cx="8381880" cy="32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guns idosos poderão apresentar boas condições gerais para cuidar da colostomia. Aqueles com limitações visuais, táteis, cognitivas precisam de cuidador e este deve ser treinado pelo enferm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nfermeiro convoca um familiar ou cuidador para observar uma troca de bolsa coletora e oferece todas as informações que possam auxiliar no cuidado diário da colostom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21D7-13AB-45B0-8BF9-26AF90F4095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http://t3.gstatic.com/images?q=tbn:ANd9GcTGImwHQdG0CIOfTcsYmdLC0IRnkGcxGf97ZK-g9ALKwzigxTj8"/>
          <p:cNvPicPr/>
          <p:nvPr/>
        </p:nvPicPr>
        <p:blipFill>
          <a:blip r:embed="rId1"/>
          <a:stretch/>
        </p:blipFill>
        <p:spPr>
          <a:xfrm>
            <a:off x="2484360" y="4076640"/>
            <a:ext cx="3043440" cy="2279880"/>
          </a:xfrm>
          <a:prstGeom prst="rect">
            <a:avLst/>
          </a:prstGeom>
          <a:ln w="0">
            <a:noFill/>
          </a:ln>
        </p:spPr>
      </p:pic>
      <p:sp>
        <p:nvSpPr>
          <p:cNvPr id="281" name="CaixaDeTexto 6"/>
          <p:cNvSpPr/>
          <p:nvPr/>
        </p:nvSpPr>
        <p:spPr>
          <a:xfrm>
            <a:off x="5580000" y="472428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miliar realizando os cuidados na utente com colostom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3640" y="1915920"/>
            <a:ext cx="853740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pele deve ser limpa no momento que sujar para minimizar a exposição à humidade devido a incontinência urinária, fecal, perspiração ou drenagem de feri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ando essas fontes de humidade não podem ser controladas, usar fraldas descartáveis ou forros feitos de materiais que absorvam a humidade e que mantenham seca a superfície em contato com a pel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B791-2C8F-43DB-A9C2-6FAF173E36F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DOENÇA DE ALZHEIMER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8147-A575-4EC1-A119-C751FD6C071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uidados de Enfermagem ao idoso com Doença de Alzheime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objetivos do cuidado de enfermagem ao idoso com Doença de Alzheimer (DA) s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venir complicações advindas do comprometimento funcional e cognitivo d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iviar o sofrimento do utente e de sua família por meio de uma interação colaborativa, com reciprocidade, ausência de hierarquia, investigação sobre o conhecimento que a família tem sobre o manejo da doença e a identificação dos recursos internos e externos de que dispõe o cuidador/familiar, traçando um perfil de sua vulnerabilidade ao adoeci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2A7C-FEA5-40E1-9FE7-7F6E8D32C70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uidados de Enfermagem ao idoso com Doença de Alzheime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mover o aprendizado de familiares sobre aspectos básicos da doença para que lidem adequadamente com 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ribuir para prevenção do agravamento da intensidade da doe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parar cuidadores para lidar com utentes portadores da 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912D-DBEA-4B28-A08A-07A396E2C08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inicial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geral, o utente e familiar relatam desorientação temporal e espacial, perda de memória e das funções executivas, dificuldade de tomar decisões e planificar suas AVD. É importante orientar a família/idoso quanto à necessidade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estímulos para resgatar informações esquecidas, procurando estabelecer rotinas e atividades repetitivas, preservando a capacidade do utente e mantendo a independência pelo maior tempo possíve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60BF-E589-43DE-8355-41303602D34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inicial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39640" y="1628640"/>
            <a:ext cx="8382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valiar as atividades do utente que precisam ser restringidas ou modificadas, considerando o grau de risco que elas podem oferecer à manutenção da integridade física e psíquica do ut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artir desta avaliação, é possível planificar atividades diárias de acordo com as habilidades do indivíduo e de sua capacidade em eleger estratégias compensatóri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5021-7DBC-4DBB-92B3-5B45D9C92D9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inicial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isponibilizar relógios e calendários pelo ambiente doméstico e utilizar cadernetas de anotações são estratégias que estimulam a orientação temporal do utente e seu comprometimento da memória para fatos rec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40A3-CBD8-4CF3-8D1E-C720BEE6F6C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Picture 8" descr="http://t1.gstatic.com/images?q=tbn:ANd9GcSOQM5OhPiLgCRK0Hr4PKiFPCeYQD1AXyMGrBaXdRiVn-J-eksv"/>
          <p:cNvPicPr/>
          <p:nvPr/>
        </p:nvPicPr>
        <p:blipFill>
          <a:blip r:embed="rId1"/>
          <a:stretch/>
        </p:blipFill>
        <p:spPr>
          <a:xfrm>
            <a:off x="324000" y="3357720"/>
            <a:ext cx="3311280" cy="2735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http://t0.gstatic.com/images?q=tbn:ANd9GcRBBYsLPcKs09y96L246tyery71Xh3tezjDcUteB9p_X3W4mPh0"/>
          <p:cNvPicPr/>
          <p:nvPr/>
        </p:nvPicPr>
        <p:blipFill>
          <a:blip r:embed="rId2"/>
          <a:stretch/>
        </p:blipFill>
        <p:spPr>
          <a:xfrm>
            <a:off x="3419640" y="3645000"/>
            <a:ext cx="2143080" cy="2133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2" descr="http://t0.gstatic.com/images?q=tbn:ANd9GcT1ARwywOn1fygQ8WA1wMhv1Bftn3deD8wHYqHNzHFC8IH240tF"/>
          <p:cNvPicPr/>
          <p:nvPr/>
        </p:nvPicPr>
        <p:blipFill>
          <a:blip r:embed="rId3"/>
          <a:stretch/>
        </p:blipFill>
        <p:spPr>
          <a:xfrm>
            <a:off x="5724360" y="3284640"/>
            <a:ext cx="31356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moderada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racterizada pela crescente perda de memória, confusão, atenção reduzida e início de déficits motores, aumentando-se o risco para que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sim, é necessário que o enfermeiro direcione suas ações à organização de um ambiente seguro, orientando à família para retirar mobílias dos espaços de maior trânsito do utente, manter móveis e objetos sempre no mesmo lugar, evitar tapetes, escadas, proporcionar luminosidade constante aos ambientes e corredores da cas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9657-E20B-4A8A-B30A-909EE5C42FC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moderada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arras de apoio podem ser necessárias em alguns lugares como casa de banho, quartos e arredores das esca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sa fase, geralmente acentuam-se as alterações de humor e comportamento, nas quais o utente pode expressar idéias fixas que não são reais, podendo ver e ouvir coisas inexistentes e apresentar indiscrições sexu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importante que a família tenha conhecimento de que evitar conflitos com o utente diante de comportamentos estranhos ameniza sua intens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E217-0819-4963-BD68-0C090AD2BE5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moderada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2060280"/>
            <a:ext cx="83818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habilidade de julgamento do indivíduo está comprometida e, portanto, ainda que o cuidador/familiar tente convencê-lo a cerca da veracidade de uma dada situação, este não será capaz de apreendê-la, o que torna a discussão inútil e  estressante para amb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93A6-0690-4EE9-BDC3-5B98DE84563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didas de ambiente segu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1DE0-A36B-4D25-840F-56B8F15CEE5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10" descr="http://t0.gstatic.com/images?q=tbn:ANd9GcTKHor3ZD08uVsKuesiEQ26ClH8z0Jl_Eq3lTA9IWbNoYMTcYhw"/>
          <p:cNvPicPr/>
          <p:nvPr/>
        </p:nvPicPr>
        <p:blipFill>
          <a:blip r:embed="rId1"/>
          <a:stretch/>
        </p:blipFill>
        <p:spPr>
          <a:xfrm>
            <a:off x="6012000" y="1341360"/>
            <a:ext cx="2927160" cy="1739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http://t1.gstatic.com/images?q=tbn:ANd9GcTGIfrRFd7j8r2WWwDwErjhKyORLJjLpERQxIgh-_EpfXK0LB6haQ"/>
          <p:cNvPicPr/>
          <p:nvPr/>
        </p:nvPicPr>
        <p:blipFill>
          <a:blip r:embed="rId2"/>
          <a:stretch/>
        </p:blipFill>
        <p:spPr>
          <a:xfrm>
            <a:off x="4140360" y="1628640"/>
            <a:ext cx="1839600" cy="4104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http://t0.gstatic.com/images?q=tbn:ANd9GcQuZ6Bp1LFjv70RXw5sB2migrcaJx35kMyR1OgddycXLS_JY5R9"/>
          <p:cNvPicPr/>
          <p:nvPr/>
        </p:nvPicPr>
        <p:blipFill>
          <a:blip r:embed="rId3"/>
          <a:stretch/>
        </p:blipFill>
        <p:spPr>
          <a:xfrm>
            <a:off x="539640" y="2205000"/>
            <a:ext cx="3390840" cy="2160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http://t1.gstatic.com/images?q=tbn:ANd9GcSf3VOIvQGRk98GN01glLFPVr6v6E4mEz3K0MvUgi8qsSpfBGhLSg"/>
          <p:cNvPicPr/>
          <p:nvPr/>
        </p:nvPicPr>
        <p:blipFill>
          <a:blip r:embed="rId4"/>
          <a:stretch/>
        </p:blipFill>
        <p:spPr>
          <a:xfrm>
            <a:off x="6218280" y="4581360"/>
            <a:ext cx="2749680" cy="1122480"/>
          </a:xfrm>
          <a:prstGeom prst="rect">
            <a:avLst/>
          </a:prstGeom>
          <a:ln w="0">
            <a:noFill/>
          </a:ln>
        </p:spPr>
      </p:pic>
      <p:sp>
        <p:nvSpPr>
          <p:cNvPr id="328" name="CaixaDeTexto 9"/>
          <p:cNvSpPr/>
          <p:nvPr/>
        </p:nvSpPr>
        <p:spPr>
          <a:xfrm>
            <a:off x="6227640" y="3213000"/>
            <a:ext cx="27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mover tapetes soltos, fios e outros objetos espalhados na casa do ido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000" y="1916280"/>
            <a:ext cx="838188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gentes tópicos que agem como barreira para humidade como cremes, películas protetoras ou óleos também podem ser us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freqüência de limpeza da pele deve ser individualizada de acordo com a necessidade do ut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vitar friccionar a pele ou aplicar movimento brusco que venha a causar qualquer tipo de traum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EE50-87C9-4AB3-A9DC-30D21DF5256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didas de ambiente segu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8000" y="1125360"/>
            <a:ext cx="838188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acessibilidade é um direito do ido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3F9B-3D60-45ED-A8C6-9859B7C7067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2" descr="http://t1.gstatic.com/images?q=tbn:ANd9GcQ4Z7m8gYpUiI3e2kiR18GDe-fqJ0DmDC4Yv-0elf7Jm0ieNfc8"/>
          <p:cNvPicPr/>
          <p:nvPr/>
        </p:nvPicPr>
        <p:blipFill>
          <a:blip r:embed="rId1"/>
          <a:stretch/>
        </p:blipFill>
        <p:spPr>
          <a:xfrm>
            <a:off x="684360" y="1844640"/>
            <a:ext cx="2592360" cy="2674800"/>
          </a:xfrm>
          <a:prstGeom prst="rect">
            <a:avLst/>
          </a:prstGeom>
          <a:ln w="0">
            <a:noFill/>
          </a:ln>
        </p:spPr>
      </p:pic>
      <p:sp>
        <p:nvSpPr>
          <p:cNvPr id="334" name="CaixaDeTexto 6"/>
          <p:cNvSpPr/>
          <p:nvPr/>
        </p:nvSpPr>
        <p:spPr>
          <a:xfrm>
            <a:off x="395280" y="458136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lives com barras laterais de apo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4" descr="http://t1.gstatic.com/images?q=tbn:ANd9GcRztsY1EDr0mYUOND_jjZ92KRYlygROOs2Xh6DXerDGa5gjV5ow"/>
          <p:cNvPicPr/>
          <p:nvPr/>
        </p:nvPicPr>
        <p:blipFill>
          <a:blip r:embed="rId2"/>
          <a:stretch/>
        </p:blipFill>
        <p:spPr>
          <a:xfrm>
            <a:off x="3708360" y="1773360"/>
            <a:ext cx="2016000" cy="2800080"/>
          </a:xfrm>
          <a:prstGeom prst="rect">
            <a:avLst/>
          </a:prstGeom>
          <a:ln w="0">
            <a:noFill/>
          </a:ln>
        </p:spPr>
      </p:pic>
      <p:sp>
        <p:nvSpPr>
          <p:cNvPr id="336" name="CaixaDeTexto 8"/>
          <p:cNvSpPr/>
          <p:nvPr/>
        </p:nvSpPr>
        <p:spPr>
          <a:xfrm>
            <a:off x="3419640" y="422100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oios nas casas de banho e pisos antiderrapa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Picture 8" descr="http://t0.gstatic.com/images?q=tbn:ANd9GcTMqBJrVM-nk-qkRbnbmWka0YtL5BpYP2lNoxHgWe-OqhuLzRia"/>
          <p:cNvPicPr/>
          <p:nvPr/>
        </p:nvPicPr>
        <p:blipFill>
          <a:blip r:embed="rId3"/>
          <a:stretch/>
        </p:blipFill>
        <p:spPr>
          <a:xfrm>
            <a:off x="6372360" y="1773360"/>
            <a:ext cx="2447640" cy="2570040"/>
          </a:xfrm>
          <a:prstGeom prst="rect">
            <a:avLst/>
          </a:prstGeom>
          <a:ln w="0">
            <a:noFill/>
          </a:ln>
        </p:spPr>
      </p:pic>
      <p:sp>
        <p:nvSpPr>
          <p:cNvPr id="338" name="CaixaDeTexto 12"/>
          <p:cNvSpPr/>
          <p:nvPr/>
        </p:nvSpPr>
        <p:spPr>
          <a:xfrm>
            <a:off x="6372360" y="45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oios nas sani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moderada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23640" y="1341000"/>
            <a:ext cx="85150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amília precisa ser orientada quanto à possibilidade de intervenções farmacológicas e não-farmacológicas no controle das alterações de comportam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ficuldade em lidar com as oscilações de humor do utente contribui fortemente para o desenvolvimento da sobrecarga emocional do cuidador/familiar. Desta forma, é imprescindível que o enfermeiro esteja atento à identificação de sinais de sofrimento e exaustão física e psíquica no familiar responsável pelo cuidado.</a:t>
            </a:r>
            <a:br>
              <a:rPr sz="2000"/>
            </a:b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53EE-D452-4900-B4C9-EC7EA16635F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moderada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24000" y="1197000"/>
            <a:ext cx="8640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rvenções farmacológicas: compete ao enfermeiro administrar medicamentos; orientar o familiar/cuidador sobre o uso correto dos mesm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rvenções não-farmacológicas: compete ao enfermeir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alizar ou encaminhar o utente para actividade de estimulação sensorial (técnicas de relaxamento, massagem, música, dança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imular encontro do utente com pessoas significativas; companhia de animais de estim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cação de fatores que alteram o comportamento d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A49A-FC26-4C81-907F-EC35A7B2ABB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grave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000" y="1267920"/>
            <a:ext cx="8381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utente torna-se incapaz de reconhecer a si e a sua família e sua dependência é glob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resenta dificuldade em se expressar, entender o que acontece a sua volta, alimentar-se, caminhar até evoluir para imobilidade física completa e perda do controle esfincterian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necessária avaliação constante da condição física do utente, com atenção especial para sinais de desidratação e desnutrição, que comprometem sua competência imunológica e manutenção da integridade da pele, tornando-o vulnerável a infecções e lesões cutâneas potencializadas pela imobilidade fís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6735-79CA-4D06-9A7B-952CB48DA73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grave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uidador/familiar deve ser orientado quanto aos cuidados com a alimentação do utente, prevenção de complicações respiratórias, urinárias, e desenvolvimento de úlceras por press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gumas adaptações no espaço físico podem ser necessárias para facilitar o cuidado sem prejudicar a rotina habitual do familiar. Estas orientações e mudanças no meio devem ser oferecidas ao familiar responsável pelo cuidado e construídas com ele, considerando a disponibilidade real de seus recursos externos (físicos, humanos e financeiros) e internos (disposição física e emocional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EDCB-36B8-41A7-B8B4-652870BE374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– Fase grave da DA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ante do aumento da intensidade das demandas físicas para manter o cuidado do utente, o familiar pode se encontrar em uma situação de esgotamento, na qual seus recursos internos de enfrentamento estão comprometi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te momento, é imprescindível avaliação freqüente da condição física e emocional do cuidador/familiar, do estresse e da capacidade de adaptação à situação, com o objetivo de elaborar estratégias de suporte e apoio a sua condição física e emo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25AF-CAEE-45AE-84C2-03E58A5472B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6840" y="1295280"/>
            <a:ext cx="8381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anos causados pela fricção também podem ser reduzidos pelo uso de lubrificantes (como cremes e óleos), películas protetoras (como curativos transparentes e selantes para a pele ) e curativos protetores (como hidrocolóides extra-fino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C6EA-F9BE-43BF-8907-805708EAACC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2" descr="http://t2.gstatic.com/images?q=tbn:ANd9GcRY49AjP2cvklzwgYvglqWjtUVss-wppfAEU1AhasHJs9FLeiv01Q"/>
          <p:cNvPicPr/>
          <p:nvPr/>
        </p:nvPicPr>
        <p:blipFill>
          <a:blip r:embed="rId1"/>
          <a:stretch/>
        </p:blipFill>
        <p:spPr>
          <a:xfrm>
            <a:off x="457200" y="328608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CaixaDeTexto 7"/>
          <p:cNvSpPr/>
          <p:nvPr/>
        </p:nvSpPr>
        <p:spPr>
          <a:xfrm>
            <a:off x="457200" y="5410080"/>
            <a:ext cx="243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remes e óleos a base de Ácido Graxo Essencial (AG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http://t0.gstatic.com/images?q=tbn:ANd9GcRhVZqJKN8X396VusR3SML0_RwSr8-1hUFys4wXTRM5ayGyjeiP"/>
          <p:cNvPicPr/>
          <p:nvPr/>
        </p:nvPicPr>
        <p:blipFill>
          <a:blip r:embed="rId2"/>
          <a:stretch/>
        </p:blipFill>
        <p:spPr>
          <a:xfrm>
            <a:off x="3200400" y="34290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9"/>
          <p:cNvSpPr/>
          <p:nvPr/>
        </p:nvSpPr>
        <p:spPr>
          <a:xfrm>
            <a:off x="3276720" y="56386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lme transpar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CaixaDeTexto 10"/>
          <p:cNvSpPr/>
          <p:nvPr/>
        </p:nvSpPr>
        <p:spPr>
          <a:xfrm>
            <a:off x="6477120" y="5257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Hidrocoló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6" descr="http://www.lojadocurativo.com.br/produtos/foto1/pequena/797.jpg"/>
          <p:cNvPicPr/>
          <p:nvPr/>
        </p:nvPicPr>
        <p:blipFill>
          <a:blip r:embed="rId3"/>
          <a:stretch/>
        </p:blipFill>
        <p:spPr>
          <a:xfrm>
            <a:off x="6324480" y="3276720"/>
            <a:ext cx="19306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1426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Utente em uso de filme transparente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3BC9-3356-414C-B19B-CBA382E6BFB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" descr="http://www.proac.uff.br/esai2/sites/default/files/enfermagem_5.jpg"/>
          <p:cNvPicPr/>
          <p:nvPr/>
        </p:nvPicPr>
        <p:blipFill>
          <a:blip r:embed="rId1"/>
          <a:stretch/>
        </p:blipFill>
        <p:spPr>
          <a:xfrm>
            <a:off x="380880" y="2057400"/>
            <a:ext cx="3886200" cy="34448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4" descr="http://www.proac.uff.br/esai2/sites/default/files/enfermagem_6.jpg"/>
          <p:cNvPicPr/>
          <p:nvPr/>
        </p:nvPicPr>
        <p:blipFill>
          <a:blip r:embed="rId2"/>
          <a:stretch/>
        </p:blipFill>
        <p:spPr>
          <a:xfrm>
            <a:off x="4495680" y="2971800"/>
            <a:ext cx="4484880" cy="2895480"/>
          </a:xfrm>
          <a:prstGeom prst="rect">
            <a:avLst/>
          </a:prstGeom>
          <a:ln w="0">
            <a:noFill/>
          </a:ln>
        </p:spPr>
      </p:pic>
      <p:sp>
        <p:nvSpPr>
          <p:cNvPr id="126" name="Espaço Reservado para Conteúdo 2"/>
          <p:cNvSpPr/>
          <p:nvPr/>
        </p:nvSpPr>
        <p:spPr>
          <a:xfrm>
            <a:off x="4876920" y="220968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  <a:ea typeface="Arial"/>
              </a:rPr>
              <a:t>Utente em uso de hidrocoló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DF02-00C3-4110-8890-33979A6A7F6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dutos utilizados em úlceras por 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295280"/>
          <a:ext cx="8763120" cy="5353200"/>
        </p:xfrm>
        <a:graphic>
          <a:graphicData uri="http://schemas.openxmlformats.org/drawingml/2006/table">
            <a:tbl>
              <a:tblPr/>
              <a:tblGrid>
                <a:gridCol w="1407960"/>
                <a:gridCol w="2478240"/>
                <a:gridCol w="2666880"/>
                <a:gridCol w="2210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o de us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tem o leito da ferida húmido e acelera o processo de granulaçã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ões abertas não infectadas e profilaxia de úlceras por pres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licar utilizando uma compressa embebida. Trocar a cada 12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me transpa-r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tém o leito da ferida húmido e apresenta permeabilidade seletiv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bertura de incisões cirúrgicas; prevenção de úlceras por pressão e fixação de catéter vascul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erir sobre a área. Troca em média a cada sete dias ou quando suj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droco-ló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reira protetora, isolamento térmico, meio húmido, promove desbridamento autolítico, granulação e epiteliz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ridas limpas, prevenção de úlcera por pressão,</a:t>
                      </a:r>
                      <a:br>
                        <a:rPr sz="1800"/>
                      </a:b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imadura de segundo grau, suturas cirúrgicas e feridas cavitár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erir sobre a área. Troca com a saturação do produto em média no 5º ou 6º 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28600" y="121932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Lesões da pele devido a fricção e força de cisalhamento (arrastão) devem ser minimizadas através do posicionamento adequado para transferência e mudança de decúbito d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c3c77"/>
                </a:solidFill>
                <a:latin typeface="Verdana"/>
              </a:rPr>
              <a:t>Recomenda-se que os utentes não sejam "arrastados" durante a movimentação, mas que sejam "erguidos" utilizando-se o lençol móvel 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F1E6-FE92-4476-A336-B3A51DF49C6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2" descr="http://3.bp.blogspot.com/_ovvF2ZTWNI8/S6ZQk1U3khI/AAAAAAAAAN0/pFGwh9uZXsQ/s320/tracado+para+mudar+de+decubito.jpg"/>
          <p:cNvPicPr/>
          <p:nvPr/>
        </p:nvPicPr>
        <p:blipFill>
          <a:blip r:embed="rId1"/>
          <a:stretch/>
        </p:blipFill>
        <p:spPr>
          <a:xfrm>
            <a:off x="4842000" y="1828800"/>
            <a:ext cx="4157640" cy="3733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idados de Enfermagem na prevenção de úlcera por pressã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23:00:54Z</dcterms:created>
  <dc:creator>Escolastica</dc:creator>
  <dc:description/>
  <dc:language>en-US</dc:language>
  <cp:lastModifiedBy>Mendoza</cp:lastModifiedBy>
  <dcterms:modified xsi:type="dcterms:W3CDTF">2012-01-31T14:39:08Z</dcterms:modified>
  <cp:revision>104</cp:revision>
  <dc:subject/>
  <dc:title>Cuidados especiais a ter com idosos doentes</dc:title>
</cp:coreProperties>
</file>