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6.gif" ContentType="image/gif"/>
  <Override PartName="/ppt/media/image14.jpeg" ContentType="image/jpeg"/>
  <Override PartName="/ppt/media/image1.wmf" ContentType="image/x-wmf"/>
  <Override PartName="/ppt/media/image15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1AD09-CF45-4ABE-88E3-55B36503FA17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5E4EA-602F-43A5-8A82-2F775D62F11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A40DA-8F88-47B2-A454-7FF1E7BDFF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80970-06AC-4699-9954-E2855145F9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D676D-E53A-4892-BCF8-DB9522A359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2ADCF-AF6D-4DD4-83E3-51A5B9BE73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739CA-C8F6-4A92-8E65-AC47BBE6FB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BCD68-42DC-4E4E-AC83-367689BFFE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08994-38E0-4317-9F4D-BBA02FC3B2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50B8E-E44B-47DF-89A7-F368547AE6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4D0B1-47CA-4939-9724-F809F0197B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E9866-F218-439E-8668-26359BBDE2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CEE6D-C121-40B4-AE46-7FE386903F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AB741-03A6-4109-9E15-D6CA9C84B4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805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15F50-4617-4594-B390-1856787D86E7}" type="slidenum">
              <a:rPr b="0" lang="pt-PT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3"/>
          <p:cNvSpPr/>
          <p:nvPr/>
        </p:nvSpPr>
        <p:spPr>
          <a:xfrm>
            <a:off x="900000" y="213372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1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37"/>
          <p:cNvSpPr/>
          <p:nvPr/>
        </p:nvSpPr>
        <p:spPr>
          <a:xfrm>
            <a:off x="2971800" y="1676520"/>
            <a:ext cx="5029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ftr" idx="3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9999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Times New Roman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google.com.br/imgres?q=vacina&#231;&#227;o+com+idosos+negros&amp;hl=pt-BR&amp;rlz=1W1RNQN_pt-BRBR458&amp;biw=1024&amp;bih=302&amp;tbm=isch&amp;tbnid=ujHt8R0R-KOzcM:&amp;imgrefurl=http://blogdojuazeiro.blogspot.com/2010_05_01_archive.html&amp;docid=02-4pGU9gO6PGM&amp;imgurl=http://3.bp.blogspot.com/_65qQzMrwzhQ/S_mQlDIbTsI/AAAAAAAAHt4/zWM1FuEtFGI/s1600/21-maio-2010+(16).JPG&amp;w=640&amp;h=480&amp;ei=ARf6Tv7vBdPMtgeHrpjQBg&amp;zoom=1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oogle.com.br/imgres?q=idosos+mo&#231;ambicanos&amp;um=1&amp;hl=pt-BR&amp;rlz=1R2SNNT_pt-BRBR431&amp;biw=1093&amp;bih=400&amp;tbm=isch&amp;tbnid=Pp8hUBp_qEOs8M:&amp;imgrefurl=http://www.santegidio.org/index.php?pageID=3&amp;id=4271&amp;idLng=1066&amp;docid=0RRj7l8bSGukiM&amp;imgurl=http://www.santegidio.org/immagini/varie/20111110_kinsasha_01.JPG&amp;w=500&amp;h=310&amp;ei=EQ_-TubRL8m1twe_v6TRBg&amp;zoom=1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47640" y="2349000"/>
            <a:ext cx="6553440" cy="221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Enfermagem Geriátrica no Lar de Idos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899640" y="4724280"/>
            <a:ext cx="7704360" cy="136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Verdana"/>
              </a:rPr>
              <a:t>Módulo 11: Prática de Enfermagem IV -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Verdana"/>
              </a:rPr>
              <a:t>Enfermagem em Saúde Mental e Enfermagem Geriátrica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0" name="Espaço Reservado para Rodapé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15640" y="228240"/>
            <a:ext cx="77230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Papel do enfermeiro no atendimento ao idos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539640" y="1196640"/>
            <a:ext cx="835344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Varia de acordo com a condição geral de saúde-doença do idoso, bem como de suas limitaçõe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ssim, esse papel poderá ser melhor delimitado após a avaliação do idoso, em que o enfermeiro fará o diagnóstico do seu grau de dependência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ndependente: o idoso é capaz de realizar as AVD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arcialmente dependente: o idoso é capaz de realizar parte das AVD ou necessita de apoio em algumas dela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Totalmente dependente: o idoso é incapaz de realizar as AVD, estando completamente dependente dos cuidados de enfermagem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4C128-EA8D-4095-A09C-95D2ABE9425A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Papel do enfermeiro no atendimento ao idos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utro aspecto a ser considerado na definição do papel do enfermeiro no cuidado ao idoso é a diversidade da equipe de saúde que presta cuidado ao mesm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ão profissionais que podem estar inseridos no cuidado ao idoso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sicólogo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Terapeuta ocupacional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Fisioterapeuta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ssistente social e outros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Quanto mais multiprofissional for a equipa melhor se delimita o papel do enfermeir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1D468-8F38-400C-96B4-5170EFF611A3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Papel do enfermeiro no atendimento ao idos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6840" y="1700280"/>
            <a:ext cx="838188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realidade de Moçambique no cuidado ao idoso hospitalizado conta praticamente com enfermeiros, atendentes e copeiras, sendo as outras categorias profissionais apresentadas, ainda bastante escassa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Nesse contexto, o enfermeiro acaba tendo seu papel ampliado por atribuições que deveriam ser executas por profissionais  de outras formaçõe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50759-3181-4BBC-8724-96B241055880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Papel do enfermeiro no atendimento ao idos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6840" y="1484280"/>
            <a:ext cx="83818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papel do enfermeiro pode estar voltado para cuidados nos campos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ndividual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omunitário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mbulatorial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entros de saúde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omicílios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asas geriátricas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nstituições de longa permanência e hospitai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950B4-9DE8-470D-8DC1-4B9ACEF361B3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Papel</a:t>
            </a: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 do enfermeiro no atendimento ao idoso</a:t>
            </a: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24000" y="1268280"/>
            <a:ext cx="8640720" cy="49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Manter a equipa de enfermagem preparada para lidar com as peculiaridades e limitações do utente idoso, perceber a importância de envolver o familiar/cuidador na assistência; e respeitar o comportamento de cada idoso conforme seu estado de saúde-doenç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omandar a equipa de enfermagem nos cuidados de higiene, alimentação, hidratação, monitoramento das funções cognitivas, das eliminações, administração de medicamentos, prevenção de úlceras por pressão, mobilidade e comunicação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plicar a Sistematização da Assistência de Enfermagem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8182C-C5E8-4226-B58F-DEA044D9C83A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79616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Papel do enfermeiro no atendimento ao idos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6840" y="1341000"/>
            <a:ext cx="83818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bservar e promover modificações ambientais para prevenção de quedas no domicílio e na unidade de saúd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Realizar ações individualizadas e/ou em grupo voltadas à informação, auto-estima, terapia ocupacional e recreaçã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ferecer orientações posturais e estimular, com a ajuda do cuidador, treinos funcionais de marcha e equilíbri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stimular as funções preservadas e desenvolver mecanismos compensatórios para as funções alterada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E7A89-7A43-4B3A-A72C-4BE8A48F2137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1039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Papel do enfermeiro no atendimento ao idos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6840" y="1628280"/>
            <a:ext cx="838188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Identificar condições pessoais, familiares e do serviço que favoreçam ou dificultem o tratamento da pessoa idosa e corrigi-la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Encaminhar o idoso para as especialidades médicas, realização de exames, reabilitação e aquisição de medicamentos, quando necessári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Informar quanto a liberação de verbas para idosos, aquisição de benefícios de previdência e aposentadori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Realizar visita domiciliári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8FCBD-4003-488E-932B-94BEFB29D3D8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Papel do enfermeiro no atendimento ao idos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6840" y="1557000"/>
            <a:ext cx="838188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restar cuidados paliativos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ão cuidados que objetivam a melhoria da qualidade de vida do utente e de seus familiares diante de uma doença que ameaça a vida, com baixa perspectiva de cura, através da prevenção e alivio do sofrimento, tratamento da dor e de outros problemas físicos, psicológicos e espirituai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43C80-1975-4091-A167-C8BA6E5A22F8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Papel do enfermeiro em um lar de idos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6840" y="1341000"/>
            <a:ext cx="83818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O papel do enfermeiro em um Lar de Idosos vai depender do nível de complexidade do referido Lar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É um Lar apenas residencial, para idosos saudáveis?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É um Lar residencial, com sistema de enfermaria? Ou os idosos enfermos são encaminhados para algum hospital de apoio?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É um Lar Dia, em que os idosos passam o dia e retornam para a família à noite ou finais de semana?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É um Lar para idosos dependentes, acamados?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DBB46-11C1-4D79-B1B5-E520406A10F1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24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Papel do enfermeiro em um lar de idos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68000" y="1196640"/>
            <a:ext cx="838188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Portanto, a depender das características do Lar de idosos, o papel do enfermeiro terá enfoques variados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Mais preventiv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Mais curativo e de reabilitaçã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FEB08-53D6-4870-9721-D2E04886E55A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6" name="Imagem 5" descr="http://t1.gstatic.com/images?q=tbn:ANd9GcTqp90Z5g6mYnUZtHKOYQRGjuHq7DyqlSvFJWIGvuD9yKClMqZE9w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3640" y="3573360"/>
            <a:ext cx="3745080" cy="2592360"/>
          </a:xfrm>
          <a:prstGeom prst="rect">
            <a:avLst/>
          </a:prstGeom>
          <a:ln w="0">
            <a:noFill/>
          </a:ln>
        </p:spPr>
      </p:pic>
      <p:pic>
        <p:nvPicPr>
          <p:cNvPr id="167" name="rg_hi" descr="http://t2.gstatic.com/images?q=tbn:ANd9GcSk9TY9GR0DmfvkDkC5mVovG2rSe7YvdiV-1ocziQcpm2pFr8dh"/>
          <p:cNvPicPr/>
          <p:nvPr/>
        </p:nvPicPr>
        <p:blipFill>
          <a:blip r:embed="rId3"/>
          <a:stretch/>
        </p:blipFill>
        <p:spPr>
          <a:xfrm>
            <a:off x="395280" y="3357720"/>
            <a:ext cx="417672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15640" y="228600"/>
            <a:ext cx="77230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Verdana"/>
              </a:rPr>
              <a:t>Enfermagem Geriátrica no Lar de Idosos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8360" y="1916280"/>
            <a:ext cx="83088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Papel do enfermeiro no atendimento ao utente idos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Papel do enfermeiro em um lar de idoso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D15A4-0EA1-46B1-B843-337D8486D72E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Papel do enfermeiro em um lar de idos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9640" y="1413000"/>
            <a:ext cx="83822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Independente das características do Lar de idosos, o enfermeiro deve estar preparado para lidar com as causas que levaram o idoso ao Lar, sendo este o diferencial para o seu papel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bandono familiar (a família não visita o idoso; os laços familiares do idoso são conflituosos)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Zelo familiar (a família considera o Lar mais seguro para o idoso, visita-o regularmente, participa da vida do idoso, leva-o para o convívio familiar sempre que possível)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8E498-2A93-4416-AE24-DAA894E56FAF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Papel do enfermeiro em um lar de idos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6840" y="1268280"/>
            <a:ext cx="838188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ontinuação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doso que perdeu o contato com a família por demência, dado como desaparecido e outras situações similare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or decisão própri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97909-70E9-4D30-8444-C9BDA84BCC68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6" name="Imagem 5" descr="http://t2.gstatic.com/images?q=tbn:ANd9GcQL57ci4ArAWC3NJ_n7vEskKe8XCA079LRqpBbniab7m4-0raTyKg"/>
          <p:cNvPicPr/>
          <p:nvPr/>
        </p:nvPicPr>
        <p:blipFill>
          <a:blip r:embed="rId1"/>
          <a:stretch/>
        </p:blipFill>
        <p:spPr>
          <a:xfrm>
            <a:off x="4932360" y="2708280"/>
            <a:ext cx="3384720" cy="3384720"/>
          </a:xfrm>
          <a:prstGeom prst="rect">
            <a:avLst/>
          </a:prstGeom>
          <a:ln w="0">
            <a:noFill/>
          </a:ln>
        </p:spPr>
      </p:pic>
      <p:sp>
        <p:nvSpPr>
          <p:cNvPr id="177" name="CaixaDeTexto 6"/>
          <p:cNvSpPr/>
          <p:nvPr/>
        </p:nvSpPr>
        <p:spPr>
          <a:xfrm>
            <a:off x="2916360" y="486900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r de idos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omoção de hábitos saudáveis pelo idos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6840" y="1268280"/>
            <a:ext cx="838188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onheçam várias iniciativas que fazem a diferença. Esses idosos podem ser de atendimento ambulatorial ou de Lar de idosos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5EDDA-FD95-46AF-90DA-CB4EB32D61A8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Picture 2" descr="http://t3.gstatic.com/images?q=tbn:ANd9GcTuOhnFK_y46BVYSJZ8UWleM-hYYpKr9otJOFWr2nZmKTyJgVGb"/>
          <p:cNvPicPr/>
          <p:nvPr/>
        </p:nvPicPr>
        <p:blipFill>
          <a:blip r:embed="rId1"/>
          <a:stretch/>
        </p:blipFill>
        <p:spPr>
          <a:xfrm>
            <a:off x="684360" y="2565360"/>
            <a:ext cx="5698800" cy="3792600"/>
          </a:xfrm>
          <a:prstGeom prst="rect">
            <a:avLst/>
          </a:prstGeom>
          <a:ln w="0">
            <a:noFill/>
          </a:ln>
        </p:spPr>
      </p:pic>
      <p:sp>
        <p:nvSpPr>
          <p:cNvPr id="183" name="CaixaDeTexto 6"/>
          <p:cNvSpPr/>
          <p:nvPr/>
        </p:nvSpPr>
        <p:spPr>
          <a:xfrm>
            <a:off x="6516720" y="2997360"/>
            <a:ext cx="2448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fermeira acompanha idosos durante caminhad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omoção de hábitos saudáveis pelo idos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DDDEF-4C62-406E-8715-6372E7991DB3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7" name="Picture 2" descr="http://t1.gstatic.com/images?q=tbn:ANd9GcT-xRfOqJxyAOPpdYODSq2_bxzpDDwQ-K3Ei16fjCXxHP3sPCBT"/>
          <p:cNvPicPr/>
          <p:nvPr/>
        </p:nvPicPr>
        <p:blipFill>
          <a:blip r:embed="rId1"/>
          <a:stretch/>
        </p:blipFill>
        <p:spPr>
          <a:xfrm>
            <a:off x="395280" y="1341360"/>
            <a:ext cx="4903920" cy="3672000"/>
          </a:xfrm>
          <a:prstGeom prst="rect">
            <a:avLst/>
          </a:prstGeom>
          <a:ln w="0">
            <a:noFill/>
          </a:ln>
        </p:spPr>
      </p:pic>
      <p:sp>
        <p:nvSpPr>
          <p:cNvPr id="188" name="CaixaDeTexto 6"/>
          <p:cNvSpPr/>
          <p:nvPr/>
        </p:nvSpPr>
        <p:spPr>
          <a:xfrm>
            <a:off x="395280" y="5157720"/>
            <a:ext cx="8497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tividade de lazer em praças; Também se aproveita para dar informações sobre vida saudável e realizar procedimentos de enfermagem (aferição da TA, glicemia e outros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9" name="Picture 4" descr="http://t1.gstatic.com/images?q=tbn:ANd9GcT2_sDRPIx01CW_hHlSdDO2s1RQfiWT21wtTgpkD9Zfid_mLDGn"/>
          <p:cNvPicPr/>
          <p:nvPr/>
        </p:nvPicPr>
        <p:blipFill>
          <a:blip r:embed="rId2"/>
          <a:stretch/>
        </p:blipFill>
        <p:spPr>
          <a:xfrm>
            <a:off x="5508720" y="1341360"/>
            <a:ext cx="334332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omoção de hábitos saudáveis pelo idos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Espaço Reservado para Rodapé 2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Espaço Reservado para Número de Slide 3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2D6F5-E099-49DB-9A8F-943606D4E9A1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3" name="Picture 2" descr="http://t2.gstatic.com/images?q=tbn:ANd9GcSo36RC90ijGvh_xUjXJQdY7WeLGT_xXLIO58UxZ_6ch5Jy2QfX"/>
          <p:cNvPicPr/>
          <p:nvPr/>
        </p:nvPicPr>
        <p:blipFill>
          <a:blip r:embed="rId1"/>
          <a:stretch/>
        </p:blipFill>
        <p:spPr>
          <a:xfrm>
            <a:off x="468360" y="1268280"/>
            <a:ext cx="4778280" cy="3168720"/>
          </a:xfrm>
          <a:prstGeom prst="rect">
            <a:avLst/>
          </a:prstGeom>
          <a:ln w="0">
            <a:noFill/>
          </a:ln>
        </p:spPr>
      </p:pic>
      <p:sp>
        <p:nvSpPr>
          <p:cNvPr id="194" name="CaixaDeTexto 5"/>
          <p:cNvSpPr/>
          <p:nvPr/>
        </p:nvSpPr>
        <p:spPr>
          <a:xfrm>
            <a:off x="468360" y="4508640"/>
            <a:ext cx="47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tividade de lazer em teatro, cinem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5" name="Picture 4" descr="http://t1.gstatic.com/images?q=tbn:ANd9GcS03WWG5BOP7--tm4gG5uFkWTiOAlcBZSIPNzIiuVCt6BDYmFj1-w"/>
          <p:cNvPicPr/>
          <p:nvPr/>
        </p:nvPicPr>
        <p:blipFill>
          <a:blip r:embed="rId2"/>
          <a:stretch/>
        </p:blipFill>
        <p:spPr>
          <a:xfrm>
            <a:off x="5435640" y="1484280"/>
            <a:ext cx="3529080" cy="2600280"/>
          </a:xfrm>
          <a:prstGeom prst="rect">
            <a:avLst/>
          </a:prstGeom>
          <a:ln w="0">
            <a:noFill/>
          </a:ln>
        </p:spPr>
      </p:pic>
      <p:sp>
        <p:nvSpPr>
          <p:cNvPr id="196" name="CaixaDeTexto 7"/>
          <p:cNvSpPr/>
          <p:nvPr/>
        </p:nvSpPr>
        <p:spPr>
          <a:xfrm>
            <a:off x="6084720" y="4292640"/>
            <a:ext cx="244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osos em sessão cine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omoção de hábitos saudáveis pelo idos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Espaço Reservado para Rodapé 2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Espaço Reservado para Número de Slide 3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6786A-E138-4784-8AB5-98D20DB6953E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0" name="Picture 2" descr="http://2.bp.blogspot.com/-gDakMN5jXXs/To7-TBZmLWI/AAAAAAAAG9o/rBnkfWbuXmA/s1600/DSC_0132.JPG"/>
          <p:cNvPicPr/>
          <p:nvPr/>
        </p:nvPicPr>
        <p:blipFill>
          <a:blip r:embed="rId1"/>
          <a:stretch/>
        </p:blipFill>
        <p:spPr>
          <a:xfrm>
            <a:off x="395280" y="1484280"/>
            <a:ext cx="4554720" cy="3024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" descr="http://t1.gstatic.com/images?q=tbn:ANd9GcQOM3C1dhJ8zeKX1CqQb-i54_bzB9RZW6HQ34CzFqUgcYxowR7B"/>
          <p:cNvPicPr/>
          <p:nvPr/>
        </p:nvPicPr>
        <p:blipFill>
          <a:blip r:embed="rId2"/>
          <a:stretch/>
        </p:blipFill>
        <p:spPr>
          <a:xfrm>
            <a:off x="5003640" y="1557360"/>
            <a:ext cx="3937320" cy="2951280"/>
          </a:xfrm>
          <a:prstGeom prst="rect">
            <a:avLst/>
          </a:prstGeom>
          <a:ln w="0">
            <a:noFill/>
          </a:ln>
        </p:spPr>
      </p:pic>
      <p:sp>
        <p:nvSpPr>
          <p:cNvPr id="202" name="CaixaDeTexto 6"/>
          <p:cNvSpPr/>
          <p:nvPr/>
        </p:nvSpPr>
        <p:spPr>
          <a:xfrm>
            <a:off x="395280" y="4869000"/>
            <a:ext cx="849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elebração de datas comemorativas. Aproveita-se para estimular e informar sobre alimentação saudável e importância da hidrataçã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omoção de hábitos saudáveis pelo idos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Espaço Reservado para Rodapé 2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Espaço Reservado para Número de Slide 3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C4E86-38C7-4038-B304-6DFD74DB906F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Picture 2" descr="http://t1.gstatic.com/images?q=tbn:ANd9GcTQdNER_0OCeRFCjXixwp_Uh-r7YEjpKxsEFcwYkBBBRlep7SPW0g"/>
          <p:cNvPicPr/>
          <p:nvPr/>
        </p:nvPicPr>
        <p:blipFill>
          <a:blip r:embed="rId1"/>
          <a:stretch/>
        </p:blipFill>
        <p:spPr>
          <a:xfrm>
            <a:off x="468360" y="1484280"/>
            <a:ext cx="5859360" cy="3529080"/>
          </a:xfrm>
          <a:prstGeom prst="rect">
            <a:avLst/>
          </a:prstGeom>
          <a:ln w="0">
            <a:noFill/>
          </a:ln>
        </p:spPr>
      </p:pic>
      <p:sp>
        <p:nvSpPr>
          <p:cNvPr id="207" name="CaixaDeTexto 5"/>
          <p:cNvSpPr/>
          <p:nvPr/>
        </p:nvSpPr>
        <p:spPr>
          <a:xfrm>
            <a:off x="755640" y="5013360"/>
            <a:ext cx="540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osos em actividades recreativas , lúdicas (jogo com garrafas reciclávei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8" name="Picture 4" descr="http://t1.gstatic.com/images?q=tbn:ANd9GcTrwwv94jC4XlmeTTNhmuZIgJtRgtsYgPhu3fxnhpf3iYit9Sr2"/>
          <p:cNvPicPr/>
          <p:nvPr/>
        </p:nvPicPr>
        <p:blipFill>
          <a:blip r:embed="rId2"/>
          <a:stretch/>
        </p:blipFill>
        <p:spPr>
          <a:xfrm>
            <a:off x="6732720" y="1628640"/>
            <a:ext cx="1703160" cy="3529080"/>
          </a:xfrm>
          <a:prstGeom prst="rect">
            <a:avLst/>
          </a:prstGeom>
          <a:ln w="0">
            <a:noFill/>
          </a:ln>
        </p:spPr>
      </p:pic>
      <p:sp>
        <p:nvSpPr>
          <p:cNvPr id="209" name="CaixaDeTexto 7"/>
          <p:cNvSpPr/>
          <p:nvPr/>
        </p:nvSpPr>
        <p:spPr>
          <a:xfrm>
            <a:off x="6875640" y="5084640"/>
            <a:ext cx="165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nç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24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Papel do enfermeiro em um lar de idos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634920" y="2060640"/>
            <a:ext cx="3313080" cy="1008000"/>
          </a:xfrm>
          <a:prstGeom prst="rect">
            <a:avLst/>
          </a:prstGeom>
          <a:gradFill rotWithShape="0">
            <a:gsLst>
              <a:gs pos="0">
                <a:srgbClr val="a9a9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9393f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eitura dirigida: “O papel do enfermeiro num lar de idosos”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8035E-7303-4021-87FB-42EB1EF22F72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4" name="Picture 5" descr="j0296847"/>
          <p:cNvPicPr/>
          <p:nvPr/>
        </p:nvPicPr>
        <p:blipFill>
          <a:blip r:embed="rId1"/>
          <a:stretch/>
        </p:blipFill>
        <p:spPr>
          <a:xfrm>
            <a:off x="826920" y="1341360"/>
            <a:ext cx="2854440" cy="44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bjectivos de aprendizage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835280" y="1267920"/>
            <a:ext cx="69847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o final desta sessão os estudantes deverão ser capazes de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Descrever o papel do enfermeiro no atendimento ao idos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Explicar o papel do enfermeiro em um lar de idoso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70E48-2654-47DC-A6F0-8B9900ABF3A5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Picture 15" descr="http://www.estudiantes.info/images/estudiantes/maripo.gif"/>
          <p:cNvPicPr/>
          <p:nvPr/>
        </p:nvPicPr>
        <p:blipFill>
          <a:blip r:embed="rId1"/>
          <a:stretch/>
        </p:blipFill>
        <p:spPr>
          <a:xfrm>
            <a:off x="468360" y="2160720"/>
            <a:ext cx="1942920" cy="21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Papel do enfermeiro no atendimento ao idos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268280"/>
            <a:ext cx="838188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Os enfermeiros exercem um papel prioritário no apoio aos idosos, patológicos ou não, independentes ou não, com autonomia ou não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São profissionais determinantes no processo de reabilitação, promovendo uma assistência sistematizada de modo que as necessidades dos idosos sejam identificadas de maneira individualizad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Os enfermeiros põem seus conhecimentos teórico-práticos à disposição do processo de envelhecimento, devendo manter-se em formação contínu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F993A-8D14-4398-8141-64F8BD0F205E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15640" y="228240"/>
            <a:ext cx="77230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Papel do enfermeiro no atendimento ao idos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6840" y="1484280"/>
            <a:ext cx="83818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 equipe de enfermagem deve zelar para que o idoso consiga aumentar os hábitos saudáveis, diminuir e compensar as limitações inerentes a idade, confortar-se com a angustia e debilidade da velhice, incluindo o processo de morte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No entanto, observa-se em muitas instituições de idosos a ausência do enfermeiro, que apesar de comprovada como indispensável acaba sendo negada por gestores que argumentam a falta de recursos financeiro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AE8EE-93E5-4C68-8B08-F89A501093DB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15640" y="228240"/>
            <a:ext cx="77230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Papel do enfermeiro no atendimento ao idos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enfermeiro que deseja trabalhar exclusivamente com idosos pode realizar formação complementar em nível de especialização – Enfermagem Geriátric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especialização irá fornecer subsídios para uma atenção de qualidade ao idoso, direcionada para as particularidades desse grupo etário em seus diversos contextos de vida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Mesmo não tendo a intenção de trabalhar diretamente com idosos, existe a possibilidade de o enfermeiro cuidar destes utentes em unidades básicas de saúde, enfermarias, emergências e demais setores da saúde. Portanto, devem formar uma base na sua formação geral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BC6E1-39A5-4825-8803-EF6C981A95AF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86920" y="228240"/>
            <a:ext cx="765180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Papel do enfermeiro no atendimento ao idos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Em sua prática, o enfermeiro deve visar sempre a promoção da autonomia do idoso, possibilitando a este a execução das AVD e AIVD que tem condições de executar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C62F9-83DE-4440-95D5-032E34DBA6D1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rg_hi" descr="http://t1.gstatic.com/images?q=tbn:ANd9GcTpT7FZF1JI4hMtNfZGSsgkgyVHJJV_vVvn0HBoo23jrOrFro0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2781360"/>
            <a:ext cx="4597560" cy="3362400"/>
          </a:xfrm>
          <a:prstGeom prst="rect">
            <a:avLst/>
          </a:prstGeom>
          <a:ln w="0">
            <a:noFill/>
          </a:ln>
        </p:spPr>
      </p:pic>
      <p:sp>
        <p:nvSpPr>
          <p:cNvPr id="117" name="CaixaDeTexto 6"/>
          <p:cNvSpPr/>
          <p:nvPr/>
        </p:nvSpPr>
        <p:spPr>
          <a:xfrm>
            <a:off x="5724360" y="4005360"/>
            <a:ext cx="3095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dosos participam de actividades colaborativas com os trabalhadores de um Lar de idos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Papel do enfermeiro no atendimento ao idos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6840" y="1413000"/>
            <a:ext cx="838188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ndependente do quão pequena seja esta atividade, para o idoso é a garantia da permanência de uma relativa independênci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e o idoso tem condições de tomar banho de chuveiro, não hesite em não dar o banho no leito! Leve-o ao chuveiro, tomando os cuidados necessários para a sua segurança, e proporcione sua autonomia, independência e o menor constrangimento possível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EEC9A-AB29-48BE-BFB6-947E3D287298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Papel do enfermeiro no atendimento ao idos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39640" y="119700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o lidar com idosos, principalmente os portadores de demência, o enfermeiro nunca deve se esquecer de que está lidando com um idoso, não com uma crianç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Um idoso nestas condições pode ter algumas reações infantis, como chorar, demonstrar mais medo, gritar, ser ”respondão”, porém, ele não vira criança como muitos acreditam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eu corpo físico continua de adulto e em sua lucidez provavelmente não gostará de ser tratado como crianç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er carinhoso, mas não tratar o idoso como crianças, com palavras no diminutiv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51734-BB50-4A67-A9C8-9478666FADB5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2T01:01:51Z</dcterms:created>
  <dc:creator>Escolastica</dc:creator>
  <dc:description/>
  <dc:language>en-US</dc:language>
  <cp:lastModifiedBy>Mendoza</cp:lastModifiedBy>
  <dcterms:modified xsi:type="dcterms:W3CDTF">2012-01-31T14:42:54Z</dcterms:modified>
  <cp:revision>44</cp:revision>
  <dc:subject/>
  <dc:title>Cuidados especiais a ter com idosos doentes</dc:title>
</cp:coreProperties>
</file>