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0854-E639-45D4-AF73-A7017E58FBB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D530-F336-4B8E-8438-A228A5DC16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64E1-F36C-4A77-8BE2-2EAE9352B9C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7DFC-57BD-448F-808A-70FE6D931CB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4AF0-B447-4161-A478-AEFC364E61A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7DA5-8FF7-4343-BDD9-D10D832B3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92EC-97AA-474A-9F32-4FA012F6C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A65B-7462-4773-BCE9-67A2B2A40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0EA7-4AA5-422C-AE36-DDD132842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1682-139D-4CD1-8283-B5C32B082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4573-774E-4ABA-A581-3C18B4534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11D6-C743-4145-A4C4-756A5F7CD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210DF-511C-4F65-A681-39ADAD154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1E71-14E4-4DB7-9F09-911D22D9A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AA243-BC70-4EE4-899C-AF37924A0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96AE-DD27-4E2D-80F4-EF01284AE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A16D-52A6-478E-BD7B-660090CB2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5E1C-42D2-4660-BEFD-419AF5FB94F5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989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5530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laboração e implementação do plano de cuidados ao utente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280" y="4581000"/>
            <a:ext cx="7543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8"/>
          <p:cNvSpPr/>
          <p:nvPr/>
        </p:nvSpPr>
        <p:spPr>
          <a:xfrm>
            <a:off x="468360" y="1484280"/>
            <a:ext cx="8351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 enfermeiro deve decidir entre os diferentes tipos de problemas do utente com base nos seguintes parâmet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blemas que exigem atenção imediata (urgência e emergência) e aqueles que podem espera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blemas que são de sua responsabilidade e aqueles que precisa encaminha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blemas que irá lidar usando planos de cuidados padronizado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buClr>
                <a:srgbClr val="3c3c7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ítulo 10"/>
          <p:cNvSpPr/>
          <p:nvPr/>
        </p:nvSpPr>
        <p:spPr>
          <a:xfrm>
            <a:off x="1371600" y="228600"/>
            <a:ext cx="74674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onentes de um plano de cuida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riorização das necessidades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174A-15E4-49F8-B17C-F6D4AB2FB9E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nalidades do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000" y="1915920"/>
            <a:ext cx="838188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mover a comunicação entre os membros da equip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Direccionar o cuidado para as necessidades prioritárias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riar um registo capaz de ser usado para avaliação, pesquisa e defesa leg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porcionar documentação das necessidades de cuidado de saúde com finalidades de reembol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CB1D-CB41-4B9B-BC15-C20B49C18E5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ervençã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nceito: é todo cuidado, procedimento ou acção prescrita pelo enfermeiro baseado no julgamento e no conhecimento clínico realizado para melhorar os resultados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s intervenções de enfermagem são prescritas, em geral, de acordo com o saber individual de cada enfermeiro. Todavia com a </a:t>
            </a:r>
            <a:r>
              <a:rPr b="0" i="1" lang="pt-BR" sz="2400" spc="-1" strike="noStrike">
                <a:solidFill>
                  <a:srgbClr val="3c3c77"/>
                </a:solidFill>
                <a:latin typeface="Verdana"/>
              </a:rPr>
              <a:t>Nursing Intervention Classification (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NIC) esse comportamento caminha para mudanç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NIC reúne actualmente 514 intervenções na sua 4ª. edição (2008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998B-047D-4C7E-9220-AC446F916D6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portância da NIC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1052640"/>
            <a:ext cx="446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droniza e define a base dos conhecimentos para a prática de enferm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acilita a seleção adequada de uma interven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acilita a comunicação dos tratamentos de enfermagem  a outros enfermei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acilita a tomada de decisão clínica pelos enfermei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703B-D3EC-450D-BC88-8B38ACE14B5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Livro - Classificação das Intervenções de Enfermagem (NIC) - 4ª Edição"/>
          <p:cNvPicPr/>
          <p:nvPr/>
        </p:nvPicPr>
        <p:blipFill>
          <a:blip r:embed="rId1"/>
          <a:stretch/>
        </p:blipFill>
        <p:spPr>
          <a:xfrm>
            <a:off x="43815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7"/>
          <p:cNvSpPr/>
          <p:nvPr/>
        </p:nvSpPr>
        <p:spPr>
          <a:xfrm>
            <a:off x="395280" y="2060640"/>
            <a:ext cx="8352000" cy="1332000"/>
          </a:xfrm>
          <a:prstGeom prst="ellipse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47760" y="1593720"/>
            <a:ext cx="84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Resultados esperados ou desejados (NO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258920" y="227664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is resultados você espera do utente e em que praz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826920" y="39337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Problemas reais e de risco (possívei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179280" y="4365720"/>
            <a:ext cx="8713800" cy="1728720"/>
          </a:xfrm>
          <a:prstGeom prst="ellipse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900000" y="4653000"/>
            <a:ext cx="74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is os DE e os problemas reais e possíveis que precisam ser focalizados para assegurar um cuidado seguro e efic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nentes de um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Espaço Reservado para Número de Slide 8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89F0-0839-4B1B-8489-05CF132B780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Rodapé 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3"/>
          <p:cNvSpPr/>
          <p:nvPr/>
        </p:nvSpPr>
        <p:spPr>
          <a:xfrm>
            <a:off x="324000" y="14842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Intervenções específicas (NI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468360" y="2060640"/>
            <a:ext cx="8351640" cy="1584360"/>
          </a:xfrm>
          <a:prstGeom prst="ellipse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347760" y="2349360"/>
            <a:ext cx="87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que será feito para prevenir e controla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 problemas principais e para alcançar 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ados esperad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4000" y="407664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Avaliação/registos de evolu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250920" y="4653000"/>
            <a:ext cx="8569080" cy="1512720"/>
          </a:xfrm>
          <a:prstGeom prst="ellipse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1042920" y="5013360"/>
            <a:ext cx="75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ção dos resultados que comprovam que a pessoa está reagindo ao plano de cuida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ítulo 10"/>
          <p:cNvSpPr/>
          <p:nvPr/>
        </p:nvSpPr>
        <p:spPr>
          <a:xfrm>
            <a:off x="1371600" y="228600"/>
            <a:ext cx="74674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onentes de um plano de cuida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ítulo 10"/>
          <p:cNvSpPr/>
          <p:nvPr/>
        </p:nvSpPr>
        <p:spPr>
          <a:xfrm>
            <a:off x="1187280" y="189000"/>
            <a:ext cx="74678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onentes de um plano de cuida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nentes de um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Espaço Reservado para Número de Slide 10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20A8-2C8D-4394-9698-E548B0375DC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Espaço Reservado para Rodapé 1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000" y="2204640"/>
            <a:ext cx="8381880" cy="21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plano de cuidados deve ser escri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cuidados ou intervenções de enfermagem podem ser independentes e interdependentes (colaborativas com relação a outros profissionais da equipe de saúde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B959-6EB9-4D58-AF2C-A13DB06007B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7"/>
          <p:cNvSpPr/>
          <p:nvPr/>
        </p:nvSpPr>
        <p:spPr>
          <a:xfrm>
            <a:off x="324000" y="1700280"/>
            <a:ext cx="8496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ropósitos dos resultad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ão elementos de medida do plano de cuidados: mede-se o sucesso da plano determinando se os resultados esperados foram alcançados ou n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irecionam as intervenções: saber o que se está tentando alcançar antes de decidir como alcançá-l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lação entre plano de cuidados e resultados esperado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B6B3-E760-4CF0-B7C4-95F8947DAFB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324000" y="105264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nsiste na decisão do enfermeiro acerca das intervenções a serem implementadas, objetivando uma assistência individualizada e de qualid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ter como subsídio a evolução de enfermage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É feita em impresso próprio, dando seqüência à evolução de enfermage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É feita diariamente para todos os utentes, exclusivamente pelo enfermeir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em no máximo 24 horas de validade, devendo ser alterada sempre que necessário, precedida de uma  evoluç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ser datada e assinada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ituação especial: Consulta de enfermag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scriçã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D7C2-1173-46A4-838C-46C4C53ECB0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468360" y="1052640"/>
            <a:ext cx="835164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incluir verbos precisos de aç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definir: quem, o quê, onde, quando, como e com que freqüência ocorrer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abranger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ntroles de diurese, peso, secreções, drenos e sond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limentação (administração e aceitação da diet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Higiene (cuidados especiai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inais e sintomas (observação dos sinais e sintomas relativos ou não à doença, bem como comportamento, adaptação e outro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scriçã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6491-9A18-4C32-B415-89911AE2180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Elaboração e implementação do plano de cuidados ao utente idoso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280" y="2349360"/>
            <a:ext cx="8310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Definir plano de cuidados (intervenções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Elementos que constituem o plano de cuid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Como implementar um plano de cuidados ao utente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A35E-939F-471B-9B05-DEC8FA28478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468360" y="1808280"/>
            <a:ext cx="8424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e abranger (continuação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ratamentos (cuidados especiais com sondas, feridas, preparo para exame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rientações (exames, tratamentos, educação para o autocuidado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ssistência às necessidades psicossocioespirituai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ncaminhamento para outros profissionais quando necessá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scriçã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42FF-D9B7-42D5-8C4F-297A3FD9AC3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mplementação do plano de cuidado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rresponde à fase de execução do plano,  considerando custo e conveniênc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implementação, sempre que possível, deve respeitar os desejos do idoso e de sua família quanto a serviços e enfermei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acompanhamento do cuidado deve incluir, de forma organizada e coordenada, acções formais e informais por parte do enfermeiro – é um processo contínuo, de si e com relação a equipa de enfermag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E199-C421-4A69-87B6-B7D3F1F51A9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mplementação do plano de cuidado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acompanhamento do cuidado resulta na observação contínua da execução do plano de cuidados, estabelecido de forma a garantir as adequações necessárias e sua execução com alto padrão de qual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serviços prestados devem ser flexíveis e adaptáveis às mudanças observadas entre os utentes e suas famíl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F18A-F5B6-44E9-BF57-BE3199D1DAE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mplementação do plano de cuidado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valiação dos resultados obtidos deve ser periódica e deve propiciar a adequação da planificação inicialmente estabeleci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bora simples e exeqüível, tal cuidado exige o repensar do plano vigente adequando-o às novas demandas d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64AB-F8EA-4746-BC74-F9AC87ED424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35280" y="1557360"/>
            <a:ext cx="7014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ceituar plano de cuid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ceituar intervenção de enferm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itar os elementos que constituem um plano de cuid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hecer aspectos importantes do processo de implementação do plano de cuid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1D19-1796-4CBC-9FEC-51DEB795801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492280"/>
            <a:ext cx="18716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Uma vez identificadas as necessidades do idoso por meio da entrevista e do exame físico (primeira etapa do processo de enfermagem) e terem sido estabelecidos os Diagnósticos de Enfermagem, o enfermeiro passa a elaboração do Plano de cuidados (terceira etapa do processo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Porém, lembremos que essa separação é mais didática, pois na medida em que o enfermeiro coleta os dados do utente, seu raciocínio crítico já se inicia, culminando no DE e, consequentemente, nos principais cuidados relacionados ao me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B877-130C-4DC3-AE63-4B994CD2AE1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as do Process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upo 25"/>
          <p:cNvGrpSpPr/>
          <p:nvPr/>
        </p:nvGrpSpPr>
        <p:grpSpPr>
          <a:xfrm>
            <a:off x="152280" y="1295280"/>
            <a:ext cx="8991720" cy="4343400"/>
            <a:chOff x="152280" y="1295280"/>
            <a:chExt cx="8991720" cy="4343400"/>
          </a:xfrm>
        </p:grpSpPr>
        <p:sp>
          <p:nvSpPr>
            <p:cNvPr id="108" name="Oval 2"/>
            <p:cNvSpPr/>
            <p:nvPr/>
          </p:nvSpPr>
          <p:spPr>
            <a:xfrm>
              <a:off x="2514600" y="1295280"/>
              <a:ext cx="3962520" cy="19954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Oval 3"/>
            <p:cNvSpPr/>
            <p:nvPr/>
          </p:nvSpPr>
          <p:spPr>
            <a:xfrm>
              <a:off x="5486400" y="2691360"/>
              <a:ext cx="3505320" cy="2016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5"/>
            <p:cNvSpPr/>
            <p:nvPr/>
          </p:nvSpPr>
          <p:spPr>
            <a:xfrm>
              <a:off x="3886200" y="4242600"/>
              <a:ext cx="3048120" cy="1396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Oval 6"/>
            <p:cNvSpPr/>
            <p:nvPr/>
          </p:nvSpPr>
          <p:spPr>
            <a:xfrm>
              <a:off x="152280" y="2768760"/>
              <a:ext cx="3328920" cy="138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3276360" y="3352680"/>
              <a:ext cx="2209680" cy="703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sso de Enfermage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3124080" y="1605240"/>
              <a:ext cx="3175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1. Identificação de necessidades (Entrevista/ anamnese e Exame Físico)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6194520" y="2924640"/>
              <a:ext cx="2949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2. Definição do Diagnóstico de Enfermagem (uso da taxonomia da NANDA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4356000" y="4581000"/>
              <a:ext cx="2286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. Elaboração do 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914040" y="315684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. Avaliação do uten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Oval 5"/>
            <p:cNvSpPr/>
            <p:nvPr/>
          </p:nvSpPr>
          <p:spPr>
            <a:xfrm>
              <a:off x="380880" y="4165200"/>
              <a:ext cx="3505320" cy="13550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. Implementação do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8" name="Espaço Reservado para Número de Slide 1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2F6E-4671-4B03-AFD1-DD1B10ED866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Rodapé 1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2349360"/>
            <a:ext cx="8382240" cy="22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plano de cuidados corresponde ao conjunto de intervenções de enfermagem estabelecidas para atender as necessidades prioritárias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D2F2-680B-4F38-AD0C-31CCC41CBB7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laboração do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000" y="1628280"/>
            <a:ext cx="83818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plano é elaborado a partir da avaliação do utente, devendo estar voltado para o atendimento das necessidades identificadas, tendo por base os recursos potenciais do mesmo, de sua família e da comuni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elaboração do plano de cuidados promove a integração de diferentes áreas do sector saúde e serviços sociais, uma vez que as necessidades do utente pode estar inserida em diversos camp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E615-66A4-417D-93CA-42F61BB0E9A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laboração do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980640"/>
            <a:ext cx="85075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laboração do plano pode ser estruturada nas seguintes etap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stagem das necessidades do uten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lista geral de necessidades do utente passa por uma priorização pelo enfermeiro, que verifica com o idoso se o mesmo está de acordo. Modificações podem ocorrer nesse mo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abelecimento de meta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etas são estabelecidas para curto, médio e longo prazo. São metas mensuráveis a serem desenvolvidas pelo idoso, pelo cuidador/familiar ou pela equipe de enfermag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1CF1-597C-4747-8CA2-E1B2F4DB07E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laboração do plano de cuid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143000"/>
            <a:ext cx="838188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35480" indent="-3394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rganização dos cuidados a serem prestados: especificando tipo e quantidad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735480" indent="-33948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emplos: número de visitas domiciliares, número de trocas de pensos, número de lavagens de aspirações, número de esvaziamento do colector de urina,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8134-0DFA-4227-90F8-3F52113E273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tângulo 5"/>
          <p:cNvSpPr/>
          <p:nvPr/>
        </p:nvSpPr>
        <p:spPr>
          <a:xfrm>
            <a:off x="611280" y="4653000"/>
            <a:ext cx="820872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anificação do cuidado deve ser continuamente revisado, pois tende a se modificar conforme a evolução do quadro de saúde do utent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23:26:54Z</dcterms:created>
  <dc:creator>Escolastica</dc:creator>
  <dc:description/>
  <dc:language>en-US</dc:language>
  <cp:lastModifiedBy>Mendoza</cp:lastModifiedBy>
  <dcterms:modified xsi:type="dcterms:W3CDTF">2012-01-31T14:31:53Z</dcterms:modified>
  <cp:revision>28</cp:revision>
  <dc:subject/>
  <dc:title>Elaboração e implementação do plano de cuidados ao utente idoso</dc:title>
</cp:coreProperties>
</file>