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02F1-9F48-4467-8061-F4D03D9F81D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A5DE-C200-4864-BA46-B04A17ED77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D37B-A3A3-486B-AF41-2D241AE71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EFE5-61EA-4FC3-AADA-7A1193A67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9A5D-CC02-4920-B983-004A4DB3C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A238-29FA-4470-8990-E6A675D0D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E052-2FCB-46AB-9A33-47B004335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CE14-2205-45AD-BB29-405344314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B3F5-BB91-4285-A412-0417769E1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B5EB-11FD-4AB2-9604-D00D21395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7176-9B52-4C5C-A5B4-2BB3C65C1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B84C9-0758-4F12-9B6C-555B251A9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0EE6-91A3-43C9-A8EA-DABF48BBE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58CB-02FE-4C21-84B2-DD3FE562B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B76E-209F-4FF7-8231-175AD705E0C8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21337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idosos+negros&amp;hl=pt-BR&amp;rlz=1W1RNQN_pt-BRBR458&amp;biw=1024&amp;bih=302&amp;tbm=isch&amp;tbnid=J3vy37qCh7npnM:&amp;imgrefurl=http://noticias.r7.com/saude/noticias/cientistas-testam-remedio-contra-colesterol-para-prevenir-cancer-de-intestino-e-reto-20110323.html&amp;docid=YIYm64QmS-KIqM&amp;imgurl=http://i1.r7.com/data/files/2C92/94A4/28AA/3567/0128/B25C/1BEA/58BC/idoso-remedio-g-20100519.jpg&amp;w=450&amp;h=339&amp;ei=1xL6Tu6QLcLptgeOje3QBg&amp;zoom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5534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Sindromes Geriátricas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ula 2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4724280"/>
            <a:ext cx="747252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obi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3640" y="907920"/>
            <a:ext cx="856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conceito de imobilidade é variável, associando-se ao movimento ou deslocamento no espaço, possibilitando a independência do indivídu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r imobilidade entende-se qualquer limitação do movimento. Representa causa importante de comprometimento da qualidade de v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spectro de gravidade é variável e, quase sempre, progress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C258-1C94-4594-98AE-80BB58B16EB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2" descr="http://3.bp.blogspot.com/_a3HvZzMCzQw/TJZmetaU2sI/AAAAAAAAAPs/zTOoMhP2IsY/s1600/1.jpg"/>
          <p:cNvPicPr/>
          <p:nvPr/>
        </p:nvPicPr>
        <p:blipFill>
          <a:blip r:embed="rId1"/>
          <a:stretch/>
        </p:blipFill>
        <p:spPr>
          <a:xfrm>
            <a:off x="3203640" y="4037040"/>
            <a:ext cx="4176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obi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773360"/>
            <a:ext cx="83818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grau máximo de imobilidade, conhecido como síndrome de imobilização ou da imobilidade completa, o idoso é dependente complet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a défice cognitivo avançado, rigidez e contraturas generalizadas e múltiplas, afasia, disfagia, incontinência urinária e fecal, úlceras por press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necessita de cuidador em tempo integr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32A9-F1C5-41B2-ADA8-EFED870F5E2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obi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D481-D01E-4F82-B251-23C0F7A5D4C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Grupo 7"/>
          <p:cNvGrpSpPr/>
          <p:nvPr/>
        </p:nvGrpSpPr>
        <p:grpSpPr>
          <a:xfrm>
            <a:off x="395280" y="2133720"/>
            <a:ext cx="8424720" cy="3063600"/>
            <a:chOff x="395280" y="2133720"/>
            <a:chExt cx="8424720" cy="3063600"/>
          </a:xfrm>
        </p:grpSpPr>
        <p:pic>
          <p:nvPicPr>
            <p:cNvPr id="142" name="Picture 2" descr="http://blog.phelippdeavila.com/wp-content/uploads/2011/03/outdoor_cap.jpg"/>
            <p:cNvPicPr/>
            <p:nvPr/>
          </p:nvPicPr>
          <p:blipFill>
            <a:blip r:embed="rId1"/>
            <a:stretch/>
          </p:blipFill>
          <p:spPr>
            <a:xfrm>
              <a:off x="395280" y="2133720"/>
              <a:ext cx="8424720" cy="30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tângulo 6"/>
            <p:cNvSpPr/>
            <p:nvPr/>
          </p:nvSpPr>
          <p:spPr>
            <a:xfrm>
              <a:off x="1187280" y="2853360"/>
              <a:ext cx="6984720" cy="100872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200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A imobilidade pode associar-se a todas as síndromes geriátricas, inclusive a própria imobilidade agrava ainda mais o grau de imobilidade prévia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ontinência Urinár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413000"/>
            <a:ext cx="41148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blema mais comum de saúde da pessoa idosa é a incontinência urinár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smo a pessoa idosa sadia tende a urinar com mais freqüência e em maior grau de urg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B0D2-7E46-41DC-867C-90CBADA4A15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6" descr="\\Info02\administrador\Meus documentos\Minhas imagens\aparelhourinario.jpg"/>
          <p:cNvPicPr/>
          <p:nvPr/>
        </p:nvPicPr>
        <p:blipFill>
          <a:blip r:embed="rId1"/>
          <a:stretch/>
        </p:blipFill>
        <p:spPr>
          <a:xfrm>
            <a:off x="5148360" y="1197000"/>
            <a:ext cx="3628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continência Urinária (IU) é definida como a queixa de qualquer perda involuntária de ur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variar desde um escape ocasional até uma incapacidade total para segurar qualquer quantidade de ur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com IU não comparece à consulta por esse problema, nem dá essa informação de maneira voluntária. Isso se deve à vergonha sentida e à crença de ser esta condição uma conseqüência inevitável do envelhec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F71-559B-4C92-BF0A-9540900446E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000" y="907920"/>
            <a:ext cx="8381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eta a independência do indivíduo, comprometendo, indiretamente, a função mobil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com incontinência esfincteriana sofre limitação de sua participação social, em virtude da insegurança gerada pela perda do controle miccional, tendendo ao isol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9EE8-D586-40BD-BB64-2DCE80B6F1F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2" descr="http://t3.gstatic.com/images?q=tbn:ANd9GcTF3pcg9JzDc6FFjnSaIuDvesoLfRgm7GK3sI33QC3o6ZhcpwgZ5w"/>
          <p:cNvPicPr/>
          <p:nvPr/>
        </p:nvPicPr>
        <p:blipFill>
          <a:blip r:embed="rId1"/>
          <a:stretch/>
        </p:blipFill>
        <p:spPr>
          <a:xfrm>
            <a:off x="4859280" y="3716280"/>
            <a:ext cx="3673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estresse: caracterizada pela perda involuntária de urina sincrônica ao esforço, espirro ou tosse. Pode ser causada, em mulheres, pela fraqueza do assoalho pélvico e, em homens, após prostatectomia radical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urgência: caracterizada pela perda involuntária de urina, associada ou imediatamente precedida de urgência mic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, em geral, queixa associada de polaciúria e noctúria. Corresponde, frequentemente, à queixa de diminuição da complacência vesical ou de bexiga hipersensí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4083-EE0D-4E1B-88A5-5F0CCCB9754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ista: caracterizada pela perda involuntária de urina concomitante à urgência miccional e ao esforç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transbordamento (bexiga hiperativa, síndrome de urgência, síndrome de urgência-frequência): caracterizada pelo gotejamento e/ou perda contínua de urina associados ao esvaziamento vesical incompleto, devido à contração deficiente do músculo detrusor da bexiga e/ou obstrução na via de saída vesic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47E0-F8F2-4302-95F0-383B447BB53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namnese pode revelar situações que induzem perda de urina, como história obstétrica ou cirúrgica, doenças pregressas e uso de medic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xame físico deve ser geral, associado ao exame genital, incluindo ginecológico e prostático. Devem ser observadas as condições gerais do paciente, sua capacidade de locomoção e se existem condições clínicas que predispõem ou agravam a I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mulheres, deve ser avaliada a existência de prolapso, mobilidade do colo vesical, trofismo das mucosas e contração da musculatura do assoalho pélv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52DD-FFC4-429E-9C91-E5CF150CC54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ientações aos idosos com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duzir a ingestão hídrica notur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consumo de cafeína e bebidas alcoól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romper o tabagism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tar adequadamente quadros de obstipação intestinal crôn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o adequado de medicações prescritas, como diuréticos, beta-bloqueadores, antiespasmódicos, antidepressivos, anti-histamínicos e medicamentos para tosse/grip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BBAD-7AD1-451D-8314-6C0937925DA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Sindromes Geriátrica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341000"/>
            <a:ext cx="8308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Síndromes geriátricas: 7Is da Geriatr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gnit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abilidade postur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mob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ontinência esfincterian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apacidade comunicativ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uficiência famili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D593-27CE-4A31-A682-7CB5D734ECC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magem 5" descr="http://t2.gstatic.com/images?q=tbn:ANd9GcR9kJmpCw2g-X-h_sqsHvSlAfN09R8I5xA9LZgGj9czrBKiV1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781360"/>
            <a:ext cx="3384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opedêutica inicial requer a realização de exame de urina de rotina e urocultura, já que a infecção do trato urinário pode simular toda a sintomatolog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didas comportamentais têm sido utilizadas para o tratamento da IU por décadas e devem ser a sua primeira forma de tratamento específi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objetivo da abordagem não-farmacológica é melhorar o controle vesical do paciente mudando-lhe os hábitos urinários e ensinando-lhe técnicas para evitar a perda de uri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5538-9D50-4026-80CA-853E3B42492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étodos comportamentais incluem o treinamento vesical, os exercícios para fortalecimento da musculatura pélv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einamento vesical consiste na micção com hora marcada, com aumento de 15 a 30 minutos por semana, à medida que não haja a ocorrência de episódios de I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exercícios de fortalecimento da musculatura pélvica parecem ser efetivos no tratamento de mulheres com IU de estresse e mista. Os exercícios podem reduzir a IU e aumentar a pressão vagi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2F55-53A3-481F-B3E2-E98576584F2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farmacológico é baseado no mecanismo presumido da forma de apresentaçã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é o mais comumente usado na IU de estress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IU de urgência e mista, os medicamentos podem ser associados às medidas comportamen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drogas, em geral, não eliminam a hiperatividade detrusora, entretanto, melhoram a I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drogas anticolinérgicas são as mais prescritas apesar dos seus efeitos colater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7CED-2D7C-4B6A-8A1D-4F1480A48ED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irurgia é indicada para o tratamento da IU 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resse quando o tratamento conservador falh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ser tentada na IU de estresse ou por transbord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irurgia na IU por transbordamento está voltada para a correção da obstrução, como a causada pela hipertrofia prostát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irurgia oferece altas taxas de cura, apesar de ser invasiva e poder gerar complic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BF49-8B2A-46F9-A9AE-2B0CB5A7687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ferência de caso de IU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000" y="980640"/>
            <a:ext cx="8381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oso deverá ser encaminhado a um especialista (urologista ou geriatra), quando as medidas para tratar a incontinência urinária temporária fracassarem ou se a incontinência crônica não melhora com as medidas inic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EF39-9F64-4B2B-9455-77E544179FB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4" name="Grupo 7"/>
          <p:cNvGrpSpPr/>
          <p:nvPr/>
        </p:nvGrpSpPr>
        <p:grpSpPr>
          <a:xfrm>
            <a:off x="250920" y="2924280"/>
            <a:ext cx="8569080" cy="3352680"/>
            <a:chOff x="250920" y="2924280"/>
            <a:chExt cx="8569080" cy="3352680"/>
          </a:xfrm>
        </p:grpSpPr>
        <p:pic>
          <p:nvPicPr>
            <p:cNvPr id="195" name="Picture 2" descr="http://www.ataliba.eti.br/files/u1/outdoor4-10102007.jpg"/>
            <p:cNvPicPr/>
            <p:nvPr/>
          </p:nvPicPr>
          <p:blipFill>
            <a:blip r:embed="rId1"/>
            <a:stretch/>
          </p:blipFill>
          <p:spPr>
            <a:xfrm>
              <a:off x="250920" y="2924280"/>
              <a:ext cx="85690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tângulo 5"/>
            <p:cNvSpPr/>
            <p:nvPr/>
          </p:nvSpPr>
          <p:spPr>
            <a:xfrm rot="21403200">
              <a:off x="650160" y="3219840"/>
              <a:ext cx="7885800" cy="161856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398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A retenção aguda de urina é uma emergência real, que pode se manifestar como incontinência urinária, delirium ou défice funcional, ainda que sem presença de dor, e deve ser tratada por meio de sondagem vesical, encaminhando-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imediatamente ao serviço de emergência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apacidade comunicativ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municação é a atividade primordial do ser humano. A possibilidade de estabelecer relacionamento produtivo com o meio, trocar informações, manifestar desejos, idéias, sentimentos está intimamente relacionada à habilidade de se comunic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 partir dela que o indivíduo compreende e expressa seu mundo. Problemas de comunicação podem resultar em perda de independência e sentimento de desconexão com o mundo, sendo um dos mais frustrantes aspectos dos problemas causados pela idade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1F6C-0979-464D-9CE2-8A9AB293B64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capacidade comunicativ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capacidade comunicativa pode ser considera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mportante causa de perda ou restrição da participação social (funcionalidade), comprometendo a capacidade de execução das decisões tomadas, afetando diretamente a independência do indivídu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habilidades comunicativas compreendem quatro áreas distint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nguagem, audição, motricidade oral e voz (fal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são pode ser incluída como a quinta função comunicativa, atuando como função compensatória, na ausência das outras habilidades da comunicação oral-verb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A744-C634-4FB6-81EE-A8989137DF4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9640" y="1844640"/>
            <a:ext cx="83822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gnifica qualquer alteração patogênica provoca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la prática da equipe de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fundamental evitar iatrogenia em idosos devido à sua vulnerabilidade mais acentuada às reações adversas associadas às drogas, às intervenções não-medicamentosas, decorrentes da senescência, do risco de polipatogenia e de polifarmácia, além de incapac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C2B9-78DB-4723-833D-8D200848FBE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ulta da presença de uma ou mais das situaçõe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farmacogenia: decorrente do uso de medicamentos, de polifarmácia, da interação medicamentosa e do desconhecimento das alterações farmacocinéticas e farmacodinâmicas associadas ao envelhecimen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nação hospitalar: que pode potencializar os riscos decorrentes do declínio funcional, da subnutrição, da imobilidade, da úlcera de pressão e da infecção hospital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 da palavra: associada ao desconhecimento de técnicas de comunicação de más notíc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B29B-2ECC-45A2-AA67-25C576F643C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981000"/>
            <a:ext cx="8526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atrogenia do silêncio: que decorre da dificuldade de ouvir adequadamente o paciente e sua famíl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bdiagnóstico: pela tendência a atribuir todas as queixas apresentadas pelo idoso ao fenômeno “da idade”, o que pode resultar grave err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scata propedêutica: em que a solicitação de exames é feita de forma desnecessária, extensiva, sem indicação preci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stanásia: caracterizada pelo prolongamento artificial da vida sem perspectiva de reversão, com sofrimento para o paciente e sua famíl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A800-FC38-4D11-9B3C-C5DBD3AF113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280" y="155700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tar os domínios da saúde do ido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star as principais síndromes geriátricas (7I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hecer aspectos básicos das principais síndromes geriátric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tar os 4Ds da incapacidade cognit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D96E-3356-4168-A63C-B5C11BA5EAF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24000" y="2421000"/>
            <a:ext cx="1203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atrog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3640" y="981000"/>
            <a:ext cx="83818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Prescrição de intervenções sem comprovação científica: que impõem ao paciente risco desnecessário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Iatrogenia do excesso de intervenções reabilitadoras: o excesso de “equipe interdisciplinar” pode trazer consequências desfavoráveis ao paciente, assim como o faz a polifarmácia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F471-CB8B-4DB1-AA98-CCE02D2B581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upo 7"/>
          <p:cNvGrpSpPr/>
          <p:nvPr/>
        </p:nvGrpSpPr>
        <p:grpSpPr>
          <a:xfrm>
            <a:off x="395280" y="3500280"/>
            <a:ext cx="8569440" cy="2743200"/>
            <a:chOff x="395280" y="3500280"/>
            <a:chExt cx="8569440" cy="2743200"/>
          </a:xfrm>
        </p:grpSpPr>
        <p:pic>
          <p:nvPicPr>
            <p:cNvPr id="222" name="Picture 2" descr="http://gbcreative.com.br/blog/wp-content/uploads/2009/08/netsimples_outdoor.jpg"/>
            <p:cNvPicPr/>
            <p:nvPr/>
          </p:nvPicPr>
          <p:blipFill>
            <a:blip r:embed="rId1"/>
            <a:stretch/>
          </p:blipFill>
          <p:spPr>
            <a:xfrm>
              <a:off x="395280" y="3500280"/>
              <a:ext cx="85694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tângulo 5"/>
            <p:cNvSpPr/>
            <p:nvPr/>
          </p:nvSpPr>
          <p:spPr>
            <a:xfrm rot="156600">
              <a:off x="712080" y="4072680"/>
              <a:ext cx="5154840" cy="119124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044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Verdana"/>
                </a:rPr>
                <a:t>A maior parte da iatrogenia resulta da falta de  conhecimento profissional sobre a fisiologia do envelhecimento e das peculiaridades de abordagem ao idoso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uficiência famili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836280"/>
            <a:ext cx="8569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imensão sociofamiliar é fundamental na avaliação multidimensional do ido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amília constitui-se na principal instituição cuidadora dos idosos frágeis, devendo ser privilegiada nessa sua função. Contudo, a transição demográfica atinge diretamente essa “entidade”, reduzindo drasticamente a sua capacidade de prestar apoio aos seus membros ido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8630-3E7A-40F8-BBD2-ABDED9278F4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8" name="Grupo 7"/>
          <p:cNvGrpSpPr/>
          <p:nvPr/>
        </p:nvGrpSpPr>
        <p:grpSpPr>
          <a:xfrm>
            <a:off x="539640" y="4005360"/>
            <a:ext cx="7993080" cy="2217600"/>
            <a:chOff x="539640" y="4005360"/>
            <a:chExt cx="7993080" cy="2217600"/>
          </a:xfrm>
        </p:grpSpPr>
        <p:pic>
          <p:nvPicPr>
            <p:cNvPr id="229" name="Picture 2" descr="http://t3.gstatic.com/images?q=tbn:ANd9GcQelGAWAzJscK4JLT0akutTw_sBme3cFkgqNKHwDLeq8aADBV-8vw"/>
            <p:cNvPicPr/>
            <p:nvPr/>
          </p:nvPicPr>
          <p:blipFill>
            <a:blip r:embed="rId1"/>
            <a:stretch/>
          </p:blipFill>
          <p:spPr>
            <a:xfrm>
              <a:off x="539640" y="4005360"/>
              <a:ext cx="799308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CaixaDeTexto 5"/>
            <p:cNvSpPr/>
            <p:nvPr/>
          </p:nvSpPr>
          <p:spPr>
            <a:xfrm rot="164400">
              <a:off x="1575720" y="4375800"/>
              <a:ext cx="6483240" cy="1313640"/>
            </a:xfrm>
            <a:prstGeom prst="rect">
              <a:avLst/>
            </a:prstGeom>
            <a:gradFill rotWithShape="0">
              <a:gsLst>
                <a:gs pos="0">
                  <a:srgbClr val="a9a9ff"/>
                </a:gs>
                <a:gs pos="100000">
                  <a:srgbClr val="e4e4ff"/>
                </a:gs>
              </a:gsLst>
              <a:lin ang="16038000"/>
            </a:gradFill>
            <a:ln w="9360">
              <a:solidFill>
                <a:srgbClr val="9393f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Verdana"/>
                </a:rPr>
                <a:t>Ao contrário de o idoso ser cuidado pela família é este, muitas vezes, que se torna o cuidador dos netos, dos doentes e de pessoas deficientes da família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uficiência famili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981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redução da taxa de fecundidade trouxe profundas modificações na estrutura familiar: o número de filhos está cada vez menor e as demandas familiares são crescentes, limitando a disponibilidade dos pais de cuidarem de seus filhos, ficando estes sob os cuidados dos avós idos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5739-FAE9-451A-91DC-C56D4B9164A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2" descr="http://t3.gstatic.com/images?q=tbn:ANd9GcT1NO-UVhSqnn4iLh5nsGHaw_dAlXwzmPmgwQ1H9KC7MMgnDQKX"/>
          <p:cNvPicPr/>
          <p:nvPr/>
        </p:nvPicPr>
        <p:blipFill>
          <a:blip r:embed="rId1"/>
          <a:stretch/>
        </p:blipFill>
        <p:spPr>
          <a:xfrm>
            <a:off x="900000" y="3357720"/>
            <a:ext cx="3924360" cy="292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t1.gstatic.com/images?q=tbn:ANd9GcSPcXJyRLcbXt5AcZLu2zmFUIdADBXbn5l-rOoQgNIrQ200uCvrUg"/>
          <p:cNvPicPr/>
          <p:nvPr/>
        </p:nvPicPr>
        <p:blipFill>
          <a:blip r:embed="rId2"/>
          <a:stretch/>
        </p:blipFill>
        <p:spPr>
          <a:xfrm>
            <a:off x="5651640" y="3429000"/>
            <a:ext cx="2160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uficiência famili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560" y="980640"/>
            <a:ext cx="5041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66"/>
                </a:solidFill>
                <a:latin typeface="Verdana"/>
              </a:rPr>
              <a:t>Aumento da participação feminina no mercado de trabalho, valorização do individualismo e conflitos intergeracionais também contribuem para as modificações nos arranjos domiciliares.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66"/>
                </a:solidFill>
                <a:latin typeface="Verdana"/>
              </a:rPr>
              <a:t>Portanto, essas mudanças sociodemográficas e culturais na família têm repercussões importantes na capacidade de acolhida aos idosos, que historicamente dependiam de apoio e cuidado familiar.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AF90-17C6-46AA-AABE-46F269DA390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http://t2.gstatic.com/images?q=tbn:ANd9GcRV5jmkK0nDNYeFTCu4WExErextWFSEVi69qsEGu7q1RPQW4PMJ_A"/>
          <p:cNvPicPr/>
          <p:nvPr/>
        </p:nvPicPr>
        <p:blipFill>
          <a:blip r:embed="rId1"/>
          <a:stretch/>
        </p:blipFill>
        <p:spPr>
          <a:xfrm>
            <a:off x="5003640" y="1341360"/>
            <a:ext cx="39643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índromes Geriátricas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2ª. Par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FED9-527A-4C89-A365-116885FC32F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rg_hi" descr="http://t3.gstatic.com/images?q=tbn:ANd9GcRZ2ze-Tm8OxVw-5_4eQPk4Y8Wxcl0qs_7u8Es6DlnnHpTrRwDk"/>
          <p:cNvPicPr/>
          <p:nvPr/>
        </p:nvPicPr>
        <p:blipFill>
          <a:blip r:embed="rId1"/>
          <a:stretch/>
        </p:blipFill>
        <p:spPr>
          <a:xfrm>
            <a:off x="1835280" y="1341360"/>
            <a:ext cx="6192720" cy="41752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8"/>
          <p:cNvSpPr/>
          <p:nvPr/>
        </p:nvSpPr>
        <p:spPr>
          <a:xfrm>
            <a:off x="755640" y="5516640"/>
            <a:ext cx="81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osos participando de actividades ocupacionais de estimulação func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700280"/>
            <a:ext cx="83818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stabilidade postural leva o idoso à queda, o que representa um dos maiores temores em Geriat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fundamental conhecer as condições que a predispuseram, como ocorreu, quais os sinais e sintomas que a antecederam, a existência de co-morbidades, se o idoso conseguiu se levantar sozinho e se houve fratur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A361-73F9-4494-9880-2D765D31B4F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mplicação mais frequente da queda é o medo de cair novamente, o que, muitas vezes, impede o idoso de deambular normalmente, deixando-o restrito ao leito ou à cadeira, aumentando o seu descondicionamento fís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27E3-01BC-4607-872B-013831355C7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agem 5" descr="http://t2.gstatic.com/images?q=tbn:ANd9GcSeFBk_p51mrF9qX4ZUX01pq0Yd01EL7PjfNs8hm3JPqkOj05S86Q"/>
          <p:cNvPicPr/>
          <p:nvPr/>
        </p:nvPicPr>
        <p:blipFill>
          <a:blip r:embed="rId1"/>
          <a:stretch/>
        </p:blipFill>
        <p:spPr>
          <a:xfrm>
            <a:off x="2843280" y="3357720"/>
            <a:ext cx="3600360" cy="28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alterações músculo-esqueléticas comuns nos idosos podem prejudicar significativamente o equilíbrio e favorecer o aparecimento de que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be-se que uma das alterações relacionadas ao envelhecimento é o declínio da força muscular. A fraqueza é muito comum nas extremidades inferiores do idoso, especialmente nos tornozel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úsculos efetores destinados à ação de se equilibrar podem perder a capacidade de responder apropriadamente aos distúrbios na estabilidade postural, devido ao tempo mais longo de re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5ED9-593B-4CA1-A09A-5A1154224C9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informações visuais que corroboram o equilíbrio sã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ocalização e distância de objetos no ambiente, o tipo de superfície onde se dará o movimento e a posição das partes corporais, uma em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ção à outra e ao ambi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omponentes do sistema visual considerados críticos para o equilíbrio são a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uidade estática e dinâm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nsibilidade ao contrast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cepção de profund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ão perifér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B351-F65E-4157-997F-C0F3C52C7C5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stabilidade postur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000" y="1700280"/>
            <a:ext cx="8381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responsabilização pelas quedas nos idosos decorre, especialmente, da falta de condições clínicas ou de ambiente insegur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velhecimento por si só não é causa de quedas, apesar das alterações fisiológicas decorrentes do envelhecimento favorecerem o seu aparec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avaliação da marcha e do risco de quedas deve ser realizada com todos os ido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30BE-8266-4C45-88A4-B58E582F157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1:35:32Z</dcterms:created>
  <dc:creator>Escolastica</dc:creator>
  <dc:description/>
  <dc:language>en-US</dc:language>
  <cp:lastModifiedBy>Mendoza</cp:lastModifiedBy>
  <dcterms:modified xsi:type="dcterms:W3CDTF">2012-01-31T14:22:07Z</dcterms:modified>
  <cp:revision>3</cp:revision>
  <dc:subject/>
  <dc:title>Sindromes Geriátricas Aula 2</dc:title>
</cp:coreProperties>
</file>