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8890-6D9E-4747-8E47-68F0371CB014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BBB38-5E0B-48E1-B87D-CF0D58C97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A5355-DFAE-4DD7-AEE8-9ADA85829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ota: Nesta apresentação, o termo “recém-nascido” refere-se a um bebé entre o parto e um mês de 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3529E-5319-484B-929E-9034F7B97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4550F-9B44-4A87-87AF-6C9D3232B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ACF9A-0DFC-403F-8E87-487092BC0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B2AE-8352-47F1-9047-75B42D9F1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32BA1-1491-4CF8-A313-EC3A863D5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CCF44-A7D1-4DC7-A040-D261BD2DF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F25A6-C5B0-46EE-A20F-2053E2B20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1ACAF-7152-40C0-94DA-F24177947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ecém-nascidos estão especialmente susceptíveis à hipotermia por terem uma grande superfície corporal o que ajuda a perda de calor; eles carecem de isolamento; e carecem de massa corporal para produzir e poupar calor. Eles também dependem dos cuidadores para os manter quentes e secos. Os cuidados para o recém-nascido incluem mantê-los aquecidos ao secá-los imediatamente após o parto e adiar o banho até a temperatura ter estabiliz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F1260-EB58-4193-86FB-44F42E998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E758-4CE2-468C-8603-D3C066B17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3DE90-61FB-4170-B795-A3E2C5ED3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3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71C4-1AB8-47F5-AD3F-E95F2CE51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757D3-F79C-4786-AF40-79B7A2B04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FA2BB-27CD-4D18-A890-15290804931F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 lembrar que todos os recém-nascidos devem ser considerados em risco de necessitar de reanimação (ou seja, o assistente deverá estar preparado em todos os partos). Determinadas condições podem aumentar as probabilidades de se necessitar de reanimação. Por exemplo, se houver evidências de sofrimento fetal durante o trabalho de parto ou parto, mecónio espesso, parto com posição fetal invertida ou um parto premat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4C8F1-872A-422D-8A43-0B1A4934F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senberg  também comparou a eficácia do uso da iodopovidona relativamente ao nitrato de prata e eritromicina, e descobriu que está é mais eficaz do que qualquer um d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80B3E-8AB9-4A42-AC61-F78BF1670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iodopovidona pode ser uma boa alternativa por ser eficaz e econ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BD70A-1EF7-4C28-AB55-754CDB2C4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BFF6-6762-4A66-B805-F67FCC050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E991-8459-4868-85EE-1AAFE0444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ED37A-F2E4-4075-BB0E-E44D070CE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D0E6-8B6C-498A-8283-54996545C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903C-4947-4115-BAF7-32927159F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cuidados neonatais são importantes porque as principais causas de óbitos neonatais são a asfixia e infecções. É crucial a presença de um assistente capacitado no parto para avaliar correctamente ao recém-nascido, realizar intervenções essenciais e não adiar a ressuscitação quando indicada. Se necessário, o assistente deverá poder cuidar ou transportar um recém-nascido do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programas para diarreia e imunização são responsáveis pela descida da TMI, mas a TMN permanece elev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E36C8-63AA-4F7C-BD1C-CC6455AAE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D952-B961-455B-9BAF-E8B2956BE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4A3C0-E801-4104-B292-154A1BEB7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F5AE-BEF7-4D78-A575-85E3B751F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E4F56-053B-448D-8B29-7C1AD7BEA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0598F-2504-49C6-92A6-9B72FA806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44215-3F86-46F7-808A-773F9605D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D1ED-CD64-48A4-866B-3FF3A72CA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3B669-7A6C-4934-A4E8-BD329149C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FD3A-7238-4DFC-9FBA-6FE1AB2A8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9947-6A14-4B43-9289-8C0878915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E4B2-9A64-44E3-AD6D-70B5D3083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2CF-D999-4EC3-9F73-36102F4D2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131C-7A6A-4D6A-B685-6A22B14A5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917-6368-4280-B74A-0714DC14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E919-65F4-4E8F-B620-5E4003B35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9740-5985-4C53-9BE3-39F12DD51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09F3-E16B-4E95-AE5A-D1ED6FC1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7024-BD23-478B-B842-D4002785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CFC4-1C46-4CB4-A000-F937EBD2E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50EC-34AD-4782-A69E-4013EAACC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80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" name="Picture 7" descr="mid_access_hex"/>
          <p:cNvPicPr/>
          <p:nvPr/>
        </p:nvPicPr>
        <p:blipFill>
          <a:blip r:embed="rId2"/>
          <a:stretch/>
        </p:blipFill>
        <p:spPr>
          <a:xfrm>
            <a:off x="2405160" y="5997600"/>
            <a:ext cx="1600200" cy="588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Horizontal_RGB_600"/>
          <p:cNvPicPr/>
          <p:nvPr/>
        </p:nvPicPr>
        <p:blipFill>
          <a:blip r:embed="rId3"/>
          <a:stretch/>
        </p:blipFill>
        <p:spPr>
          <a:xfrm>
            <a:off x="347760" y="6062760"/>
            <a:ext cx="178884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771960" y="6181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FA11-0511-424B-9B80-D20DAFD60C59}" type="slidenum"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600200"/>
            <a:ext cx="9144000" cy="396252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066680" y="6019920"/>
            <a:ext cx="723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Helvetica LT Std"/>
              </a:rPr>
              <a:t>Jhpiego</a:t>
            </a:r>
            <a:r>
              <a:rPr b="0" lang="pt-PT" sz="1100" spc="-1" strike="noStrike">
                <a:solidFill>
                  <a:srgbClr val="ffffff"/>
                </a:solidFill>
                <a:latin typeface="Helvetica LT Std"/>
              </a:rPr>
              <a:t> em parceria com a Save the Children, Constella Futures, A Academia para Desenvolvimento Educacional, O Instituto Superior Americano de Enfermeiras-Parteiras e IMA World Health</a:t>
            </a:r>
            <a:endParaRPr b="1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Picture 12" descr="mid_access_hex"/>
          <p:cNvPicPr/>
          <p:nvPr/>
        </p:nvPicPr>
        <p:blipFill>
          <a:blip r:embed="rId2"/>
          <a:stretch/>
        </p:blipFill>
        <p:spPr>
          <a:xfrm>
            <a:off x="5791320" y="438120"/>
            <a:ext cx="2590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orizontal_RGB_600"/>
          <p:cNvPicPr/>
          <p:nvPr/>
        </p:nvPicPr>
        <p:blipFill>
          <a:blip r:embed="rId3"/>
          <a:stretch/>
        </p:blipFill>
        <p:spPr>
          <a:xfrm>
            <a:off x="762120" y="533520"/>
            <a:ext cx="2895480" cy="86184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130120"/>
            <a:ext cx="548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lhores Práticas em Cuidados Neonatais Imediato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3809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660066"/>
                </a:solidFill>
                <a:latin typeface="Helvetica LT Std"/>
              </a:rPr>
              <a:t>Melhores Práticas em Cuidados Maternos e Neonatai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Picture 4" descr="m11.jpg"/>
          <p:cNvPicPr/>
          <p:nvPr/>
        </p:nvPicPr>
        <p:blipFill>
          <a:blip r:embed="rId1"/>
          <a:stretch/>
        </p:blipFill>
        <p:spPr>
          <a:xfrm>
            <a:off x="7238880" y="1752480"/>
            <a:ext cx="173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DDF1-40C4-480F-A00E-6526101A6F4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l é o cuidado essencial para um recém-nascido imediatamente após o part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4" descr="j0078711"/>
          <p:cNvPicPr/>
          <p:nvPr/>
        </p:nvPicPr>
        <p:blipFill>
          <a:blip r:embed="rId1"/>
          <a:stretch/>
        </p:blipFill>
        <p:spPr>
          <a:xfrm>
            <a:off x="6172200" y="320040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1929-E7E7-48E9-8136-44AE273716C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arto limpo e cuidados para o cord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Evitar infecções neonatai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otecção térmic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evenir e manejar a hipo/hipertermia neonata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Amamentação precoce e exclusiv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niciada 1 hora após o part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nício da respiração e ressuscitaç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dentificação precoce e manejo da asfixi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A76B-A342-47A4-AEE4-3335082193E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evenir e fazer o manejo  da oftalmia do neona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No nascimento: Vacina ‘’Bacille Calmette-Guerin (BCG)’’, vacina de póliovírus (OPV) oral e vacina contra o vírus da hepatite B (HBV) (OM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dentificação e gestão do recém-nascido doente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para o recém-nascido prematuro e/ou com baixo peso à nascenç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170-1B45-4BDF-B960-713B79CC83E7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princípios de limpeza são essenciais nos partos domiciliares e nas unidades sanitári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incípios de limpeza no part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ãos limpa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eríneo limp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Não introduzir nada não limpo na vagin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uperfície de parto limp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na pinçagem e corte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para cuidado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E341-BF11-449F-A3F7-14FB3B476446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didas de prevenção/controlo de infecções nas unidades de saúde e depois da alt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uidadores e todas as outras pessoas devem lavar as mãos antes de tocar ou cuidar do bebé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vitar contacto com crianças e adultos doente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915-B181-4427-874E-3B7FB3B811C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9106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princípios e práticas chave nos cuidados com o cordão umbilical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3" name="Picture 4" descr="j0078711"/>
          <p:cNvPicPr/>
          <p:nvPr/>
        </p:nvPicPr>
        <p:blipFill>
          <a:blip r:embed="rId1"/>
          <a:stretch/>
        </p:blipFill>
        <p:spPr>
          <a:xfrm>
            <a:off x="3886200" y="121932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AE5-1D54-4E85-A20B-FCA6E73CB65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uidados com o Cord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ão aplicar nenhuma compressa ou substância de qualquer naturez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 o cordão sangrar, voltar a atá-l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ormalmente cai  4–7 dias após o par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té o cordão cair, colocá-lo fora da fralda para evitar contaminação com urina/fez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Lavar só com sabão e água limpa (se estiver sujo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08F-D23B-481C-8A71-1ADE1DCCCC5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Arial"/>
              </a:rPr>
              <a:t>Protecção Térmic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1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isiologia do Recém-nascid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Temperatura normal : 36,5–37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Hipotermia: &lt; 36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eríodo de estabilização: 1ªs 6–12 horas após o parto: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Grande área de superfície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Fraco isolamento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Massa corporal reduzida para produzir e conservar calor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Incapacidade de alterar a postura ou ajustar o vestuário para responder ao stress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mento da hipotermi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Recém-nascido deixado molhado enquanto se espera a expulsão da plac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Lavagem precoce do recém-nascido (nas primeiras 24 hora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07D-80FE-40F7-8E14-8EB8A0D506FF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revenção da Hipotermi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azer o parto num quarto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car bem o recém-nascido e embrulhá-lo num pano seco e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Entregar à mãe o mais cedo possível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acto pele-com-pele durante as primeiras horas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move o vínculo afectiv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 precoc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Verificar o aquecimento ao sentir os pés do recém-nascido de 15 em 15 minu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Dar banho depois da temperatura estar estável (depois de 24 horas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A48-FC38-48AD-B1C2-9A13E6C3BC6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tacto precoce entre a mãe e o bebé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s políticas de quarto único nas unidades sanitárias previnem a infecção nosocomial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Melhores Práticas;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Sem alimentações pré-lácteas ou outro suplemen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dministrar a primeira amamentação na primeira hora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icionamento correcto para possibilitar uma boa pega d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mamentação conforme solicita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o psicossocial para a mãe que amam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8280" y="56386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OMS 1999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218-6D3B-42D3-B8B6-54D6DDE8A6FA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s da Ses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efinir os elementos essenciais dos primeiros cuidados ao recém-nascid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iscutir a melhor prática para a promoção da saúde neonata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Usar dados e informação relevante para desenvolver recomendações apropriadas para os cuidados neonatais essenci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FD6-C9AF-4669-B419-76227CB1F1E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nício da amamentaçã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O colostro é o primeiro leite secretado e é importante para o bebé para nutrição e protecção contra doença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maioria dos bebés está pronta para mamar em15-55 minutos após o parto;  o sucesso na primeira mamada muitas vezes indica o êxito na amamentação posterior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to-peg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locar o bebé de bruços por cima do abdómen da mã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ar o bebé à medida que se move em direcção ao sei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Dar tempo ao bebé para abocanhar o mamilo antes de colocá-lo dentro da boc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91560" y="551196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3A90-FA81-4BB1-97B2-44EC00F149E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Sinais de que o bebé esteja a receber leite suficient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urina pelo menos 6 vezes em 24 hora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segue-se ouvir o bebé a engolir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seio da mãe fica mais macio depois de um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engorda com o tempo (depois da primeira semana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aparenta estar satisfeito após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315200" y="57913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C70D-7F7A-4220-B5D8-ABF945978DA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ício da Respiração e Reanim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Respiração espontânea (&gt; 30 inspirações/min.) na maioria dos bebés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Estímulo suave, quando necessári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ode ser necessária a reanimação do recém-nascid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frimento feta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sença de mecónio espess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artos vaginais com posição fetal invertid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matur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sconhecida a eficácia da sucção oro-nasal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Vantagens biologicamente plausíveis  – vias respiratórias desimpedidas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otenciais desvantagens reais – arritmia cardíac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fere-se a sucção com pêra (mas cada bebé deverá ter a sua pêra para prevenir a transmissão de infecções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328800" y="601992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Hamilton 1999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8F9-ED59-49E4-9CF9-ED071443A8BE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</a:t>
            </a:r>
            <a:br>
              <a:rPr sz="3200"/>
            </a:b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 e Estrutur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bjectivo: </a:t>
            </a:r>
            <a:r>
              <a:rPr b="0" lang="pt-PT" sz="2800" spc="-1" strike="noStrike">
                <a:solidFill>
                  <a:srgbClr val="660066"/>
                </a:solidFill>
                <a:latin typeface="Helvetica LT Std"/>
              </a:rPr>
              <a:t>Determinar a incidência e tipo de conjuntivite depois da  iodopovidona  no Quén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strutura: Rotação semanal do regime: eritromicina, nitrato de prata, iodopovidon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nitrato de prata do que com iodopovidona, OR 1,76, p &lt; 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eritromicina do que com iodopovidona OR 1,38, p=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12800" y="5664240"/>
            <a:ext cx="27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1EC-231F-4D41-A44A-B82F45DEF76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Conclu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odopovidon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uma boa profilax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Tem um espectro anti-bacteriano maior 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Causa maior redução nas unidades formadoras de colónias e no número de espécies bacterian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activa contra víru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económic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59520" y="571500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4476-BBA5-4F96-8EAA-3DFD24E5528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10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ões BCG em toda a população de alto risco para infecção por tuberculos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ose única de OPV (Polio) à nascença ou na 2ª semana após o part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ão HBV o mais cedo possível onde sejam comuns infecções perinat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F5A9-84C9-4C31-A0E8-4DC7F8E9C18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conselhament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smo que a mãe tenha alta poucas horas após o parto, ela deverá receber aconselhamento sobr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Amamentação exclusiv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Higiene – cuidados oftálmicos e para 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inais de perigo e o que faz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1418-4B40-4E33-80DB-C3B65F93A17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Encen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Realizar e discutir a encenação conforme descrito na apostila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D79F-4234-4A5B-8847-D177EB1B2FC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91064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sinais de perigo no recém-nascid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9" name="Picture 4" descr="j0078711"/>
          <p:cNvPicPr/>
          <p:nvPr/>
        </p:nvPicPr>
        <p:blipFill>
          <a:blip r:embed="rId1"/>
          <a:stretch/>
        </p:blipFill>
        <p:spPr>
          <a:xfrm>
            <a:off x="4267080" y="1600200"/>
            <a:ext cx="993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393F-72B0-400D-B933-13AC8E454C2F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lano de Prontidão para Complica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83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inais de Perigo para o Recém-nascid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ficuldade respiratór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onvulsões, espasmos, perda de consciência, ou encurvamento da colun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ianose (azulado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Quente ao toque (febre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io ao toqu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Sangramento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Icterícia (côr amarela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797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alidez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arre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Vómitos persistentes ou distensão abdomin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Não comer ou mamar m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us ou vermelhidão no umbigo, olhos ou pel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Membros ou articulações inchada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aquez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etargia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4F3-B7A6-41D6-ADAB-6C707EA33DBE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0" algn="just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660066"/>
                </a:solidFill>
                <a:latin typeface="Helvetica LT Std"/>
              </a:rPr>
              <a:t>Todos os anos:</a:t>
            </a:r>
            <a:endParaRPr b="1" lang="en-US" sz="26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8,1 milhões de mortes de bebés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mortes neonatai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40% do total da mortalidade de crianças com menos de 5 an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ito mortes neonatais por minu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nados mor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 mortalidade de crianças com menos de um e de cinco anos diminuiu significativamente – mas a TMN pouco diminuiu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724280" y="1828800"/>
            <a:ext cx="3962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7BD-468C-47EC-A0A1-39E5E25B2FA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sum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rto limpo e cuidados com o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  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rd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57200" y="1295280"/>
            <a:ext cx="52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omponentes essenciais dos cuidados neonatais normais incluem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8" name="Picture 6" descr="M11_3.jpg"/>
          <p:cNvPicPr/>
          <p:nvPr/>
        </p:nvPicPr>
        <p:blipFill>
          <a:blip r:embed="rId1"/>
          <a:stretch/>
        </p:blipFill>
        <p:spPr>
          <a:xfrm>
            <a:off x="6248520" y="1828800"/>
            <a:ext cx="25686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B4D-2F05-4FAB-AB96-BBE143CDB7B6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Bell TA et al. 1993. Randomized trial of silver nitrate, erythromycin and no eye prophylaxis for the prevention of conjunctivitis among newborns not at risk for gonococcal ophthalmit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ics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92: 755–76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en J. 1992. Prophylaxis of ophthalmia neonatorum: comparison of silver nitrate, tetracycline, erythromycin, and no prophylax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 Infect Dis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11: 1026–103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ild Health Research Project and Maternal and Neonatal Health Program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Reducing Perinatal and Neonatal Mortality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Report of a meeting in Baltimore, MD, 10–12 May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Ganges F. 2006. Normal Newborn Care, a presentation in Accra, Ghana,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 Technical Updat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(April)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716-2775-4139-A032-185AEF26374B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Hamilton P. 1999. Care of the newborn in the delivery room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r Med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18: 1403–1406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Isenberg SJ, Apt L and Wood M. 1995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A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ontrolled trial of povidone-iodine as prophylaxis against ophthalmitis neonatorum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.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N Engl J Med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32: 562–566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Kinzie B and Gomez P.  2004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: A Guide for Skilled Providers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Jhpiego: Baltimore, MD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ing Newborn Lives (SNL).  2004. 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of the Newborn: Reference Manual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e the Children: Washington, D.C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World Health Organization (WHO)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in Normal Birth: A Practical Guid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WHO: Geneva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59F-1359-48A6-B486-F93CDCFA1E46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	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Quais são as principais causas da mortalidade neonatal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6BD-4D25-4BDA-82C1-B76B550ABFE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ausas de 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77720" y="1447920"/>
          <a:ext cx="75409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447920"/>
                    <a:ext cx="75409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5"/>
          <p:cNvSpPr/>
          <p:nvPr/>
        </p:nvSpPr>
        <p:spPr>
          <a:xfrm>
            <a:off x="6248520" y="2133720"/>
            <a:ext cx="304560" cy="2819160"/>
          </a:xfrm>
          <a:custGeom>
            <a:avLst/>
            <a:gdLst>
              <a:gd name="textAreaLeft" fmla="*/ 0 w 304560"/>
              <a:gd name="textAreaRight" fmla="*/ 109800 w 30456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612120" y="3276720"/>
            <a:ext cx="89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66"/>
                </a:solidFill>
                <a:latin typeface="Helvetica LT Std"/>
              </a:rPr>
              <a:t>Infecção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660066"/>
                </a:solidFill>
                <a:latin typeface="Helvetica LT Std"/>
              </a:rPr>
              <a:t>36%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027-960D-47C0-A902-33FE5F521300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838080" y="1990800"/>
          <a:ext cx="788688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90800"/>
                    <a:ext cx="78868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3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por Semana de Vida durante os Primeiros 5 Anos: O Primeiro Período Pós-nata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" y="563868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: Lawn Addis presentation based on global ENMR, NMR 2000 estimates, IMR and U5M in State of the World’s Children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295280" y="1370160"/>
            <a:ext cx="2286000" cy="838080"/>
          </a:xfrm>
          <a:prstGeom prst="downArrow">
            <a:avLst>
              <a:gd name="adj1" fmla="val 78120"/>
              <a:gd name="adj2" fmla="val 26620"/>
            </a:avLst>
          </a:prstGeom>
          <a:solidFill>
            <a:srgbClr val="cc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A semana de vida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com maior risco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505320" y="137016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de morte por cada semana de vida durante os primeiros 5 anos de vida, com base nas médias globais da taxa de mortalidad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DFED-EBB8-4F58-A7C1-EB060450187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O processo do parto foi a causa antecedente de 2/3 das mortes por infecçã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alta de higiene no parto e durante o período neonatal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Partos domiciliares sem assistentes de parto capacitados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Asfixia durante o parto nos países em desenvolviment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3% dos recém-nascidos sofrem de asfixia de parto ligeira a moderada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requentemente, a reanimação imediata não é iniciada ou o procedimento é inadequado ou incorrecto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5" name="Picture 5" descr="M11_1.jpg"/>
          <p:cNvPicPr/>
          <p:nvPr/>
        </p:nvPicPr>
        <p:blipFill>
          <a:blip r:embed="rId1"/>
          <a:stretch/>
        </p:blipFill>
        <p:spPr>
          <a:xfrm>
            <a:off x="6629400" y="4495680"/>
            <a:ext cx="185256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40F-696F-4F35-AD98-FACF339A688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Baixo Peso à Nascenç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Um factor extremamente importante na mortalidade neonat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Hipotermia e Óbitos Neonatai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ribuição significativa para os óbitos de bebés com baixo peso à nascença e recém-nascidos prematur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áticas sociais, culturais e sanitárias que atrasam os cuidados a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íses com uma elevada prevalência de ITS e práticas profiláticas inconsistente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Oftalmia do neonato é uma causa comum da cegueir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FF3D-21B2-4AC7-81AF-8B2B79AD67A5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29714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As estratégias para melhoria da saúde neonatal </a:t>
            </a: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vem ter como alv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arteiras, famílias e comunidade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fissionais dos cuidados de saúde dentro do sistema de saúde form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" y="1447920"/>
            <a:ext cx="87631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ocal do Parto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Até 2 de 3 partos na maioria dos países em desenvolvimento ocorrem em casa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mente metade dos partos são assistidos por pessoal capacitado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7" descr="M11_2.jpg"/>
          <p:cNvPicPr/>
          <p:nvPr/>
        </p:nvPicPr>
        <p:blipFill>
          <a:blip r:embed="rId1"/>
          <a:stretch/>
        </p:blipFill>
        <p:spPr>
          <a:xfrm>
            <a:off x="1066680" y="3048120"/>
            <a:ext cx="272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8T15:10:10Z</dcterms:created>
  <dc:creator>Sonia Elabd</dc:creator>
  <dc:description/>
  <dc:language>en-US</dc:language>
  <cp:lastModifiedBy>Natercia Fernandes</cp:lastModifiedBy>
  <dcterms:modified xsi:type="dcterms:W3CDTF">2009-08-03T19:29:35Z</dcterms:modified>
  <cp:revision>119</cp:revision>
  <dc:subject/>
  <dc:title>Normal Newborn C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nnc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PSS\Reproline\PPTs\MNH_PPTs\nnc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