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D7A5-4700-4921-8ECE-54D485F295B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3261-D832-4387-97AE-1C70ACB252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7235-B3C4-4A97-9B65-E6A6D8E19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2CD-3897-498E-B035-FDDBA66FF1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13F0-5DF6-4260-8C2C-BC9B05C5B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869A-5F78-403F-B385-5E1D664402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4960-0EBF-4AB2-8195-50AFF7F94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mortalidade materna é uma tragédia global, mas afecta ao mundo em vias de desenvolvimento. Quase todas as mortes por complicações associadas à gravidez  ocorrem no mundo em vias de desenvolvi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E1BA-9E4C-42A5-A61D-B1CB4D5EBA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1435-53D0-4CE5-9811-126784F6B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ara cada mulher que morre durante a gravidez, 30 mulheres sofrem de complicaçõ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s iniciativas deveriam inclui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laneamento famili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Gestão das complicações do abo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Gestão das complicações da gravidez e pa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E09F-DC8F-4D02-8694-A35E7EEF04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3D1-02E5-4E37-9727-FADAA1A29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2826-7C45-4D7D-BB56-9A25B9B8ED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A63C-7FF1-43E2-8441-597EFDAB2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0273-E343-4A22-B933-5509DFA039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5942-2485-486E-81B8-1865E0757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811-34D9-4694-A01B-C69E69EB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B53-0726-4AB3-BD1A-A4E0ED6A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B8A-089E-4C03-9BE1-064ED8AD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28C-A3A3-4E09-A9FD-26E4289C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EA7-52A8-4C1A-B1D2-DCD8C17F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4B2-471B-47C1-A7D7-433D230A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094-E0B2-4801-9B28-38C00793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58E-16B5-4501-8C93-82204BBD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7F3-60D0-49D1-9601-E5341D33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134-4A23-4F14-9B03-F123F708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732-F339-42E8-B4DE-B27FF41F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D1A-D9E0-43DE-A2BC-774C2A1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E082-6B2B-4923-8F11-41721E310532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omen"/>
          <p:cNvPicPr/>
          <p:nvPr/>
        </p:nvPicPr>
        <p:blipFill>
          <a:blip r:embed="rId1"/>
          <a:stretch/>
        </p:blipFill>
        <p:spPr>
          <a:xfrm>
            <a:off x="0" y="1222200"/>
            <a:ext cx="4911840" cy="487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logomz"/>
          <p:cNvPicPr/>
          <p:nvPr/>
        </p:nvPicPr>
        <p:blipFill>
          <a:blip r:embed="rId2"/>
          <a:stretch/>
        </p:blipFill>
        <p:spPr>
          <a:xfrm>
            <a:off x="4356000" y="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Title 5" descr=""/>
          <p:cNvPicPr/>
          <p:nvPr/>
        </p:nvPicPr>
        <p:blipFill>
          <a:blip r:embed="rId3"/>
          <a:stretch/>
        </p:blipFill>
        <p:spPr>
          <a:xfrm>
            <a:off x="682560" y="835200"/>
            <a:ext cx="7785000" cy="596880"/>
          </a:xfrm>
          <a:prstGeom prst="rect">
            <a:avLst/>
          </a:prstGeom>
          <a:ln w="0">
            <a:noFill/>
          </a:ln>
        </p:spPr>
      </p:pic>
      <p:pic>
        <p:nvPicPr>
          <p:cNvPr id="51" name="Title 5" descr=""/>
          <p:cNvPicPr/>
          <p:nvPr/>
        </p:nvPicPr>
        <p:blipFill>
          <a:blip r:embed="rId4"/>
          <a:stretch/>
        </p:blipFill>
        <p:spPr>
          <a:xfrm>
            <a:off x="969840" y="1407960"/>
            <a:ext cx="7783560" cy="603360"/>
          </a:xfrm>
          <a:prstGeom prst="rect">
            <a:avLst/>
          </a:prstGeom>
          <a:ln w="0">
            <a:noFill/>
          </a:ln>
        </p:spPr>
      </p:pic>
      <p:sp>
        <p:nvSpPr>
          <p:cNvPr id="52" name="Title 5"/>
          <p:cNvSpPr/>
          <p:nvPr/>
        </p:nvSpPr>
        <p:spPr>
          <a:xfrm>
            <a:off x="5003640" y="2286000"/>
            <a:ext cx="375948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tenção Humanizada à Saúde Materna e Neonatal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andeira_mocambique_1"/>
          <p:cNvPicPr/>
          <p:nvPr/>
        </p:nvPicPr>
        <p:blipFill>
          <a:blip r:embed="rId5"/>
          <a:stretch/>
        </p:blipFill>
        <p:spPr>
          <a:xfrm>
            <a:off x="136440" y="39600"/>
            <a:ext cx="11988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Situação de Saúde Mate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85800" y="1828800"/>
            <a:ext cx="8229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MM- 408/100.000 N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3E46-DD65-4E0A-8962-D6E35526B0A4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cio da Mortalidade Matern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2EB8-2FD4-47B6-9AEA-630DEE86AD53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Tendências e Metas de Indicadores Seleccionados da Saúde Reprodutiva/Materna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m Moç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hart 8" descr=""/>
          <p:cNvPicPr/>
          <p:nvPr/>
        </p:nvPicPr>
        <p:blipFill>
          <a:blip r:embed="rId1"/>
          <a:stretch/>
        </p:blipFill>
        <p:spPr>
          <a:xfrm>
            <a:off x="378000" y="1384200"/>
            <a:ext cx="83880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491D-0CB7-4848-8491-8B7D7E820693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90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ais são as principais causas da mortalidade materna</a:t>
            </a:r>
            <a:r>
              <a:rPr b="1" lang="pt-PT" sz="3200" spc="-1" strike="noStrike">
                <a:solidFill>
                  <a:srgbClr val="000000"/>
                </a:solidFill>
                <a:latin typeface="Helvetica LT St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Ethiopian woman and baby"/>
          <p:cNvPicPr/>
          <p:nvPr/>
        </p:nvPicPr>
        <p:blipFill>
          <a:blip r:embed="rId1"/>
          <a:stretch/>
        </p:blipFill>
        <p:spPr>
          <a:xfrm>
            <a:off x="1981080" y="1752480"/>
            <a:ext cx="56008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E31E-712B-47DC-AD52-A8C26283C2D0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a das Mortes Mater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Situação de Saúde Infan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685800" y="1828800"/>
            <a:ext cx="8229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MI- 124/1000 N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BEFF-163A-434E-AB90-78519836D173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Tendências e Metas de Indicadores da Saúde do Recém-Nascido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 da Criança Menor de 5 Anos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hart 5" descr=""/>
          <p:cNvPicPr/>
          <p:nvPr/>
        </p:nvPicPr>
        <p:blipFill>
          <a:blip r:embed="rId1"/>
          <a:stretch/>
        </p:blipFill>
        <p:spPr>
          <a:xfrm>
            <a:off x="378000" y="1450800"/>
            <a:ext cx="838800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CED-E8E4-48CE-B188-594B10CCC9DA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Calibri"/>
              </a:rPr>
              <a:t>Intrahospitalar: Pais 2001-2007, TNM e Proporção de NM com Foco+ por Províncias em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BAD5-AE4C-4ADA-84F5-56217C85FC44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ais são as principais causas da mortalidade neonat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frican mother lying with infant"/>
          <p:cNvPicPr/>
          <p:nvPr/>
        </p:nvPicPr>
        <p:blipFill>
          <a:blip r:embed="rId1"/>
          <a:stretch/>
        </p:blipFill>
        <p:spPr>
          <a:xfrm>
            <a:off x="2209680" y="2362320"/>
            <a:ext cx="4829400" cy="3124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D78A-DF78-471C-9072-1EDDAF03ED01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Calibri"/>
              </a:rPr>
              <a:t>Principais Causas de Morte Neonatal, 2007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omen"/>
          <p:cNvPicPr/>
          <p:nvPr/>
        </p:nvPicPr>
        <p:blipFill>
          <a:blip r:embed="rId1"/>
          <a:stretch/>
        </p:blipFill>
        <p:spPr>
          <a:xfrm>
            <a:off x="0" y="1146240"/>
            <a:ext cx="4911840" cy="487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mz"/>
          <p:cNvPicPr/>
          <p:nvPr/>
        </p:nvPicPr>
        <p:blipFill>
          <a:blip r:embed="rId2"/>
          <a:stretch/>
        </p:blipFill>
        <p:spPr>
          <a:xfrm>
            <a:off x="4356000" y="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Title 5" descr=""/>
          <p:cNvPicPr/>
          <p:nvPr/>
        </p:nvPicPr>
        <p:blipFill>
          <a:blip r:embed="rId3"/>
          <a:stretch/>
        </p:blipFill>
        <p:spPr>
          <a:xfrm>
            <a:off x="682560" y="835200"/>
            <a:ext cx="7785000" cy="596880"/>
          </a:xfrm>
          <a:prstGeom prst="rect">
            <a:avLst/>
          </a:prstGeom>
          <a:ln w="0">
            <a:noFill/>
          </a:ln>
        </p:spPr>
      </p:pic>
      <p:pic>
        <p:nvPicPr>
          <p:cNvPr id="57" name="Title 5" descr=""/>
          <p:cNvPicPr/>
          <p:nvPr/>
        </p:nvPicPr>
        <p:blipFill>
          <a:blip r:embed="rId4"/>
          <a:stretch/>
        </p:blipFill>
        <p:spPr>
          <a:xfrm>
            <a:off x="969840" y="1407960"/>
            <a:ext cx="7783560" cy="603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4038480" y="3130560"/>
            <a:ext cx="4932360" cy="1191240"/>
          </a:xfrm>
          <a:prstGeom prst="rect">
            <a:avLst/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ituação da Saúde Materna e Infantil em Moçambique e Iniciativa Maternidade Modelo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bandeira_mocambique_1"/>
          <p:cNvPicPr/>
          <p:nvPr/>
        </p:nvPicPr>
        <p:blipFill>
          <a:blip r:embed="rId5"/>
          <a:stretch/>
        </p:blipFill>
        <p:spPr>
          <a:xfrm>
            <a:off x="136440" y="39600"/>
            <a:ext cx="11988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751D-0838-45EC-A89C-0D1F40790916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iciativas na área de SM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295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umanização dos Cuidados de  Saúde : Iniciativa Maternidade Modelo, lançada em Julho 2009 no VI Conselho Hospita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ciativa Presidencial para a Saúde da mãe e da cri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80880" y="2209680"/>
            <a:ext cx="8382240" cy="1328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stratégia de apoio técnico às províncias pelos  “padrinhos e madrinhas”: médicos Pediatras e Obstetr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3429000"/>
            <a:ext cx="8305920" cy="1295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os e Estratégias:  Roteiro para aceleração da redução da Mortalidade MN, Plano Integrado para o alcançe dos ODM 4 e 5, Estratégia de PT e Casas de Espera e Parceria Nacional para a S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omic Sans MS"/>
              </a:rPr>
              <a:t>Conteúdo da Apresen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1600200"/>
            <a:ext cx="746784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a nível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em Moçamb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Principais documentos estratégicos aprovados e em Implementação na área de S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Humanização dos Cuidados de saúde: Iniciativa Maternidade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2EDD-7209-4FE2-A59F-A37C24E9991C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Helvetica LT Std"/>
              </a:rPr>
              <a:t>Mortalidade Materna: Uma Tragédia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Anualmente, morrem 529.000 mulheres por complicações associadas à grav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99% no mundo em vias de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~ 1% nos países desenvolvid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30" descr="globe"/>
          <p:cNvPicPr/>
          <p:nvPr/>
        </p:nvPicPr>
        <p:blipFill>
          <a:blip r:embed="rId1"/>
          <a:stretch/>
        </p:blipFill>
        <p:spPr>
          <a:xfrm>
            <a:off x="3886200" y="1828800"/>
            <a:ext cx="525780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36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a nível Glob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003F-DFC7-4756-9EAE-4577CE6BD283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Saúde Materna: Extens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75 milhões de gravidezes indesejadas/não planifica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50 milhões de abortos provocad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Comic Sans MS"/>
              </a:rPr>
              <a:t>20 milhões de abortos sem seguranç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Aproximadamente 600.000 óbitos maternos </a:t>
            </a:r>
            <a:br>
              <a:rPr sz="3400"/>
            </a:b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(1 por minut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686A-F40E-4F73-9B0F-9A30775472C0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1768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Comic Sans MS"/>
              </a:rPr>
              <a:t>Causas da Mortalidade Materna no Mun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orte mat.jpg"/>
          <p:cNvPicPr/>
          <p:nvPr/>
        </p:nvPicPr>
        <p:blipFill>
          <a:blip r:embed="rId1"/>
          <a:stretch/>
        </p:blipFill>
        <p:spPr>
          <a:xfrm>
            <a:off x="1781280" y="1523880"/>
            <a:ext cx="58100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C3B8-5ACA-45DE-9EE3-E888C46DC836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Saúde Neonatal: Extens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08240" y="1677600"/>
            <a:ext cx="791208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Todos os a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4 milhões de óbitos neonatais (primeiro mês de vid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Dentre os que morrem no primeiro mês, 2/3 morrem na 1ª se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Dentre os que morrem na primeira semana, 2/3 morrem nas primeiras 24 h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Oito óbitos neonatais a cada min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D438-0E3B-4BD2-AF4F-4EBBD55176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000000"/>
                </a:solidFill>
                <a:latin typeface="Comic Sans MS"/>
              </a:rPr>
              <a:t>Causas de Óbitos Neonatais no Mun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486400" y="182880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257040 h 4038480"/>
              <a:gd name="textAreaBottom" fmla="*/ 378144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99"/>
                  <a:pt x="10800" y="4398"/>
                </a:cubicBezTo>
                <a:lnTo>
                  <a:pt x="10800" y="6402"/>
                </a:lnTo>
                <a:cubicBezTo>
                  <a:pt x="10800" y="8601"/>
                  <a:pt x="16200" y="10800"/>
                  <a:pt x="21600" y="10800"/>
                </a:cubicBezTo>
                <a:cubicBezTo>
                  <a:pt x="16200" y="10800"/>
                  <a:pt x="10800" y="12999"/>
                  <a:pt x="10800" y="15198"/>
                </a:cubicBezTo>
                <a:lnTo>
                  <a:pt x="10800" y="17202"/>
                </a:lnTo>
                <a:cubicBezTo>
                  <a:pt x="10800" y="194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530400" y="3352680"/>
            <a:ext cx="1602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ec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morte neo.jpg"/>
          <p:cNvPicPr/>
          <p:nvPr/>
        </p:nvPicPr>
        <p:blipFill>
          <a:blip r:embed="rId1"/>
          <a:stretch/>
        </p:blipFill>
        <p:spPr>
          <a:xfrm>
            <a:off x="468360" y="1523880"/>
            <a:ext cx="52164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3520" y="2971440"/>
            <a:ext cx="8229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tuação de Saúde Materna e Neonatal em Moçamb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7:40:59Z</dcterms:created>
  <dc:creator>user</dc:creator>
  <dc:description/>
  <dc:language>en-US</dc:language>
  <cp:lastModifiedBy>Mendoza</cp:lastModifiedBy>
  <dcterms:modified xsi:type="dcterms:W3CDTF">2012-02-22T06:49:23Z</dcterms:modified>
  <cp:revision>84</cp:revision>
  <dc:subject/>
  <dc:title>Curso de Formação/Actualização de Formadores em COEB e CERN  Maputo,  10 a 21 de Agosto, 2009</dc:title>
</cp:coreProperties>
</file>