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6DFD4-FE54-4ED9-AF16-673572BE3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4ED99-3114-4BC6-BD92-BA98ADAFC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EA95D-B06A-40AC-9DEA-52CF158DC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DB90A-48FB-48AD-BFD0-B873BCBC0C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61F75-11C9-4B1C-A77F-F4CF4C3EE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BFDB5-1D9F-4122-97BE-37F547F96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D1748-743B-407A-A1FB-61E847B1E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5FFC7-89B6-48C5-B8CA-2BA848A8D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E5F66-C71D-4FCC-9FDD-B6C841FB4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DA355-7A74-4A9F-95FC-A5E08A1D2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F1FFE-75C6-4D12-AD08-8F82660C1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89330-218B-4BC5-BD22-8BC59DC15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18CC-B589-44B0-B8D6-F0E6CAF94B6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628920" cy="622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243828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2133360"/>
            <a:ext cx="73152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ENFERMAGEM OBSTÉTRIC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520" y="4419360"/>
            <a:ext cx="61722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 Black"/>
              </a:rPr>
              <a:t>Módulo 10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incípios Orientadores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r integral, ou seja tomar em consideração as necessidades intelectuais, emocionais, sociais e culturais das mulheres, seus filhos e família, e não somente uma atenção no âmbito biológ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star centrada na família e ser dirigido para as necessidades não só da mulher e seu filho, mas do cas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siderar a tomada de decisão ou escolha informada d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75AB-D0AF-4CFE-ADED-7AC4332DE73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incípios Orientadores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r apropriada, tendo em conta as diferentes estruturas culturais, de forma a permitir que se atinja os seus objectivos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speitar a privacidade, a dignidade e a confidencialidade das mulher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Estes princípios asseguram fortemente a protecção, promoção e o apoio necessário para se atingia uma atenção efectiva da mulher.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B804-FA94-4739-B5E7-A96BB4E724F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Planeamento Famili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354960" indent="-354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Conceit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Planeamento Familiar é uma forma racional e saudável de espaçar os nascimentos, abrangendo áreas como infertilidade e a sexual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É  um conjunto de acções que permitem às mulheres e aos homens escolher quando querem ter um filho, o número de filhos que querem ter e o espaçamento entre o nascimento dos seus filhos, contribuindo significativamente para a saúde da  mulher, das crianças e da família no geral.   (</a:t>
            </a: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comissão para a igualdade e para os direitos da Mulher, 2001:25</a:t>
            </a: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FA8A-D2DE-46EA-9C10-6268955C838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2EDA-AD8B-487B-9513-56CB07F44A4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Contracep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Conceit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É prevenção intencional da gravidez através de utilização de métodos anticonceptivos, ou seja, prevenção da concepção por bloqueio temporário ou permanente da fertil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Métodos Anticonceptiv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Conceit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São métodos usados por indivíduos ou casais sexualmente activos para evita a gravidez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laneamento Familiar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Planeamento Familiar (Cont.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2060"/>
                </a:solidFill>
                <a:latin typeface="Arial"/>
              </a:rPr>
              <a:t>Tipos de Métodos Anticonceptivo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Método de Barreira: Preservativos Masculinos e Femini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Métodos Hormonai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Pílul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Depropover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Implante Sub – dérm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DIU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AB1B-7FB7-4F51-AC60-01D0BD22313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Tipos de Métodos (cont.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9B4D-FFD4-4E05-91A8-2ADAB684217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3. Métodos Tradicionai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mament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étodo Baseado na Percepção da Fertilidad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ito Interrompid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bstinência Sexu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4. Métodos Irreversívei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asectom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queação das Trompas de Falópio (Tubária ).</a:t>
            </a:r>
            <a:br>
              <a:rPr sz="2400"/>
            </a:b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Conceito de Obstetríc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úde 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1E57-8716-45FC-9F3E-33424F93429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ceito de Obstetríci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tetrícia, é a ciência que se ocupa pela saúde da  mulher durante a gravidez, parto e puérpera, fornecendo à mulher grávida e a sua família o apoio psico-social, assim como educação e orientações em relação à gravidez, parto, e cuidados ao Recém –Nascido (RN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mportância de Obstetrícia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mportância de Obstetrícia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agnosticar, manejar a evolução e tratar complicações durante a gravidez, que mais contribuem para a morbilidade materna neonatal e infanti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1127-9000-4B31-9676-A8EFB90C48C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de Gravid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s sinais e sintoma de gravidez dividem se em três categoria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1- Sinais de presunção - os que sugerem a gestaçã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2- Sinais de probabilidade – que indicam uma provável gravidez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3- Sinais de certeza – que confirmam um diagnóstico de gravidez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FAE5-634D-4701-877E-F8E512A81C9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de Gravidez (cont.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1-Sinais de presunção ( que sugerem gravidez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menorreia (ausência de menstruação)- é o primeiro sinal que alerta a mulher para uma provável gravidez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áuseas com ou sem vómitos. Aparece no início da gravidez e ocorre frequentemente nas manhã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teração das mamas – observa se desde o início da gravidez.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945C-2356-4799-ADE5-F6E69C2FA7C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mpetência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44680" indent="-5446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plica os conhecimentos sobre a fisiologia da gestação, parto e puerpério na elaboração, ,implementação, monitorização e avaliação do plano de cuidados de enfermagem às gestantes e recém – nascid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rienta as gestantes e familiares sobre a importância do controlo pré – natal na redução da Morbilidade e Mortalidade Materna, Neonatal e Infanti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rienta os utentes sobre os aspectos da sexualidade e planeamento famili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4054-F38D-4890-A11A-169363815F1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de Gravidez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umento da frequência urinária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- ocorre devido à pressão exercida pelo útero aumentado sobre a bexig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Vibração ou tremor abdominal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– são os movimentos  fetais delicados e em ondas que a  mãe sente entre a 18ª e a 20ª semana de gestaçã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2-Sinais de probabilidade: (que indicam fortemente a gravidez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umento uterino –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umento devido ao crescimento do feto, do útero e placen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3D60-6F9D-42A8-9F4C-07B9E78ECB7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de Gravidez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s testes de gravidez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- quando realizados são positivos em 90% a 98% dos cas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3- Sinais de Certeza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( modificações que evidenciam a gravidez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s batimentos cardíaco fetal  (BCF) -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ode ser ouvido nitidamente na 18ª a 20 ª semana de gravidez, através do fetoscóp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resença de movimentos fetais activos –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percebidos durante o exame de palpaçã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0E57-82CF-4D27-B87E-08A7E03E5C8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ausas de Manifestações Físicas durante a Gravid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s alterações  fisiológicas durante  a gravidez e que causam distúrbios e desconfortos  n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s principais alterações músculo esqueléticas, durante a gravidez sã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relaxamento das articulaçõe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teração na postura, causadas pelo crescimento do útero e acção das hormon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FD78-C741-40C4-8AC3-0FCB7048B0D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ausas de Manifestações durante a Gravid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aus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relaxamento das articulações pélvicas é devido a hormona relaxina. Esta hormona aumenta a preparação para o parto vaginal e causa um andar balançante (marcha claudicante)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crescimento do útero distende os ligamentos redondos que apoiam o útero, causando uma dor aguda e rápida quando a mulher se move rapidamente (ex: levantar se de uma cadeira).  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CA42-8A1A-4162-B55D-B628BF806E5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ausas das Manifestações Físicas durante a Gravidez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m aumento do peso do útero, pode ocorrer dor nos ligamentos especialmente em movimentos rápidos d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s músculos retos podem separar – se (diástase) , devido a distensão dos músculos abdomin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aumento do peso e o edema podem provocar a compressão do nervo mediano, principalmente no pulso – causando a fraqueza ou a sensibilidade dos músculos do pulso e do polega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AC4B-1187-45CF-8670-08319A6194C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ausas das Manifestações Físicas durante a Gravidez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sistema cardiovascular sofre modificações para o fornece o oxigénio e nutrientes ao feto a ao útero em crescimen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sangue deve chegar aos vasos sanguíneos uterinos com pressão suficiente para garantir a circulação placentária e troca adequada de oxigénio entre a mãe e o fe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C0FE-045F-4BBA-A99F-F38D373AE09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na suspeita de gravid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uvir as queixas d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rmitir que ela expresse as suas preocupações, ajudá-la a tomar decisões informad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ornecer toda a informação necessári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larificar as suas dúvid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star atenção de qualidade 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Quando necessário garantir a articulação com outros serviços de saúde para continuidade da assistência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BF3A-BBAD-4BE9-815B-0733CCE6769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à mulher Grávida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Assim que a mulher grávida entra na sala de consulta é important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umprimenta – la e perguntar o seu nom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presentar se de uma forma cordi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ncorajar e permitir a presença de acompanhante durante a consulta, de acordo com o desejo d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7E2C-4C67-4C17-B64A-EF3CCF508C7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à mulher 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grávi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arantir a privacidade e confidencialidade ( não permitir que pessoas , para além das trabalhadores imprescindíveis, entrem durante a consulta, sem permissão da mulher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rguntar se ela tem alguma queix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uvi –la com atenção e responder às suas perguntas e preocupaçõ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ornecer informações sobre o que irá ser feito usando uma linguagem que a mulher enten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570E-4E65-48FA-9B44-09F42028EFD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à mulher 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grávida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ntrolo Pré-Nata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Identificação da Mulhe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ome, filiaçã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ta de nascimento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stado civi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fissão/ocupaçã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Local de trabalh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sidênci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473C-94BF-4D73-B444-0CBFFD2933F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8580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 Black"/>
              </a:rPr>
              <a:t>Competências 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plica os procedimentos de farmacologia na administração e controlo dos medicamentos de foro obstétrico prescritos e de emergênc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gista oportunamente e de forma clara os procedimentos de enfermagem para assegurar a eficácia de prestação de cuidados obstétricos humanizados e de qual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50CB-1F85-4D34-8813-BFD3C205798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 – Natal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elefone de contac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ssoa e contacto de referê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stância da residência até a unidade sanitár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Local de referênc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História Clínica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ntecedentes familiares: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abetes Mellitu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BA1A-6019-43D3-A4F1-5FC3C6FBE69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 – Natal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âncer mama e /ou colo uterin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uberculos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rceiro sexual portador de infecção pelo HIV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Antecedentes Pessoai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ipertensão Arteri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abetes mellitu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nem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stúrbios nutricionai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F4C8-06BA-4BAA-A942-85666674524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e-Natal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ergia a medicamentos (penicilina, cotrimoxazol, sulfadoxina e perimitamina, outros) tipos de reacçõ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História Obstétric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esta e pa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bort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ravidez ectópic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ra ( o número de partos anteriores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A78B-84B5-46CA-A8A6-11D7C91C443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 – Natal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esarian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ados Vivos e Nados Mort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ilhos vivos actuai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ta do último pa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istória dos partos anteriores (parto por ventosa? hemorragias em mais de 2 partos? remoção manual de placenta e mais de 2 partos? cesariana no último parto? Nado morto na última gravidez? Primigesta com idade inferior a 16 anos ou idade superior a 35 anos? e outros)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461E-2ADC-447D-BCC0-A98210E6AA7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 – Natal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666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História da Gravidez Actual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ta da última menstruação (DUM)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álculo da idade Gestacion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ta Provável do Parto (DPP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Exame Físico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xame Geral: Determinação do pes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tura e deformidade da ba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stado nutricion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edição de Pressão Arteri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loração das mucos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14F3-70BA-48B5-A80E-30B0E67F1C8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 – Natal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Exame Específic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xame das mamas: tipo de mamil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sença de nódulo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creçõe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amilos e coloração da pel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lpação Obstétrica e identificação da situação e apresentaçã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edição de altura uterin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uscultação dos Batimentos cardíacos fetai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squisa de edemas(face tronco e membros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D175-AC06-4EE5-84D8-A6CA269D095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 – Natal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4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Inspecção dos Genitais externos e períneo: 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sença de úlceras genitai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sença de condilom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Exames complementares de diagnóstico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rupo sanguíneo e  Factor  Rh a todas as primigestas e multíparas que desconhecem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emoglobin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este rápido de Sífili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este rápido de HIV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Urina II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B7CE-50A5-4EA1-ACE3-0AE851CCCE8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- Nat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Vacinaçã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Verificar o estado vacinal em relação a vacina Anti - Tetânica. Solicitar o cartão de vacinação da Mulher em idade fértil (MIF) confirmar  e proceder de acordo com o estado vacinal da mulher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Educação, informação e Orientação sobr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senvolvimento da gravidez, incluindo modificações corporais e emocionai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8683-4FEA-40CE-A537-8D47C055566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- Nat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mportância de Consulta Pré – natal e do cumprimento do calendário das consult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inais e Sintomas de perigo durante a gravidez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ducação nutricional e orientações sobre a alimentação durante a gravidez e puerpé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ri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Importância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Do sexo segur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 prevenção do HIV e da transmissão vertical (cumprimento das consultas,</a:t>
            </a:r>
            <a:r>
              <a:rPr b="0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EF77-828F-4443-804F-F3D3F97096B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 – Natal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rientações e tratamen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 participação do parceiro/pai nas consultas pré-natai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o parto institucion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 consulta pós parto para  a mulher e recém nascid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o espaçamento das gravidezes e Planeamento Famili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 preparação para, e do aleitamento materno inclusivo ou exclusiv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B54C-893C-451A-95B2-7DE59EE98C2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C396-1943-46C2-930F-4B014DBCBB8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44200" y="1523520"/>
            <a:ext cx="8147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81760" indent="-5817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81760" indent="-5817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aúde sexual e reprodutiva é o Direito da Família”, além do direito à saúde, as pessoas e as famílias têm também o direito a serviços integrados e de boa qualidade, que assegurem privacidade, ampla informação, livre escolha, confidencialidade e respei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81760" indent="-5817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igualdade entre mulheres e homens no diz respeito à relação sexual e reprodutiva,incluindo-se o respeito à integridade mútua, e o consentimento e divisão de responsabilidades pelos comportamentos sexuais e suas consequênci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81760" indent="-581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81760" indent="-581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81760" indent="-58176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66"/>
              </a:solidFill>
              <a:latin typeface="Arial"/>
            </a:endParaRPr>
          </a:p>
          <a:p>
            <a:pPr marL="581760" indent="-58176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FF73-C994-4682-80B7-622470877C63}" type="slidenum">
              <a:rPr b="1" lang="pt-B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tle 1"/>
          <p:cNvSpPr/>
          <p:nvPr/>
        </p:nvSpPr>
        <p:spPr>
          <a:xfrm>
            <a:off x="2057400" y="228600"/>
            <a:ext cx="647712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pt-PT" sz="2400" spc="-1" strike="noStrike">
                <a:solidFill>
                  <a:srgbClr val="ffffff"/>
                </a:solidFill>
                <a:latin typeface="Arial Black"/>
              </a:rPr>
              <a:t>Conceito de Saúde Sexual e Reprodu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 – Natal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 prevenção da Malária: cumprimento das CPN para o TIP malária e utilização das Redes Mosquiteir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laboração do ´Plano para o parto, incluindo um plano antecipado de transporte no caso de ocorrência de complicações durante a gravidez, e na eminência do pa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uidados a ter com o recém – nascido e importância do cumprimento do calendário de vacinaçõ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B5D4-66AD-4CEE-A607-4D51F382ACE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Uso de Medicamentos durante a Gravid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É importante que a gestante saiba que não deve tomar nenhum medicamento, durante a gestação, sem prescrição pelo méd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s drogas são prejudiciais durante toda a gestação e a maior incidência de anormalidades provocadas no feto ocorre no primeiro trimestre da gestaçã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7ACC-4A46-491D-B381-073000031AD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Uso de Medicamentos durante a Gravid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gestante deve também ser informada sobre os efeitos do abuso de drogas  na crianç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uitos medicamentos têm efeitos teratogênicos comprovados, capazes de interromper o  crescimento fetal e provocarem malformaçõ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gumas das substâncias usados comumente são cocaína, a cafeína, o álcool e o taba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9946-3CBF-4541-8F5C-83B71E0D053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371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licações de uso de Drogas  durante a Gravidez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feitos adversos de  uso da Cocaína durante o primeiro trimestre de gravidez para o feto: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queno para idade gestacion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ém nascido pré term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blemas comportament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alformações congénit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ofrimento Fet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2ECE-5793-46F5-8AFD-DB3483611E3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licações de uso de Drogas  durante a Gravidez (cont.)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atimo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feitos adversos de uso de Cocaína durante o primeiro trimestre de gravidez para a mã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ipertensão arteri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scolamento prematuro da placen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aquicard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suficiência cardía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E755-8D61-4E95-BB9C-1A271E3B49F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licações de uso de Drogas  durante a Gravid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lpitações cardía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rritação estomacal 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arre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bo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feitos adversos de  uso da Cocaína durante o primeiro trimestre de gravidez para o feto: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nomalias congénitas com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enda do palato e anormalias cardíac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atimor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D5AA-77A4-4CE5-B288-E5E71D436E3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467480" cy="1295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licações de uso de Drogas  durante a Gravidez (cont.)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vulsõ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suficiência respiratór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or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feitos adversos de uso de Cafeína durante o primeiro trimestre de gravidez para a mã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rritabilidad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són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umento de frequência Cardía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lpitações cardíacas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E3D2-C267-4416-8FAF-25296BE7415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licações de uso de Drogas  durante a Gravidez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feitos adversos de uso de Álcool durante o primeiro trimestre de gravidez para o fe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quenos para a idade gestacion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ariz curto e lábios superiores curtos e pouco desenvolvi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parência semelhante a de portadores síndrom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criança tem, maior probabilidade de ter problemas de psicossociais, comportamentais e neurológico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51F4-BA1D-499E-B02A-1BE96071361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licações de uso de Drogas  durante a Gravidez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feitos adversos de uso de Tabaco durante o primeiro trimestre de gravidez para o fe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ipóxia fetal devido a insuficiência de oxigénio nos tecidos do feto – com o risco de asfixia e de crescimento retardado do feto – baixo peso à nascenç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rto pré term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isco de dificuldades respiratóri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A44A-9814-4654-9A78-5D750BDE8CE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mportância de Controlo Pré-Nata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 importância de Controlo pré natal é d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rmitir o fornecimento de um pacote de intervenções focalizadas de prevenção e promoção de saúd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agnosticar, manejar e tratar adequadamente os problemas e complicações que mais contribuem para a morbimortalidade materna e fetal neste período, através de prestação de cuidados de saúde integrados , contínuos e humanizados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FF75-934F-4096-805A-3009C6A2B9F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6B36-C6B5-4635-BE69-F466A94DF32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55308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Conceito de Saúde Sexual e Reprodutiva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saúde reprodutiva implica que a “pessoa possa ter uma vida sexual segura e satisfatória, tendo a capacidade de reproduzir e a liberdade de decidir sobre quando e quantas vezes deve fazê – lo”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actores Culturais que influenciam na Saúde Mater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mora na chegada pela mulher na US, a espera da decisão da sogra/e ou outro membro influente na família do mari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renças e tabus alimentares que afectam na alimentação da mulher grávida ( Ex: não consumo de ovos, papaia pela mulher grávida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ctores religiosos (não transfusão de sangue em algumas religiõ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lta de poder de decisão da mulher sobre a sua saúd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Baixo nível de escolaridade d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4C5D-BB04-4BCC-8CCF-75FE8E9C487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actores Culturais que influenciam na Saúde Materna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lta de poder de decisão da mulher sobre a sua saúd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Baixo nível de escolaridade d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32A8-CC39-4190-BDF4-6486811B848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moção de Saúde da Mulher Grávi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moção de Saúde da mulher grávida, é o processo de capacitação da mulher e da  comunidade para actuar na melhoria da sua qualidade de saúde, incluindo uma maior participação no controle deste process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ra prevenção, rastreio e manejo de situações ou doenças que mais contribuem para a morbimortalidade materna  e fet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AD8B-0B9B-48C8-9485-3904512CCEF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moção de Saúde da Mulher Grávida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 decorrer da gravidez depende de vários factore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saúde da gestação da mulhe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u estado de saúde actu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u estado emocion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ua história anterior de saúd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 promoção de saúde na mulher grávida tem como finalidad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arantir uma gravidez com o mínimo de desconforto físico e emocionais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F443-1853-43E3-9B73-C188B518446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moção de Saúde da Mulher Grávida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stabelecer bons hábitos de saúde para beneficiar a mãe e o fe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arantir que o nascimento ocorra nas melhores circunstânci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ascimento de uma criança normal e saudáve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parar a mulher uma maternidade segura e humaniz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stabelecer relacionamento positivo entre a criança, a mãe e os que lhe são próximos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2968-7029-41F1-AE7E-0ADAFCCE6B5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Humanizado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nceito de Par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rto é a expulsão do produto de concepção e seus anexos?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A maneira como o enfermeiro se comunica com a futura mãe definirá como a gestante percebe o tratamento  que receb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enfermeiro deve estabelecer um relacionamento positivo com a mulher, proporcionando – lhe privacidade, explicando cada procedimento antes de ser realizado e atendo –a  com cortes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34E0-4D80-42DA-9A80-5ECA1B39BB5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apel do Enfermeiro Geral na Assistência ao Parto Normal Humanizad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gestante deve ter preferências, sempre que possível. Ex: se houver opção de escolha para o local do parto, ela pode optar entre a tradicional posição outra na qual ela se senta confortáve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rocedimentos de Admissão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dentificar a partur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bter as informações necessárias para o registo do trabalho de pa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C10B-8763-4B2F-8A44-C7CAADE8737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apel do Enfermeiro Geral na Assistência ao Parto Normal Humanizad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Verificação dos sinais vitais: temperatura, pulso, respiração e pressão arteri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Verificação da frequência cardíaca fet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dentificar e guardar as roupas e os objectos da senhor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valiar o progresso do trabalho de pa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parar a mãe para o trabalho de parto e pa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90E7-BFC1-493D-B55C-86794C1B802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a mulher durante o Trabalho de Par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Fases do Parto Normal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 parto tem 3 fases nomeadament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1- Fase Lat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2- Fase Activ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3- Fase de transiçã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1- Fase Latente-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É a fase em que  as contracções são fracas, a dilatação cervical é lenta (0 a 3cm) muitas vezes a parturiente informações sobre a experiência do trabalho de parto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A544-E8D3-4503-B10F-1D40E5FACD0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a mulher durante o trabalho de par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Fase Latente (Cont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 enfermeiro pode revisar as sensações que a parturiente sentirá e as medidas através das quais obterá alív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curar manter se calma, usando as técnicas respiratóri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Fase Activ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esta fase as contracções tornam se mais frequentes e intensas. A cérvix dilata de 4 para 8cm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E4FC-0DDD-4807-94A9-D31534CB545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 Black"/>
              </a:rPr>
              <a:t>Saúde Sexual e Reprodutiva (component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laneamento Famili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sulta  Pré – nat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tendimento ao Parto incluindo os Cuidados Obstétricos Essenciai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rviços de referência e os cuidados Pós – Pa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7831-2C2A-4A2B-8E6C-D1D6044C907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a mulher durante o trabalho de par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enfermeiro de lembrar a parturiente sobre as técnicas de respiração e estimula - la a descansar entre as contracçõ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o final desta fase é importante que o enfermeiro fale lenta, clara e exclusivamente com a parturiente, dando lhe total atençã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3: Fase de Transi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esta fase as contracções permanecem frequentes e intensas. A cervix está dilatando (8 a 10 cm )até atingir a dilatação completa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AB88-81ED-457A-8221-8291B00B0CE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a mulher durante o trabalho de par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Fase de transição (cont.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esta fase é importante que o enfermeiro mantenha a gestante  e seu acompanhante informado sobre a evolução do trabalho de parto, elogiando os esforços que ela está fazen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eríodo Expulsiv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período expulsivo do trabalho de parto começa quando a cérvix está completamente dilatada (10cm) e termina com o nascimento da criança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61C8-0CDA-4A5D-AFFA-C8AC32C55B8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ssistência ao durante o Período Expulsiv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o período expulsivo a parturiente deve estar sempre acompanhada pelo enfermeir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parturiente pode continuar no mesmo leito em esteve durante a dilatação e o parto ocorrer em condições de privacidade e sempre que possível na presença de um acompanhante da escolha d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ntre as contracções a mulher poderá sentar se ou ficar deitada de lado esquerdo para descansa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7B8F-2F6A-4793-9ADA-B457936791E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alizar assépsia com savlon ou outro anti séptico nas coxas , região perineal, vulva e abdómen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foco deve ser auscultado durante o intervalo das contracçõ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Verificar se a dilatação está efectivamente completa e se a apresentação está descida e em caso afirmativo verificar se as contracções são efectiv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4B0C-BADB-413D-8CCF-55A00CC3F29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m os esforços maternos inicia se a expulsão da cabeça. A expulsão deverá ser gradu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expulsão deverá ser gradual. O enfermeiro deverá apoiar a cabeça com a mão e, se possível, proteger o períneo com a outra mão para evitar laceração do períne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ssim que a cabeça sair, com auxílio de uma pêra  deverão ser aspiradas as secreções da boca e nariz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CE7F-1C98-430B-9DFA-7EE63C718CA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s circulares do cordão umbilical, à volta do pescoço da criança, deverão ser identificadas e libertadas suavemente até que os ombros afloram a vulva. Se não for possível, pinça se o cordão com pinças hemostáticas e corta s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ra libertar o ombro anterior, pega se na cabeça com as mãos e faz se uma tracção suave em direcção ao sacro materno. Para se libertar o ombro posterior faz se uma tracção suave em direcção à sínfise púbi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F9B9-FA52-4431-ABF0-DC008BF4D28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continuação do trabalho de parto faz se normalmente coma os esforços da mã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pois da criança nascer, esta deve ser colocada ao mesmo nível do plano materno e o cordão deve ser  cortado 20 a 40 centímetros após o nascimen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A9E2-B0A0-43E3-9B63-443158F1B93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ssistência de Enfermagem durante o terceiro Período (Dequitadur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Logo após os cuidados ao recém nascido, deve se proceder a expulsão da placenta, mediante a realização do manejo activo do terceiro período do trabalho de pa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pós a expulsão deve se examinar a placenta cuidadosamente para assegurar que não falta algumas partes da placen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C7D8-6277-4E7B-BBA9-46C66F83C37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ssistência ao Parto Normal Humanizado (cont.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parturiente e o recém nascido deverão permanecer sob vigilância constante durante a primeira hora após o parto, devendo ser observados a cada 15 minutos para detectar precocemente qualquer complicação que possa surgir neste perío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EBD5-C69D-40C6-B72E-12B17A1A3AD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ssistência de Enfermagem durante o terceiro Período (Dequitadura) – (Cont.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nejo Activo do terceiro período do par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manejo activo do terceiro período ajuda a  prevenir a hemorragia pós parto e inclui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dministração de oxitocina logo após a expulsão fet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racção controlada do cordão com contra tracção uterin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assagem uterin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4A9E-5A3F-40E7-8EFE-CB9349AB842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Saúde Sexual e Reprodutiva (componentes 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utras componente da saúde sexual e reprodutiva sã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sistência ao Aborto e complicações pós – abor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evenção e Tratamento das It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evenção e Controle do HIV/SID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tenção Integral dos Adolescentes e Joven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tenção aos Casos de Violência e Abuso Sexu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evenção e Controlo dos Cancros de colo do útero mama e da próstat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tenção na fase de menopausa e andropausa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9999ff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dministração de oxitocina logo após a expulsão fetal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ntro de 1º minuto após o parto palpe o abdómen para certificar que não há outro bebé e administre imediatamente 10UI de oxitocina, por via IM, para facilitar o descolamento e a expulsão da placen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0F46-D177-4D84-8BC8-F34A7D5A767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de perigo durante o trabalho de Par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Identificação dos sinais de Perigo durante o trabalho de Part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Definição de Trabalho de parto arrastad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sidera se trabalho de parto </a:t>
            </a:r>
            <a:r>
              <a:rPr b="0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quando a fase activa está prolongada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devido a causas funcionais (ex: dinâmica uterina ) ou mecânica (ex: pélvis estreita )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nduta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avaliar a bac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valiar a apresentação e posição fetal e excluir uma desproporção feto pélvi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05C5-3EC3-422C-8854-1176C31A031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xame Obstétrico e Ginecológico no Quarto Perío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Quarto período ( recuperação imediat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Útero: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valiar a altura do fundo uterino, a localização e a consistência. Massagear o útero e remover os coágulos. Útero macio e esponjoso deve ser comunicado ao médico ou outro técnico qualificad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Lóquios: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eliminação vaginal mais de um  penso higiénico em 15 minutos deve ser comunicada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3158-1CB5-4C8A-A36C-7F62B122F0E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xame Obstétrico e Ginecológico no Quarto Perío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Bexiga: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valiar a distensão a cada 30 minutos. Bexiga distendida aumenta o risco de hemorragia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eríneo: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valiar a integridade do períneo. Um hematoma causará edema, secreção  da episiotomia ou do local da laceração devendo ser comunica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sconforto do períneo: Aplicar imediatamente gelo no períneo, para reduzir o edema causado pelo traumatismo do parto ou pela episiotom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14DD-DEF0-4CE1-8C7A-B3596021583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de perigo durante o trabalho de Par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Trabalho de parto prolongad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nduta (cont.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zer hidratação  intravenosa  e referir 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Trabalho de Parto Obstruído (distócia mecânica)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rabalho de Parto arrastado é aquele em que apesar de haver contracções uterinas fortes o parto não pode progredir devido a factores mecânicos(causas maternas ou fetais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8FCB-8886-4F0E-A008-1ED2C6DC2FE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ssistência da Mulher no período imediat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Estado de Hidratação: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r líquidos por via oral, se forem tolerados. Providenciar alimentação, se a mulher tiver fom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Sinais vitais: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Avaliar a pressão arterial, o pulso e a respiração a cada 15 minutos, durante no mínimo numa hor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bservar os sinais de possível choque devido à perda excessiva de sangu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mportamento: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Avaliar a fadiga e proporcionar ambiente propício ao descans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0D93-4D9B-4097-8038-098152A86EE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Orientações Básicas sobre a Saúde Sexual e Reproduti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 acordo com a OMS as orientações básicas sobre saúde sexual e reprodutiva  determinam que a atenção dev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r prestado o pacote previsto de cuidados fundamentais, utilizando um conjunto mínimo de intervenções que sejam realmente necessári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r baseada no uso de tecnologia apropriada, definida como um conjunto de acções que inclui métodos, procedimentos, tecnologias, equipamento e outras ferramentas, todas aplicadas para resolver um problema específic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4F86-98EB-4549-BA09-74E9094B0F4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incípios Orientadores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r baseada em evidências, ou seja ser sustentada pelas melhores evidências científicas disponíveis, por estudos aleatórios apropriados sempre que possíve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r regionalizada e baseada num sistema eficiente de referência de Rede Primária de Saúde para a Rede Secundária e Terciár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r multidisciplinar, com participação de profissionais de saúde como ESMI, obstétricas, pediatras, técnicos de medicina preventiva, enfermeiros e assistentes sociais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8208-9E1C-4F03-904C-5A97FD95918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Mendoza</cp:lastModifiedBy>
  <dcterms:modified xsi:type="dcterms:W3CDTF">2012-02-22T06:31:14Z</dcterms:modified>
  <cp:revision>1253</cp:revision>
  <dc:subject/>
  <dc:title>ANATOMIA E FISIOLOGIA HUMANA</dc:title>
</cp:coreProperties>
</file>